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DB02-ECD5-4FB1-8487-188AD287D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D0BB-64F5-4375-BBF0-7F9A0C51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C904-7574-4B2F-8777-508E1B1BC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A479-1223-4515-B61B-91E47B069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ECA2-BD8B-4058-8B20-7B98057F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EA868E-403D-4654-B3FC-81EBAF703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30FC8E-D599-41FC-B8C8-1AD0CE1B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6C8F81-47E6-4BBF-A4B7-4CCCD42F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20C2FC-870F-4CE6-8FCF-0376964C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53FC8C-4239-41B6-A948-C9FE168C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30E1-1F43-4BFA-A2B8-71C91F46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9B7D80-E7C8-4FC4-9BE1-B75F72B2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288E0A-10EE-4E3E-8E55-3875572C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F4D6C1-0929-47F5-9291-FF5E82B8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47E518-8B60-4E3A-B5E0-D8F6ABB8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31670F-6D8F-42FB-801A-9EE9451A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06BA1C-6C4A-4115-B1CC-D474AB68C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430B57-4D82-4247-A8CF-23A6A70C7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582F08-E6CF-4762-8D0E-6D07D1214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605704-5CAE-4109-98AE-08527935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C255F0-F865-410E-8B6D-2F7F9501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D57B-69AF-43B3-B7B4-44AB1397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E2EFD6-90E1-42A7-88D0-96CA44B6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EF14C9-D5DE-4052-A2AE-22E33CE7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CD0A6F-8180-4119-850D-A7012438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32C234-27FC-42F5-A51A-161CE62F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779B39-AF91-4B4E-B294-D63507C8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88A37E-5667-48F4-8771-AA2B2C6F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F12B1A-A2D6-4909-9D1D-D2BECAEF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095708-3187-47DD-A815-3DF75FE4A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819F05-D07D-4FD9-B3E3-FF22410FB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C15B-73E5-4A5D-A6BB-E7D87B14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5C45-C4AB-4B84-B05B-402203A2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CF9A-ECC7-4E61-B1B5-4BC54E02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F538-2211-41BD-BE5E-F511F147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63FA-21BF-45AD-BAFE-F98F56BA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29AE-3F6E-41D0-8266-6363E58EBC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944640"/>
            <a:ext cx="9144000" cy="46080"/>
          </a:xfrm>
          <a:prstGeom prst="rect">
            <a:avLst/>
          </a:prstGeom>
          <a:solidFill>
            <a:srgbClr val="b93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5"/>
          </p:nvPr>
        </p:nvSpPr>
        <p:spPr>
          <a:xfrm>
            <a:off x="9140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5248-4EB0-4943-8CBC-33794EBCB3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8"/>
          </p:nvPr>
        </p:nvSpPr>
        <p:spPr>
          <a:xfrm>
            <a:off x="9140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4A81-D70E-4098-A30E-2986BD74F3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dt" idx="11"/>
          </p:nvPr>
        </p:nvSpPr>
        <p:spPr>
          <a:xfrm>
            <a:off x="9140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26920" y="161640"/>
            <a:ext cx="746784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50"/>
                </a:solidFill>
                <a:latin typeface="Arial"/>
              </a:rPr>
              <a:t>U.S. National Security System:</a:t>
            </a:r>
            <a:br>
              <a:rPr sz="2800"/>
            </a:br>
            <a:r>
              <a:rPr b="1" lang="en-US" sz="2600" spc="-1" strike="noStrike">
                <a:solidFill>
                  <a:srgbClr val="003050"/>
                </a:solidFill>
                <a:latin typeface="Arial"/>
              </a:rPr>
              <a:t>Weighing Decision Fac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"/>
          <p:cNvPicPr/>
          <p:nvPr/>
        </p:nvPicPr>
        <p:blipFill>
          <a:blip r:embed="rId1"/>
          <a:stretch/>
        </p:blipFill>
        <p:spPr>
          <a:xfrm>
            <a:off x="8186760" y="96840"/>
            <a:ext cx="798480" cy="793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"/>
          <p:cNvPicPr/>
          <p:nvPr/>
        </p:nvPicPr>
        <p:blipFill>
          <a:blip r:embed="rId2"/>
          <a:stretch/>
        </p:blipFill>
        <p:spPr>
          <a:xfrm>
            <a:off x="152280" y="103320"/>
            <a:ext cx="785880" cy="787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"/>
          <p:cNvPicPr/>
          <p:nvPr/>
        </p:nvPicPr>
        <p:blipFill>
          <a:blip r:embed="rId3"/>
          <a:stretch/>
        </p:blipFill>
        <p:spPr>
          <a:xfrm>
            <a:off x="1676520" y="1225440"/>
            <a:ext cx="5771880" cy="53150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0"/>
          <p:cNvSpPr/>
          <p:nvPr/>
        </p:nvSpPr>
        <p:spPr>
          <a:xfrm>
            <a:off x="2207520" y="464832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5959080" y="464832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2"/>
          <p:cNvSpPr/>
          <p:nvPr/>
        </p:nvSpPr>
        <p:spPr>
          <a:xfrm>
            <a:off x="2206800" y="539280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3"/>
          <p:cNvSpPr/>
          <p:nvPr/>
        </p:nvSpPr>
        <p:spPr>
          <a:xfrm>
            <a:off x="6135840" y="539280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4:31:44Z</dcterms:created>
  <dc:creator>kyates</dc:creator>
  <dc:description/>
  <dc:language>en-US</dc:language>
  <cp:lastModifiedBy>Ed Rowe</cp:lastModifiedBy>
  <dcterms:modified xsi:type="dcterms:W3CDTF">2018-12-09T02:59:50Z</dcterms:modified>
  <cp:revision>534</cp:revision>
  <dc:subject/>
  <dc:title>Presumptive Problem</dc:title>
</cp:coreProperties>
</file>