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36F4C-1DC5-47DE-A79A-42E5EEE9C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00D9B-69B0-41AF-9F9A-FC2D85F1B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561AD-6649-48FD-BF11-88E950FBB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571E9-406F-44CC-B02F-CE69DE92B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2918A-965C-4009-A590-B847E2AC3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CBEECF7-330F-40AA-9712-C7BFD8D03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1512560-9B0A-4BB2-B5E8-F14DDDFE6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558DE33-3B8D-4E3A-BDC6-C5540E014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0471645-B249-4EF6-B0C6-35EB862D5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161F5E0-8543-4920-9089-3BEC2F6BE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71EEC-0E32-4E3D-8D52-AF672E459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27294D0-1603-4C9A-AC43-EFA37C5E5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75449C7-8E96-45BD-9E33-8B740CD6E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AA72E17-930C-4EFD-9C11-833CDEB5D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ABC04CC-5009-4B87-94B1-1577599FC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7B4C9F8-FC52-426D-AE2C-EA4173C89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379E163-2CC4-4917-8A1C-32F72D7E7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EE0C6C8-75A6-4295-80A8-D8E8DCCAA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AD1C889-9C1D-4513-B355-F98DD4CEE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1CC47FC-E5CF-4E9F-AAC7-21FBB870A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24D097E-55B1-4A53-B57B-DFB0F939D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659C2-EA0F-4FEE-B347-33FE3A32D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8C98035-75D0-48E1-9ADB-08BA465A1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F5B33D1-4BD4-4F90-AD91-587EEA009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E257608-AF5B-47FA-AE31-64E45060A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89CB4FD-88C1-4E06-B72C-36528EDC4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DBDB581-9FDC-455A-982F-9B357EB66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59F9CA6-C173-4B17-A293-F1113DC98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577F913-4BC3-47ED-B847-0F381E82A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B1E1065-C756-4A39-A2DC-40B1031F6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F9EC83C-DA64-42A7-958B-AEE6B9899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5712F-1D1A-4ADB-BB1F-56D0AC83E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3323F-82CE-4D4B-929E-B0E2FB7EF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D1F0D-442A-4798-9227-BF2B68611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A44CB-1EAA-4869-8A18-0A46EF6FE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158FB-2F63-4F2C-9016-139F0D9CA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1404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A4F73-2FF1-443E-9E73-2D67D9DC76E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8"/>
          <p:cNvSpPr/>
          <p:nvPr/>
        </p:nvSpPr>
        <p:spPr>
          <a:xfrm>
            <a:off x="0" y="944640"/>
            <a:ext cx="9144000" cy="46080"/>
          </a:xfrm>
          <a:prstGeom prst="rect">
            <a:avLst/>
          </a:prstGeom>
          <a:solidFill>
            <a:srgbClr val="b931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5"/>
          </p:nvPr>
        </p:nvSpPr>
        <p:spPr>
          <a:xfrm>
            <a:off x="9140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1F60C-2220-479F-A1B0-CCD9B8457FE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dt" idx="8"/>
          </p:nvPr>
        </p:nvSpPr>
        <p:spPr>
          <a:xfrm>
            <a:off x="9140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ftr" idx="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sldNum" idx="1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10D04-D398-4F48-B1F1-0DBD1605E3E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dt" idx="11"/>
          </p:nvPr>
        </p:nvSpPr>
        <p:spPr>
          <a:xfrm>
            <a:off x="9140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26920" y="161640"/>
            <a:ext cx="7467840" cy="65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50"/>
                </a:solidFill>
                <a:latin typeface="Arial"/>
              </a:rPr>
              <a:t>U.S. National Security System:</a:t>
            </a:r>
            <a:br>
              <a:rPr sz="2800"/>
            </a:br>
            <a:r>
              <a:rPr b="1" lang="en-US" sz="2600" spc="-1" strike="noStrike">
                <a:solidFill>
                  <a:srgbClr val="003050"/>
                </a:solidFill>
                <a:latin typeface="Arial"/>
              </a:rPr>
              <a:t>Weighing Decision Facto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7" descr=""/>
          <p:cNvPicPr/>
          <p:nvPr/>
        </p:nvPicPr>
        <p:blipFill>
          <a:blip r:embed="rId1"/>
          <a:stretch/>
        </p:blipFill>
        <p:spPr>
          <a:xfrm>
            <a:off x="8186760" y="96840"/>
            <a:ext cx="798480" cy="7938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8" descr=""/>
          <p:cNvPicPr/>
          <p:nvPr/>
        </p:nvPicPr>
        <p:blipFill>
          <a:blip r:embed="rId2"/>
          <a:stretch/>
        </p:blipFill>
        <p:spPr>
          <a:xfrm>
            <a:off x="152280" y="103320"/>
            <a:ext cx="785880" cy="78732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9" descr=""/>
          <p:cNvPicPr/>
          <p:nvPr/>
        </p:nvPicPr>
        <p:blipFill>
          <a:blip r:embed="rId3"/>
          <a:stretch/>
        </p:blipFill>
        <p:spPr>
          <a:xfrm>
            <a:off x="1676520" y="1225440"/>
            <a:ext cx="5771880" cy="5315040"/>
          </a:xfrm>
          <a:prstGeom prst="rect">
            <a:avLst/>
          </a:prstGeom>
          <a:ln w="0">
            <a:noFill/>
          </a:ln>
        </p:spPr>
      </p:pic>
      <p:sp>
        <p:nvSpPr>
          <p:cNvPr id="168" name="TextBox 10"/>
          <p:cNvSpPr/>
          <p:nvPr/>
        </p:nvSpPr>
        <p:spPr>
          <a:xfrm>
            <a:off x="2207520" y="4648320"/>
            <a:ext cx="90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5959080" y="4648320"/>
            <a:ext cx="91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12"/>
          <p:cNvSpPr/>
          <p:nvPr/>
        </p:nvSpPr>
        <p:spPr>
          <a:xfrm>
            <a:off x="2206800" y="539280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Y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13"/>
          <p:cNvSpPr/>
          <p:nvPr/>
        </p:nvSpPr>
        <p:spPr>
          <a:xfrm>
            <a:off x="6135840" y="5392800"/>
            <a:ext cx="56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Arial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7T14:31:44Z</dcterms:created>
  <dc:creator>kyates</dc:creator>
  <dc:description/>
  <dc:language>en-US</dc:language>
  <cp:lastModifiedBy>Ed Rowe</cp:lastModifiedBy>
  <dcterms:modified xsi:type="dcterms:W3CDTF">2018-12-09T02:59:50Z</dcterms:modified>
  <cp:revision>534</cp:revision>
  <dc:subject/>
  <dc:title>Presumptive Problem</dc:title>
</cp:coreProperties>
</file>