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5DEB-426B-4447-8A93-B0515C00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6C0E-AA57-4B6E-9A05-CC7E3737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F0BD-80B5-4A88-8C79-288C4544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F252-AF39-442A-91BD-8999558A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C4E6-D1C8-4E2B-A946-9AE923A5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8694C9-5258-4C45-A4D3-760A430B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C23187-A390-40F2-8AEF-1F0EB6BA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6C90B9-92FB-4401-932A-8C50E950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FB74D4-6EC4-4279-A04B-C5F089BC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8B1F24-14AC-42E6-A869-FAB46045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25DC-EF40-45A1-BDB3-24369574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3E3F98-46FC-405C-A56F-0393B03D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A1650B-E806-4277-A8FD-629731E1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D5A9BC-2E3D-4586-881F-A06EF06A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2C1A52-2204-40CB-94FB-ADB308F0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A0626D-39F9-4B4F-B39D-0401922A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873AEA-F717-40F2-B09D-5BE64312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BAC0D4-AD5B-49EB-87B1-6AADFCC5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E78D72-D8F0-47DA-94C7-618F4A3D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643F48-688F-4FCE-8270-EACF1F53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4B4590-624B-4108-AAA9-47D575EB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51EC-68B7-4590-B4EA-97C7AE07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42A079-61FE-4464-A144-38F24543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C79BAE-4711-4D83-90B7-19D26531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1BB814-578A-471D-9750-0ADEAE20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25C922-7EF6-4430-A5C9-AC4D1CB5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D5C90E-0CD0-40D6-B551-36E6B479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6F7DB0-465F-465C-B02E-A24B7283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5D791E-9C8D-4C0A-A7DE-948BBA12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7AB6F1-7169-48B7-8233-D06C81EC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1FC995-AC38-4D08-A374-B55ACB38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B659-D045-4A11-9AE7-6B14F9EC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FA12-E175-41F7-9548-45CC7D64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FA94-9D68-474A-A873-EB0D9C72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FF37-D259-45A3-98DC-032DAF8E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4A3-63E7-4ADF-AC31-EACB38EE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5E32-78E7-4CC8-99F2-ECCA032256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944640"/>
            <a:ext cx="9144000" cy="46080"/>
          </a:xfrm>
          <a:prstGeom prst="rect">
            <a:avLst/>
          </a:prstGeom>
          <a:solidFill>
            <a:srgbClr val="b93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5F03-59B6-48B6-983E-8638EB4E19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8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2560-18F0-49AE-9752-2CA297B5A0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1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920" y="161640"/>
            <a:ext cx="74678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50"/>
                </a:solidFill>
                <a:latin typeface="Arial"/>
              </a:rPr>
              <a:t>U.S. National Security System:</a:t>
            </a:r>
            <a:br>
              <a:rPr sz="2800"/>
            </a:br>
            <a:r>
              <a:rPr b="1" lang="en-US" sz="2600" spc="-1" strike="noStrike">
                <a:solidFill>
                  <a:srgbClr val="003050"/>
                </a:solidFill>
                <a:latin typeface="Arial"/>
              </a:rPr>
              <a:t>Weighing Decision Fa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8186760" y="96840"/>
            <a:ext cx="798480" cy="793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152280" y="10332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"/>
          <p:cNvPicPr/>
          <p:nvPr/>
        </p:nvPicPr>
        <p:blipFill>
          <a:blip r:embed="rId3"/>
          <a:stretch/>
        </p:blipFill>
        <p:spPr>
          <a:xfrm>
            <a:off x="1676520" y="1225440"/>
            <a:ext cx="5771880" cy="53150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0"/>
          <p:cNvSpPr/>
          <p:nvPr/>
        </p:nvSpPr>
        <p:spPr>
          <a:xfrm>
            <a:off x="2207520" y="464832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5959080" y="46483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2206800" y="53928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6135840" y="53928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31:44Z</dcterms:created>
  <dc:creator>kyates</dc:creator>
  <dc:description/>
  <dc:language>en-US</dc:language>
  <cp:lastModifiedBy>Ed Rowe</cp:lastModifiedBy>
  <dcterms:modified xsi:type="dcterms:W3CDTF">2018-12-09T02:59:50Z</dcterms:modified>
  <cp:revision>534</cp:revision>
  <dc:subject/>
  <dc:title>Presumptive Problem</dc:title>
</cp:coreProperties>
</file>