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86C-F51F-4E83-BF26-36731D94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1F5-F3F2-4BAA-BE71-263BBEBC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0004-423F-445C-87F7-F8D09D50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125-777D-43D1-94B8-6A4E41BA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4E3-5C72-4E44-9A4C-1E32A6CB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3D95AB-05C5-4546-ADED-6EE71122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AC4855-72BB-4587-A032-3BDCBB4C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35F655-F227-45FD-8FE6-C95516AC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3D1F6D-C302-4E91-9D2E-8FA3838F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22B078-F163-4985-9F3F-56B6BC6E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C951-B635-4CF6-A570-8EAA7374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B85F05-4B66-4595-8D81-E2BDF4CC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BCD6D0-3D10-42D0-8A76-28043D67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BF3840-FFAD-411A-9302-A0497004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2B6A50-23C7-4396-A95D-606091FB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C9C744-5D40-4061-9DFC-A4511F40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9B5097-27D6-4B32-A89E-F4848771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B78DAF-BAE2-4B49-AA19-89E5A958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534003-946D-4890-AC34-3527B687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8F301F-95CC-4DFE-A7DC-5760C68E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625ADD-7FC5-4DC7-8A17-4E55348B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E65-8EEC-43BE-BD87-67E99795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3F9452-BB7A-442F-BFFA-C2E1A5B0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580BA4-0328-4FD6-A7CB-A59FF332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7EAB62-71B6-4407-B44D-0A847387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12683E-D416-4C61-966C-269513CB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B6E1EF-4F29-4441-87E7-0E5249BD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F8AAF0-8E9A-4F37-A0BC-E3E46F1F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C3A5E-7242-4692-B42F-1498AA6E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70DD0A-D595-4E20-AB03-648A05A0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DD01BE-EDEE-4513-A10F-5C512D83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D929-AB21-457C-BA31-49156BA9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CE5-BC5A-446D-AB67-D0E7CC3E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0F2-E654-48D6-836A-3B5CA466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AED-F339-40BA-9113-38BA93A9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D229-F0BB-404A-ACFD-8E26784E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2DD9-412A-4001-8AB9-C8C33F707C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944640"/>
            <a:ext cx="9144000" cy="46080"/>
          </a:xfrm>
          <a:prstGeom prst="rect">
            <a:avLst/>
          </a:prstGeom>
          <a:solidFill>
            <a:srgbClr val="b93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D5D6-F14A-401B-8257-B67C7EE626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8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0941-A2B2-4D37-91DF-EE960F7CF2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1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920" y="161640"/>
            <a:ext cx="74678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50"/>
                </a:solidFill>
                <a:latin typeface="Arial"/>
              </a:rPr>
              <a:t>U.S. National Security System:</a:t>
            </a:r>
            <a:br>
              <a:rPr sz="2800"/>
            </a:br>
            <a:r>
              <a:rPr b="1" lang="en-US" sz="2600" spc="-1" strike="noStrike">
                <a:solidFill>
                  <a:srgbClr val="003050"/>
                </a:solidFill>
                <a:latin typeface="Arial"/>
              </a:rPr>
              <a:t>Weighing Decision Fa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8186760" y="96840"/>
            <a:ext cx="798480" cy="793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152280" y="10332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3"/>
          <a:stretch/>
        </p:blipFill>
        <p:spPr>
          <a:xfrm>
            <a:off x="1676520" y="1225440"/>
            <a:ext cx="5771880" cy="53150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0"/>
          <p:cNvSpPr/>
          <p:nvPr/>
        </p:nvSpPr>
        <p:spPr>
          <a:xfrm>
            <a:off x="2207520" y="464832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5959080" y="46483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2206800" y="53928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6135840" y="53928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31:44Z</dcterms:created>
  <dc:creator>kyates</dc:creator>
  <dc:description/>
  <dc:language>en-US</dc:language>
  <cp:lastModifiedBy>Ed Rowe</cp:lastModifiedBy>
  <dcterms:modified xsi:type="dcterms:W3CDTF">2018-12-09T02:59:50Z</dcterms:modified>
  <cp:revision>534</cp:revision>
  <dc:subject/>
  <dc:title>Presumptive Problem</dc:title>
</cp:coreProperties>
</file>