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404-693C-486C-9FA7-E87654D0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890-56F2-434F-836B-89B3AA7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584-1985-412C-A853-FAC23120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8B6-E491-4AB1-B402-EA43DA8C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8A9D-07D8-4FBB-A4BC-98163D7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9C38-7515-4AB0-AB22-005767D8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0BE0-9418-4960-A75E-8911AD3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29F-E9D8-44F6-AC53-51A07852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4D1B-DBF3-4CF7-A7B3-54CEF4A6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A24A-E27A-4817-8AE2-7C11426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72CE-61F5-4623-B27A-863EDA0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A8F-E398-431A-96CD-F8C3346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7E4-84D7-4F8A-A4A5-A1E171D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E447-0266-43C7-97C7-CFF48AF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C3B-B945-4E7A-97F4-4888D68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E05E-42EA-4BA2-A7FF-DD0E1B44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7D88-5958-4E8E-9FD2-B3214409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B14B-47FA-4D6D-9ADE-CD2C4E7E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6401-6576-419A-8DF9-57946ED3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58AB-1885-418F-AB2F-D9E9128D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E8C2-F636-4A53-ADF2-EAD88FA9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DD89-04A5-4A04-AF47-A992B6F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9C7-6611-4FEE-8A88-382639E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EA47-A5B0-4AD7-89EA-D7E1251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B92D-231C-489B-9721-D53DB2E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5D8B-48B3-4708-B284-AFCF4FD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AAE3-EEAA-4243-BC71-1E83116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F73F-3E70-444A-9B28-722C9A0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E839-0D08-4930-A654-3EBA1131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8011-1288-44E3-B4E1-38A653CD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4EF3-E371-415E-8B7B-DFA6BFD4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361A-78E3-4F43-88B9-22BD2EF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1BF2-7DC1-4C28-949F-72E654D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A49-B8B8-48B0-8801-F652255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7FF7-31D2-4FEE-A524-B020C18F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FE25-CB0F-4F4C-9C6E-22E53176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ABAA-8923-4D67-AF9F-BFD48A74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22D4-E0D9-4A05-BEA0-9385965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19E9-281A-4262-A832-700A04A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0E99-0E93-4EA3-92E5-2B12361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5B45-D211-4FD5-806A-EEDED4BC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AB23-5988-4218-9583-E78AA41E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2768-5EE3-4420-AB2C-601D74D8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AED2B-7F24-4E0B-B02F-4BA258B5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8C-9A49-4C47-B5CE-B7FF0BA2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6FB6-A90B-43EE-A88E-8A7F8E8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479A-BC98-494E-AA62-AD0456D4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5D32-714A-4169-B284-E15E179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38DA-AD43-48B4-BBE4-17F7205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9776-10CA-4815-A802-38D8DC7E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0F7D-DA1E-494B-940A-C165CFA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69B8-FE40-4F2E-BCC0-3FCAEC0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C582-6373-4B65-9B2B-514543F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24A6-12AB-4483-BA00-0DE706CC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0A18-6AEC-49B9-B6AD-82C22DE8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36B-3ADE-4347-9FEB-94CD3F70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94C44-2C23-46F2-A307-12FEC2FA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E23-D4FA-4229-894E-165F9A5F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386-4A5C-4BCD-AC48-08376A8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CA1-E8CF-47D8-9D52-36CB0D50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8A8-1F27-4EE3-9C84-6EDDD2DA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3815-BD55-4E34-9A3B-A3368BDF8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E8B-80E9-49BA-9DF6-24E748BE5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3EC-8915-4B84-AA34-235D4946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F2E-02B0-4B02-AC32-F9FFB7A38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960" y="159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Deciding Why and How to Respond – Must Consider: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1294920"/>
            <a:ext cx="8610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vital/enduring national interest(s) are at risk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the perceived problems to be resolved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dditional intelligence is need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Have we identified clear policy objectives and a desired end state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are our engagement options? 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struments of national power can be us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interagency players and assets are required? 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ich other countries have interests in the region?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hat is the nature of those interests?  How will they react?  Would they be interested in a coalition?  Will they oppose us?</a:t>
            </a:r>
            <a:endParaRPr b="1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256680" indent="-256680">
              <a:spcBef>
                <a:spcPts val="1199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ranklin Gothic Book"/>
              </a:rPr>
              <a:t>What international, national and tactical factors must be considered?</a:t>
            </a:r>
            <a:endParaRPr b="1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3921-0D14-41C7-BA3D-050F73C57A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4:04Z</dcterms:modified>
  <cp:revision>131</cp:revision>
  <dc:subject/>
  <dc:title>Slide 1</dc:title>
</cp:coreProperties>
</file>