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904-BB82-4EF5-884F-D67A2ED5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079-FF49-45F4-9772-DA14E85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D56-763A-416A-8F9C-8E173F26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B85-8464-4D08-AD35-B829E63F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F5B-6EFA-4059-810A-FB528EDA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658-9A19-443F-93DD-9BE7F15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673-66BB-438C-9125-3A28C1D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BBD-AA1C-4B28-AAB2-CC50A85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124-3B2A-4646-AE48-46F72B6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E5B-FD35-4F8B-A033-8D50481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638-0002-4BE4-8A2A-2EC9268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C71-4C3E-4F31-9320-BBEE128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6869-720D-4210-B92D-590F498AC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okr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5/Warsaw_Nike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7/POL_warsaw_nike_00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4/Warsaw_Nike_0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VarsaviaMonumentoEroiVarsavia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VarsaviaMonumentoEroiVarsavia3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or.ru/55/Monument/14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danskadventure.com/zdjecia/transf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hood in Arms Monument Monument (1945), Westerplatte Monument (1966) and Warsaw Nike (19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Westerplatte Defenders' Monument"/>
          <p:cNvPicPr/>
          <p:nvPr/>
        </p:nvPicPr>
        <p:blipFill>
          <a:blip r:embed="rId1"/>
          <a:stretch/>
        </p:blipFill>
        <p:spPr>
          <a:xfrm>
            <a:off x="1962000" y="0"/>
            <a:ext cx="64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esterplatte Defenders' Monument"/>
          <p:cNvPicPr/>
          <p:nvPr/>
        </p:nvPicPr>
        <p:blipFill>
          <a:blip r:embed="rId1"/>
          <a:stretch/>
        </p:blipFill>
        <p:spPr>
          <a:xfrm>
            <a:off x="17524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Westerplatte Defenders' Monument"/>
          <p:cNvPicPr/>
          <p:nvPr/>
        </p:nvPicPr>
        <p:blipFill>
          <a:blip r:embed="rId1"/>
          <a:stretch/>
        </p:blipFill>
        <p:spPr>
          <a:xfrm>
            <a:off x="16970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lors and Soldiers Defend the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dansk - Westerplatte Monument: Detail"/>
          <p:cNvPicPr/>
          <p:nvPr/>
        </p:nvPicPr>
        <p:blipFill>
          <a:blip r:embed="rId1"/>
          <a:stretch/>
        </p:blipFill>
        <p:spPr>
          <a:xfrm>
            <a:off x="1295280" y="1473120"/>
            <a:ext cx="70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 of the Soldiers of Westerplatt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leslaw P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ir days had been fill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t was time to die in the summ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went straight to heaven in a coach-and-fou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ldiers of Westerplat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mmer was beautiful that year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sang: "Ah, ‘tis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our wounds were so painful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now it is sweet to wal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eavenly fields."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earth that year there was plenty of heather for bouquets.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dansk we stood like a w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efiance of the German offensiv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soar among the cloud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oldiers of Westerplatt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ith keen sense of s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und are said to have he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louds the measured ste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Maratime Batall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the song they heard: "We'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the suns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ask in the warm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heather fields of paradi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en the cold wind blow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rrow courses the earth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'll float down to the center of Warsaw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diers of Westerplatte.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ument to the Volhynian Cavalry Brigade, Mok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ument to the Volhynian Cavalry Brigade in Mok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600200"/>
            <a:ext cx="393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ke, Goddess of Victory, in Warsaw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rszawska Nik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:Warsaw Nike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68640" y="1600200"/>
            <a:ext cx="349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:POL warsaw nik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Image:Warsaw Nike 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82840"/>
            <a:ext cx="70866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Movement from Monuments Linking the Anti-Fascist/Socialist International Cause to the National Cause of National Liberation and Independence to more Purely a National Goal of National Liberation and Independence Where the Link to Anti-Fascist/Socialist Goal Recedes or is Not Ex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:VarsaviaMonumentoEroiVarsavia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:VarsaviaMonumentoEroiVarsavia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69880"/>
            <a:ext cx="83818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age"/>
          <p:cNvPicPr/>
          <p:nvPr/>
        </p:nvPicPr>
        <p:blipFill>
          <a:blip r:embed="rId1"/>
          <a:stretch/>
        </p:blipFill>
        <p:spPr>
          <a:xfrm>
            <a:off x="152280" y="55440"/>
            <a:ext cx="89917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and New Polish Army Statues at Base of Mon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62396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therhood in Arms Monument “Dedicated to the Common Struggle of the Soviet and New Polish Arm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390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hood in Arms Monument with Inscription in Russian and Polish: "To the comrades of arms that sacrificed their lives for liberty and independence of Polish Nation - inhabitants of Warsaw. 1945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3905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Soviet Soldier, in Background, is Larger than the Polish Soldier, in Fore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Will Poland throw WW2 memorials onto scrapheap?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ders of the Westerplatte Monument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mnik Obrońców Westerpla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(1966)—Meant to Look Like Bayonet Driven into the Ground, Suggesting the Germans’ Treacherous Snea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IRPORT TRANS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4920"/>
            <a:ext cx="473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3:40:43Z</dcterms:created>
  <dc:creator>Matthew Levey</dc:creator>
  <dc:description/>
  <dc:language>en-US</dc:language>
  <cp:lastModifiedBy>Matt Levey</cp:lastModifiedBy>
  <dcterms:modified xsi:type="dcterms:W3CDTF">2008-06-23T17:25:56Z</dcterms:modified>
  <cp:revision>13</cp:revision>
  <dc:subject/>
  <dc:title>Brotherhood in Arms Monument, Warsaw</dc:title>
</cp:coreProperties>
</file>