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380-CB89-4D44-AD38-045BEC74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DD9-7CBB-4660-AE2E-881FD22E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AE1-B79F-4447-A89E-7ACF7223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ED3-3822-491A-9A13-8854A945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4E8-B24A-4B05-99FD-039EA2B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631-DED0-48AF-A3A7-3369CB4D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9C6-7BB0-408F-BDDE-48823459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588-6F7F-4E9E-AC77-A0DCD17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54A-0FC8-4737-A29A-E279EB3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B81-41BB-4AC2-811A-EC0AF46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A80-C5FA-4A97-A593-2425BDB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1F7-8C92-4C54-B851-94E0B5B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300-DD93-4D5F-8B9F-BC078BC2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okr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5/Warsaw_Nike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7/POL_warsaw_nike_00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4/Warsaw_Nike_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VarsaviaMonumentoEroiVarsavia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VarsaviaMonumentoEroiVarsavia3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or.ru/55/Monument/1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danskadventure.com/zdjecia/transf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hood in Arms Monument Monument (1945), Westerplatte Monument (1966) and Warsaw Nike (19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Westerplatte Defenders' Monument"/>
          <p:cNvPicPr/>
          <p:nvPr/>
        </p:nvPicPr>
        <p:blipFill>
          <a:blip r:embed="rId1"/>
          <a:stretch/>
        </p:blipFill>
        <p:spPr>
          <a:xfrm>
            <a:off x="1962000" y="0"/>
            <a:ext cx="64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esterplatte Defenders' Monument"/>
          <p:cNvPicPr/>
          <p:nvPr/>
        </p:nvPicPr>
        <p:blipFill>
          <a:blip r:embed="rId1"/>
          <a:stretch/>
        </p:blipFill>
        <p:spPr>
          <a:xfrm>
            <a:off x="17524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Westerplatte Defenders' Monument"/>
          <p:cNvPicPr/>
          <p:nvPr/>
        </p:nvPicPr>
        <p:blipFill>
          <a:blip r:embed="rId1"/>
          <a:stretch/>
        </p:blipFill>
        <p:spPr>
          <a:xfrm>
            <a:off x="16970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lors and Soldiers Defend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dansk - Westerplatte Monument: Detail"/>
          <p:cNvPicPr/>
          <p:nvPr/>
        </p:nvPicPr>
        <p:blipFill>
          <a:blip r:embed="rId1"/>
          <a:stretch/>
        </p:blipFill>
        <p:spPr>
          <a:xfrm>
            <a:off x="1295280" y="147312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 of the Soldiers of Westerplat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leslaw P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ir days had been fill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t was time to die in the summ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went straight to heaven in a coach-and-fou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ldiers of Westerplat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mmer was beautiful that year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sang: "Ah, ‘tis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our wounds were so painful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now it is sweet to wal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eavenly fields."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earth that year there was plenty of heather for bouquets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dansk we stood like a w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efiance of the German offensiv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soar among the cloud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oldiers of Westerplatt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ith keen sense of s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und are said to have he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louds the measured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Maratime Batall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song they heard: "We'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the suns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ask in the warm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eather fields of paradi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en the cold wind blow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rrow courses the earth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'll float down to the center of Warsaw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diers of Westerplatte.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ument to the Volhynian Cavalry Brigade, 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ument to the Volhynian Cavalry Brigade in Mok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00200"/>
            <a:ext cx="393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ke, Goddess of Victory, in Warsaw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rszawska Nik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:Warsaw Nike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68640" y="1600200"/>
            <a:ext cx="349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:POL warsaw nik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Image:Warsaw Nike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82840"/>
            <a:ext cx="70866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Movement from Monuments Linking the Anti-Fascist/Socialist International Cause to the National Cause of National Liberation and Independence to more Purely a National Goal of National Liberation and Independence Where the Link to Anti-Fascist/Socialist Goal Recedes or is Not Ex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:VarsaviaMonumentoEroiVarsavia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:VarsaviaMonumentoEroiVarsavia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69880"/>
            <a:ext cx="83818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age"/>
          <p:cNvPicPr/>
          <p:nvPr/>
        </p:nvPicPr>
        <p:blipFill>
          <a:blip r:embed="rId1"/>
          <a:stretch/>
        </p:blipFill>
        <p:spPr>
          <a:xfrm>
            <a:off x="152280" y="55440"/>
            <a:ext cx="8991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and New Polish Army Statues at Base of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2396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hood in Arms Monument “Dedicated to the Common Struggle of the Soviet and New Polish Arm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390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hood in Arms Monument with Inscription in Russian and Polish: "To the comrades of arms that sacrificed their lives for liberty and independence of Polish Nation - inhabitants of Warsaw. 1945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3905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Soviet Soldier, in Background, is Larger than the Polish Soldier, in Fore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ill Poland throw WW2 memorials onto scrapheap?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ers of the Westerplatte Monument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mnik Obrońców Westerpla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(1966)—Meant to Look Like Bayonet Driven into the Ground, Suggesting the Germans’ Treacherous Snea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IRPORT TRANS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4920"/>
            <a:ext cx="473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3:40:43Z</dcterms:created>
  <dc:creator>Matthew Levey</dc:creator>
  <dc:description/>
  <dc:language>en-US</dc:language>
  <cp:lastModifiedBy>Matt Levey</cp:lastModifiedBy>
  <dcterms:modified xsi:type="dcterms:W3CDTF">2008-06-23T17:25:56Z</dcterms:modified>
  <cp:revision>13</cp:revision>
  <dc:subject/>
  <dc:title>Brotherhood in Arms Monument, Warsaw</dc:title>
</cp:coreProperties>
</file>