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B88-E943-47B1-8A72-B21B5302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C16-4285-40DC-B632-53BC9597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B7B-2F5C-4A20-8AFC-25876657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707-FEA2-4F20-8A85-17B8ABF4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F3F-A9DA-4E04-A0BE-BCFA82DB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99B-64B5-468D-A26A-FD777F82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630-7C05-4784-A690-AF3ABF1A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235-42D4-4288-AE16-7EB8848B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4D7-7319-458E-94C8-0B3F59CD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E7F-BF85-4F88-A688-4FEA6E8F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730-7194-4EBE-99A9-9B27375C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604-5488-4139-86DB-FF4E35F1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3D27-640A-463A-84F1-1F7F0D396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okra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5/Warsaw_Nike_0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7/POL_warsaw_nike_00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4/Warsaw_Nike_0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a/VarsaviaMonumentoEroiVarsavia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b/VarsaviaMonumentoEroiVarsavia3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or.ru/55/Monument/14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danskadventure.com/zdjecia/transf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therhood in Arms Monument Monument (1945), Westerplatte Monument (1966) and Warsaw Nike (196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Westerplatte Defenders' Monument"/>
          <p:cNvPicPr/>
          <p:nvPr/>
        </p:nvPicPr>
        <p:blipFill>
          <a:blip r:embed="rId1"/>
          <a:stretch/>
        </p:blipFill>
        <p:spPr>
          <a:xfrm>
            <a:off x="1962000" y="0"/>
            <a:ext cx="64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esterplatte Defenders' Monument"/>
          <p:cNvPicPr/>
          <p:nvPr/>
        </p:nvPicPr>
        <p:blipFill>
          <a:blip r:embed="rId1"/>
          <a:stretch/>
        </p:blipFill>
        <p:spPr>
          <a:xfrm>
            <a:off x="1752480" y="0"/>
            <a:ext cx="513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Westerplatte Defenders' Monument"/>
          <p:cNvPicPr/>
          <p:nvPr/>
        </p:nvPicPr>
        <p:blipFill>
          <a:blip r:embed="rId1"/>
          <a:stretch/>
        </p:blipFill>
        <p:spPr>
          <a:xfrm>
            <a:off x="1697040" y="0"/>
            <a:ext cx="513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ilors and Soldiers Defend the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Gdansk - Westerplatte Monument: Detail"/>
          <p:cNvPicPr/>
          <p:nvPr/>
        </p:nvPicPr>
        <p:blipFill>
          <a:blip r:embed="rId1"/>
          <a:stretch/>
        </p:blipFill>
        <p:spPr>
          <a:xfrm>
            <a:off x="1295280" y="1473120"/>
            <a:ext cx="70866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ng of the Soldiers of Westerplatt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leslaw P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ir days had been fill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t was time to die in the summe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went straight to heaven in a coach-and-fou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ldiers of Westerplatt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ummer was beautiful that year.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sang: "Ah, ‘tis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our wounds were so painful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now it is sweet to wal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eavenly fields."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earth that year there was plenty of heather for bouquets.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dansk we stood like a w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efiance of the German offensiv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we soar among the cloud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soldiers of Westerplatt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d on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with keen sense of s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und are said to have he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louds the measured ste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Maratime Batall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s the song they heard: "We'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the suns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ask in the warm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heather fields of paradis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en the cold wind blow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rrow courses the earth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'll float down to the center of Warsaw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diers of Westerplatte."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ument to the Volhynian Cavalry Brigade, Mok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Monument to the Volhynian Cavalry Brigade in Mok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600200"/>
            <a:ext cx="3933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ke, Goddess of Victory, in Warsaw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arszawska Nik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Image:Warsaw Nike 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68640" y="1600200"/>
            <a:ext cx="349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Image:POL warsaw nike 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Image:Warsaw Nike 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482840"/>
            <a:ext cx="70866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Like a Movement from Monuments Linking the Anti-Fascist/Socialist International Cause to the National Cause of National Liberation and Independence to more Purely a National Goal of National Liberation and Independence Where the Link to Anti-Fascist/Socialist Goal Recedes or is Not Ex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Image:VarsaviaMonumentoEroiVarsavia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5335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Image:VarsaviaMonumentoEroiVarsavia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569880"/>
            <a:ext cx="83818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Image"/>
          <p:cNvPicPr/>
          <p:nvPr/>
        </p:nvPicPr>
        <p:blipFill>
          <a:blip r:embed="rId1"/>
          <a:stretch/>
        </p:blipFill>
        <p:spPr>
          <a:xfrm>
            <a:off x="152280" y="55440"/>
            <a:ext cx="899172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and New Polish Army Statues at Base of Mon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623960"/>
            <a:ext cx="69786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therhood in Arms Monument “Dedicated to the Common Struggle of the Soviet and New Polish Arm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0390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hood in Arms Monument with Inscription in Russian and Polish: "To the comrades of arms that sacrificed their lives for liberty and independence of Polish Nation - inhabitants of Warsaw. 1945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3905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Soviet Soldier, in Background, is Larger than the Polish Soldier, in Fore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Will Poland throw WW2 memorials onto scrapheap?"/>
          <p:cNvPicPr/>
          <p:nvPr/>
        </p:nvPicPr>
        <p:blipFill>
          <a:blip r:embed="rId1"/>
          <a:stretch/>
        </p:blipFill>
        <p:spPr>
          <a:xfrm>
            <a:off x="1676520" y="1676520"/>
            <a:ext cx="6248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ders of the Westerplatte Monument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mnik Obrońców Westerplat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(1966)—Meant to Look Like Bayonet Driven into the Ground, Suggesting the Germans’ Treacherous Sneak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AIRPORT TRANSF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304920"/>
            <a:ext cx="473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3:40:43Z</dcterms:created>
  <dc:creator>Matthew Levey</dc:creator>
  <dc:description/>
  <dc:language>en-US</dc:language>
  <cp:lastModifiedBy>Matt Levey</cp:lastModifiedBy>
  <dcterms:modified xsi:type="dcterms:W3CDTF">2008-06-23T17:25:56Z</dcterms:modified>
  <cp:revision>13</cp:revision>
  <dc:subject/>
  <dc:title>Brotherhood in Arms Monument, Warsaw</dc:title>
</cp:coreProperties>
</file>