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AB4-227F-4CCE-8F98-D2CB31F2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F64-60DC-4049-89FB-7B9D9224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E1B-ED0D-4D91-85B7-8F779775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761-4616-4273-90FB-59523AB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801-7249-4B87-8BB2-5888B376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43E-1790-4770-808F-1CD92DB6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5BE-CEC5-4918-9B36-AEC4BCF0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A07-2502-4258-891E-4125FDEA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6F4-DF4D-4BB2-95E4-798E0362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8F3-2E72-4B54-99C9-C8467448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0A6-8177-4E2E-91CB-6856E3CA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4C4-C5C3-4720-943F-D8299CF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8AF1-7868-4582-8AC2-8027F091D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okr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5/Warsaw_Nike_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7/POL_warsaw_nike_00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4/Warsaw_Nike_0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VarsaviaMonumentoEroiVarsavia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b/VarsaviaMonumentoEroiVarsavia3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or.ru/55/Monument/14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danskadventure.com/zdjecia/transf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hood in Arms Monument Monument (1945), Westerplatte Monument (1966) and Warsaw Nike (19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Westerplatte Defenders' Monument"/>
          <p:cNvPicPr/>
          <p:nvPr/>
        </p:nvPicPr>
        <p:blipFill>
          <a:blip r:embed="rId1"/>
          <a:stretch/>
        </p:blipFill>
        <p:spPr>
          <a:xfrm>
            <a:off x="1962000" y="0"/>
            <a:ext cx="64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esterplatte Defenders' Monument"/>
          <p:cNvPicPr/>
          <p:nvPr/>
        </p:nvPicPr>
        <p:blipFill>
          <a:blip r:embed="rId1"/>
          <a:stretch/>
        </p:blipFill>
        <p:spPr>
          <a:xfrm>
            <a:off x="1752480" y="0"/>
            <a:ext cx="513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Westerplatte Defenders' Monument"/>
          <p:cNvPicPr/>
          <p:nvPr/>
        </p:nvPicPr>
        <p:blipFill>
          <a:blip r:embed="rId1"/>
          <a:stretch/>
        </p:blipFill>
        <p:spPr>
          <a:xfrm>
            <a:off x="169704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ilors and Soldiers Defend the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Gdansk - Westerplatte Monument: Detail"/>
          <p:cNvPicPr/>
          <p:nvPr/>
        </p:nvPicPr>
        <p:blipFill>
          <a:blip r:embed="rId1"/>
          <a:stretch/>
        </p:blipFill>
        <p:spPr>
          <a:xfrm>
            <a:off x="1295280" y="1473120"/>
            <a:ext cx="70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ng of the Soldiers of Westerplatt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leslaw P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ir days had been fill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t was time to die in the summe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went straight to heaven in a coach-and-fou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ldiers of Westerplatt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ummer was beautiful that year.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sang: "Ah, ‘tis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our wounds were so painful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now it is sweet to wal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eavenly fields."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earth that year there was plenty of heather for bouquets.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dansk we stood like a w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efiance of the German offensiv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we soar among the cloud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oldiers of Westerplatt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d on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with keen sense of s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und are said to have he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louds the measured ste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Maratime Batall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the song they heard: "We'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the suns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ask in the warm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heather fields of paradi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en the cold wind blow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rrow courses the earth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'll float down to the center of Warsaw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diers of Westerplatte."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ument to the Volhynian Cavalry Brigade, Mok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Monument to the Volhynian Cavalry Brigade in Mok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600200"/>
            <a:ext cx="3933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ke, Goddess of Victory, in Warsaw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rszawska Nik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Image:Warsaw Nike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68640" y="1600200"/>
            <a:ext cx="349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Image:POL warsaw nike 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Image:Warsaw Nike 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482840"/>
            <a:ext cx="70866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a Movement from Monuments Linking the Anti-Fascist/Socialist International Cause to the National Cause of National Liberation and Independence to more Purely a National Goal of National Liberation and Independence Where the Link to Anti-Fascist/Socialist Goal Recedes or is Not Ex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Image:VarsaviaMonumentoEroiVarsavia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Image:VarsaviaMonumentoEroiVarsavia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569880"/>
            <a:ext cx="83818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age"/>
          <p:cNvPicPr/>
          <p:nvPr/>
        </p:nvPicPr>
        <p:blipFill>
          <a:blip r:embed="rId1"/>
          <a:stretch/>
        </p:blipFill>
        <p:spPr>
          <a:xfrm>
            <a:off x="152280" y="55440"/>
            <a:ext cx="899172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and New Polish Army Statues at Base of Mon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623960"/>
            <a:ext cx="69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hood in Arms Monument “Dedicated to the Common Struggle of the Soviet and New Polish Arm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390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hood in Arms Monument with Inscription in Russian and Polish: "To the comrades of arms that sacrificed their lives for liberty and independence of Polish Nation - inhabitants of Warsaw. 1945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3905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Soviet Soldier, in Background, is Larger than the Polish Soldier, in Fore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Will Poland throw WW2 memorials onto scrapheap?"/>
          <p:cNvPicPr/>
          <p:nvPr/>
        </p:nvPicPr>
        <p:blipFill>
          <a:blip r:embed="rId1"/>
          <a:stretch/>
        </p:blipFill>
        <p:spPr>
          <a:xfrm>
            <a:off x="1676520" y="1676520"/>
            <a:ext cx="6248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ders of the Westerplatte Monument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mnik Obrońców Westerplat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(1966)—Meant to Look Like Bayonet Driven into the Ground, Suggesting the Germans’ Treacherous Sneak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AIRPORT TRANSF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304920"/>
            <a:ext cx="473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3:40:43Z</dcterms:created>
  <dc:creator>Matthew Levey</dc:creator>
  <dc:description/>
  <dc:language>en-US</dc:language>
  <cp:lastModifiedBy>Matt Levey</cp:lastModifiedBy>
  <dcterms:modified xsi:type="dcterms:W3CDTF">2008-06-23T17:25:56Z</dcterms:modified>
  <cp:revision>13</cp:revision>
  <dc:subject/>
  <dc:title>Brotherhood in Arms Monument, Warsaw</dc:title>
</cp:coreProperties>
</file>