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EFBB-8767-48CB-964C-E2517298D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2BDF-F18B-46BC-A456-4CAEABE1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4D2A-EEDE-4127-8105-4E89AD468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26A1-F060-41C1-AD11-045BC2991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776A-931C-4172-80F5-1DD8010B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2FC5-CCA4-4587-A3A0-2AD32AE3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FABF-4402-4C86-927E-8DFED85F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CFD4-46A6-44B4-8C5D-118E164E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52D7-3DCE-4A26-9FEB-32E7405E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8A84-A63E-4C33-BF74-EA172F02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9E71-A5E2-4708-B857-823074C0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2637-2555-4859-87C7-868A0D42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CAB7-198A-498F-83E2-88A2BCA16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pbase.com/jolka/jewish_places_in__warsaw_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inker.wjh.harvard.edu/photos/poland_and_ukraine/pages/Warsaw%20Jewish%20cemetary%202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f/Getto_pomnik.jpe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base.com/jolka/jewish_places_in__warsaw_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base.com/jolka/jewish_places_in__warsaw_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ument to the Heroes of the Warsaw Ghetto (194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74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[rap104.jpg]"/>
          <p:cNvPicPr/>
          <p:nvPr/>
        </p:nvPicPr>
        <p:blipFill>
          <a:blip r:embed="rId1"/>
          <a:stretch/>
        </p:blipFill>
        <p:spPr>
          <a:xfrm>
            <a:off x="457200" y="55440"/>
            <a:ext cx="8077320" cy="672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361800"/>
            <a:ext cx="9144000" cy="64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143080" y="228600"/>
            <a:ext cx="48052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5146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68480" y="228600"/>
            <a:ext cx="48592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555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norah, a Clearly Jewish Symbol—the Lions are the Tribe of Judah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38829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67472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 Monument To The Ghetto Hero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0"/>
            <a:ext cx="4564080" cy="66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ront Side of the Monu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Warsaw Ghetto Uprising Memori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76520" y="1571760"/>
            <a:ext cx="63244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Back Side of the Monument—”Exodus”—Showing Jews Heading toward Their Deaths at Hands of 2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entury German Captors, in Ironic Juxtaposition to Leaving Their Captivity from the Egyptians and in Stark Contrast to Jews as Fighters for Freedom on the Front Side: Read in Narrative Form, the Back Side Represents the Jews as Victims and, Moving to the Front Side, Transforming into Resi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777240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22032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" y="1125360"/>
            <a:ext cx="89154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309600"/>
            <a:ext cx="815328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ial to the Warsaw Ghetto Uprising (1946); It marks the spot where the armed confrontation began. The memorial faces what was once a gate into the ghet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66756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 of 1946 Memorial with Inscription in Polish, Hebrew and Yiddish (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ED X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66756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hot Shows Both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Menor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Image:Getto pomnik.jpe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447920"/>
            <a:ext cx="8305920" cy="52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is Angle, One Can See the Figures Emerging From the Wall, the Ghetto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15328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24000" y="0"/>
            <a:ext cx="5137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Monument To The Ghetto Hero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03400" y="0"/>
            <a:ext cx="4560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wish Resisters Depicted as Anti-Fascist Resisters in Socialist-Realist Fashion—the Figure in the Center is Supposed to Represent Mordechai Anielowi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666880" y="1600200"/>
            <a:ext cx="40593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entral bronze panel depicts the men, women and children of the ghetto bearing arms in front of a backdrop of the burning ghett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Monument To The Ghetto Hero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228600"/>
            <a:ext cx="44082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21:03:27Z</dcterms:created>
  <dc:creator>Matthew Levey</dc:creator>
  <dc:description/>
  <dc:language>en-US</dc:language>
  <cp:lastModifiedBy>Matt Levey</cp:lastModifiedBy>
  <dcterms:modified xsi:type="dcterms:W3CDTF">2008-06-19T20:08:40Z</dcterms:modified>
  <cp:revision>5</cp:revision>
  <dc:subject/>
  <dc:title>Monument to the Heroes of the Warsaw Ghetto</dc:title>
</cp:coreProperties>
</file>