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8E0-0F84-4E7D-A1BF-FE78C221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CF52-C322-4149-8810-DF69654D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E304-AEAF-4D50-9500-1425985B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C0E-13E5-4910-A07E-0D8F7A69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93F-A0B9-4DC4-836F-7CA79D0E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1CB-4910-436D-80C0-84494889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60F3-1C50-489B-85EC-699474D3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4BC9-69ED-46B5-85AC-467FCE74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579-0AC1-45A3-B2DA-92867EFC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44E-576C-4B36-BE61-341D2768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758-084E-4E84-B4BC-59EB1BD9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F2B-AFC5-4A37-8F8E-3C428B3C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DEE2-7826-48A6-A25B-A7F644843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base.com/jolka/jewish_places_in__warsaw_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inker.wjh.harvard.edu/photos/poland_and_ukraine/pages/Warsaw%20Jewish%20cemetary%202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f/Getto_pomnik.jpe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base.com/jolka/jewish_places_in__warsaw_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base.com/jolka/jewish_places_in__warsaw_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ument to the Heroes of the Warsaw Ghetto (194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[rap104.jpg]"/>
          <p:cNvPicPr/>
          <p:nvPr/>
        </p:nvPicPr>
        <p:blipFill>
          <a:blip r:embed="rId1"/>
          <a:stretch/>
        </p:blipFill>
        <p:spPr>
          <a:xfrm>
            <a:off x="457200" y="55440"/>
            <a:ext cx="8077320" cy="67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6180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43080" y="228600"/>
            <a:ext cx="48052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68480" y="228600"/>
            <a:ext cx="4859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55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norah, a Clearly Jewish Symbol—the Lions are the Tribe of Judah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38829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747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 Monument To The Ghetto Hero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0"/>
            <a:ext cx="4564080" cy="66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ront Side of the Mon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Warsaw Ghetto Uprising Memori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571760"/>
            <a:ext cx="63244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ack Side of the Monument—”Exodus”—Showing Jews Heading toward Their Deaths at Hands of 2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ntury German Captors, in Ironic Juxtaposition to Leaving Their Captivity from the Egyptians and in Stark Contrast to Jews as Fighters for Freedom on the Front Side: Read in Narrative Form, the Back Side Represents the Jews as Victims and, Moving to the Front Side, Transforming into Res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777240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2203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125360"/>
            <a:ext cx="89154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309600"/>
            <a:ext cx="815328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ial to the Warsaw Ghetto Uprising (1946); It marks the spot where the armed confrontation began. The memorial faces what was once a gate into the ghet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6675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 of 1946 Memorial with Inscription in Polish, Hebrew and Yiddish (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ED X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66756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hot Shows Both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nor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Image:Getto pomnik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447920"/>
            <a:ext cx="830592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is Angle, One Can See the Figures Emerging From the Wall, the Ghetto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24000" y="0"/>
            <a:ext cx="513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Monument To The Ghetto Hero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03400" y="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ish Resisters Depicted as Anti-Fascist Resisters in Socialist-Realist Fashion—the Figure in the Center is Supposed to Represent Mordechai Anielowi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4059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ntral bronze panel depicts the men, women and children of the ghetto bearing arms in front of a backdrop of the burning ghet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Monument To The Ghetto Hero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228600"/>
            <a:ext cx="44082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21:03:27Z</dcterms:created>
  <dc:creator>Matthew Levey</dc:creator>
  <dc:description/>
  <dc:language>en-US</dc:language>
  <cp:lastModifiedBy>Matt Levey</cp:lastModifiedBy>
  <dcterms:modified xsi:type="dcterms:W3CDTF">2008-06-19T20:08:40Z</dcterms:modified>
  <cp:revision>5</cp:revision>
  <dc:subject/>
  <dc:title>Monument to the Heroes of the Warsaw Ghetto</dc:title>
</cp:coreProperties>
</file>