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256-C821-4591-98A9-9F577DC8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3AD-30C7-4C23-B290-DA8BF356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F66-4DCF-4F8F-BC39-06E5FD11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CAF-8E20-4650-8BDC-DA05753F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433-2B6B-4095-899B-297237AC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258-2061-4ADA-BA6C-7BC9EF8B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86F-97A4-4225-9CE8-BB7240B7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278-CA45-47F4-BC9D-8799D731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6E4-0CD7-4021-8FA2-75154ACD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CBE-5DB9-4B7E-BE76-3E64551D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91A-D86D-4D51-B079-FE12F2F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C8F-8A6D-4915-8AFF-116E0A4C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62C7-3DD2-4E0D-8272-D989165BE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nker.wjh.harvard.edu/photos/poland_and_ukraine/pages/Warsaw%20Jewish%20cemetary%20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f/Getto_pomnik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ument to the Heroes of the Warsaw Ghetto (19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[rap104.jpg]"/>
          <p:cNvPicPr/>
          <p:nvPr/>
        </p:nvPicPr>
        <p:blipFill>
          <a:blip r:embed="rId1"/>
          <a:stretch/>
        </p:blipFill>
        <p:spPr>
          <a:xfrm>
            <a:off x="457200" y="55440"/>
            <a:ext cx="8077320" cy="67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43080" y="228600"/>
            <a:ext cx="4805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68480" y="228600"/>
            <a:ext cx="4859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norah, a Clearly Jewish Symbol—the Lions are the Tribe of Judah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882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47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 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456408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ront Side of the Mon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Warsaw Ghetto Uprising Memor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571760"/>
            <a:ext cx="6324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ack Side of the Monument—”Exodus”—Showing Jews Heading toward Their Deaths at Hands of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German Captors, in Ironic Juxtaposition to Leaving Their Captivity from the Egyptians and in Stark Contrast to Jews as Fighters for Freedom on the Front Side: Read in Narrative Form, the Back Side Represents the Jews as Victims and, Moving to the Front Side, Transforming into Res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77724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125360"/>
            <a:ext cx="8915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309600"/>
            <a:ext cx="815328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al to the Warsaw Ghetto Uprising (1946); It marks the spot where the armed confrontation began. The memorial faces what was once a gate into the gh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667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of 1946 Memorial with Inscription in Polish, Hebrew and Yiddish 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ED X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hot Shows Both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no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:Getto pomnik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is Angle, One Can See the Figures Emerging From the Wall, the Ghetto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40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340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ish Resisters Depicted as Anti-Fascist Resisters in Socialist-Realist Fashion—the Figure in the Center is Supposed to Represent Mordechai Anielo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059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ral bronze panel depicts the men, women and children of the ghetto bearing arms in front of a backdrop of the burning ghet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28600"/>
            <a:ext cx="440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1:03:27Z</dcterms:created>
  <dc:creator>Matthew Levey</dc:creator>
  <dc:description/>
  <dc:language>en-US</dc:language>
  <cp:lastModifiedBy>Matt Levey</cp:lastModifiedBy>
  <dcterms:modified xsi:type="dcterms:W3CDTF">2008-06-19T20:08:40Z</dcterms:modified>
  <cp:revision>5</cp:revision>
  <dc:subject/>
  <dc:title>Monument to the Heroes of the Warsaw Ghetto</dc:title>
</cp:coreProperties>
</file>