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C85-893B-4F7B-8146-6FA28200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5AB-9C51-4CE7-813B-EFAD5400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70F-FDC4-4C29-ABF9-A9ADFB7A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221-8238-44F4-8355-A402AC57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A45-BFC1-4449-A808-1B808ECD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284-0C0E-4C66-BCBD-33F72AAC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443-AF35-4077-997B-9E0EE2AC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CA8-6532-409A-9E6B-98D6E734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AC8-2CEC-4211-BB73-7BDDEE00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61B-174C-43D4-ABEF-C5CBCDD9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1CC-2E18-48E5-820C-5FD71FF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729-09C8-4F7E-A3E2-DB30C934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97F2-686D-4C12-90B3-B64CE4C7A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nker.wjh.harvard.edu/photos/poland_and_ukraine/pages/Warsaw%20Jewish%20cemetary%20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f/Getto_pomnik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ument to the Heroes of the Warsaw Ghetto (19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[rap104.jpg]"/>
          <p:cNvPicPr/>
          <p:nvPr/>
        </p:nvPicPr>
        <p:blipFill>
          <a:blip r:embed="rId1"/>
          <a:stretch/>
        </p:blipFill>
        <p:spPr>
          <a:xfrm>
            <a:off x="457200" y="55440"/>
            <a:ext cx="8077320" cy="67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43080" y="228600"/>
            <a:ext cx="4805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68480" y="228600"/>
            <a:ext cx="4859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5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norah, a Clearly Jewish Symbol—the Lions are the Tribe of Judah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882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47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 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456408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ront Side of the Mon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Warsaw Ghetto Uprising Memori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571760"/>
            <a:ext cx="6324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ack Side of the Monument—”Exodus”—Showing Jews Heading toward Their Deaths at Hands of 2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German Captors, in Ironic Juxtaposition to Leaving Their Captivity from the Egyptians and in Stark Contrast to Jews as Fighters for Freedom on the Front Side: Read in Narrative Form, the Back Side Represents the Jews as Victims and, Moving to the Front Side, Transforming into Res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77724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125360"/>
            <a:ext cx="8915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309600"/>
            <a:ext cx="815328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al to the Warsaw Ghetto Uprising (1946); It marks the spot where the armed confrontation began. The memorial faces what was once a gate into the gh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6675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of 1946 Memorial with Inscription in Polish, Hebrew and Yiddish 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ED X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hot Shows Both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no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mage:Getto pomnik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447920"/>
            <a:ext cx="830592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is Angle, One Can See the Figures Emerging From the Wall, the Ghetto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40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340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ish Resisters Depicted as Anti-Fascist Resisters in Socialist-Realist Fashion—the Figure in the Center is Supposed to Represent Mordechai Anielowi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059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tral bronze panel depicts the men, women and children of the ghetto bearing arms in front of a backdrop of the burning ghet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28600"/>
            <a:ext cx="4408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1:03:27Z</dcterms:created>
  <dc:creator>Matthew Levey</dc:creator>
  <dc:description/>
  <dc:language>en-US</dc:language>
  <cp:lastModifiedBy>Matt Levey</cp:lastModifiedBy>
  <dcterms:modified xsi:type="dcterms:W3CDTF">2008-06-19T20:08:40Z</dcterms:modified>
  <cp:revision>5</cp:revision>
  <dc:subject/>
  <dc:title>Monument to the Heroes of the Warsaw Ghetto</dc:title>
</cp:coreProperties>
</file>