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  <p:sldId id="307" r:id="rId60"/>
    <p:sldId id="308" r:id="rId61"/>
    <p:sldId id="309" r:id="rId62"/>
    <p:sldId id="310" r:id="rId63"/>
    <p:sldId id="311" r:id="rId64"/>
    <p:sldId id="312" r:id="rId65"/>
    <p:sldId id="313" r:id="rId66"/>
    <p:sldId id="314" r:id="rId67"/>
    <p:sldId id="315" r:id="rId68"/>
    <p:sldId id="316" r:id="rId69"/>
    <p:sldId id="317" r:id="rId70"/>
    <p:sldId id="318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slide" Target="slides/slide52.xml"/><Relationship Id="rId61" Type="http://schemas.openxmlformats.org/officeDocument/2006/relationships/slide" Target="slides/slide53.xml"/><Relationship Id="rId62" Type="http://schemas.openxmlformats.org/officeDocument/2006/relationships/slide" Target="slides/slide54.xml"/><Relationship Id="rId63" Type="http://schemas.openxmlformats.org/officeDocument/2006/relationships/slide" Target="slides/slide55.xml"/><Relationship Id="rId64" Type="http://schemas.openxmlformats.org/officeDocument/2006/relationships/slide" Target="slides/slide56.xml"/><Relationship Id="rId65" Type="http://schemas.openxmlformats.org/officeDocument/2006/relationships/slide" Target="slides/slide57.xml"/><Relationship Id="rId66" Type="http://schemas.openxmlformats.org/officeDocument/2006/relationships/slide" Target="slides/slide58.xml"/><Relationship Id="rId67" Type="http://schemas.openxmlformats.org/officeDocument/2006/relationships/slide" Target="slides/slide59.xml"/><Relationship Id="rId68" Type="http://schemas.openxmlformats.org/officeDocument/2006/relationships/slide" Target="slides/slide60.xml"/><Relationship Id="rId69" Type="http://schemas.openxmlformats.org/officeDocument/2006/relationships/slide" Target="slides/slide61.xml"/><Relationship Id="rId70" Type="http://schemas.openxmlformats.org/officeDocument/2006/relationships/slide" Target="slides/slide62.xml"/><Relationship Id="rId71" Type="http://schemas.openxmlformats.org/officeDocument/2006/relationships/slide" Target="slides/slide63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C9F83-7DEB-4680-A2BD-61B604D54D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CCD3A-EF02-435F-AD0A-7C7A2049C7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6A4A1-CF31-45BF-B8C0-D2CE57B4F8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9F52D-57FA-43B4-95F4-72CBB57C5E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319C9-6849-43A4-A555-4A2FABEA43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284A-06C4-4548-8AE0-CF8FD299FFB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B569-BEA4-42F9-AD0E-26D7246D255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27A0-BD98-47DF-9B4E-A632580C5DD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EF91-5628-44FF-9C8F-994E2C33C14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4831-1158-430B-AA62-F8C7EF6E99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D4CC1-7AAD-4B2A-B2B6-1EA25188369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50BA-B646-4346-876D-DBF08022103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33B2-A1D1-47EE-BCDC-1CF5679B500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9430-5284-47C6-ABAF-B88F5BB6D5F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12C5-C135-4648-82E1-ED42256A02C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1207-D689-4331-BEF5-D280FABB8D1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36F2-8F8F-4D9F-BA8B-8C801BA908C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DCE6-8DCB-4B3E-A0E8-B6ED8605604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2887D-9361-49E7-9F57-D9D08EDEDB3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DACB3-B98E-4E7F-BEC2-9724BB12948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39C39-03AF-4B92-A2C4-AE677507335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22677-6904-45FA-A625-974C434C236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57D46-BF5D-47D1-BC34-D604B17B7D4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C2C92-E5D0-47F9-9D11-CED9412C87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d7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0992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B73BF-F5A8-4978-9EF8-546C3EC2B4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7"/>
          <p:cNvSpPr/>
          <p:nvPr/>
        </p:nvSpPr>
        <p:spPr>
          <a:xfrm>
            <a:off x="5867280" y="152280"/>
            <a:ext cx="2971800" cy="6685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391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76212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257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275ca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275ca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266760" y="6549840"/>
            <a:ext cx="8610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7f7f7f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Times New Roman"/>
                <a:ea typeface="ＭＳ Ｐゴシック"/>
              </a:rPr>
              <a:t>©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1d4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228600" y="1096920"/>
            <a:ext cx="8686800" cy="5440320"/>
          </a:xfrm>
          <a:prstGeom prst="rect">
            <a:avLst/>
          </a:prstGeom>
          <a:noFill/>
          <a:ln w="38160">
            <a:solidFill>
              <a:srgbClr val="1d458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5"/>
          <p:cNvSpPr/>
          <p:nvPr/>
        </p:nvSpPr>
        <p:spPr>
          <a:xfrm>
            <a:off x="152280" y="6613560"/>
            <a:ext cx="6629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© 2012 Cengage Learning. All Rights Reserved. May not be scanned, copied or duplicated, or posted to a publicly accessible website, in whole or in part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304920" y="5562720"/>
            <a:ext cx="57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dividual Income Tax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8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9"/>
          <p:cNvSpPr/>
          <p:nvPr/>
        </p:nvSpPr>
        <p:spPr>
          <a:xfrm>
            <a:off x="0" y="55627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0" descr="Southwestern Logo"/>
          <p:cNvPicPr/>
          <p:nvPr/>
        </p:nvPicPr>
        <p:blipFill>
          <a:blip r:embed="rId2"/>
          <a:stretch/>
        </p:blipFill>
        <p:spPr>
          <a:xfrm>
            <a:off x="5979960" y="5675400"/>
            <a:ext cx="2816280" cy="4698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1"/>
          <p:cNvSpPr/>
          <p:nvPr/>
        </p:nvSpPr>
        <p:spPr>
          <a:xfrm>
            <a:off x="5867280" y="152280"/>
            <a:ext cx="2971800" cy="6685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d7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3"/>
          </p:nvPr>
        </p:nvSpPr>
        <p:spPr>
          <a:xfrm>
            <a:off x="7009920" y="65685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3F479-8AB0-481E-AC1E-D5129019970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1d4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228600" y="1096920"/>
            <a:ext cx="8686800" cy="5440320"/>
          </a:xfrm>
          <a:prstGeom prst="rect">
            <a:avLst/>
          </a:prstGeom>
          <a:noFill/>
          <a:ln w="38160">
            <a:solidFill>
              <a:srgbClr val="1d458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0" y="2603520"/>
            <a:ext cx="9144000" cy="4343400"/>
          </a:xfrm>
          <a:prstGeom prst="rect">
            <a:avLst/>
          </a:prstGeom>
          <a:solidFill>
            <a:srgbClr val="1d4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Background"/>
          <p:cNvPicPr/>
          <p:nvPr/>
        </p:nvPicPr>
        <p:blipFill>
          <a:blip r:embed="rId2"/>
          <a:srcRect l="0" t="38549" r="0" b="33801"/>
          <a:stretch/>
        </p:blipFill>
        <p:spPr>
          <a:xfrm>
            <a:off x="0" y="914400"/>
            <a:ext cx="9144000" cy="1905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Southwestern Logo"/>
          <p:cNvPicPr/>
          <p:nvPr/>
        </p:nvPicPr>
        <p:blipFill>
          <a:blip r:embed="rId3"/>
          <a:stretch/>
        </p:blipFill>
        <p:spPr>
          <a:xfrm>
            <a:off x="6060960" y="5803920"/>
            <a:ext cx="2816280" cy="4698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9"/>
          <p:cNvSpPr/>
          <p:nvPr/>
        </p:nvSpPr>
        <p:spPr>
          <a:xfrm>
            <a:off x="266760" y="1922400"/>
            <a:ext cx="1828800" cy="17845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8"/>
          <p:cNvSpPr/>
          <p:nvPr/>
        </p:nvSpPr>
        <p:spPr>
          <a:xfrm>
            <a:off x="266760" y="19987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d4582"/>
                </a:solidFill>
                <a:latin typeface="Arial"/>
                <a:ea typeface="ＭＳ Ｐゴシック"/>
              </a:rPr>
              <a:t>C H A P T E 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itle 1"/>
          <p:cNvSpPr/>
          <p:nvPr/>
        </p:nvSpPr>
        <p:spPr>
          <a:xfrm>
            <a:off x="473040" y="2322360"/>
            <a:ext cx="14162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35000" y="5707080"/>
            <a:ext cx="57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dividual Income Tax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traight Connector 13"/>
          <p:cNvSpPr/>
          <p:nvPr/>
        </p:nvSpPr>
        <p:spPr>
          <a:xfrm>
            <a:off x="228600" y="5630760"/>
            <a:ext cx="8686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>
            <a:off x="228600" y="6459480"/>
            <a:ext cx="8686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391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6212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257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275ca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275ca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ftr" idx="4"/>
          </p:nvPr>
        </p:nvSpPr>
        <p:spPr>
          <a:xfrm>
            <a:off x="266760" y="6549840"/>
            <a:ext cx="8610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©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1d4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228600" y="1096920"/>
            <a:ext cx="8686800" cy="5440320"/>
          </a:xfrm>
          <a:prstGeom prst="rect">
            <a:avLst/>
          </a:prstGeom>
          <a:noFill/>
          <a:ln w="38160">
            <a:solidFill>
              <a:srgbClr val="1d458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0" y="2603520"/>
            <a:ext cx="9144000" cy="4343400"/>
          </a:xfrm>
          <a:prstGeom prst="rect">
            <a:avLst/>
          </a:prstGeom>
          <a:solidFill>
            <a:srgbClr val="1d4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Background"/>
          <p:cNvPicPr/>
          <p:nvPr/>
        </p:nvPicPr>
        <p:blipFill>
          <a:blip r:embed="rId2"/>
          <a:srcRect l="0" t="38549" r="0" b="33801"/>
          <a:stretch/>
        </p:blipFill>
        <p:spPr>
          <a:xfrm>
            <a:off x="0" y="914400"/>
            <a:ext cx="9144000" cy="19051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" descr="Southwestern Logo"/>
          <p:cNvPicPr/>
          <p:nvPr/>
        </p:nvPicPr>
        <p:blipFill>
          <a:blip r:embed="rId3"/>
          <a:stretch/>
        </p:blipFill>
        <p:spPr>
          <a:xfrm>
            <a:off x="6060960" y="5902200"/>
            <a:ext cx="2816280" cy="470160"/>
          </a:xfrm>
          <a:prstGeom prst="rect">
            <a:avLst/>
          </a:prstGeom>
          <a:ln w="0">
            <a:noFill/>
          </a:ln>
        </p:spPr>
      </p:pic>
      <p:sp>
        <p:nvSpPr>
          <p:cNvPr id="181" name="TextBox 9"/>
          <p:cNvSpPr/>
          <p:nvPr/>
        </p:nvSpPr>
        <p:spPr>
          <a:xfrm>
            <a:off x="266760" y="1922400"/>
            <a:ext cx="1828800" cy="17845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8"/>
          <p:cNvSpPr/>
          <p:nvPr/>
        </p:nvSpPr>
        <p:spPr>
          <a:xfrm>
            <a:off x="266760" y="19987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d4582"/>
                </a:solidFill>
                <a:latin typeface="Arial"/>
                <a:ea typeface="ＭＳ Ｐゴシック"/>
              </a:rPr>
              <a:t>C H A P T E 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135000" y="5805360"/>
            <a:ext cx="57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dividual Income Tax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traight Connector 12"/>
          <p:cNvSpPr/>
          <p:nvPr/>
        </p:nvSpPr>
        <p:spPr>
          <a:xfrm>
            <a:off x="228600" y="5729400"/>
            <a:ext cx="8686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traight Connector 13"/>
          <p:cNvSpPr/>
          <p:nvPr/>
        </p:nvSpPr>
        <p:spPr>
          <a:xfrm>
            <a:off x="228600" y="6556320"/>
            <a:ext cx="8686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391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6212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257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275ca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275ca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ftr" idx="5"/>
          </p:nvPr>
        </p:nvSpPr>
        <p:spPr>
          <a:xfrm>
            <a:off x="266760" y="6646680"/>
            <a:ext cx="8610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©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1d4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2"/>
          <p:cNvSpPr/>
          <p:nvPr/>
        </p:nvSpPr>
        <p:spPr>
          <a:xfrm>
            <a:off x="228600" y="1096920"/>
            <a:ext cx="8686800" cy="5440320"/>
          </a:xfrm>
          <a:prstGeom prst="rect">
            <a:avLst/>
          </a:prstGeom>
          <a:noFill/>
          <a:ln w="38160">
            <a:solidFill>
              <a:srgbClr val="1d458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391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6212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257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275ca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275ca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ftr" idx="6"/>
          </p:nvPr>
        </p:nvSpPr>
        <p:spPr>
          <a:xfrm>
            <a:off x="266760" y="6549840"/>
            <a:ext cx="8610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Times New Roman"/>
              </a:rPr>
              <a:t>©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1d4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2"/>
          <p:cNvSpPr/>
          <p:nvPr/>
        </p:nvSpPr>
        <p:spPr>
          <a:xfrm>
            <a:off x="228600" y="1096920"/>
            <a:ext cx="8686800" cy="5440320"/>
          </a:xfrm>
          <a:prstGeom prst="rect">
            <a:avLst/>
          </a:prstGeom>
          <a:noFill/>
          <a:ln w="38160">
            <a:solidFill>
              <a:srgbClr val="1d458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391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76212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257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275ca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275ca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ftr" idx="7"/>
          </p:nvPr>
        </p:nvSpPr>
        <p:spPr>
          <a:xfrm>
            <a:off x="266760" y="6549840"/>
            <a:ext cx="8610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Times New Roman"/>
              </a:rPr>
              <a:t>©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130320" y="4011480"/>
            <a:ext cx="861048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ross Inco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ncepts and I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D7577-1787-4D8B-BF17-F5A8EEC78D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ccounting Methods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1 of 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3 primary methods of accounting for tax purpo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h receipts and disbursements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rual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brid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C0370-2524-4D70-8ABE-949D15BC92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ccounting Methods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2 of 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ddition to overall accounting methods,  taxpayers may choose (elect) tax treatment for various transactions, for exam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xpayers can elect  to use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stallment metho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ain contractors may elect to use either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rcentage of completion metho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pleted contract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65F4F-95EF-448A-8775-B5C3E5BCA0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ash Receipts Method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7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e is recognized in the year it is actually or constructively received in cash or cash equiva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mount is constructively received when it is set aside and made available to taxpayer without substantial restri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77B85-8561-47AB-883A-627194BF5F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Big Picture - Example 10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structive Receipt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1 of 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 to the facts of The Big Picture on p. 4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December 31, Dr. Payne has $10,000 in patients' checks that have not been depos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check for $3,000 is from a patient who asked him not to deposit it until after January 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because her account did not contain sufficient funds to pay the deb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33DC3-D863-4E37-89DC-8F9463D7D2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Big Picture - Example 10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structive Receipt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2 of 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9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 the cash method, Dr. Payne must recognize $7,000 income from the checks on h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ecks are a cash equivalent that is actually rece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come from the $3,000 check is neither actually nor constructively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sufficient account means the funds are not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CC9F1-F023-4D48-AE80-C37A8D5691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Big Picture - Example 12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structive Receipt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1 of 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 to the facts of The Big Picture on p. 4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Dr. Payne elected to use the cash basis of accou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he accepted credit cards, Dr. Payne would receive immediate credit in his bank account for 96% of the 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ther 4% would be retained by the credit card issu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void the 4% charge, Dr. Payne chose not to accept credit c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ead, his policy required all bills to be paid within 30 days after dental services were provi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C6C4A-B7E1-4A7E-A2D9-5794DF4F50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Big Picture - Example 12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structive Receipt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2 of 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2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year end, several patients owed a combined $2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offered to pay with credit cards, but his office rejected their off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$2,000 was not constructively received at the end of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Payne could have received payment by credit card, he contracted to receive payment at a later date before the dental services were perfor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over, the 4% charge by the credit card company would be a ‘‘substantial limitation’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82AFA-FEED-4C75-87C1-B7CA805F9F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xceptions To Cash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ceipts Metho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 Issue Discount (OID) interest is taxable when earned rather than when interest is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ies E and EE bonds are not subject to the OID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a cash basis taxpayer may elect to recognize the interest when ear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EA7DE-8950-49F3-873D-1E4012851A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ccrual Method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1 of 3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e is recognized in the year that it is earned regardless of when it is coll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e is earned wh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events have occurred that fix taxpayer’s right to the income,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mount can be determined with reasonable accu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86AD2-DE39-4522-950D-E46150159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ccrual Method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2 of 3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ccrual method is required for determining purchases and sales when inventory is an income-producing fa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usinesses” may use the cash method of accou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business is defined as those with $25,000,000 or less of gross receipts on average over the prior three-year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ddition, small businesses with inventory are allowed to use simpler and more favorable accounting methods for the invento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E7668-22D4-4DA6-8358-14E10B84B1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Big Pictur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lculation Of Gross Incom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1 of 3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2018, Dr. Cliff Payne opened his dental practice as a sole proprietorship with a December 31 year-e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the beginning of February, construction on his medical building was complete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also leased an office building and entered into a contract to make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used $12,000 of extra money to purchase some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BE4D4-8904-46F2-AFD0-43BC75A20B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ccrual Method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3 of 3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5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im of right doctr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amounts received to be included in income even though the amount is in dispute and might be returned to the payor at a later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payment has not been received, no income is recognized until the claim is sett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B9C20-2F32-4CF5-A14E-BFF35E6804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Big Picture - Example 7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aim Of Right Doctrin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6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 to the facts of The Big Picture on p. 4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completing construction of the medical office building in 2018, the contractor submitted a b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. Payne refused to pay the bill, claiming the contractor had not met spec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ntractor did not reach a settlement with Dr. Payne until 20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income accrues to the contractor until 2019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Dr. Payne had paid for the work, then filed suit, the contractor could not defer the inco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come would be taxable in 20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3E1C7-D083-44E4-B357-951E455F71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xceptions to Accrual Method</a:t>
            </a:r>
            <a:br>
              <a:rPr sz="4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1 of 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xpayer can elect to defer recognition of income from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dvance payment for goo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 same method of accounting is used for tax and financial reporting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the TCJA of 2017, this deferral cannot extend beyond the year following the year payment is rece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1ADA7-540E-4A11-8A56-DE04714C2E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xceptions to Accrual Method</a:t>
            </a:r>
            <a:br>
              <a:rPr sz="4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2 of 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9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dvance payment for servi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be performed after year-end is included in income in the year following receip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rtion of the advance payment that is earned in the current year is included in income in the year of rece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id rents or interest income are always recognized in the year received rather than when ear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1B9F3-1E88-4A43-B8E5-33EED6F88A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ybrid Method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mbination of cash and accrual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ly, used when inventory is a material income-producing factor, for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ccrual method to account for inven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cash method for other income and expe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s made by the TCJA of 2017 allow more types of businesses to use the cash method and not to account for inven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, the hybrid method is not likely to be common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6A026-DA1D-4476-8C5B-EEFAAB72D9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come Source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1 of 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7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e from personal services is taxable to the person who performs the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uit and tree metaph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e from property is taxable to the owner of the prop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gnment of income is not permit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4049C-9FFF-4AA5-A382-7B3517BD0D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come Sources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2 of 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est income accrues da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nterest bearing instrument (e.g., bonds) is transferred, must allocate interest income between transferor and transferee based on the number of days during the period that each owned the prop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FB4B3-67F1-410F-83AC-C16015E87D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BAR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CEN 114, Report of Foreign Bank and Financial Accounts (FB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be filed with Treasury Dept. if aggregate balance of all foreign bank, brokerage and similar financial accounts exceeds $10,000 on any day of the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electron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d separately from Form 104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dule B of Form 1040 asks questions about it thoug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e by April 15 with automatic extension to October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penalty for non-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1752120"/>
            <a:ext cx="8229600" cy="36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 to the facts of The Big Picture on p. 4-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that instead of operating as a sole proprietorship, Dr. Payne incorporated his dental practice to limit his 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entered into an employment contract with his corporation and was to receive a sal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patients contract to receive their services from the corp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d7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ose services are provided by the corporation’s employee, Dr. Pay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E0954-55F8-4517-9A30-9D05DD1E07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Big Picture - Example 20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rvices of an Employee</a:t>
            </a:r>
            <a:br>
              <a:rPr sz="2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1 of 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Big Picture - Example 20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rvices of an Employee</a:t>
            </a:r>
            <a:br>
              <a:rPr sz="2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2 of 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676160"/>
            <a:ext cx="8229600" cy="282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 to the facts of The Big Picture on p. 4-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, the corporation earned the income from patients’ services and must include the patients’ fees in its gross in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. Payne must include his salary in his gross in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rporation is allowed a deduction for the reasonable salary paid to Dr. Pay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780C6-EA1C-4479-BF69-ACB36E4854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01583-FF03-4D75-A8A1-927092E8E2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Big Pictur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lculation Of Gross Incom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2 of 3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65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llowing financial information shows the results of Dr. Payne’s first year of ope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enues (amounts billed patients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ntal services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385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unts receivable: January 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–0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unts receivable: December 3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52,0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ccounts receivable represent amounts billed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the year, Sam Jones, a contractor who owed Dr. Payne $4,000 for dental services, satisfied the account by installing solar panels on the roof of Dr. Payne’s new medical bui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3AA05-1541-424D-801C-04609DC526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vidends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1 of 4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0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like interest, dividends do not accrue on a daily b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nds are generally taxed to the party who is entitled to receive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hareholder of record as of the corporation’s record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nds on stock transferred by gift after declaration date but before record date are generally taxed to the don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Slide Number Placeholder 3"/>
          <p:cNvSpPr/>
          <p:nvPr/>
        </p:nvSpPr>
        <p:spPr>
          <a:xfrm>
            <a:off x="6988320" y="6477120"/>
            <a:ext cx="2133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085BF-7CAD-4551-AD54-49FC8CC3B2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vidends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2 of 4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nt legislation has provided partial relief from double taxation of corporate divid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ly, dividends received are taxed at the same marginal rate that is applicable to a net capital 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ending on the individual’s taxable income, capital gain tax rates of 0%, 15%, and 20% ap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43F2C-A5AC-4B13-B9E9-A61B1738A3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vidends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3 of 4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9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llowing dividends are not eligible for the reduced tax 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nds from certain foreign corpo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nds from tax-exempt ent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nds that do not satisfy the holding period requi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ck on which the dividend is paid must have been held for more than 60 days during the 121-day period beginning 60 days before the ex-dividend date to qualify for the reduced tax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94F9A-2D9A-4628-990F-67C35B661E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vidends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4 of 4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nds from foreign corporations are eligible for qualified dividend status only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reign corporation’s stock is traded on an established U.S. securities market,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reign corporation is eligible for the benefits of a comprehensive income tax treaty between its country of incorporation and the United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91279-E2A6-4E9C-B259-FE082BD9CA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come Received By An Agen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e received by the taxpayer’s agent is considered to be received by the taxp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ash basis principal must recognize the income at the time it is received by the a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5394D-0BB3-4761-8585-1CE6CFE421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come From Partnership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artnership is not a separate taxable ent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s an information return (Form 106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data necessary for determining each partner’s distributive share of partnership’s income and dedu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partner reports distributive share of partnership income and deduc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d7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orted in year earned, even if not actually distribute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ause a partner pays tax on income as the partnership earns it, distributions are treated under the recovery of capital r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DA974-CA3F-403E-A00C-81BAFF495A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come From S Corporat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0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mall business corporation may elect to be taxed similarly to a partn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red to as an S corp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hareholders, rather than the corporation, pay the tax on the corporation’s inco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ly, shareholders report their share of the corp’s income and deductions for the year, even if not actually distribu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8F3CC-3308-44BC-BE16-D4609243BF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come From Estates And Trust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5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eficiaries of estates and trus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ly, taxed on the income earned by the estates or trusts that is actually distributed or required to be distributed to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income not taxed to the beneficiaries is taxable to the estate or tr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0CD4B-25C9-4423-B41D-15B03C67F2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come In Community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perty Stat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property is deemed either to be separately owned by the spouse or to belong to the marital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 income is allocable equally to each sp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arate income may be allocable to owner-sp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property may produce community income (e.g., TX, L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allocation of community income for some spouses living apart for entire year and filing separ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FD2EB-E066-417B-A306-33661CD8C1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limony and Separate Maintenance Payment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1 of 4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0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imony and separate maintenance payments made under an agreement entered into before December 31, 2018,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ductible by pay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ible in gross income of recip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divorce agreements executed after 2018, alimony paid is not deductible and the alimony received is not treated as in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hange was made by the TCJA of 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C3B77-511B-4F0F-8222-B4259232DC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Big Pictur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lculation Of Gross Incom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3 of 3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his accounting records he concludes that gross income for Federal income tax purposes is the $385,000 he billed his patients for dental services rend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Dr. Payne correctly calculated the gross income of this dental practic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the chapter and formulate your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14215-8B09-4B63-AE18-E795BAA5CF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limony and Separate Maintenance Payment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2 of 4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40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yments may qualify as alimony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ments are in c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reement or decree does not specify that the payments are not alimo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or and payee are not members of the same household at the time the payments are m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no liability to make the payments for any period after the death of the pay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B9DE0-578C-42FB-9E46-EEB3C893CA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limony and Separate Maintenance Payment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3 of 4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40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erty sett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er of property to former sp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deduction or recognized gain or loss for transfe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gross income and carryover of transferor’s basis for transfe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nt-loading of alimony pay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mony recapture (gross income) for pay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duction from gross income for recipien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176C4-F8F6-439E-9943-7FC18762D5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limony and Separate Maintenance Payment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4 of 4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support pay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ments made to satisfy legal obligation to support child of taxp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deductible by payor and not taxed to recipient (or chil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be difficult to determine whether an amount received is alimony or child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mount of payment would be reduced due to some future event related to the child (e.g., child reaches age 21), such reduction is deemed child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8BFA9-17AB-4D4F-A729-7678177204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mputed Interest on Below-Market Loan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1 of 4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est is imputed, using Federal government rates, when a loan does not carry a market rate of inte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uted interest = the difference between the amount that would have been charged at the Federal rate and the amount actually char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es t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ft lo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ensation-related lo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porate-shareholder lo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 avoidance lo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Slide Number Placeholder 2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8D63A-72DF-4C07-95F9-0070D7BEC1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mputed Interest on Below-Market Loan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2 of 4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TextBox 1"/>
          <p:cNvSpPr/>
          <p:nvPr/>
        </p:nvSpPr>
        <p:spPr>
          <a:xfrm>
            <a:off x="533520" y="21337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able below presents the effect of certain below-market loans on the lender and borr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6" descr=""/>
          <p:cNvPicPr/>
          <p:nvPr/>
        </p:nvPicPr>
        <p:blipFill>
          <a:blip r:embed="rId1"/>
          <a:stretch/>
        </p:blipFill>
        <p:spPr>
          <a:xfrm>
            <a:off x="266760" y="2971800"/>
            <a:ext cx="8569440" cy="1828800"/>
          </a:xfrm>
          <a:prstGeom prst="rect">
            <a:avLst/>
          </a:prstGeom>
          <a:ln w="0">
            <a:noFill/>
          </a:ln>
        </p:spPr>
      </p:pic>
      <p:sp>
        <p:nvSpPr>
          <p:cNvPr id="481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35C8B-527D-4533-B4C1-78FB90808E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mputed Interest on Below-Market Loan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3 of 4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4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ft lo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mption for loans of ≤ $10,000 between individual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loan proceeds are used to purchase income-producing property, the following limitation app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loans of $100,000 or less between individu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uted interest is limited to borrower’s net investment income for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imputed interest if net investment income is $1,000 or l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AA3EE-6F38-4EBA-A9F4-AE78A9E5B0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mputed Interest on Below-Market Loan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4 of 4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5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10,000 exemption also applies to compensation-related and corporation-shareholder lo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exemption if principal purpose of loan is tax avoid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s practically all loans of this type suspe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est expense imputed to borrower may be deduct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4A129-86DE-463F-AA6B-293BAA812E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nuity Income </a:t>
            </a:r>
            <a:br>
              <a:rPr sz="4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1 of 6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chaser pays fixed amount for the right to receive a future stream of pay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ly, early collections and loans against annuity   ≤ increases in cash value are included in gross in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ounts &gt; increases in cash value are treated as a recovery of capital until cost recovered; additional amounts are included in in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ly distributions may also be subject to a 10% penal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78209-DFD6-47E2-B0E7-19DBC340BB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nuity Income </a:t>
            </a:r>
            <a:br>
              <a:rPr sz="4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2 of 6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collections on and after the annuity starting da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xclusion ratio is applied to annuity payments received under contract to determine amount excluda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lusion ratio =       Investment in contra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Expected return under con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investment is recovered, remaining payments are taxable in fu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traight Connector 2"/>
          <p:cNvSpPr/>
          <p:nvPr/>
        </p:nvSpPr>
        <p:spPr>
          <a:xfrm>
            <a:off x="3657600" y="4114800"/>
            <a:ext cx="4114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93568-2C44-4B2B-8F08-0FB9684671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nuity Income </a:t>
            </a:r>
            <a:br>
              <a:rPr sz="4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3 of 6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40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xpayer pays $10,000 for annuity that will pay $1,000 a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: For a term of 1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: For lifetime (life expectancy = 15 yea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lusion ratio for A &amp; B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$10,000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.6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5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46F3B-E251-49D5-A35E-51D110037B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ross Income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1 of 3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: Gross income includes all income from whatever source derived, unless specifically excluded under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pt is interpreted broadly by the cou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530A8-DE55-4F8B-AA78-715CFD4894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nuity Income </a:t>
            </a:r>
            <a:br>
              <a:rPr sz="4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4 of 6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3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(cont’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15 years of annuity pay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ars 1-15: $333 taxable and $667 exclud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B6C1F-192E-41ED-9115-1DB3015B6F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nuity Income </a:t>
            </a:r>
            <a:br>
              <a:rPr sz="4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5 of 6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82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(cont’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: Lifetime payments and taxpayer lives 18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ars 1-15: $333 taxable and $667 exclud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ars 16-18: $1,000 taxable each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: Lifetime payments and taxpayer lives 10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ars 1-10: $333 taxable and $667 excludable, and $3,330 deduction on final ret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03C7D-ED71-433D-B12F-0DA719937F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nuity Income </a:t>
            </a:r>
            <a:br>
              <a:rPr sz="4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6 of 6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implified method is required for annuity distributions from a qualified retirement pla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lusion amount is investment in contract divided by number of anticipated monthly payments (table amount based on a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42E9A-F186-4A47-9A73-5203E368C4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izes and Award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7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rule: FMV of item is included in in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p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payer designates qualified organization to receive prize or award (subject to other requireme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loyee achievement awards of tangible personal property made in recognition of length of service or safety achievement (limits app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EB123-101F-4B93-8C2B-29FF9ECB22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roup Term Life Insuran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0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lude premiums paid by employer on first $50,000 of co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miums on excess coverage are included in gross in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amount based on IRS provided t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plan discriminates in favor of key employees (e.g., officers), key employees are not eligible for ex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such a case, the key employees must include in gross income the greater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ctual premiums paid by the emplo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mount calculated from the Uniform Premiums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29281-B5AD-4AD1-BBED-D30F137536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Unemployment Compensa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employment compensation is taxable in fu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A9FA6-6E3E-4A22-85BA-29F7B4DE98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ocial Security Benefits </a:t>
            </a:r>
            <a:br>
              <a:rPr sz="4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1 of 6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8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 to 85% of benefits may be tax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xability based on taxpayer’s modified adjusted gross income (MAG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GI = AGI (excluding Social Security) + foreign earned income exclusion + tax exempt inte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formulas for computing taxable 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8A381-7175-4351-BDCD-9696F371D2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ocial Security Benefits </a:t>
            </a:r>
            <a:br>
              <a:rPr sz="4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2 of 6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ula 1: If MAGI plus ½ of Social Security benefits exceeds the base amounts below, but not the second set of base amo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in income the lesser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50 (Social Security Benefi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50 [MAGI + .50 (SSB) – base amount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 amou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32,000 MF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0 MFS and not living a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25,000 for all other taxpa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04236-D342-467C-928D-0FB5FCC8CD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ocial Security Benefits </a:t>
            </a:r>
            <a:br>
              <a:rPr sz="4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3 of 6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ula 2: If MAGI plus ½ of Social Security benefits exceeds the base amounts be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in income the lesser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85(Social Security benefi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 of: 0.85[MAGI + 0.50(Social Security benefits) - second base amount], and the lesser o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d7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unt included through application of the first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d7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4,500 ($6,000 for married filing joint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 amou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44,000 MF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0 MFS and not living a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34,000 for all other taxpa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AD5D9-AD05-4BDA-AFE8-0B9D2FE9B5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ocial Security Benefits </a:t>
            </a:r>
            <a:br>
              <a:rPr sz="4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4 of 6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of Social Security incom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Married with AGI = $30,000; tax exempt interest income = $3,000; Social Security benefits = $1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: Married with AGI = $40,000; tax exempt interest income = $6,000; Social Security benefits = $1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A9DCA-4B68-4E42-B99C-9FE197FEF6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ross Income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2 of 3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xability of income follows the realization principle from accou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e is recognized (taxed) when real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e appreciation in wealth (economic income) is not considered realized in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00647-9024-49A8-991B-8F6837D3C4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ocial Security Benefits </a:t>
            </a:r>
            <a:br>
              <a:rPr sz="4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5 of 6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6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(cont’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Formula 1: Lesser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50 ($10,000) = $5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50 [($30,000 + $3,000) + 0.50 ($10,000) – $32,000)] = $3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fore, $3,000 of Social Security benefits included in gross in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2298D-3DEE-4524-BA46-81B1EC362D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ocial Security Benefits </a:t>
            </a:r>
            <a:br>
              <a:rPr sz="4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6 of 6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(cont’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: Formula 2: Lesser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85 ($10,000) = $8,500,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d7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5[($40,000 + $6,000) + 0.50 ($10,000) – $44,000] = $5,950,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d7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ser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d7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50 ($10,000) = $5,000,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d7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6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fore, $8,500 of Social Security benefits included in gross in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A82B9-CAFB-40DA-9643-A8B2ABCF04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focus On The Big Pictur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the accrual method of accounting, Dr. Cliff Payne has correctly calculated the gross income of his sole proprieto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will report the $385,000 amount on Schedule C of Form 10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f Dr. Payne elects the cash method of accounting? He will only report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enu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385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us: Accounts receivable: January 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–0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: Accounts receivable: December 3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(52,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ss inco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$333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Slide Number Placeholder 1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56133-6E67-4446-AED6-BCDAB7DAD1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1029"/>
          <p:cNvSpPr/>
          <p:nvPr/>
        </p:nvSpPr>
        <p:spPr>
          <a:xfrm>
            <a:off x="644400" y="2322360"/>
            <a:ext cx="7772400" cy="28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you have any comments or suggestions concerning this PowerPoint Presentation for South-Western Federal Taxation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. Donald  R. Trippeer, C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trippedr@oneonta.e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NY Oneo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8DC2F-75C4-4610-A4F1-2E369C6EB2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ross Income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3 of 3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e is recognized whether it is in the form of cash, or “in-kind” cash equivalents (i.e., property or servi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mount of income from “in-kind” receipts is equal to the FMV of the property or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e does not include recovery of the taxpayer’s capital inves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5A360-265B-4F19-859B-16A1B80C99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Big Picture - Example 1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covery Of Capital Doctrin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4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 to the facts of The Big Picture on p. 4-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. Payne sells common stock for $15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had purchased the stock for $12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. Payne’s gross receipts are $15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amount consists of a $12,000 recovery of capital and $3,000 of gross in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3A7DC-37B3-42AF-A5E4-432DA96D33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ccounting Period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1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xable year is generally a 12-month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xable year for most individual taxpayers is the calendar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sc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ear can be elected if taxpayer maintains adequate 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isc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year is a 12-month period ending on the last day of a month other than Dece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d7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July 1 to June 3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15T07:17:30Z</dcterms:created>
  <dc:creator>Dr. Donald R. Trippeer</dc:creator>
  <dc:description/>
  <dc:language>en-US</dc:language>
  <cp:lastModifiedBy>Trippeer, Don</cp:lastModifiedBy>
  <cp:lastPrinted>2004-03-27T20:37:44Z</cp:lastPrinted>
  <dcterms:modified xsi:type="dcterms:W3CDTF">2018-05-15T18:36:22Z</dcterms:modified>
  <cp:revision>265</cp:revision>
  <dc:subject>An Introduction to Taxation and Understanding Federal Tax Law</dc:subject>
  <dc:title>Chapter 1</dc:title>
</cp:coreProperties>
</file>