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  <p:sldId id="303" r:id="rId56"/>
    <p:sldId id="304" r:id="rId57"/>
    <p:sldId id="305" r:id="rId58"/>
    <p:sldId id="306" r:id="rId59"/>
    <p:sldId id="307" r:id="rId60"/>
    <p:sldId id="308" r:id="rId61"/>
    <p:sldId id="309" r:id="rId62"/>
    <p:sldId id="310" r:id="rId63"/>
    <p:sldId id="311" r:id="rId64"/>
    <p:sldId id="312" r:id="rId65"/>
    <p:sldId id="313" r:id="rId66"/>
    <p:sldId id="314" r:id="rId67"/>
    <p:sldId id="315" r:id="rId68"/>
    <p:sldId id="316" r:id="rId69"/>
    <p:sldId id="317" r:id="rId70"/>
    <p:sldId id="318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slide" Target="slides/slide48.xml"/><Relationship Id="rId57" Type="http://schemas.openxmlformats.org/officeDocument/2006/relationships/slide" Target="slides/slide49.xml"/><Relationship Id="rId58" Type="http://schemas.openxmlformats.org/officeDocument/2006/relationships/slide" Target="slides/slide50.xml"/><Relationship Id="rId59" Type="http://schemas.openxmlformats.org/officeDocument/2006/relationships/slide" Target="slides/slide51.xml"/><Relationship Id="rId60" Type="http://schemas.openxmlformats.org/officeDocument/2006/relationships/slide" Target="slides/slide52.xml"/><Relationship Id="rId61" Type="http://schemas.openxmlformats.org/officeDocument/2006/relationships/slide" Target="slides/slide53.xml"/><Relationship Id="rId62" Type="http://schemas.openxmlformats.org/officeDocument/2006/relationships/slide" Target="slides/slide54.xml"/><Relationship Id="rId63" Type="http://schemas.openxmlformats.org/officeDocument/2006/relationships/slide" Target="slides/slide55.xml"/><Relationship Id="rId64" Type="http://schemas.openxmlformats.org/officeDocument/2006/relationships/slide" Target="slides/slide56.xml"/><Relationship Id="rId65" Type="http://schemas.openxmlformats.org/officeDocument/2006/relationships/slide" Target="slides/slide57.xml"/><Relationship Id="rId66" Type="http://schemas.openxmlformats.org/officeDocument/2006/relationships/slide" Target="slides/slide58.xml"/><Relationship Id="rId67" Type="http://schemas.openxmlformats.org/officeDocument/2006/relationships/slide" Target="slides/slide59.xml"/><Relationship Id="rId68" Type="http://schemas.openxmlformats.org/officeDocument/2006/relationships/slide" Target="slides/slide60.xml"/><Relationship Id="rId69" Type="http://schemas.openxmlformats.org/officeDocument/2006/relationships/slide" Target="slides/slide61.xml"/><Relationship Id="rId70" Type="http://schemas.openxmlformats.org/officeDocument/2006/relationships/slide" Target="slides/slide62.xml"/><Relationship Id="rId71" Type="http://schemas.openxmlformats.org/officeDocument/2006/relationships/slide" Target="slides/slide63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0A23-0DA6-4A1C-9FC7-292E1C8AFE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E10FF-E479-4B91-9600-FE193E86E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2B2F5-D718-40C6-A8AE-689FAB8AB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9DD64-954A-4CE8-8748-7257FF6996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67ADB-33C6-433B-9ED8-135B8E27C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818-E485-4C56-8AAC-ECEDBA8B120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01D-6E56-4877-81B4-B3E48239F4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5E16-AFA1-45C7-B3B6-5FACD6D86F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C1D0-7E15-48E7-815A-CAF1FAB99D9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F162-5D98-4F6B-BA79-F7BFC07E8DF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4D2FD-450D-4496-9E53-0E57D7060D6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DFC8-5A40-4F0B-BC19-996C45B8886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DC3-FF72-4C1B-AA00-4492DB24CD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5B37-1B87-4E34-B608-3C3F6008E0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D54-7DB9-434D-8AB3-AE25B6B7E6A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D47-EBD5-45D3-A39C-674E1D0EA1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AA40-5945-4E54-8270-8B45C69829C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C340-ECE3-4B73-9E5C-A7080DC9133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B845D-5CD9-480E-8133-A6DB1D688F2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BA86-A924-45F8-8897-7BD87D7F763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65F84-24B1-4390-A45A-0D221D5B657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E8BCE-B222-4EA4-A656-E26512735FB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38390-5023-4213-BE45-A56EB4B3859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66D83-62A3-468F-A3D8-E2AFA9BC17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FEB78-D571-409F-9B33-09ECD036A3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  <a:ea typeface="ＭＳ Ｐゴシック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5"/>
          <p:cNvSpPr/>
          <p:nvPr/>
        </p:nvSpPr>
        <p:spPr>
          <a:xfrm>
            <a:off x="152280" y="6613560"/>
            <a:ext cx="6629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© 2012 Cengage Learning. All Rights Reserved. May not be scanned, copied or duplicated, or posted to a publicly accessible website, in whole or in part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304920" y="55627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9"/>
          <p:cNvSpPr/>
          <p:nvPr/>
        </p:nvSpPr>
        <p:spPr>
          <a:xfrm>
            <a:off x="0" y="5562720"/>
            <a:ext cx="9144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0" descr="Southwestern Logo"/>
          <p:cNvPicPr/>
          <p:nvPr/>
        </p:nvPicPr>
        <p:blipFill>
          <a:blip r:embed="rId2"/>
          <a:stretch/>
        </p:blipFill>
        <p:spPr>
          <a:xfrm>
            <a:off x="5979960" y="567540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5867280" y="152280"/>
            <a:ext cx="2971800" cy="668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d7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009920" y="656856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D64E2-0FAA-4824-9EB5-85120D2A01F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803920"/>
            <a:ext cx="2816280" cy="4698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itle 1"/>
          <p:cNvSpPr/>
          <p:nvPr/>
        </p:nvSpPr>
        <p:spPr>
          <a:xfrm>
            <a:off x="473040" y="2322360"/>
            <a:ext cx="1416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35000" y="57070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3"/>
          <p:cNvSpPr/>
          <p:nvPr/>
        </p:nvSpPr>
        <p:spPr>
          <a:xfrm>
            <a:off x="228600" y="563076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>
            <a:off x="228600" y="645948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ftr" idx="4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2603520"/>
            <a:ext cx="9144000" cy="4343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Background"/>
          <p:cNvPicPr/>
          <p:nvPr/>
        </p:nvPicPr>
        <p:blipFill>
          <a:blip r:embed="rId2"/>
          <a:srcRect l="0" t="38549" r="0" b="33801"/>
          <a:stretch/>
        </p:blipFill>
        <p:spPr>
          <a:xfrm>
            <a:off x="0" y="91440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Southwestern Logo"/>
          <p:cNvPicPr/>
          <p:nvPr/>
        </p:nvPicPr>
        <p:blipFill>
          <a:blip r:embed="rId3"/>
          <a:stretch/>
        </p:blipFill>
        <p:spPr>
          <a:xfrm>
            <a:off x="6060960" y="5902200"/>
            <a:ext cx="2816280" cy="4701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9"/>
          <p:cNvSpPr/>
          <p:nvPr/>
        </p:nvSpPr>
        <p:spPr>
          <a:xfrm>
            <a:off x="266760" y="1922400"/>
            <a:ext cx="1828800" cy="1784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8"/>
          <p:cNvSpPr/>
          <p:nvPr/>
        </p:nvSpPr>
        <p:spPr>
          <a:xfrm>
            <a:off x="266760" y="199872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4582"/>
                </a:solidFill>
                <a:latin typeface="Arial"/>
                <a:ea typeface="ＭＳ Ｐゴシック"/>
              </a:rPr>
              <a:t>C H A P T E 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135000" y="580536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dividual Income Tax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2"/>
          <p:cNvSpPr/>
          <p:nvPr/>
        </p:nvSpPr>
        <p:spPr>
          <a:xfrm>
            <a:off x="228600" y="572940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228600" y="6556320"/>
            <a:ext cx="8686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266760" y="664668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ftr" idx="6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1d45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228600" y="1096920"/>
            <a:ext cx="8686800" cy="5440320"/>
          </a:xfrm>
          <a:prstGeom prst="rect">
            <a:avLst/>
          </a:prstGeom>
          <a:noFill/>
          <a:ln w="38160">
            <a:solidFill>
              <a:srgbClr val="1d458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3915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62120" y="175212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257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275ca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ftr" idx="7"/>
          </p:nvPr>
        </p:nvSpPr>
        <p:spPr>
          <a:xfrm>
            <a:off x="266760" y="6549840"/>
            <a:ext cx="8610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f7f7f"/>
                </a:solidFill>
                <a:latin typeface="Times New Roman"/>
              </a:rPr>
              <a:t>©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130320" y="4011480"/>
            <a:ext cx="86104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Gross Inco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cepts and I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775E-7437-4C98-9FFD-0ACD22159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3 primary methods of accounting for tax purpo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receipts and disbursements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rual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DC91F-C7CA-4861-90AF-1E615BDA9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Metho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ddition to overall accounting methods,  taxpayers may choose (elect) tax treatment for various transactions, for exam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s can elect  to use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stallment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contractors may elect to use eithe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rcentage of completion meth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ted contract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7B86-0099-42C6-A93D-00FDA24BD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sh Receipts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it is actually or constructively received in cash or cash equiv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mount is constructively received when it is set aside and made available to taxpayer without substantial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CA691-CA8F-4B1D-9205-2FE31B99A2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December 31, Dr. Payne has $10,000 in patients' checks that have not been deposi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check for $3,000 is from a patient who asked him not to deposit it until after January 4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her account did not contain sufficient funds to pay the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0D51-B295-4F67-8B55-85206D640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0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 the cash method, Dr. Payne must recognize $7,000 income from the checks on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ecks are a cash equivalent that is actually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ome from the $3,000 check is neither actually nor constructively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ufficient account means the funds are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E9FD2-663F-4A55-93CB-3EFAC7885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e Dr. Payne elected to use the cash basis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e accepted credit cards, Dr. Payne would receive immediate credit in his bank account for 96% of the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ther 4% would be retained by the credit card issu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void the 4% charge, Dr. Payne chose not to accept credit 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, his policy required all bills to be paid within 30 days after dental services were provi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CE31-00D9-4DC7-9561-5F298EA9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12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structive Receipt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2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year end, several patients owed a combined $2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offered to pay with credit cards, but his office rejected their o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$2,000 was not constructively received at the end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ayne could have received payment by credit card, he contracted to receive payment at a later date before the dental services were perfor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over, the 4% charge by the credit card company would be a ‘‘substantial limitation’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06CD8-A770-460E-9D31-CC858D9C39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xceptions To Cash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eipts Metho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 Issue Discount (OID) interest is taxable when earned rather than when interest is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es E and EE bonds are not subject to the OID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a cash basis taxpayer may elect to recognize the interest when 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AB1D1-01D8-4015-ACBC-D1F46CBFA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in the year that it is earned regardless of when it is coll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earned wh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events have occurred that fix taxpayer’s right to the income,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can be determined with reasonable accu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D721-DF54-499A-BA4E-F9D050D1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ccrual method is required for determining purchases and sales when inventory is an income-producing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usinesses” may use the cash method of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business is defined as those with $25,000,000 or less of gross receipts on average over the prior three-year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dition, small businesses with inventory are allowed to use simpler and more favorable accounting methods for the invent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10FB-B2B0-426E-8A05-A0AE104F6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2018, Dr. Cliff Payne opened his dental practice as a sole proprietorship with a December 31 year-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the beginning of February, construction on his medical building was complet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also leased an office building and entered into a contract to make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used $12,000 of extra money to purchase som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2657-1DC1-4F2D-8648-4D6700940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rual Method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im of right doctr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mounts received to be included in income even though the amount is in dispute and might be returned to the payor at a later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ayment has not been received, no income is recognized until the claim is sett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72B-B258-4FC6-A5EC-ED62C970A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 - Example 7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aim Of Right Doctrin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6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completing construction of the medical office building in 2018, the contractor submitted a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refused to pay the bill, claiming the contractor had not met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tractor did not reach a settlement with Dr. Payne until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come accrues to the contractor until 2019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r. Payne had paid for the work, then filed suit, the contractor could not defer the in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come would be taxable in 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39F4-2E56-47B2-9886-564B13BD0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payer can elect to defer recognition of income from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goo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same method of accounting is used for tax and financial reporting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the TCJA of 2017, this deferral cannot extend beyond the year following the year payment i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6AE7F-2AF1-4A0A-97EC-A88A502DB9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xceptions to Accrual Method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dvance payment for servi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be performed after year-end is included in income in the year following receip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rtion of the advance payment that is earned in the current year is included in income in the year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id rents or interest income are always recognized in the year received rather than when 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3EA96-8496-4B14-A1D5-8098F7D32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ybrid Method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mbination of cash and accru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, used when inventory is a material income-producing factor, for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ccrual method to account for inven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ash method for other income and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by the TCJA of 2017 allow more types of businesses to use the cash method and not to account for inven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hybrid method is not likely to be common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0B2C-D2CF-4722-BF83-AB79BE502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78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ersonal services is taxable to the person who performs th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it and tree metaph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from property is taxable to the owner of the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gnment of income is not permit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3904-8E58-4658-B794-62351A23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Source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ncome accrue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terest bearing instrument (e.g., bonds) is transferred, must allocate interest income between transferor and transferee based on the number of days during the period that each owned the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AF8F-4DE1-4ED4-A9C7-72EB65441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BA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CEN 114, Report of Foreign Bank and Financial Accounts (FB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filed with Treasury Dept. if aggregate balance of all foreign bank, brokerage and similar financial accounts exceeds $10,000 on any day of the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electron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d separately from Form 10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edule B of Form 1040 asks questions about it thoug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e by April 15 with automatic extension to Octobe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penalty for non-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52120"/>
            <a:ext cx="822960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instead of operating as a sole proprietorship, Dr. Payne incorporated his dental practice to limit his 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entered into an employment contract with his corporation and was to receive a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patients contract to receive their services from the corp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ose services are provided by the corporation’s employee, Dr. Pay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61F8-993D-4A1D-B2CA-CEA539207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Big Picture - Example 20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s of an Employee</a:t>
            </a:r>
            <a:br>
              <a:rPr sz="2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2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167616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, the corporation earned the income from patients’ services and must include the patients’ fees in it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must include his salary in his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rporation is allowed a deduction for the reasonable salary paid to Dr. Pay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9CAB-C549-4631-8F34-9C5968A8B1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44D7-E60F-487F-90C3-D505DED50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6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llowing financial information shows the results of Dr. Payne’s first year of oper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(amounts billed patient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ntal services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–0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52,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ccounts receivable represent amounts billed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the year, Sam Jones, a contractor who owed Dr. Payne $4,000 for dental services, satisfied the account by installing solar panels on the roof of Dr. Payne’s new medical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DCD2-DB0D-416A-87D0-12DA458BA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interest, dividends do not accrue on a daily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are generally taxed to the party who is entitled to receive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hareholder of record as of the corporation’s record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on stock transferred by gift after declaration date but before record date are generally taxed to the don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3"/>
          <p:cNvSpPr/>
          <p:nvPr/>
        </p:nvSpPr>
        <p:spPr>
          <a:xfrm>
            <a:off x="6988320" y="6477120"/>
            <a:ext cx="2133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3E68-7D31-4563-849F-229D39988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 legislation has provided partial relief from double taxation of corporate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dividends received are taxed at the same marginal rate that is applicable to a net capital 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ing on the individual’s taxable income, capital gain tax rates of 0%, 15%, and 20% a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8CCE-70D2-459D-83A1-DBE98D0D99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dividends are not eligible for the reduced tax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certain foreign corpo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from tax-exempt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nds that do not satisfy the holding period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ck on which the dividend is paid must have been held for more than 60 days during the 121-day period beginning 60 days before the ex-dividend date to qualify for the reduced tax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8AD1-FF73-49C6-BCB5-6923A435D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ividends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idends from foreign corporations are eligible for qualified dividend status onl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’s stock is traded on an established U.S. securities market,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eign corporation is eligible for the benefits of a comprehensive income tax treaty between its country of incorporation and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784-B9F8-46CB-8F9F-C5FE33451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Received By An Agen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received by the taxpayer’s agent is considered to be received by the taxpa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sh basis principal must recognize the income at the time it is received by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5C58-6A09-49C1-A2AE-DB654B83E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Partnership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artnership is not a separate taxable ent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s an information return (Form 106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s data necessary for determining each partner’s distributive share of partnership’s income and de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artner reports distributive share of partnership income and dedu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ported in year earned, even if not actually distributed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a partner pays tax on income as the partnership earns it, distributions are treated under the recovery of capital r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21F1-B1A7-4AED-AE1D-D6D64613EA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S Corporat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mall business corporation may elect to be taxed similarly to a partn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red to as an S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hareholders, rather than the corporation, pay the tax on the corporation’s inco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, shareholders report their share of the corp’s income and deductions for the year, even if not actually distribu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C7EB-6423-4B40-8FF2-8B4D99921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come From Estates And Trust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neficiaries of estates and tru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taxed on the income earned by the estates or trusts that is actually distributed or required to be distributed to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income not taxed to the beneficiaries is taxable to the estate or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6E70-0D8B-4612-9060-0F4AF673A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come In Commun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perty Stat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perty is deemed either to be separately owned by the spouse or to belong to the marital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income is allocable equally to each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income may be allocable to owner-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property may produce community income (e.g., TX, L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llocation of community income for some spouses living apart for entire year and filing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71337-3B76-40DF-ACD8-6AD749BEC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imony and separate maintenance payments made under an agreement entered into before December 31, 2018,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ductible by pay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ble in gross income of recip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divorce agreements executed after 2018, alimony paid is not deductible and the alimony received is not treated as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hange was made by the TCJA of 20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82AD2-6354-46A9-9B0C-80D56E91B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Big Pictur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lculation Of Gross Incom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his accounting records he concludes that gross income for Federal income tax purposes is the $385,000 he billed his patients for dental services rend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Dr. Payne correctly calculated the gross income of this dental practic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the chapter and formulate your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FE56-2C06-45EF-9198-E4075BE58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yments may qualify as alimony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are in c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or decree does not specify that the payments are not alim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or and payee are not members of the same household at the time the payments are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liability to make the payments for any period after the death of the pay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7FC51-2485-49AC-880C-20385F95C5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ty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of property to former sp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eduction or recognized gain or loss for transf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gross income and carryover of transferor’s basis for transfe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-loading of alimon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mony recapture (gross income) for p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uction from gross income for recipi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3501-93D3-4F0D-A250-0794320D3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limony and Separate Maintenance Payments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support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ments made to satisfy legal obligation to support child of taxp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deductible by payor and not taxed to recipient (or chi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difficult to determine whether an amount received is alimony or child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mount of payment would be reduced due to some future event related to the child (e.g., child reaches age 21), such reduction is deemed child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86B3-339E-4F39-9B94-3FCE264D31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is imputed, using Federal government rates, when a loan does not carry a market rate of inte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ted interest = the difference between the amount that would have been charged at the Federal rate and the amount actually char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-related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porate-shareholder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 avoidance lo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2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0BA5-C0C9-4715-AAF1-0E93D024D3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5335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able below presents the effect of certain below-market loans on the lender and borr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6" descr=""/>
          <p:cNvPicPr/>
          <p:nvPr/>
        </p:nvPicPr>
        <p:blipFill>
          <a:blip r:embed="rId1"/>
          <a:stretch/>
        </p:blipFill>
        <p:spPr>
          <a:xfrm>
            <a:off x="266760" y="2971800"/>
            <a:ext cx="8569440" cy="1828800"/>
          </a:xfrm>
          <a:prstGeom prst="rect">
            <a:avLst/>
          </a:prstGeom>
          <a:ln w="0">
            <a:noFill/>
          </a:ln>
        </p:spPr>
      </p:pic>
      <p:sp>
        <p:nvSpPr>
          <p:cNvPr id="481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144D-3EEE-440C-BC45-B0E42BBE79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ft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ion for loans of ≤ $10,000 between individual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an proceeds are used to purchase income-producing property, the following limitation a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loans of $100,000 or less between individ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uted interest is limited to borrower’s net investment income fo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mputed interest if net investment income is $1,000 or l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6688-A634-46BA-8359-D7D81A3CE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mputed Interest on Below-Market Loan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4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0,000 exemption also applies to compensation-related and corporation-shareholder lo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emption if principal purpose of loan is tax avoi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s practically all loans of this type suspe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xpense imputed to borrower may be deduct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A094-93A5-488B-8BFC-8CB50B544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chaser pays fixed amount for the right to receive a future stream of pay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, early collections and loans against annuity   ≤ increases in cash valu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unts &gt; increases in cash value are treated as a recovery of capital until cost recovered; additional amounts are included in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y distributions may also be subject to a 10%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FAB5-957B-48DB-AD1D-BDCE8523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collections on and after the annuity starting dat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clusion ratio is applied to annuity payments received under contract to determine amount excluda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=       Investment in contra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pected return under cont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ce investment is recovered, remaining payments are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2"/>
          <p:cNvSpPr/>
          <p:nvPr/>
        </p:nvSpPr>
        <p:spPr>
          <a:xfrm>
            <a:off x="3657600" y="4114800"/>
            <a:ext cx="411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0144-1A41-48B6-B477-541E843CE9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4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payer pays $10,000 for annuity that will pay $1,000 a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For a term of 1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For lifetime (life expectancy = 15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ratio for A &amp; B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$10,00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.6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E726-9D91-4078-A27E-3444B7A02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: Gross income includes all income from whatever source derived, unless specifically excluded under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 is interpreted broadly by the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6BD90-BD0E-445D-BC46-0AC0CCE22D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3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15 years of annuity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558E-D479-4AA4-8037-284B2732F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8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5: $333 taxable and $667 exclud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6-18: $1,000 taxable each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Lifetime payments and taxpayer live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rs 1-10: $333 taxable and $667 excludable, and $3,330 deduction on final 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82B3-9A5B-4B17-8710-52B33EAFC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nuity Income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implified method is required for annuity distributions from a qualified retirement pla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lusion amount is investment in contract divided by number of anticipated monthly payments (table amount based on 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35461-7FA2-4200-8004-A9D35E7FE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izes and Awar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rule: FMV of item is included in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payer designates qualified organization to receive prize or award (subject to other requirem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ee achievement awards of tangible personal property made in recognition of length of service or safety achievement (limits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A9E9-14C6-4350-8C9A-E60EADBEBF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up Term Life Insuran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0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e premiums paid by employer on first $50,000 of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miums on excess coverage are included in gross in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sion amount based on IRS provided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lan discriminates in favor of key employees (e.g., officers), key employees are not eligible for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uch a case, the key employees must include in gross income the great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ctual premiums paid by the emplo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calculated from the Uniform Premiums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66E64-79CC-494A-B687-8F57672BC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nemployment Compens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ment compensation is taxable in 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2FB7-9B2B-414F-9306-898E7ED4B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1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8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 to 85% of benefits may be tax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based on taxpayer’s modified adjusted gross income (MAG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I = AGI (excluding Social Security) + foreign earned income exclusion + tax exempt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ormulas for computing taxable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14ED-F3B0-49FF-BB12-4F5940AE3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1: If MAGI plus ½ of Social Security benefits exceeds the base amounts below, but not the second set of base am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50 [MAGI + .50 (SSB) – base amou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2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5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C005-4832-46E4-996B-76E506476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 2: If MAGI plus ½ of Social Security benefits exceeds the base amounts be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in income the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(Social Security benefi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: 0.85[MAGI + 0.50(Social Security benefits) - second base amount], and the lesser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ount included through application of the first form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4,500 ($6,000 for married filing joint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amou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44,000 MF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MFS and not living a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4,000 for all other tax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0A6A-DC97-424C-91EF-18881EB6FC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4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of Social Security inco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Married with AGI = $30,000; tax exempt interest income = $3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Married with AGI = $40,000; tax exempt interest income = $6,000; Social Security benefits = $1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1CFDF-3776-492E-8874-0B9BA55BC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2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ility of income follows the realization principle from 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e is recognized (taxed) when rea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e appreciation in wealth (economic income) is not considered realized in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67E8-F5B1-4332-976F-F3678BA0B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5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6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Formula 1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($10,000) = $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50 [($30,000 + $3,000) + 0.50 ($10,000) – $32,000)] = $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3,0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A10F7-7F93-4CE8-A1F0-DC14C979F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ocial Security Benefits </a:t>
            </a:r>
            <a:br>
              <a:rPr sz="4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6 of 6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: Formula 2: Lesser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5 ($10,000) = $8,500,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5[($40,000 + $6,000) + 0.50 ($10,000) – $44,000] = $5,950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er o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0 ($10,000) = $5,000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6,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$8,500 of Social Security benefits included in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96D8-9669-4E78-8569-B05134372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focus On The Big Pictur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 accrual method of accounting, Dr. Cliff Payne has correctly calculated the gross income of his sole proprieto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will report the $385,000 amount on Schedule C of Form 1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Dr. Payne elects the cash method of accounting? He will only report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enu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85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us: Accounts receivable: January 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–0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: Accounts receivable: December 3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(52,00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ss incom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$333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1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C57D-5EE9-4291-BC73-FF170D6EC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1029"/>
          <p:cNvSpPr/>
          <p:nvPr/>
        </p:nvSpPr>
        <p:spPr>
          <a:xfrm>
            <a:off x="644400" y="2322360"/>
            <a:ext cx="7772400" cy="28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you have any comments or suggestions concerning this PowerPoint Presentation for South-Western Federal Taxation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Donald  R. Trippeer, C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 Antiqua"/>
              </a:rPr>
              <a:t>trippedr@oneonta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NY Oneo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8EB2-0B66-442A-84D8-13DD679B1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oss Income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lide 3 of 3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is recognized whether it is in the form of cash, or “in-kind” cash equivalents (i.e., property or servi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 of income from “in-kind” receipts is equal to the FMV of the property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 does not include recovery of the taxpayer’s capital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E363-ECC2-4414-8AB2-A832C1093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Big Picture - Example 1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covery Of Capital Doctrin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to the facts of The Big Picture on p. 4-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 sells common stock for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had purchased the stock for $12,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. Payne’s gross receipts are $15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amount consists of a $12,000 recovery of capital and $3,000 of gross in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lide Number Placeholder 3"/>
          <p:cNvSpPr/>
          <p:nvPr/>
        </p:nvSpPr>
        <p:spPr>
          <a:xfrm>
            <a:off x="701028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01E6-8CB4-41E5-8643-33B09998B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3d79"/>
          </a:solidFill>
          <a:ln w="28440">
            <a:solidFill>
              <a:srgbClr val="808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counting Period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1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d7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able year is generally a 12-month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xable year for most individual taxpayers is the calenda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d7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 can be elected if taxpayer maintains adequate 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d7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year is a 12-month period ending on the last day of a month other than Dece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3d7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July 1 to June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152280" y="6613560"/>
            <a:ext cx="815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333cc"/>
                </a:solidFill>
                <a:latin typeface="Arial"/>
              </a:rPr>
              <a:t>© 2019 Cengage Learning. All Rights Reserved. May not be scanned, copied or duplicated, or posted to a publicly accessible website, in whole or in part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15T07:17:30Z</dcterms:created>
  <dc:creator>Dr. Donald R. Trippeer</dc:creator>
  <dc:description/>
  <dc:language>en-US</dc:language>
  <cp:lastModifiedBy>Trippeer, Don</cp:lastModifiedBy>
  <cp:lastPrinted>2004-03-27T20:37:44Z</cp:lastPrinted>
  <dcterms:modified xsi:type="dcterms:W3CDTF">2018-05-15T18:36:22Z</dcterms:modified>
  <cp:revision>265</cp:revision>
  <dc:subject>An Introduction to Taxation and Understanding Federal Tax Law</dc:subject>
  <dc:title>Chapter 1</dc:title>
</cp:coreProperties>
</file>