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A9F9-60BA-4714-90EF-1E635B9DF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47C2-0A03-453F-9B39-EA6BB5713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A1A7-8991-4BFB-BD11-EEE3603D0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CF7A-BDB5-4741-BBEC-E7CD9CE1E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7D34-06D9-42E1-9B3E-EC9CD4C23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0A8-B245-4FC2-A158-58753EB23F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7C2-1AA5-4DC0-99A9-57F6B858F4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98F-C899-46A2-B349-A7C787657F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B9D-D43F-495F-A854-0832FA2574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F5C-A67D-4DE5-8027-663C2A2774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3C71-4013-4C47-AF96-6BFAB40C2F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0A9-B748-4EFF-9E44-3782DE663E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972-BCA7-4788-863F-238750BE23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957-5A4C-4757-864C-66E41607B0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621-0E63-4DB9-8ED0-D2CFA104ED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BAE-5E2D-47E7-B19C-CD6DB8D309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4E2-5424-4399-911B-D920EDD023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6DD-34C0-4297-9727-305331B6BC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8426-349D-44EC-8EC1-AD092E8F4D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D358-B6AB-4574-8BEF-8E0645B761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C8EA-D2F9-4E82-BA08-3DAE0125FC7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1224-0212-40F1-957D-3A4D03AA02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A5FE-848C-4BB5-BBB3-AB1E6E4B91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9F5A-DF5A-4B27-AF4E-58D3CC12E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473A-A6A4-4F46-8E55-6561882E1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52280" y="661356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2012 Cengage Learning. All Rights Reserved. May not be scanned, copied or duplicated, or posted to a publicly accessible website, in whole or in par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04920" y="55627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Southwestern Logo"/>
          <p:cNvPicPr/>
          <p:nvPr/>
        </p:nvPicPr>
        <p:blipFill>
          <a:blip r:embed="rId2"/>
          <a:stretch/>
        </p:blipFill>
        <p:spPr>
          <a:xfrm>
            <a:off x="5979960" y="567540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09920" y="65685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CEC3-4E89-47D8-93F3-F3810FD7DD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80392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73040" y="2322360"/>
            <a:ext cx="1416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5000" y="5707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3"/>
          <p:cNvSpPr/>
          <p:nvPr/>
        </p:nvSpPr>
        <p:spPr>
          <a:xfrm>
            <a:off x="228600" y="563076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228600" y="645948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4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902200"/>
            <a:ext cx="2816280" cy="470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35000" y="580536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228600" y="572940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228600" y="655632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66760" y="664668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6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7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0320" y="4011480"/>
            <a:ext cx="86104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oss Inco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epts and I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000D-A272-49CB-B208-553541F3B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primary methods of accounting for tax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 and disbursement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6C2D-5A37-4A2D-BA11-5BEA8D145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overall accounting methods,  taxpayers may choose (elect) tax treatment for various transactions, for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s can elect  to 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allment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ontractors may elect to use eithe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age of complet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ted contrac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0648-2E98-4FE0-97CB-CA0D309C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h Receipts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it is actually or constructively received in cash or cash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ount is constructively received when it is set aside and made available to taxpayer without substantial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274-4FC8-4C08-A264-C7BB87DE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ecember 31, Dr. Payne has $10,000 in patients' checks that have not been depo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heck for $3,000 is from a patient who asked him not to deposit it until after Januar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her account did not contain sufficient funds to pay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4A03-D9D1-4E46-80D6-D12B13E6A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cash method, Dr. Payne must recognize $7,000 income from the checks on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cks are a cash equivalent that is actually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ome from the $3,000 check is neither actually nor constructiv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ufficient account means the funds are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0F22-8E8A-4823-A518-162CD3C9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Dr. Payne elected to use the cash basi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accepted credit cards, Dr. Payne would receive immediate credit in his bank account for 96% of th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4% would be retained by the credit card iss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the 4% charge, Dr. Payne chose not to accept credi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his policy required all bills to be paid within 30 days after dental services wer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AAE9-8483-4FE1-9A1B-D8F04413D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ear end, several patients owed a combined $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fered to pay with credit cards, but his office rejected their o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$2,000 was not constructively received at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ayne could have received payment by credit card, he contracted to receive payment at a later date before the dental services were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over, the 4% charge by the credit card company would be a ‘‘substantial limitation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A219-499C-4380-A383-B7D71309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ceptions To Cas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eipts Meth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Issue Discount (OID) interest is taxable when earned rather than when interest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E and EE bonds are not subject to the OI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cash basis taxpayer may elect to recognize the interest when 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E091-1344-42D9-B730-556CC5761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that it is earned regardless of when it is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earne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vents have occurred that fix taxpayer’s right to the incom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can be determined with reasonabl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687A-0249-48C1-B77A-B3D55A8E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rual method is required for determining purchases and sales when inventory is an income-produc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es” may use the cash method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 is defined as those with $25,000,000 or less of gross receipts on average over the prior thre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small businesses with inventory are allowed to use simpler and more favorable accounting methods for the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A2D2-68BC-4E25-A509-11312C15A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8, Dr. Cliff Payne opened his dental practice as a sole proprietorship with a December 31 year-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beginning of February, construction on his medical building was comple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leased an office building and entered into a contract to mak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used $12,000 of extra money to purchase som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7726-BE8A-427B-BDDF-84AA814A1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of right doct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mounts received to be included in income even though the amount is in dispute and might be returned to the payor at a later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yment has not been received, no income is recognized until the claim is sett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536D-00B8-45E8-8A69-BA7C5815B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im Of Right Doctr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ompleting construction of the medical office building in 2018, the contractor submitted a 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refused to pay the bill, claiming the contractor had not met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ctor did not reach a settlement with Dr. Payne until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come accrues to the contractor until 201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r. Payne had paid for the work, then filed suit, the contractor could not defer th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ome would be taxable i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BC62-AEC6-483E-9D54-A5AD1A969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payer can elect to defer recognition of in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g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same method of accounting is used for tax and financial reporting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TCJA of 2017, this deferral cannot extend beyond the year following the year payment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9B1-E21D-4AEB-82C9-E3BF0FE8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performed after year-end is included in income in the year following recei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the advance payment that is earned in the current year is included in income in the year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id rents or interest income are always recognized in the year received rather than when 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F4E5-9FBC-4111-9DC9-E12CB5E18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ybrid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bination of cash and accru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used when inventory is a material income-producing factor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crual method to account for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h method for other income and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by the TCJA of 2017 allow more types of businesses to use the cash method and not to account for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hybrid method is not likely to be common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C1D7-8D4A-40C6-8CBA-F2945E777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ersonal services is taxable to the person who performs th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it and tree metaph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roperty is taxable to the owner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income is not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66B1-2A03-4FCC-BB1F-85BC7D230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come accru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terest bearing instrument (e.g., bonds) is transferred, must allocate interest income between transferor and transferee based on the number of days during the period that each owned th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D35B-5C0F-42BA-B89D-BEE3AA310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B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CEN 114, Report of Foreign Bank and Financial Accounts (F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filed with Treasury Dept. if aggregate balance of all foreign bank, brokerage and similar financial accounts exceeds $10,000 on any day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electron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separately from Form 10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B of Form 1040 asks questions about it th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by April 15 with automatic extension to October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nalty for non-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5212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instead of operating as a sole proprietorship, Dr. Payne incorporated his dental practice to limit his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entered into an employment contract with his corporation and was to receive a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ients contract to receive their services from th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services are provided by the corporation’s employee, Dr. Pa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D684-1539-4A7F-B435-FCD19995B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7616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rporation earned the income from patients’ services and must include the patients’ fees in it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must include his salary in hi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poration is allowed a deduction for the reasonable salary paid to Dr. Pay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C6E7-E2C9-4502-BA8B-7A8F0184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B6E0-64B1-49ED-A1E8-7B54B45C4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financial information shows the results of Dr. Payne’s first year of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(amounts billed pati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al service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–0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52,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ounts receivable represent amounts bill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year, Sam Jones, a contractor who owed Dr. Payne $4,000 for dental services, satisfied the account by installing solar panels on the roof of Dr. Payne’s new medical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B556-14F4-453D-B827-0F3E3EA34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interest, dividends do not accrue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are generally taxed to the party who is entitled to rece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reholder of record as of the corporation’s recor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on stock transferred by gift after declaration date but before record date are generally taxed to the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6988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F355-CDFD-4ADF-A6BC-56858082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legislation has provided partial relief from double taxation of corporate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dividends received are taxed at the same marginal rate that is applicable to a net capital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individual’s taxable income, capital gain tax rates of 0%, 15%, and 20%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4A3B-7EE9-49B6-B41E-03F1690B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ividends are not eligible for the reduced tax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certain foreign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tax-exempt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that do not satisfy the holding period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on which the dividend is paid must have been held for more than 60 days during the 121-day period beginning 60 days before the ex-dividend date to qualify for the reduced tax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59E9-C605-4B72-AA3F-24C88B2C3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from foreign corporations are eligible for qualified dividend status onl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’s stock is traded on an established U.S. securities marke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 is eligible for the benefits of a comprehensive income tax treaty between its country of incorporation and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42D-CF28-4605-8CCA-B2E825A7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Received By An Ag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received by the taxpayer’s agent is considered to be received by the taxp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sh basis principal must recognize the income at the time it is received by th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64E0-6B5A-4C55-8A41-5E133DA93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Partnershi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nership is not a separate taxab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an information return (Form 10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ata necessary for determining each partner’s distributive share of partnership’s income and d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rtner reports distributive share of partnership income and de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in year earned, even if not actually distribu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a partner pays tax on income as the partnership earns it, distributions are treated under the recovery of capit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E48D-E193-48EB-BB70-A5F546200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S Corpor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 business corporation may elect to be taxed similarly to a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to as an S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areholders, rather than the corporation, pay the tax on the corporation’s in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shareholders report their share of the corp’s income and deductions for the year, even if not actually distribu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8517-5E9F-4967-82D9-033EBD44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Estates And Trus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ciaries of estates and tru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taxed on the income earned by the estates or trusts that is actually distributed or required to be distributed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income not taxed to the beneficiaries is taxable to the estate or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ADDE-0F71-4809-9D69-102953F7B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In Commun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erty St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perty is deemed either to be separately owned by the spouse or to belong to the marit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income is allocable equally to each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income may be allocable to owner-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property may produce community income (e.g., TX, 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llocation of community income for some spouses living apart for entire year and filing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8C28-99FC-474B-AF6E-5C69E4701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mony and separate maintenance payments made under an agreement entered into before December 31, 2018,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ble by p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ble in gross income of 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vorce agreements executed after 2018, alimony paid is not deductible and the alimony received is not treated a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nge was made by the TCJA of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B7B9-5B68-4543-9101-5CD4CFF37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is accounting records he concludes that gross income for Federal income tax purposes is the $385,000 he billed his patients for dental services ren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r. Payne correctly calculated the gross income of this dent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chapter and formulate you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2C9B-6E14-4356-B341-333E91C5E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may qualify as alimon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are in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or decree does not specify that the payments are not ali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or and payee are not members of the same household at the time the payments a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liability to make the payments for any period after the death of the pa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A552-2ED4-4FE2-BA6A-22AC244EB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f property to former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duction or recognized gain or loss for transf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ross income and carryover of transferor’s basis for transfe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-loading of alimon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mony recapture (gross income) for p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from gross income for recipi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87C8-0ED4-462F-83F3-3F711FD79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support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made to satisfy legal obligation to support child of tax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eductible by payor and not taxed to recipient (or chi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difficult to determine whether an amount received is alimony or chil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ount of payment would be reduced due to some future event related to the child (e.g., child reaches age 21), such reduction is deemed chil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C252-33D5-48EA-828A-1DA0A919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s imputed, using Federal government rates, when a loan does not carry a market rat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ed interest = the difference between the amount that would have been charged at the Federal rate and the amount actually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-related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-shareholder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avoidance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2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CF1A-843B-4C0B-A9E6-F7EBA8101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5335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ble below presents the effect of certain below-market loans on the lender and 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266760" y="2971800"/>
            <a:ext cx="856944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BD6C-4FF7-41B9-8B11-B87B1B2E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ion for loans of ≤ $10,000 between individu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an proceeds are used to purchase income-producing property, the following limitation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loans of $100,000 or less between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ted interest is limited to borrower’s net investment income f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uted interest if net investment income is $1,000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03F-754C-456E-A7EB-C1434C649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000 exemption also applies to compensation-related and corporation-shareholder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emption if principal purpose of loan is tax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practically all loans of this type susp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expense imputed to borrower may be deduc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AA2D-9FE6-4FD1-A42F-E946C0E53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r pays fixed amount for the right to receive a future stream of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early collections and loans against annuity   ≤ increases in cash valu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&gt; increases in cash value are treated as a recovery of capital until cost recovered; additional amounts are included in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istributions may also be subject to a 10%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BFC7-833C-4BE6-A878-9CFB46262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llections on and after the annuity starting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lusion ratio is applied to annuity payments received under contract to determine amount exclud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=       Investment in contra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xpected return unde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investment is recovered, remaining payments are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2"/>
          <p:cNvSpPr/>
          <p:nvPr/>
        </p:nvSpPr>
        <p:spPr>
          <a:xfrm>
            <a:off x="3657600" y="41148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EF1D-532D-42FC-8E22-3C5BCE120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pays $10,000 for annuity that will pay $1,000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For a term of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For lifetime (life expectancy = 1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for A &amp; B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$10,00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4353-24DF-4B89-8EFC-044044714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Gross income includes all income from whatever source derived, unless specifically excluded under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is interpreted broadly by the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395D-8EC5-4085-91EB-D0267DBA6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15 years of annuit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AA52-4A51-4D6E-8E7D-9D9CC72F6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6-18: $1,000 taxable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0: $333 taxable and $667 excludable, and $3,330 deduction on final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068E-4D7F-4515-AF40-E401C324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ified method is required for annuity distributions from a qualified retirement pl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mount is investment in contract divided by number of anticipated monthly payments (table amount based on 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DA5F-3A57-4D80-8D89-8A5DC7EC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zes and Awar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ule: FMV of item is included i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payer designates qualified organization to receive prize or award (subject to other 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achievement awards of tangible personal property made in recognition of length of service or safety achievement (limits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1632-B423-4632-B5DF-72FFECD3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up Term Life Insura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 premiums paid by employer on first $50,000 of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ums on excess coverag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amount based on IRS provid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lan discriminates in favor of key employees (e.g., officers), key employees are not eligible fo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uch a case, the key employees must include in gross income the great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premiums paid by the empl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calculated from the Uniform Premium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29D1-1132-4C70-A0BA-B739C21F1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employment Compens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compensation is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AD60-6FBB-472E-A6F2-501AF260E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85% of benefits may be tax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based on taxpayer’s modified adjusted gross income (MA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 = AGI (excluding Social Security) + foreign earned income exclusion + tax exemp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ulas for computing taxabl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9B2A-2B72-4785-8F82-FC2635BA6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1: If MAGI plus ½ of Social Security benefits exceeds the base amounts below, but not the second set of base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[MAGI + .50 (SSB) – base amou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5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4E44-392E-4B06-A9B1-BAEB08DC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2: If MAGI plus ½ of Social Security benefits exceeds the base amount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: 0.85[MAGI + 0.50(Social Security benefits) - second base amount], and the lesser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included through application of the first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500 ($6,000 for married filing joint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4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4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2BB2-E384-4095-BAA4-E8F532B9A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Social Security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arried with AGI = $30,000; tax exempt interest income = $3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Married with AGI = $40,000; tax exempt interest income = $6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86E6-A610-41BD-9587-910400A6C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of income follows the realization principle from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is recognized (taxed) when re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e appreciation in wealth (economic income) is not considered realiz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D17E-3286-4EF6-9CF6-EEA5A84F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ormula 1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($10,000) = $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[($30,000 + $3,000) + 0.50 ($10,000) – $32,000)] = $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3,0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252-AD74-407E-B857-78749BD4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ormula 2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 ($10,000) = $8,500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5[($40,000 + $6,000) + 0.50 ($10,000) – $44,000] = $5,950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er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0 ($10,000) = $5,000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8,5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47F8-7803-422A-9BB0-CEF87C886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focus On The Big Pictu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accrual method of accounting, Dr. Cliff Payne has correctly calculated the gross income of his sole 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ill report the $385,000 amount on Schedule C of Form 1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Dr. Payne elects the cash method of accounting? He will only report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–0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: 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52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inc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33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89A2-D02F-4572-AD42-7E62A6B21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9"/>
          <p:cNvSpPr/>
          <p:nvPr/>
        </p:nvSpPr>
        <p:spPr>
          <a:xfrm>
            <a:off x="644400" y="2322360"/>
            <a:ext cx="777240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have any comments or suggestions concerning this PowerPoint Presentation for South-Western Federal Taxation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Donald  R. Trippeer, C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rippedr@oneonta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Y Oneo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853C-2FA4-48A9-8818-B355AC80A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whether it is in the form of cash, or “in-kind” cash equivalents (i.e., property or 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income from “in-kind” receipts is equal to the FMV of the property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does not include recovery of the taxpayer’s capital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CAFC-AEC8-414E-8941-13D081CD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ig Picture - Example 1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overy Of Capital Doctr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sells common stock for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purchased the stock for $1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’s gross receipts are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mount consists of a $12,000 recovery of capital and $3,000 of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F61A-469C-4276-BA78-D298F2CAC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Peri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le year is generally a 12-month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ble year for most individual taxpayers is the calenda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can be elected if taxpayer maintains adequ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 is a 12-month period ending on the last day of a month other than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July 1 to June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5T07:17:30Z</dcterms:created>
  <dc:creator>Dr. Donald R. Trippeer</dc:creator>
  <dc:description/>
  <dc:language>en-US</dc:language>
  <cp:lastModifiedBy>Trippeer, Don</cp:lastModifiedBy>
  <cp:lastPrinted>2004-03-27T20:37:44Z</cp:lastPrinted>
  <dcterms:modified xsi:type="dcterms:W3CDTF">2018-05-15T18:36:22Z</dcterms:modified>
  <cp:revision>265</cp:revision>
  <dc:subject>An Introduction to Taxation and Understanding Federal Tax Law</dc:subject>
  <dc:title>Chapter 1</dc:title>
</cp:coreProperties>
</file>