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BC97-3C7C-4113-B98C-4ACC90BC8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9887-49B1-4930-9DC1-D4E70314DC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E619A-0FAA-4C91-9F8B-D38141565B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4E38-B4C5-4823-B8FD-DAD31B128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174C-74A6-4CB9-A78F-E45B169FD9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86CE-130D-4561-9FF3-8090FF0263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88A2-AFFA-4C4D-A488-B9DF3ED6656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BB33-0AE7-42F4-A55C-72DE5902B7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7B4-801F-442F-96A8-255F28705F9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D57E-FAAF-475A-9D36-899E0DD376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8A40A-48E2-4368-9EDE-5AE81757F54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AEBC-AD89-4DF1-A979-3338A7BE7D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B37-E3EB-47C2-BB61-819A5A7FC88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52DA-D365-453D-97B3-48EA9DCB5A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650-390F-4144-B2DC-FB8403A9F0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52F0-D6CD-402B-986D-D6DDF52050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FFE-E348-45F0-8D11-ECE457B3526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639-E8CC-4575-9AAE-A943033E854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0B7B0-7E36-4A75-9FAD-40F19D12978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6C3DE-E9B9-49C6-8A41-ABFD23946C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4739-3253-456C-BDDF-E35ACA59B78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3B082-96A3-43EB-8AC8-D59F7FE1AB0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42B09-7A92-4986-8DBC-1D40F229ABE3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A75BF-ED0B-471A-A138-196472145B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94B7-1D87-4585-A0B4-AC725E18F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52280" y="661356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2012 Cengage Learning. All Rights Reserved. May not be scanned, copied or duplicated, or posted to a publicly accessible website, in whole or in par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920" y="55627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Southwestern Logo"/>
          <p:cNvPicPr/>
          <p:nvPr/>
        </p:nvPicPr>
        <p:blipFill>
          <a:blip r:embed="rId2"/>
          <a:stretch/>
        </p:blipFill>
        <p:spPr>
          <a:xfrm>
            <a:off x="5979960" y="567540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09920" y="65685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24E1-1A56-42E8-96D6-EB3C57B5302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80392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73040" y="2322360"/>
            <a:ext cx="1416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5000" y="5707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3"/>
          <p:cNvSpPr/>
          <p:nvPr/>
        </p:nvSpPr>
        <p:spPr>
          <a:xfrm>
            <a:off x="228600" y="563076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228600" y="645948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4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902200"/>
            <a:ext cx="2816280" cy="470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35000" y="58053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228600" y="572940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228600" y="655632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66760" y="664668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6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7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0320" y="4011480"/>
            <a:ext cx="86104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ss Inco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epts and I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EDDDF-B81A-4AE0-8118-4038C973C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primary methods of accounting for tax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 and disbursement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ACCA-D247-4320-B08F-DD170A9092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overall accounting methods,  taxpayers may choose (elect) tax treatment for various transactions, fo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s can elect  to 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allment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ontractors may elect to use eithe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age of complet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ted contrac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A134D-BFAE-4416-9489-47163BEDA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Receipts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it is actually or constructively received in cash or cash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ount is constructively received when it is set aside and made available to taxpayer without substantial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9BFA-0734-4820-A2AF-6931DE419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ecember 31, Dr. Payne has $10,000 in patients' checks that have not been depo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heck for $3,000 is from a patient who asked him not to deposit it until after Januar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her account did not contain sufficient funds to pay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E151-B602-445B-B09D-7257A2B0C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cash method, Dr. Payne must recognize $7,000 income from the checks o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cks are a cash equivalent that is actually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ome from the $3,000 check is neither actually nor constructiv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ufficient account means the funds are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98EB-E6CF-4691-B28C-5D2C5A801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Dr. Payne elected to use the cash basi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accepted credit cards, Dr. Payne would receive immediate credit in his bank account for 96% of th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4% would be retained by the credit card iss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the 4% charge, Dr. Payne chose not to accept cred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his policy required all bills to be paid within 30 days after dental services wer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127D5-FA30-4785-B15C-115F410E6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ear end, several patients owed a combined $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fered to pay with credit cards, but his office rejected their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$2,000 was not constructively received at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ayne could have received payment by credit card, he contracted to receive payment at a later date before the dental services were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over, the 4% charge by the credit card company would be a ‘‘substantial limitation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5AD2-5B88-47F2-8643-64161644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ceptions To Cas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eipts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ssue Discount (OID) interest is taxable when earned rather than when interest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E and EE bonds are not subject to the OI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cash basis taxpayer may elect to recognize the interest when 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2D46-D455-490B-A251-9492FA3A0D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that it is earned regardless of when it i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earne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vents have occurred that fix taxpayer’s right to the incom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can be determined with reasonabl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3757-8EF1-4F65-8652-DA987F3788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rual method is required for determining purchases and sales when inventory is an income-produc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es” may use the cash method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 is defined as those with $25,000,000 or less of gross receipts on average over the prior thre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small businesses with inventory are allowed to use simpler and more favorable accounting methods for the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41EE-C563-4373-A943-211F7FD70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8, Dr. Cliff Payne opened his dental practice as a sole proprietorship with a December 31 year-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beginning of February, construction on his medical building was comple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leased an office building and entered into a contract to mak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used $12,000 of extra money to purchase som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A3B0-3A88-49CD-B9F2-91A4EBA9A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of right doct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mounts received to be included in income even though the amount is in dispute and might be returned to the payor at a later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yment has not been received, no income is recognized until the claim is sett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71FE-7F66-4237-B784-3518F8527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im Of Right Doctr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ompleting construction of the medical office building in 2018, the contractor submitted a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refused to pay the bill, claiming the contractor had not met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ctor did not reach a settlement with Dr. Payne until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ome accrues to the contractor until 201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r. Payne had paid for the work, then filed suit, the contractor could not defer th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ome would be taxable i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EFDA-6EE1-4F1B-B8FD-E8AD3CEE9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payer can elect to defer recognition of in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g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same method of accounting is used for tax and financial reporting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TCJA of 2017, this deferral cannot extend beyond the year following the year payment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4CEC-8D98-4826-A1A7-736CB0C70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performed after year-end is included in income in the year following recei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the advance payment that is earned in the current year is included in income in the year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id rents or interest income are always recognized in the year received rather than when 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0C1F5-31B0-4167-9A4F-2C6BC152A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brid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bination of cash and accru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used when inventory is a material income-producing factor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crual method to account for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h method for other income and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by the TCJA of 2017 allow more types of businesses to use the cash method and not to account for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hybrid method is not likely to be common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F9EB-D221-481D-B391-ED3FF106C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ersonal services is taxable to the person who performs th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it and tree metaph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roperty is taxable to the owner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income is not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6D31-F453-4C52-B056-9A9C4451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come accru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terest bearing instrument (e.g., bonds) is transferred, must allocate interest income between transferor and transferee based on the number of days during the period that each owned th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9010-8690-43AA-B49B-DE78C4F0F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B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CEN 114, Report of Foreign Bank and Financial Accounts (F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filed with Treasury Dept. if aggregate balance of all foreign bank, brokerage and similar financial accounts exceeds $10,000 on any day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electron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separately from Form 10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B of Form 1040 asks questions about it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by April 15 with automatic extension to Octobe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nalty for non-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521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instead of operating as a sole proprietorship, Dr. Payne incorporated his dental practice to limit his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entered into an employment contract with his corporation and was to receive a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contract to receive their services from th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services are provided by the corporation’s employee, Dr. Pa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01A1-2302-4AC6-977A-00FBE17996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7616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rporation earned the income from patients’ services and must include the patients’ fees in it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must include his salary in hi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poration is allowed a deduction for the reasonable salary paid to Dr. Pay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8E12-6D39-4781-9BC6-E6447D3CD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90F5-C660-44A6-84BF-3B18B9759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financial information shows the results of Dr. Payne’s first year of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(amounts billed pati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 service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–0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52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s receivable represent amounts bill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year, Sam Jones, a contractor who owed Dr. Payne $4,000 for dental services, satisfied the account by installing solar panels on the roof of Dr. Payne’s new medica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5E2D4-5F00-4ACB-A4B3-0CA8CB7BC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interest, dividends do not accrue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are generally taxed to the party who is entitled to re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reholder of record as of the corporation’s recor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on stock transferred by gift after declaration date but before record date are generally taxed to the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6988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D8DE-3318-4539-98A4-F989C9760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legislation has provided partial relief from double taxation of corporate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dividends received are taxed at the same marginal rate that is applicable to a net capit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individual’s taxable income, capital gain tax rates of 0%, 15%, and 20%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38CA-365C-4094-8658-26F8BB9B8A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ividends are not eligible for the reduced tax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certain foreign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tax-exempt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that do not satisfy the holding period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on which the dividend is paid must have been held for more than 60 days during the 121-day period beginning 60 days before the ex-dividend date to qualify for the reduced tax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6A9F-1E3A-43BD-9714-3E1583ACE8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from foreign corporations are eligible for qualified dividend status onl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’s stock is traded on an established U.S. securities marke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 is eligible for the benefits of a comprehensive income tax treaty between its country of incorporation and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07C0-6A8B-4918-89A8-C69DA394C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Received By An Ag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received by the taxpayer’s agent is considered to be received by the taxp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sh basis principal must recognize the income at the time it is received by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63EC-D226-4D69-AEAA-595B9533C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Partnershi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nership is not a separate taxab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an information return (Form 10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ata necessary for determining each partner’s distributive share of partnership’s income and d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rtner reports distributive share of partnership income and de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in year earned, even if not actually distribu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a partner pays tax on income as the partnership earns it, distributions are treated under the recovery of capit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6FA97-188A-4B42-8603-0D982D503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S Corpor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business corporation may elect to be taxed similarly to a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as an 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areholders, rather than the corporation, pay the tax on the corporation’s in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shareholders report their share of the corp’s income and deductions for the year, even if not actually distribu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F604-42C9-4240-BAC6-DEFFF22E0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Estates And Trus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ies of estates and tru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taxed on the income earned by the estates or trusts that is actually distributed or required to be distribut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income not taxed to the beneficiaries is taxable to the estate or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7FD9-8569-4772-9DF6-C290F5D16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In Commun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erty St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perty is deemed either to be separately owned by the spouse or to belong to the marit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income is allocable equally to each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ncome may be allocable to owner-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property may produce community income (e.g., TX, 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llocation of community income for some spouses living apart for entire year and filing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A4A1E-36E6-44BC-88E5-71EBD4876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mony and separate maintenance payments made under an agreement entered into before December 31, 2018,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ble by p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ble in gross income of 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vorce agreements executed after 2018, alimony paid is not deductible and the alimony received is not treated a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nge was made by the TCJA of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3502-DA6E-4A57-84A1-55E265C9B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is accounting records he concludes that gross income for Federal income tax purposes is the $385,000 he billed his patients for dental services ren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r. Payne correctly calculated the gross income of this dent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chapter and formulate you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AB7C-F5E9-43EC-8CE4-7B4D0CCB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may qualify as alimon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are in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or decree does not specify that the payments are not ali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r and payee are not members of the same household at the time the payment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liability to make the payments for any period after the death of the pa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9512-34AC-4827-AF94-5B9F271C0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f property to former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duction or recognized gain or loss for transf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ross income and carryover of transferor’s basis for transfe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-loading of alimon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mony recapture (gross income) for p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from gross income for recipi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3E617-9176-441F-A1EC-ED2DAAD4C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support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made to satisfy legal obligation to support child of tax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eductible by payor and not taxed to recipient (or chi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difficult to determine whether an amount received is alimony or chil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ount of payment would be reduced due to some future event related to the child (e.g., child reaches age 21), such reduction is deemed chil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73D6-4432-47A4-ADD9-B8C617B7EF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s imputed, using Federal government rates, when a loan does not carry a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ed interest = the difference between the amount that would have been charged at the Federal rate and the amount actually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-related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-shareholder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avoidance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2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6173E-3DC6-44E6-8DF9-3A4B068F7F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5335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ble below presents the effect of certain below-market loans on the lender and 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266760" y="2971800"/>
            <a:ext cx="85694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0737-A43A-447C-A861-01EAD7FA4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 for loans of ≤ $10,000 between individu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an proceeds are used to purchase income-producing property, the following limitation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loans of $100,000 or less between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ted interest is limited to borrower’s net investment income f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uted interest if net investment income is $1,000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86B4B-674A-4E18-B5C9-DDD9847F9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000 exemption also applies to compensation-related and corporation-shareholder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emption if principal purpose of loan is tax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practically all loans of this type susp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xpense imputed to borrower may be deduc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0D71-151B-4885-BA56-F43980075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r pays fixed amount for the right to receive a future stream of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early collections and loans against annuity   ≤ increases in cash valu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&gt; increases in cash value are treated as a recovery of capital until cost recovered; additional amounts are included in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istributions may also be subject to a 10%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D5260-964B-4D34-9B46-CF1BEE852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llections on and after the annuity starting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lusion ratio is applied to annuity payments received under contract to determine amount exclud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=       Investment in contr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xpected return unde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vestment is recovered, remaining payments are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2"/>
          <p:cNvSpPr/>
          <p:nvPr/>
        </p:nvSpPr>
        <p:spPr>
          <a:xfrm>
            <a:off x="3657600" y="41148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EB326-8378-4BFE-A10F-D28D09FE5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pays $10,000 for annuity that will pay $1,000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For a term of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For lifetime (life expectancy =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for A &amp; B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$10,00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18A1-D3C3-40A2-A732-5EC614E01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Gross income includes all income from whatever source derived, unless specifically excluded under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is interpreted broadly by the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FD655-1852-4D4D-A33B-654BEE2F1F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15 years of annuit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BA3F-C6D6-4610-B763-ED0F331DC9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6-18: $1,000 taxable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0: $333 taxable and $667 excludable, and $3,330 deduction on final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AB074-6648-4359-88D6-40AFBCC7A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ified method is required for annuity distributions from a qualified retirement pl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mount is investment in contract divided by number of anticipated monthly payments (table amount based on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9609-FC52-470C-835C-B03430069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zes and Awar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ule: FMV of item is included i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payer designates qualified organization to receive prize or award (subject to other 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achievement awards of tangible personal property made in recognition of length of service or safety achievement (limits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0F90-1AEA-4675-922C-F94CCD519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up Term Life Insura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premiums paid by employer on first $50,000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ums on excess coverag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amount based on IRS provid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lan discriminates in favor of key employees (e.g., officers), key employees are not eligible fo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uch a case, the key employees must include in gross income the great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premiums paid by the empl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calculated from the Uniform Premium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FEE4-A572-4AF3-9614-22206986C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employment Compens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compensation is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74C3D-5676-490C-8B70-BDD0A8D81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85% of benefits may be tax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based on taxpayer’s modified adjusted gross income (MA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 = AGI (excluding Social Security) + foreign earned income exclusion + tax exemp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ulas for computing taxabl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2994-94B6-49E7-AA43-543144B26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1: If MAGI plus ½ of Social Security benefits exceeds the base amounts below, but not the second set of base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[MAGI + .50 (SSB) – base amou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5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655F-846A-4FF5-9D8B-681C7FA870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2: If MAGI plus ½ of Social Security benefits exceeds the base amount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: 0.85[MAGI + 0.50(Social Security benefits) - second base amount], and the lesser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included through application of the first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500 ($6,000 for married filing joint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4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4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690AF-2A71-4A8C-8918-F8C5F2DF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Social Security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rried with AGI = $30,000; tax exempt interest income = $3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Married with AGI = $40,000; tax exempt interest income = $6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8218-8457-4551-A957-8B615BF75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of income follows the realization principle from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is recognized (taxed) when re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e appreciation in wealth (economic income) is not considered realiz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C4C5-C473-4DA9-8A42-2C747946E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ormula 1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($10,000) = $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[($30,000 + $3,000) + 0.50 ($10,000) – $32,000)] = $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3,0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9027-C2E7-4DFE-A05F-3BC2FB30BD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ormula 2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 ($10,000) = $8,500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5[($40,000 + $6,000) + 0.50 ($10,000) – $44,000] = $5,950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er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0 ($10,000) = $5,000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8,5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E6AC-C099-4B0A-B58B-2BA04608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focus On The Big Pict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accrual method of accounting, Dr. Cliff Payne has correctly calculated the gross income of his sole 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ill report the $385,000 amount on Schedule C of Form 1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Dr. Payne elects the cash method of accounting? He will only repor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–0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: 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52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inc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33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E91C-D68F-4555-80EF-7D2537757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9"/>
          <p:cNvSpPr/>
          <p:nvPr/>
        </p:nvSpPr>
        <p:spPr>
          <a:xfrm>
            <a:off x="644400" y="2322360"/>
            <a:ext cx="777240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have any comments or suggestions concerning this PowerPoint Presentation for South-Western Federal Taxation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Donald  R. Trippeer, C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rippedr@oneonta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Y Oneo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C49A-A3DC-4B25-80F6-BF79F5162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whether it is in the form of cash, or “in-kind” cash equivalents (i.e., property or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income from “in-kind” receipts is equal to the FMV of the property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does not include recovery of the taxpayer’s capital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EF3B-0488-4B28-B3EE-711BE8556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ig Picture - Example 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overy Of Capital Doctr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sells common stock for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purchased the stock for $1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’s gross receipts are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mount consists of a $12,000 recovery of capital and $3,000 of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0C277-E79F-4DE0-8C45-F6A063CA1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Peri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le year is generally a 12-month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ble year for most individual taxpayers is the calenda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can be elected if taxpayer maintains adequ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is a 12-month period ending on the last day of a month other than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July 1 to June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5T07:17:30Z</dcterms:created>
  <dc:creator>Dr. Donald R. Trippeer</dc:creator>
  <dc:description/>
  <dc:language>en-US</dc:language>
  <cp:lastModifiedBy>Trippeer, Don</cp:lastModifiedBy>
  <cp:lastPrinted>2004-03-27T20:37:44Z</cp:lastPrinted>
  <dcterms:modified xsi:type="dcterms:W3CDTF">2018-05-15T18:36:22Z</dcterms:modified>
  <cp:revision>265</cp:revision>
  <dc:subject>An Introduction to Taxation and Understanding Federal Tax Law</dc:subject>
  <dc:title>Chapter 1</dc:title>
</cp:coreProperties>
</file>