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F26-BC69-4F2C-9D65-24A6317F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CF6-F88A-42A0-8A4B-A504D99B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8DB-F436-4E1B-9702-CA376383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A53-85ED-4A66-8F90-C2ADF1EC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531-81C4-40D0-9055-AA7D630B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E03-F97F-4E17-8447-F28C231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203A-101B-406F-8609-4E41A5CB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1399-5438-4850-A6C1-472FAF1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1626-4EAE-4C6E-AFE8-0B9A0D6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592A-36E5-4C10-82A0-711097C8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ED0-94D6-4E43-B4BE-6359A625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7E3-DB04-420B-A2E1-3FC6FE60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419-0759-4C8B-880A-646CB37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08DD-5850-4296-A0C7-263F34E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3525-FA67-4793-9C09-C7128B6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A745-3B1F-4BCC-AA22-9F987B4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3A8-D225-4DEC-8E99-E48DE6C0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600-1099-4C45-9D84-701FDA0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79A-AC6A-4B6D-94FD-1E5695D2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74A6-6891-4B34-86BE-DC72EAF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AE1-4313-4DD0-872E-44D74D8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9AC-24FC-447A-8E72-56856C1D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BA6-3534-42B5-8D67-24D84E4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C0D-9FC2-469C-BF40-C7A2EAD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F9A-B3BF-463A-BC15-A34D054C6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793A-027E-48E5-A66B-5287E301F5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cdc.gov/tobacco/basic_information/e-cigarettes/severe-lung-diseas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Juul = about 1 pack cigarettes (in terms of nicot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other Disturbing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cdc.gov/tobacco/basic_information/e-cigarettes/severe-lung-disease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A officials have warned people not to use any vaping products bought on the street, and they warn against modifying any products purchased in store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, vape, Juul, or use any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 or e-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continues to use nicotin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, va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2-26T19:38:49Z</dcterms:modified>
  <cp:revision>53</cp:revision>
  <dc:subject/>
  <dc:title>How do organisms adapt to change?</dc:title>
</cp:coreProperties>
</file>