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88E-B994-404A-BF08-8248CBBE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85B-BB78-46DB-BB01-2FFC02DF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1EBE-04C0-456A-9024-F4250BAE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CC9-59D9-45E5-8BD2-CB725125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A9A-540F-4777-AA5A-B569E55E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0D08-931E-4F21-A5B1-82E18E7E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D95D-D417-41F3-841D-2A27D99D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03A1-5ABA-47B2-B665-742284B0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674-0EA3-4999-9A1D-998C731C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33B5-9080-4341-B7C7-482ACF44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80D2-3240-4421-8D3F-0BBE19D6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579-96B0-4FFE-B256-569BA5B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09E-3C15-44FD-A166-77E500FF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F1BA-F8D8-4B64-A3EC-22D650FF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96AC-13A6-4856-9645-D3875408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9BD9-D6A4-46B5-98D3-A9A514B2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901D-67E1-47D3-A465-120E7381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FF7-8CD6-4979-9ECD-1AA90E6E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37A-3F9F-4964-9D3E-8AE53C39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CC2-295F-42DC-8BE0-7E9AC169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282-AF83-4F06-8B82-D50F1F9F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CEF-0269-40D6-9367-3DA55E7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000-3D9B-4CF8-B635-23DAF36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062-8B91-4CDC-96EF-B0EBF774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CD9C-7E5B-4B50-8F33-98E8CF59C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183-EA52-45F1-A57B-898CD46FE2F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cdc.gov/tobacco/basic_information/e-cigarettes/severe-lung-diseas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Juul = about 1 pack cigarettes (in terms of nicoti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other Disturbing Inform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cdc.gov/tobacco/basic_information/e-cigarettes/severe-lung-disease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DA officials have warned people not to use any vaping products bought on the street, and they warn against modifying any products purchased in stores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, vape, Juul, or use any nicotine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 or e-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 continues to use nicotin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, va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2-26T19:38:49Z</dcterms:modified>
  <cp:revision>53</cp:revision>
  <dc:subject/>
  <dc:title>How do organisms adapt to change?</dc:title>
</cp:coreProperties>
</file>