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867-E2AA-4777-B31F-D511007B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3A3-164A-4042-A67E-E077E260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297-7ADE-490E-8ACB-83CD163E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943-D8EF-49DF-9AFB-97F34B29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E97-CFA9-401F-BDAF-F58D4EB6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1D9-97F5-4460-BA68-F1789B8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CC0A-79E0-4C5E-AFB9-790382A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1E3-A5A4-4023-8356-FD38F7D7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8B8-72B0-4E7A-98B1-4918AAA5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A7A-F9E4-4DCB-B6D0-5B567763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E817-CCA4-465D-9AE2-AA9FF2B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274-6618-4786-9D1A-FFBBD04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9E5-D88B-4933-BA40-63A6C5D0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113B-AA24-4246-BB16-901A942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8AA2-418F-4F55-AC19-5F0D3A0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E71C-AF3E-434A-893A-D0528814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3D35-6158-4DA3-BF21-59D70F1B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991-6B81-4A4C-98B7-4C05385E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713-D2E8-4A2B-BC27-9B17E24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8EE-330E-42BE-8BEF-F89E15D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AEF-AF08-4D84-B1D7-5C606CE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B0E-4717-4316-BDD3-48A1A4D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2FB-7649-4787-8D05-69802ED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EBD-33FC-4964-B967-D2FFD191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2687-4320-4550-88B2-0114D71BD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DEE-032B-4F6B-ADE4-8E98F4E75E4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cdc.gov/tobacco/basic_information/e-cigarettes/severe-lung-diseas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Juul = about 1 pack cigarettes (in terms of nicot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other Disturbing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cdc.gov/tobacco/basic_information/e-cigarettes/severe-lung-disease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A officials have warned people not to use any vaping products bought on the street, and they warn against modifying any products purchased in store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, vape, Juul, or use any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 or e-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continues to use nicotin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, va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2-26T19:38:49Z</dcterms:modified>
  <cp:revision>53</cp:revision>
  <dc:subject/>
  <dc:title>How do organisms adapt to change?</dc:title>
</cp:coreProperties>
</file>