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32A1-AE58-4FD8-BF21-DF2F98282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09EB-F0B0-4D84-B789-A25F7E169D6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28D1-052B-49AB-B758-786DEB412792}"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875B-8F5F-4F74-B60E-2C762666F52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D575D-EABE-4DAC-963F-C21F4388D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F29B4-4F0D-420A-948E-9ABFCD1D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F33FB-A77B-41DD-B81F-C63B99FC3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0FBA2-30A6-4D25-91A7-30B749040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23427-4C21-45A3-A018-5AE596FC2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39160-1094-4FD0-8ED6-EACF8E1DB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8BB21-298C-42F3-A309-2A2848F16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01D26-22E8-4178-9BD5-671DAFDC0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C26F4-DBF6-4E8D-9865-02CE53A1A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E454B-610C-4889-AC3E-575E053B6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F423D-1280-439C-B5A5-8D17F4462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78A02-ED85-4F03-B64E-3141CC1ED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E4C50-2B91-47A7-8E51-E49273109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43C75-91DD-4795-9434-384FE840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E3095-6E76-4512-B09C-BBE16165B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3A0B7-2EB8-4824-A3BF-D61F82EC1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8DB39-B4CF-4DED-8789-8B8058026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136D9-4859-4FAC-90E8-C473D0DDF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4944E-1DAE-4C78-A4A0-CFA97E4B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83DD4-225C-477D-9E45-6302100D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914F-6592-47A8-8D2E-2D56FE01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B1F4-E874-434D-BCB0-70069DCE5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C43C-1A0D-48D9-8988-B8F903073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A613-E528-45A5-B937-AA6D72E7D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C8A5-3472-42AE-B0CA-1E32F2479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73C6-F0C2-463B-AB4B-162FBF626B8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ud’s view</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ivation synthesis the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neural firing in brainstem.  This can activate mechanisms that normally interpret sensory inpu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tries to make sense of this by attaching meaning, creating storie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bic areas active, frontal lobes inactiv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silocybin,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hibit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311040" y="13716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0-02-28T15:03:23Z</dcterms:modified>
  <cp:revision>59</cp:revision>
  <dc:subject/>
  <dc:title>Sensorimotor System</dc:title>
</cp:coreProperties>
</file>