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17A4-B809-4CEB-A358-F4BFB74EC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0108-993D-4533-B887-3EAA65989F8B}"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6" name="PlaceHolder 1"/>
          <p:cNvSpPr>
            <a:spLocks noGrp="1"/>
          </p:cNvSpPr>
          <p:nvPr>
            <p:ph type="sldImg"/>
          </p:nvPr>
        </p:nvSpPr>
        <p:spPr>
          <a:xfrm>
            <a:off x="1144440" y="687240"/>
            <a:ext cx="4569120" cy="342612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17DC-713D-4DB0-8D9D-9DF6ABCF44C6}"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
        <p:nvSpPr>
          <p:cNvPr id="180" name="PlaceHolder 1"/>
          <p:cNvSpPr>
            <a:spLocks noGrp="1"/>
          </p:cNvSpPr>
          <p:nvPr>
            <p:ph type="sldImg"/>
          </p:nvPr>
        </p:nvSpPr>
        <p:spPr>
          <a:xfrm>
            <a:off x="1144440" y="687240"/>
            <a:ext cx="4569120" cy="342612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1143000"/>
            <a:ext cx="41148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that don’t remember what sleep spindles ar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part of stage 2 sleep and are about 1-2 second bursts of 12-14Hz wave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er and his colleges believe that these sleep spindles are taking information from the hippocampus were are memories are made and transferring them to the prefrontal cortex were they are stored thus allowing the hippocampus to have more room for memories when we wake up</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0B47-E6F9-4956-8608-548AD3F074A0}" type="slidenum">
              <a:rPr b="0" lang="en-US" sz="1200" spc="-1" strike="noStrike">
                <a:solidFill>
                  <a:srgbClr val="ffffcc"/>
                </a:solidFill>
                <a:latin typeface="Arial"/>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EA885-C54C-43EE-82FC-C06D78ED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DF907-DFFB-4B95-BAF8-9967C15DE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47B1B-1655-4513-A7FF-EE9B11D41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3C341-B4AD-4B88-BCCD-9D1F242AA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A2713-483F-403E-A812-AFD6E0880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27FB6-3F7D-48DF-8B2E-24D479D91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8F37A-6BD8-4713-A361-75B952CA8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4E191-26E3-4EE9-B12B-F5C4B12AC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017E8-24D9-4E5B-9755-2BCA28716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67E73-90F4-4984-BDA5-E1067D28C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02BB8-C142-4E7F-B362-D9CB670BF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44949-523D-4ACA-BB72-2CCBA0320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22B1F-F7EF-4767-8A18-D445F4216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BA6F2-E83D-40CF-85F4-4084714DB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CFDD0-7BE9-4739-9F84-33C5F2078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553F9-2F28-4A3C-9F83-04EA46F52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586FF-AF3A-4DFC-BF98-35F8962EE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B450-A40E-435A-8F9D-DA4358C6B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C16E4-E3E3-44D6-8197-096EEA465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16F07-5486-4E0A-80F7-9A7ADEC0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105F-827D-4C1F-BE14-306419E1F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6AD3-77A1-49E7-B304-74E9EBDAA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7796-4B49-4B71-8654-8AE4E7E41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B977-9812-466C-BC7F-6DDE40CFA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1E64-A0A6-4220-A3A6-C0D2555936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6"/>
                    <a:pt x="103" y="-22337"/>
                    <a:pt x="0" y="-22339"/>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6"/>
                    <a:pt x="107" y="-22337"/>
                    <a:pt x="0" y="-22339"/>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6"/>
                    <a:pt x="108" y="-22337"/>
                    <a:pt x="0" y="-22339"/>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E7DC-184F-4AB1-8839-7CED388B0220}"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sciencedaily.com/releases/2012/07/120711131030.htm" TargetMode="External"/><Relationship Id="rId2" Type="http://schemas.openxmlformats.org/officeDocument/2006/relationships/hyperlink" Target="https://www.youtube.com/watch?v=0XhcsZKa3jo"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 Sleep Cycle</a:t>
            </a:r>
            <a:endParaRPr b="0" i="1" lang="en-US" sz="4400" spc="-1" strike="noStrike">
              <a:solidFill>
                <a:srgbClr val="ffcc66"/>
              </a:solidFill>
              <a:latin typeface="Times New Roman"/>
            </a:endParaRPr>
          </a:p>
        </p:txBody>
      </p:sp>
      <p:pic>
        <p:nvPicPr>
          <p:cNvPr id="117" name="Picture 4" descr=""/>
          <p:cNvPicPr/>
          <p:nvPr/>
        </p:nvPicPr>
        <p:blipFill>
          <a:blip r:embed="rId1"/>
          <a:stretch/>
        </p:blipFill>
        <p:spPr>
          <a:xfrm>
            <a:off x="0" y="15066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leep Architecture</a:t>
            </a:r>
            <a:endParaRPr b="0" i="1" lang="en-US" sz="4400" spc="-1" strike="noStrike">
              <a:solidFill>
                <a:srgbClr val="ffcc66"/>
              </a:solidFill>
              <a:latin typeface="Times New Roman"/>
            </a:endParaRPr>
          </a:p>
        </p:txBody>
      </p:sp>
      <p:pic>
        <p:nvPicPr>
          <p:cNvPr id="119" name="Picture 4" descr="typical_sleep"/>
          <p:cNvPicPr/>
          <p:nvPr/>
        </p:nvPicPr>
        <p:blipFill>
          <a:blip r:embed="rId1"/>
          <a:stretch/>
        </p:blipFill>
        <p:spPr>
          <a:xfrm>
            <a:off x="609480" y="1676520"/>
            <a:ext cx="6934320" cy="499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31400" cy="683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eaming</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dreams occur in 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eaming can occur in NREM sleep</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 of awakenings produce report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EM dreams more elaborate and “hallucinatory”</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increased activity in some brain areas, esp. amygdala and visual areas.</a:t>
            </a:r>
            <a:endParaRPr b="0" lang="en-US" sz="2400" spc="-1" strike="noStrike">
              <a:solidFill>
                <a:srgbClr val="ffffcc"/>
              </a:solidFill>
              <a:latin typeface="Times New Roman"/>
            </a:endParaRPr>
          </a:p>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REM dreams more mundane and less elaborate </a:t>
            </a:r>
            <a:endParaRPr b="0" lang="en-US" sz="2800" spc="-1" strike="noStrike">
              <a:solidFill>
                <a:srgbClr val="ffffcc"/>
              </a:solidFill>
              <a:latin typeface="Times New Roman"/>
            </a:endParaRPr>
          </a:p>
          <a:p>
            <a:pPr lvl="1" marL="720720" indent="-27720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with general deactivation of many brain areas</a:t>
            </a:r>
            <a:endParaRPr b="0" lang="en-US" sz="2400" spc="-1" strike="noStrike">
              <a:solidFill>
                <a:srgbClr val="ffffcc"/>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2">
                                            <p:txEl>
                                              <p:pRg st="4" end="4"/>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2">
                                            <p:txEl>
                                              <p:pRg st="6" end="6"/>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dream?</a:t>
            </a:r>
            <a:endParaRPr b="0" i="1" lang="en-US" sz="4400" spc="-1" strike="noStrike">
              <a:solidFill>
                <a:srgbClr val="ffcc66"/>
              </a:solidFill>
              <a:latin typeface="Times New Roman"/>
            </a:endParaRPr>
          </a:p>
        </p:txBody>
      </p:sp>
      <p:sp>
        <p:nvSpPr>
          <p:cNvPr id="1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reud’s view</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tivation synthesis the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ndom neural firing in brainstem.  This can activate mechanisms that normally interpret sensory inpu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tries to make sense of this by attaching meaning, creating storie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mbic areas active, frontal lobes inactiv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y do we sleep?</a:t>
            </a:r>
            <a:endParaRPr b="0" i="1" lang="en-US" sz="4400" spc="-1" strike="noStrike">
              <a:solidFill>
                <a:srgbClr val="ffcc66"/>
              </a:solidFill>
              <a:latin typeface="Times New Roman"/>
            </a:endParaRPr>
          </a:p>
        </p:txBody>
      </p:sp>
      <p:sp>
        <p:nvSpPr>
          <p:cNvPr id="12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ree main reason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toration</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allows body to rest and repair itself</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llowing circadian rhythms</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leep has evolved to keep animals quiet and inactive during periods of greatest danger (the dark)</a:t>
            </a:r>
            <a:endParaRPr b="0" lang="en-US" sz="24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acilitating learning</a:t>
            </a:r>
            <a:endParaRPr b="0" lang="en-US" sz="2800" spc="-1" strike="noStrike">
              <a:solidFill>
                <a:srgbClr val="ffffcc"/>
              </a:solidFill>
              <a:latin typeface="Times New Roman"/>
            </a:endParaRPr>
          </a:p>
          <a:p>
            <a:pPr lvl="2" marL="1119960" indent="-2239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n people sleep after learning, they remember more than those who didn’t.  Especially REM sleep</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little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eople underestimate amount of sleep they ge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 with medic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rious behavioral methods to help</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ersomnia</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o much sleep</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rcolepsy</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controllable urge to sleep during the day</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mmediately fall in REM sleep</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tacks last 5-30 min, usually 10-15</a:t>
            </a:r>
            <a:endParaRPr b="0" lang="en-US" sz="24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 disturbances</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somnia (disturbed slee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 apne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eepwalking</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ight Terro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M sleep behavior disord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1"/>
              </a:rPr>
              <a:t>https://www.sciencedaily.com/releases/2012/07/120711131030.htm</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cc"/>
                </a:solidFill>
                <a:uFillTx/>
                <a:latin typeface="Times New Roman"/>
                <a:hlinkClick r:id="rId2"/>
              </a:rPr>
              <a:t>https://www.youtube.com/watch?v=0XhcsZKa3j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d section on how to improve your sleep p. 141-142</a:t>
            </a:r>
            <a:endParaRPr b="0" i="1" lang="en-US" sz="4400" spc="-1" strike="noStrike">
              <a:solidFill>
                <a:srgbClr val="ffcc66"/>
              </a:solidFill>
              <a:latin typeface="Times New Roman"/>
            </a:endParaRPr>
          </a:p>
        </p:txBody>
      </p:sp>
      <p:pic>
        <p:nvPicPr>
          <p:cNvPr id="134" name="" descr=""/>
          <p:cNvPicPr/>
          <p:nvPr/>
        </p:nvPicPr>
        <p:blipFill>
          <a:blip r:embed="rId1"/>
          <a:stretch/>
        </p:blipFill>
        <p:spPr>
          <a:xfrm>
            <a:off x="685800" y="20574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hat is Consciousness?</a:t>
            </a:r>
            <a:endParaRPr b="0" i="1" lang="en-US" sz="4400" spc="-1" strike="noStrike">
              <a:solidFill>
                <a:srgbClr val="ffcc66"/>
              </a:solidFill>
              <a:latin typeface="Times New Roman"/>
            </a:endParaRPr>
          </a:p>
        </p:txBody>
      </p:sp>
      <p:sp>
        <p:nvSpPr>
          <p:cNvPr id="10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ne’s subjective experience of the world; your sensations, thoughts, and memories, all resulting from brain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hough we don’t know if everyone experiences “red” or the taste of apple the same way, people do share common patterns of brain activity that can provide insights into their conscious experien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t well understood, but thought to be a trance-like state in which conscious awareness is separated from other aspects of conscious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you be hypnotized against your wil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differ in their susceptibility to hypnosi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ghly susceptible individuals are open to experience, are very imaginative, can filter out distractions and get very absorbed in activiti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nosi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hypnosis improve your memor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yb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ut it also increases false memories and makes individuals prone to suggestion</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ypnosis does seem effective in reducing pain in clinical settin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0"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bliminal perception – when stimuli are processed by senses, but b/c of short duration or subtle forms, don’t reach consciousnes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these work to influence behavior?</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little evidence that they work but may subtly influence bx for a short time in some cas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bliminal Messages</a:t>
            </a:r>
            <a:endParaRPr b="0" i="1" lang="en-US" sz="4400" spc="-1" strike="noStrike">
              <a:solidFill>
                <a:srgbClr val="ffcc66"/>
              </a:solidFill>
              <a:latin typeface="Times New Roman"/>
            </a:endParaRPr>
          </a:p>
        </p:txBody>
      </p:sp>
      <p:sp>
        <p:nvSpPr>
          <p:cNvPr id="142"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reenwald et al., 1992 stud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ents told subliminal tapes would improve confidence or improve memory.  Half the tapes were mislabeled.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ult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lacebo effect, people reported improved confidence or memory regardless, but improvement was always in what skill they were </a:t>
            </a:r>
            <a:r>
              <a:rPr b="1" lang="en-US" sz="2400" spc="-1" strike="noStrike">
                <a:solidFill>
                  <a:srgbClr val="ffffcc"/>
                </a:solidFill>
                <a:latin typeface="Times New Roman"/>
              </a:rPr>
              <a:t>told</a:t>
            </a:r>
            <a:r>
              <a:rPr b="0" lang="en-US" sz="2400" spc="-1" strike="noStrike">
                <a:solidFill>
                  <a:srgbClr val="ffffcc"/>
                </a:solidFill>
                <a:latin typeface="Times New Roman"/>
              </a:rPr>
              <a:t> the tape was, not necessarily what it actually was.  </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ubliminal messages did not work.</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ditation</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2 main type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centrative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cus attention on your breathing, on a mental image, or a specific phra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indfulness Medi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et thoughts flow freely; try not to react to the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this for at least 20 min</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re the health benefits of thi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sciousness Altering Drugs</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ctive drugs affect feelings, thoughts, perceptions, or behavio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hys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to avoid consequences of physical withdrawal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logical dependenc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ake drug b/c crave pleasurable effec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pendence (Addiction) Characterized by:</a:t>
            </a:r>
            <a:endParaRPr b="0" i="1" lang="en-US" sz="40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ug use that remains compulsive despite its negative consequenc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e DSM-V criteria for AUD</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yone meeting any 2 of the 11 criteria during the same 12 month period would be diagnosed with AUD.  The severity of AUD is based on the number of criteria me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ld 2-3, Moderate 4-5, Severe 6 or more.</a:t>
            </a:r>
            <a:endParaRPr b="0" lang="en-US" sz="3200" spc="-1" strike="noStrike">
              <a:solidFill>
                <a:srgbClr val="ffffcc"/>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Criteria for AUD </a:t>
            </a:r>
            <a:br>
              <a:rPr sz="3600"/>
            </a:br>
            <a:r>
              <a:rPr b="0" lang="en-US" sz="3600" spc="-1" strike="noStrike">
                <a:solidFill>
                  <a:srgbClr val="ffcc66"/>
                </a:solidFill>
                <a:latin typeface="Times New Roman"/>
              </a:rPr>
              <a:t>In the Past Year, Have you:</a:t>
            </a:r>
            <a:endParaRPr b="0" i="1" lang="en-US" sz="3600" spc="-1" strike="noStrike">
              <a:solidFill>
                <a:srgbClr val="ffcc66"/>
              </a:solidFill>
              <a:latin typeface="Times New Roman"/>
            </a:endParaRPr>
          </a:p>
        </p:txBody>
      </p:sp>
      <p:sp>
        <p:nvSpPr>
          <p:cNvPr id="15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imes when you ended up drinking more, or longer, than you intended?</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wanted to cut down or stop drinking, or tried to, but couldn’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Spent a lot of time drinking? Or being sick or getting over other aftereffect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Wanted a drink so badly you couldn’t think of anything els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drinking- or being sick from drinking- often interfered with taking care of your home or family? Or caused job troubles? Or school problem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causing trouble with your family or friends?</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Given up or cut back on activities that were important or interesting to you, or gave you pleasure, in order to drink?</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More than once gotten into situations while or after drinking that increased your chances of getting hurt (such as driving, swimming, using machinery, walking in a dangerous area, or having unsafe sex)?</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Continued to drink even though it was making you feel depressed or anxious or adding to another health problem? Or after having had a memory blackout?</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Had to drink much more than you once did to get the effect you want? Or found that your usual number of drinks had much less effect than befo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cc"/>
                </a:solidFill>
                <a:latin typeface="Times New Roman"/>
              </a:rPr>
              <a:t>Found that when the effects of alcohol were wearing off, you had withdrawal symptoms, such as trouble sleeping, shakiness, restlessness, nausea, sweating, a racing heart, or a seizure? Or sensed things that were not there?</a:t>
            </a: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a:p>
            <a:pPr marL="343080" indent="-343080">
              <a:spcBef>
                <a:spcPts val="326"/>
              </a:spcBef>
              <a:buClr>
                <a:srgbClr val="bfbfb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50">
                                            <p:txEl>
                                              <p:pRg st="4" end="4"/>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50">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7" end="7"/>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50">
                                            <p:txEl>
                                              <p:pRg st="8" end="8"/>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50">
                                            <p:txEl>
                                              <p:pRg st="9" end="9"/>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 CNS activity (reduce firing of neuron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lude Barbiturates, Benzodiazepines, Alcohol</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rbiturates (Phenobarbital, Pentobarbital) and more often Benzodiazepines (Valium, Librim, Xanax) are used to reduce anxiety and seizures, and as sleep ai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ants</a:t>
            </a:r>
            <a:endParaRPr b="0" i="1" lang="en-US" sz="44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cohol</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low doses, inhibits frontal lobes (involved in reasoning, inhibitions, judgmen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higher doses, inhibits cerebellar func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still higher doses, inhibits neurons in spinal cord and medulla that control breathing, body temperature and heart rat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apter topics</a:t>
            </a:r>
            <a:endParaRPr b="0" i="1" lang="en-US" sz="4400" spc="-1" strike="noStrike">
              <a:solidFill>
                <a:srgbClr val="ffcc66"/>
              </a:solidFill>
              <a:latin typeface="Times New Roman"/>
            </a:endParaRPr>
          </a:p>
        </p:txBody>
      </p:sp>
      <p:sp>
        <p:nvSpPr>
          <p:cNvPr id="10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is chapter we will talk about sleep and dreaming, and about the effects of various drug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ffects of Alcohol Depend on:</a:t>
            </a:r>
            <a:endParaRPr b="0" i="1" lang="en-US" sz="4400" spc="-1" strike="noStrike">
              <a:solidFill>
                <a:srgbClr val="ffcc66"/>
              </a:solidFill>
              <a:latin typeface="Times New Roman"/>
            </a:endParaRPr>
          </a:p>
        </p:txBody>
      </p:sp>
      <p:sp>
        <p:nvSpPr>
          <p:cNvPr id="1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x differences - females more affected by alcohol, even at same BAC</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eed of drinking</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ount of food in stomach</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dy weight</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factors (environment, expectations, state of emotional/physical health, other drugs)</a:t>
            </a: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6">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lood Alcohol Concentration (BAC)</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ount of alcohol in exhaled air is a reliable index of alcohol in blood.</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g alcohol in blood/100 ml of blood, as %</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f 0.05 = 0.05 g alcohol per 100 ml blood</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C</a:t>
            </a:r>
            <a:endParaRPr b="0" i="1" lang="en-US" sz="44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beer = 1 glass wine = 1 shot = 1 wine cool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verage person can metabolize 1 drink per hou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C only drops .015% per hour once drinking has STOPPED (can’t do anything to speed it u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havioral Effects at BACs</a:t>
            </a:r>
            <a:endParaRPr b="0" i="1" lang="en-US" sz="4400" spc="-1" strike="noStrike">
              <a:solidFill>
                <a:srgbClr val="ffcc66"/>
              </a:solidFill>
              <a:latin typeface="Times New Roman"/>
            </a:endParaRPr>
          </a:p>
        </p:txBody>
      </p:sp>
      <p:graphicFrame>
        <p:nvGraphicFramePr>
          <p:cNvPr id="162" name=""/>
          <p:cNvGraphicFramePr/>
          <p:nvPr/>
        </p:nvGraphicFramePr>
        <p:xfrm>
          <a:off x="685800" y="1676520"/>
          <a:ext cx="7772400" cy="4937040"/>
        </p:xfrm>
        <a:graphic>
          <a:graphicData uri="http://schemas.openxmlformats.org/drawingml/2006/table">
            <a:tbl>
              <a:tblPr/>
              <a:tblGrid>
                <a:gridCol w="914400"/>
                <a:gridCol w="6858000"/>
              </a:tblGrid>
              <a:tr h="990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0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eel good, less alert, uninhibited, impaired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er reaction times, impaired motor function, less caution, poor judgm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ysphoria, nausea, “sloppy drunk”, blackout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2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gering, mental confusion, some vomiting</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6858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35</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esthesia, loss of consciousness, “pass ou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4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D 50, coma, death is likely (usually due to respiratory failure, decreased heart rate)</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64" name="Picture 4" descr="BAC"/>
          <p:cNvPicPr/>
          <p:nvPr/>
        </p:nvPicPr>
        <p:blipFill>
          <a:blip r:embed="rId1"/>
          <a:stretch/>
        </p:blipFill>
        <p:spPr>
          <a:xfrm>
            <a:off x="228600" y="228600"/>
            <a:ext cx="8610480" cy="644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ite CNS; increase neural firing</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 alertness and self-confidence, decrease hunger</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ffeine reduces total number sleep minutes and increases time to fall asleep</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icotine is also a stimulant</a:t>
            </a:r>
            <a:endParaRPr b="0" lang="en-US" sz="32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mphetamines (“speed” or “uppers”)</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develops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irritability, fatigue, depression, anxiety, craving for more</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DMA has stimulant properties</a:t>
            </a:r>
            <a:endParaRPr b="0" lang="en-US" sz="2800" spc="-1" strike="noStrike">
              <a:solidFill>
                <a:srgbClr val="ffffcc"/>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imulants</a:t>
            </a:r>
            <a:endParaRPr b="0" i="1" lang="en-US" sz="4400" spc="-1" strike="noStrike">
              <a:solidFill>
                <a:srgbClr val="ffcc66"/>
              </a:solidFill>
              <a:latin typeface="Times New Roman"/>
            </a:endParaRPr>
          </a:p>
        </p:txBody>
      </p:sp>
      <p:sp>
        <p:nvSpPr>
          <p:cNvPr id="17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aine</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common product did this used to be 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ery addictive, especially “crack”</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effects similar to those for amphetamines</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dopamine and norepinephrine to act on receptors longer, eventually depleting these chemical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70">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allucinogens</a:t>
            </a:r>
            <a:endParaRPr b="0" i="1" lang="en-US" sz="4400" spc="-1" strike="noStrike">
              <a:solidFill>
                <a:srgbClr val="ffcc66"/>
              </a:solidFill>
              <a:latin typeface="Times New Roman"/>
            </a:endParaRPr>
          </a:p>
        </p:txBody>
      </p:sp>
      <p:sp>
        <p:nvSpPr>
          <p:cNvPr id="1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e perceptual experience; mescaline, psilocybin, PCP, LSD</a:t>
            </a:r>
            <a:endParaRPr b="0" lang="en-US" sz="2800" spc="-1" strike="noStrike">
              <a:solidFill>
                <a:srgbClr val="ffffcc"/>
              </a:solidFill>
              <a:latin typeface="Times New Roman"/>
            </a:endParaRPr>
          </a:p>
          <a:p>
            <a:pPr marL="609480" indent="-60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SD</a:t>
            </a:r>
            <a:endParaRPr b="0" lang="en-US" sz="28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nd auditory hallucinations; affects time perception</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erse reactions include “bad trip” and flashbacks</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n lead to irrational behavior and panic</a:t>
            </a:r>
            <a:endParaRPr b="0" lang="en-US" sz="2400" spc="-1" strike="noStrike">
              <a:solidFill>
                <a:srgbClr val="ffffcc"/>
              </a:solidFill>
              <a:latin typeface="Times New Roman"/>
            </a:endParaRPr>
          </a:p>
          <a:p>
            <a:pPr lvl="1" marL="990720" indent="-53352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ught to inhibit serotonin activ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nnabis</a:t>
            </a:r>
            <a:endParaRPr b="0" i="1" lang="en-US" sz="4400" spc="-1" strike="noStrike">
              <a:solidFill>
                <a:srgbClr val="ffcc66"/>
              </a:solidFill>
              <a:latin typeface="Times New Roman"/>
            </a:endParaRPr>
          </a:p>
        </p:txBody>
      </p:sp>
      <p:sp>
        <p:nvSpPr>
          <p:cNvPr id="1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rijuana </a:t>
            </a:r>
            <a:endParaRPr b="0" lang="en-US" sz="32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C is active ingredient</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high”, then relaxation; sometimes anxiety/hallucinations with high doses</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s motor coordination, even 24 hrs later</a:t>
            </a:r>
            <a:endParaRPr b="0" lang="en-US" sz="2800" spc="-1" strike="noStrike">
              <a:solidFill>
                <a:srgbClr val="ffffcc"/>
              </a:solidFill>
              <a:latin typeface="Times New Roman"/>
            </a:endParaRPr>
          </a:p>
          <a:p>
            <a:pPr lvl="1" marL="1009800" indent="-60984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te effects disrupt memory and learning</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e brain shut down during sleep?</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are circadian rhyth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do you sleep a nigh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many hours would you sleep if you didn’t have to set an alarm?</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 you remember most of your dream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function of dream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pium and derivatives (codeine, morphine)</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in killers, reduce anxiety, clinical uses include cough suppression and antidiarrhea effects</a:t>
            </a:r>
            <a:endParaRPr b="0" lang="en-US" sz="3200" spc="-1" strike="noStrike">
              <a:solidFill>
                <a:srgbClr val="ffffcc"/>
              </a:solidFill>
              <a:latin typeface="Times New Roman"/>
            </a:endParaRPr>
          </a:p>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19</a:t>
            </a:r>
            <a:r>
              <a:rPr b="0" lang="en-US" sz="3200" spc="-1" strike="noStrike" baseline="30000">
                <a:solidFill>
                  <a:srgbClr val="ffffcc"/>
                </a:solidFill>
                <a:latin typeface="Times New Roman"/>
              </a:rPr>
              <a:t>th</a:t>
            </a:r>
            <a:r>
              <a:rPr b="0" lang="en-US" sz="3200" spc="-1" strike="noStrike">
                <a:solidFill>
                  <a:srgbClr val="ffffcc"/>
                </a:solidFill>
                <a:latin typeface="Times New Roman"/>
              </a:rPr>
              <a:t> century, opium was put in OTC medicines, usually dissolved in alcoho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iates</a:t>
            </a:r>
            <a:endParaRPr b="0" i="1" lang="en-US" sz="4400" spc="-1" strike="noStrike">
              <a:solidFill>
                <a:srgbClr val="ffcc66"/>
              </a:solidFill>
              <a:latin typeface="Times New Roman"/>
            </a:endParaRPr>
          </a:p>
        </p:txBody>
      </p:sp>
      <p:sp>
        <p:nvSpPr>
          <p:cNvPr id="1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roin</a:t>
            </a:r>
            <a:endParaRPr b="0" lang="en-US" sz="32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duces “rush” (euphoria, well-being, relaxatio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r forgets troubles, feels no hunger or pain</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lerance and dependence develop rapidly</a:t>
            </a:r>
            <a:endParaRPr b="0" lang="en-US" sz="2800" spc="-1" strike="noStrike">
              <a:solidFill>
                <a:srgbClr val="ffffcc"/>
              </a:solidFill>
              <a:latin typeface="Times New Roman"/>
            </a:endParaRPr>
          </a:p>
          <a:p>
            <a:pPr lvl="1" marL="990720" indent="-533520">
              <a:spcBef>
                <a:spcPts val="7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thdrawal includes sweating, chills, diarrhea, vomiting, headaches, shak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leep</a:t>
            </a:r>
            <a:endParaRPr b="0" i="1" lang="en-US" sz="4400" spc="-1" strike="noStrike">
              <a:solidFill>
                <a:srgbClr val="ffcc66"/>
              </a:solidFill>
              <a:latin typeface="Times New Roman"/>
            </a:endParaRPr>
          </a:p>
        </p:txBody>
      </p:sp>
      <p:sp>
        <p:nvSpPr>
          <p:cNvPr id="108" name=""/>
          <p:cNvSpPr txBox="1"/>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you sleep, your conscious experience of the world is mostly turned off.</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t you still remain somewhat aware of surroundings and brain still processes some informa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 EEG measures electrical activity of the brain.  What does sleep look like on an EE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ges of Waking &amp; Sleep</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ert wakefulness (B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laxed wakefulness (Alph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1 sleep (onset of The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2 sleep (sleep spindles &amp; K complex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3 sleep (some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age 4 sleep (mostly Delta wav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apid Eye Movement sleep (REM), like alert wakefulness there are Beta wav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0" y="0"/>
            <a:ext cx="9131400" cy="683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3" name="Content Placeholder 5" descr="sleepwaves.gif"/>
          <p:cNvPicPr/>
          <p:nvPr/>
        </p:nvPicPr>
        <p:blipFill>
          <a:blip r:embed="rId1"/>
          <a:srcRect l="-41878" t="0" r="-41878" b="0"/>
          <a:stretch/>
        </p:blipFill>
        <p:spPr>
          <a:xfrm>
            <a:off x="-311040" y="1371600"/>
            <a:ext cx="9766080" cy="459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M Sleep</a:t>
            </a:r>
            <a:endParaRPr b="0" i="1"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ter around 90 min of sleep, enter R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aracterized by Beta waves and eyes dart around beneath closed eyelid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neurons active (esp. in occipital lobe and brain stem).</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of body’s muscles are paralyzed.</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0% of time if woken in REM report dreaming.</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s cycle repeats about 5 times.</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night goes on, cycle gets shorter, more time spent in REM sleep.</a:t>
            </a:r>
            <a:endParaRPr b="0" lang="en-US" sz="2400" spc="-1" strike="noStrike">
              <a:solidFill>
                <a:srgbClr val="ffffcc"/>
              </a:solidFill>
              <a:latin typeface="Times New Roman"/>
            </a:endParaRPr>
          </a:p>
          <a:p>
            <a:pPr marL="335880" indent="-3358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0-02-28T15:03:23Z</dcterms:modified>
  <cp:revision>59</cp:revision>
  <dc:subject/>
  <dc:title>Sensorimotor System</dc:title>
</cp:coreProperties>
</file>