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32C-F49E-46BC-93E7-FCC081DC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5C1-8FFF-4652-9A16-0E35CB4D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25D-E0C2-41A5-A884-901A8EBB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88D-E230-436D-B798-29B9DEF7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DF6C-C7AC-410D-867E-3713CDD8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A443-036B-4DF3-89FA-ECC01C90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BEB4-6151-4D85-BBAE-992B885F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4C14-99ED-440A-B660-838B3511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EB1A-F6EE-4ECD-9B87-E3D035E7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E39E-1264-47F9-A7B6-67CD910F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9642-8855-4725-BE7A-3F6D4F32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AAE-EE47-40EA-9EF8-7ECC7491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7AC3-3F8F-4C51-9216-7B02583C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D89F-944A-4E5B-9FF6-128CC216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9A3F-DC60-48FC-9E2F-45E1EC90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C8F5-BC82-42FF-9E22-CA18D4A4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B906-712A-4990-9385-D0348F99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D0AA-BC3C-4F8B-8A4D-D1646EF7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5905-A30E-4567-9006-31995ACD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43AD-817F-44CD-AD0C-8D7EE481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F04E-647A-40AB-BD29-83769359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A22A-F2E5-4149-9F30-E1B65569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824-B349-4980-9602-EC3B1539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DA33-6FB0-4DD4-9EF9-0B6B8792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A556-887B-4D1B-8400-0E8085C9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1DEC-3BE7-4DDA-A209-3799D882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DB71-8367-4CCF-A824-6EEDF9D7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70A0-5406-4D9C-8C2D-9B68334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C54B-86DC-4766-AE96-6674565D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D407F-D774-483A-AB4E-0CD198B3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D27A9-DB96-4853-8A8F-9DA66C86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2FBB-FB63-4103-9150-6301C794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2CB7-03C1-4771-8307-2AA626FA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ABA-D5E7-4767-903D-CC98253E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5591-43BA-4009-95C2-45BC3DA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40B76-D6F8-4E22-9051-02F2915A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1019-BBC3-4F44-9B13-C67FDBB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0BC4-077B-499F-8BF8-D378520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36ED-1AB2-4AF9-A291-19F665A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335F-6F72-4AB3-8E98-AE439061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DE23-A456-47AD-B578-C5E32805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6866-CD9B-4917-A311-013CEAE0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7EEDD-31C6-4B7B-8E1E-8DC75322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9C3-9D11-4150-9EB2-1EEE27F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E3E-050E-4111-B9E4-40FDE89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270-EBFC-4AD1-8A84-CF1926C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D1A-2C15-4119-9EF2-471CB909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150-5D3B-47EC-AF8C-58B76353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1E4F7-23A1-4121-A64B-E80BCA57C84A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B2555-8A4C-4564-B0F3-F5919E8C0921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26253-EE75-47B1-9E3D-B0C191B31B4E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1D6DB-4071-404A-B2AB-B888A21481D7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ebebeb"/>
                </a:solidFill>
                <a:latin typeface="Century Gothic"/>
              </a:rPr>
              <a:t>Caffeine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ad0d6"/>
              </a:solidFill>
              <a:latin typeface="Century Gothic"/>
            </a:endParaRPr>
          </a:p>
        </p:txBody>
      </p:sp>
      <p:pic>
        <p:nvPicPr>
          <p:cNvPr id="236" name="Picture 4" descr="MCj04315630000[1]"/>
          <p:cNvPicPr/>
          <p:nvPr/>
        </p:nvPicPr>
        <p:blipFill>
          <a:blip r:embed="rId1"/>
          <a:stretch/>
        </p:blipFill>
        <p:spPr>
          <a:xfrm>
            <a:off x="3657600" y="4343400"/>
            <a:ext cx="1905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ffects in the brai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s an adenosine receptor antagoni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is a neuromodulator that acts as a depressant on other NT systems and may induce sleep (causes sedation when adenosine binds to its receptors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stimulates GABA rele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ocking adenosine R’s leads to stimulant ac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nhibits adenosine =&gt; disinhibiting DA release in striatum reward pathway (normally, adenosine facilitates GABA; GABA inhibits DA release in this pathway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Other Effects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is a mild stimul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sitizes animals to coc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gh correlation of caffeine use and use of alcohol and nicot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ference for caffeine seems to be genetically determin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does NOT sober up a drunk pers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Dependence and Withdrawal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hysical Dependence on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lerance to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thdrawal effects includ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eada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rowsines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atigu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gative mood stat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ometimes even seen in those who ingest less than 1 cup per da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adrenaline in stressful circumstanc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toxic effects to body shown solely to moderate doses caffei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known long-term damage to brain and other orga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urinary excretion of calcium and inhibits calcium absorption in elderly, so may increase osteoporosis and bone fractu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lead to dehydration in athletes.  May slightly enhance athletic performance and delay fatig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-5 cups coffee correlated with onset of panic attacks in people with panic disor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ism” from high doses (1000 mg) can result in nervousness, anxiety, twitching, heart palpitations and arrhythmia, stomach upset, nausea, diarrhea, profound insomn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thal dose is around 5 to 10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gra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, but lower for children (around 800 mg for 50 lb child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Protective Health Effects 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derate caffeine use may help protect against some types of cancer (maybe by enhancing DNA repair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ti-inflammatory effects maybe related to effects on gut microbio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archinte.jamanetwork.com/article.aspx?articleid=110594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tective effect for Alzheimer’s and Parkinson’s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ybe protects against brain ischemia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and Pregnanc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igh doses associated wit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scarriage (more than 6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duced body weight of baby (3-4 +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emature labor 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ffects somewhat unclear, depend on dosag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ffeine consumption associated with decreased chance of becoming pregna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wborn does not have enzymes in liver to break down caffeine, so breastfeeding mom should avoid i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can be an effective treatment for migraine headach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 may have a protective effect for heart attacks, and may decrease stress response to stressful ev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e component of chocolate is similar to anandamide (binds to THC recepto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busta coffee beans (grown in Africa) have more caffeine than Arabica beans (grown in S. America and Middle East).  Robusta beans are also usually cheap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rk roasted coffee beans have less caffeine than lighter roasted 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mount of caffeine in a cup of coffee and an espresso are about the sam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nergy drink stor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cbsnews.com/8301-204_162-57550247/fda-investigating-13-deaths-tied-to-5-hour-energy/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youtube.com/watch?v=NkBymaNJs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troduction to Caffei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ffeine is one of the xanthines (family of stimulant compound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ther xanthines are theobromine in chocolate and theophylline in te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lf-life of caffeine is 3-7 hou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mokers eliminate caffeine 100% faster than non-smok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n you be Addicted to Caffeine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imes when you ended up drinking more, or longer, than you intende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wanted to cut down or stop drinking, or tried to, but couldn’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Spent a lot of time drinking? Or being sick or getting over other aftereffect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Wanted a drink so badly you couldn’t think of anything els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drinking often interfered with taking care of your home or family? Or caused job troubles? Or school problem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causing trouble with your family or friend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Given up or cut back on activities that were important or interesting to you, or gave you pleasure, in order to drink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gotten into situations while or after drinking that increased your chances of getting hur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making you feel anxious or adding to another health problem?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o drink much more than you once did to get the effect you want? Or found that your usual number of drinks had much less effect than befor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when the effects of caffeine were wearing off, you had withdrawal symptoms, such as headache, drowsiness, fatigue, bad moo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br>
              <a:rPr sz="4200"/>
            </a:br>
            <a:r>
              <a:rPr b="0" lang="en-US" sz="2000" spc="-1" strike="noStrike">
                <a:solidFill>
                  <a:srgbClr val="ebebeb"/>
                </a:solidFill>
                <a:latin typeface="Century Gothic"/>
              </a:rPr>
              <a:t>Note – levels for next 2 slides vary depending on exact type, and depending on source consulted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ffee – 100 mg (range 50-15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a – 50 mg (range 25-9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coa/chocolate milk – 5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milk chocolate – 6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dark chocolate – 20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Content in Various Starbucks Drink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s://www.caffeineinformer.com/the-complete-guide-to-starbucks-caffe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Vivarin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d Bull – 8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untain Dew – 5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ellow Yellow – 5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Diet Coke – 4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unkist Orange – 4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ke – 34.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gular and diet Dr. Pepper – 4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Pepsi and diet Pepsi – 3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7-up and Sprite – 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cedrin – 6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idol – 32.4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5-hour energy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report feeling more alert and confid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duces a favorable mood st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enhances wakefulness, therefore, it can overcome fatigue, sleepiness, boredo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can relieve headache p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creases sleep latency, decreases total sleep ti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verted U effect, becomes aversive at high do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ny individual differences in sensitiv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More info about Caffeine’s effect on Sleep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ttps://www.ncbi.nlm.nih.gov/pmc/articles/PMC3805807/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00 mg given 0, 3, or 6 hrs before b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total sleep tim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d sleep latency (time to fall asleep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stage 1, 2, and SW slee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6 hrs before bed, caffeine decreased sleep by more than one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periphe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stricts cereb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s heart rate, body temp, and Blood Pressu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bronchial passageway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ffeine levels peak in bloodstream after an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derly, infants, and women in late pregnancy or on oral contraceptives show slower elimination of caffe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in the Bod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ken by mouth, absorbed into blood thru stomach lining,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mall intestin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and large intesti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dose takes full effect within 30-60 m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ly distributed thru body, metabolized by liver, excreted through kidney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3-03T16:24:04Z</dcterms:modified>
  <cp:revision>72</cp:revision>
  <dc:subject/>
  <dc:title>How do organisms adapt to change?</dc:title>
</cp:coreProperties>
</file>