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455-0CFF-4689-BC1C-8CE1446A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B07-514A-4CB6-8FB9-431AB7D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081-F5CB-46C3-90E7-5DA16A78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438-F14C-4D47-8197-38530F20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5803-FD1E-426B-A5E1-F293046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23EF-442C-497C-B6BE-E4758E69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E2D-7CB0-43C5-BC0D-47558C8C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8B97-A935-4576-857D-E976D136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D3A8-60FE-4AE3-A9F6-993A39DC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5BC-5442-46D4-AF7F-355A887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4053-289E-4A72-BA63-8555957A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D14-B1CC-42B4-9E7D-B0B29CBD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09AC-8FDA-45E1-872C-117593A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8FDE-D4B9-44CA-9B90-DB30240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E9B8-3165-419A-ABB6-04731EB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B6D-4EB7-4F8E-BEA5-C902537F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57D3-7EB2-466E-B359-8D269170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B9E3-38E5-4531-87CC-67AA58FF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22819-E22F-49BF-909A-CAFB8FD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012BA-E113-4672-AAC2-AB74D29D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D9F7-46BB-4D73-8E6A-CE06B243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A49B-D467-4871-8498-48C11835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AE2-C095-40FA-9636-CA3A182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C535-B756-41C2-BF40-436F5FAA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2290-2BA8-4929-916F-EAAE089C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9E9C-E44E-48F7-B581-C59230E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EAB3-6101-4D77-94D5-3CEBB17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D192-1B7D-4336-BFD0-73765B78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B863-AFEE-45A3-A436-E557401C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D877-1599-46AD-A1EE-555DDA57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BD35-56E8-4DA8-A9B5-1991FB0D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F6F1-33BF-4F90-880D-0A615FF7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9E90-AA90-4C7C-BAF1-8D68790F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977-B507-419A-A15F-05C0675E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2E41-9B02-472C-B6EA-835C3268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949A-F070-43AD-846A-3DB4D6C2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B85C-5874-45E1-8E52-F7AC8AA5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DF622-B936-407A-95DF-874EF33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884A-244C-4D1B-87FE-4F63206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002D-6C68-42E2-A975-7E370BDC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F8A6-4612-4349-874C-0663F8CE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B20C-03AB-4707-BBF2-D7FB90CF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CB7F-9825-49B0-B5C6-9BA06533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162-6073-4457-B4EC-1A67B931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76A-500F-4F6C-83A6-34B91D8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279-D408-461F-B460-DDCF7F0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0E7-577E-479B-8B57-46AACCE9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10A-39EE-4AFF-8485-B33E018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0B62A-422F-4F59-8DF6-3E984E516A09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83728-7B38-4B7C-8CDD-C511F186012A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BE3FF-B534-43BB-BDDD-B06FB1DB525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4B5C1-9703-41F8-A9FC-91DA50302250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affein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36" name="Picture 4" descr="MCj0431563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905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ffects in the bra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s an adenosine receptor antagoni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is a neuromodulator that acts as a depressant on other NT systems and may induce sleep (causes sedation when adenosine binds to its receptors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stimulates GABA rele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ocking adenosine R’s leads to stimulant ac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nhibits adenosine =&gt; disinhibiting DA release in striatum reward pathway (normally, adenosine facilitates GABA; GABA inhibits DA release in this pathway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Other Effects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is a mild stimul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sitizes animals to coc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 correlation of caffeine use and use of alcohol and nicot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ference for caffeine seems to be genetically determin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does NOT sober up a drunk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Dependence and Withdrawal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hysical Dependence on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lerance to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thdrawal effects includ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ada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atigu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gative mood stat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times even seen in those who ingest less than 1 cup per da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adrenaline in stressful circumstanc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toxic effects to body shown solely to moderate doses caffe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known long-term damage to brain and other orga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urinary excretion of calcium and inhibits calcium absorption in elderly, so may increase osteoporosis and bone fractu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lead to dehydration in athletes.  May slightly enhance athletic performance and delay fatig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-5 cups coffee correlated with onset of panic attacks in people with panic disor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ism” from high doses (1000 mg) can result in nervousness, anxiety, twitching, heart palpitations and arrhythmia, stomach upset, nausea, diarrhea, profound insomn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thal dose is around 5 to 10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gra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but lower for children (around 800 mg for 50 lb child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Protective Health Effects 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erate caffeine use may help protect against some types of cancer (maybe by enhancing DNA repair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ti-inflammatory effects maybe related to effects on gut microbio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archinte.jamanetwork.com/article.aspx?articleid=110594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tective effect for Alzheimer’s and Parkinson’s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ybe protects against brain ischemia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and Pregnanc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igh doses associated wit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scarriage (more than 6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d body weight of baby (3-4 +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mature labor 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ffects somewhat unclear, depend on dos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ffeine consumption associated with decreased chance of becoming pregna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wborn does not have enzymes in liver to break down caffeine, so breastfeeding mom should avoid i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can be an effective treatment for migraine headach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 may have a protective effect for heart attacks, and may decrease stress response to stressful ev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e component of chocolate is similar to anandamide (binds to THC recepto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busta coffee beans (grown in Africa) have more caffeine than Arabica beans (grown in S. America and Middle East).  Robusta beans are also usually che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rk roasted coffee beans have less caffeine than lighter roasted 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affeine in a cup of coffee and an espresso are about the sam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nergy drink stor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cbsnews.com/8301-204_162-57550247/fda-investigating-13-deaths-tied-to-5-hour-energy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youtube.com/watch?v=NkBymaNJs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troduction to Caffei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ffeine is one of the xanthines (family of stimulant compound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ther xanthines are theobromine in chocolate and theophylline in t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lf-life of caffeine is 3-7 hou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mokers eliminate caffeine 100% faster than non-smok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n you be Addicted to Caffein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imes when you ended up drinking more, or longer, than you intende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wanted to cut down or stop drinking, or tried to, but couldn’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pent a lot of time drinking? Or being sick or getting over other aftereffect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Wanted a drink so badly you couldn’t think of anything els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drinking often interfered with taking care of your home or family? Or caused job troubles? Or school problem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causing trouble with your family or friend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iven up or cut back on activities that were important or interesting to you, or gave you pleasure, in order to drin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gotten into situations while or after drinking that increased your chances of getting hur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making you feel anxious or adding to another health problem?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o drink much more than you once did to get the effect you want? Or found that your usual number of drinks had much less effect than befor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when the effects of caffeine were wearing off, you had withdrawal symptoms, such as headache, drowsiness, fatigue, bad moo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br>
              <a:rPr sz="4200"/>
            </a:br>
            <a:r>
              <a:rPr b="0" lang="en-US" sz="2000" spc="-1" strike="noStrike">
                <a:solidFill>
                  <a:srgbClr val="ebebeb"/>
                </a:solidFill>
                <a:latin typeface="Century Gothic"/>
              </a:rPr>
              <a:t>Note – levels for next 2 slides vary depending on exact type, and depending on source consulted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ffee – 100 mg (range 50-15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a – 50 mg (range 25-9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coa/chocolate milk – 5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milk chocolate – 6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dark chocolate – 20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Content in Various Starbucks Drink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s://www.caffeineinformer.com/the-complete-guide-to-starbucks-caffe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Vivarin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d Bull – 8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untain Dew – 5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ellow Yellow – 5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Diet Coke – 4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unkist Orange – 4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ke – 34.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gular and diet Dr. Pepper – 4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epsi and diet Pepsi – 3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7-up and Sprite – 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cedrin – 6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idol – 32.4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5-hour energy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report feeling more alert and conf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duces a favorable mood st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enhances wakefulness, therefore, it can overcome fatigue, sleepiness, bored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can relieve headache p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creases sleep latency, decreases total sleep t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verted U effect, becomes aversive at high do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individual differences in sensitiv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More info about Caffeine’s effect on Slee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ttps://www.ncbi.nlm.nih.gov/pmc/articles/PMC3805807/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0 mg given 0, 3, or 6 hrs before b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total sleep tim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d sleep latency (time to fall asleep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stage 1, 2, and SW slee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6 hrs before bed, caffeine decreased sleep by more than one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periphe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tricts cereb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s heart rate, body temp, and Blood Pressu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bronchial passageway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ffeine levels peak in bloodstream after an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derly, infants, and women in late pregnancy or on oral contraceptives show slower elimination of caffe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in the Bod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n by mouth, absorbed into blood thru stomach lining,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mall intest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and large intest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dose takes full effect within 30-60 m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ly distributed thru body, metabolized by liver, excreted through kidne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3T16:24:04Z</dcterms:modified>
  <cp:revision>72</cp:revision>
  <dc:subject/>
  <dc:title>How do organisms adapt to change?</dc:title>
</cp:coreProperties>
</file>