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0A9B-1B12-4AB5-9E4C-8D053024D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EEC1-32EE-40D7-999A-F7962DC3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C771-A19C-4202-AA2D-F75AEECA9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E9A5-611D-4C08-AA3C-94E91D5EB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2079-FE39-42C7-B1AF-297BEBF84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D87E-4DEF-405D-A012-577F1542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65EA-8472-4612-98A1-7030D51B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C17C-178F-48DC-BBCF-E0E57B07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FC1D-EA51-4C56-B69E-CD871BDB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E5A9-5239-4FD5-BA2C-B99A0274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8D03-3FFB-4815-89D6-4F654027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0B86-AD58-40D1-98A7-D04A964C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E67F-DD12-4F00-8317-FF246524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8317-E1A0-4067-B237-3764C8AC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2FAA-A601-4C93-8795-DD6DA1CD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C3A0-AF16-43AB-B30C-0C57C5D10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7EB1-9D99-48DF-BC56-C99779723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B14F6-FEFC-42D7-8875-45242407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D143D-AD9F-4411-BC5E-0C04FF73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77C02-53B7-4944-9CF4-89FC057E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3D04E-2E57-42F7-B8B1-AD4C7378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0D96D-EC65-4864-98BC-CC885CD6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57E5-EBD6-42F4-81B6-A35F5E43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3B4B2-A9D6-4F59-8403-5435D277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72EC8-3075-43A4-B48C-3B008A0D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88862-7FCC-4F66-9AC4-76C45BC7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B9439-E455-4294-8762-8D8FA8BA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105DE-A7A3-4F85-BDB2-4528AFD7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3E024-5E4E-4BED-BA90-20CE0165A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EBB44-9185-49CB-B009-5F436C0A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B1AAA-3884-4999-8DDD-FBF8C52AE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50981-BA05-44BB-A49F-A1A3B926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645C6-8D63-4172-88B4-DE72E86B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56B7-4FC3-4E7D-B6D6-C2853638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0EFD6-7FE2-477B-B088-7D30ED5B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40E92-7E15-4809-BA44-04D9499B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87002-5A53-423C-8082-B0F2EDA7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1FA03-F7EF-479C-9F15-97E90B80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B8888-DEE8-4AEC-AC0E-A8AEB536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3FADC-23D0-44E8-BAED-86338571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8B944-08E3-41DF-8F4D-08566522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56E61-36CE-4232-AEE3-D29B1A206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03EC3-7EBB-443C-8DDE-EAE475B97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0879-F4FD-4DF7-97F9-B3DC5E8E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4EF7-A611-4B56-9986-462169FA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9281-94A9-4C68-B692-55CBCF5A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747E-404B-4892-946A-9A7E9010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25C9-37ED-446C-A445-E2482CC2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1DE5A3-58FB-4248-B493-4B2541FE6AC7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E547C7-BE9E-480B-958D-594F2E14CCBF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Straight Connector 13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960CA1-0B0C-4FB3-AAA0-865DEE0D3DEE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Straight Connector 12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Straight Connector 13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EADD7E-5CA4-44C9-8AB8-E747D1C284E2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66880" y="1447560"/>
            <a:ext cx="6619680" cy="33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ebebeb"/>
                </a:solidFill>
                <a:latin typeface="Century Gothic"/>
              </a:rPr>
              <a:t>Caffeine</a:t>
            </a:r>
            <a:br>
              <a:rPr sz="7200"/>
            </a:b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866880" y="4776840"/>
            <a:ext cx="66196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8ad0d6"/>
              </a:solidFill>
              <a:latin typeface="Century Gothic"/>
            </a:endParaRPr>
          </a:p>
        </p:txBody>
      </p:sp>
      <p:pic>
        <p:nvPicPr>
          <p:cNvPr id="236" name="Picture 4" descr="MCj04315630000[1]"/>
          <p:cNvPicPr/>
          <p:nvPr/>
        </p:nvPicPr>
        <p:blipFill>
          <a:blip r:embed="rId1"/>
          <a:stretch/>
        </p:blipFill>
        <p:spPr>
          <a:xfrm>
            <a:off x="3657600" y="4343400"/>
            <a:ext cx="19051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Effects in the brai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affeine is an adenosine receptor antagonis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denosine is a neuromodulator that acts as a depressant on other NT systems and may induce sleep (causes sedation when adenosine binds to its receptors)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denosine stimulates GABA releas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Blocking adenosine R’s leads to stimulant action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affeine inhibits adenosine =&gt; disinhibiting DA release in striatum reward pathway (normally, adenosine facilitates GABA; GABA inhibits DA release in this pathway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Century Gothic"/>
              </a:rPr>
              <a:t>Other Effects</a:t>
            </a: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affeine is a mild stimulan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sitizes animals to cocain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igh correlation of caffeine use and use of alcohol and nicotin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ference for caffeine seems to be genetically determin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affeine does NOT sober up a drunk pers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Dependence and Withdrawal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Physical Dependence on caffeine does occu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olerance to caffeine does occu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Withdrawal effects include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Headach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Drowsiness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atigu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Negative mood stat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ometimes even seen in those who ingest less than 1 cup per day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4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4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4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Health Effect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ffeine increases adrenaline in stressful circumstances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o toxic effects to body shown solely to moderate doses caffein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o known long-term damage to brain and other organ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ffeine increases urinary excretion of calcium and inhibits calcium absorption in elderly, so may increase osteoporosis and bone fracture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n lead to dehydration in athletes.  May slightly enhance athletic performance and delay fatigu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Health Effect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4-5 cups coffee correlated with onset of panic attacks in people with panic disorde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ffeinism” from high doses (1000 mg) can result in nervousness, anxiety, twitching, heart palpitations and arrhythmia, stomach upset, nausea, diarrhea, profound insomnia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ethal dose is around 5 to 10 </a:t>
            </a: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grams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, but lower for children (around 800 mg for 50 lb child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Protective Health Effects ?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Moderate caffeine use may help protect against some types of cancer (maybe by enhancing DNA repair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nti-inflammatory effects maybe related to effects on gut microbiome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http://archinte.jamanetwork.com/article.aspx?articleid=1105943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Protective effect for Alzheimer’s and Parkinson’s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Maybe protects against brain ischemia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affeine and Pregnancy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High doses associated with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Miscarriage (more than 6 cups coffee daily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Reduced body weight of baby (3-4 + cups coffee daily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Premature labor ?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Effects somewhat unclear, depend on dosag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affeine consumption associated with decreased chance of becoming pregnan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Newborn does not have enzymes in liver to break down caffeine, so breastfeeding mom should avoid it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Other Point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ffeine can be an effective treatment for migraine headache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ea may have a protective effect for heart attacks, and may decrease stress response to stressful event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ne component of chocolate is similar to anandamide (binds to THC receptor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Other Point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obusta coffee beans (grown in Africa) have more caffeine than Arabica beans (grown in S. America and Middle East).  Robusta beans are also usually cheape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ark roasted coffee beans have less caffeine than lighter roasted one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amount of caffeine in a cup of coffee and an espresso are about the sam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Energy drink story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http://www.cbsnews.com/8301-204_162-57550247/fda-investigating-13-deaths-tied-to-5-hour-energy/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http://www.youtube.com/watch?v=NkBymaNJsaY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Introduction to Caffein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affeine is one of the xanthines (family of stimulant compounds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ther xanthines are theobromine in chocolate and theophylline in tea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Half-life of caffeine is 3-7 hour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mokers eliminate caffeine 100% faster than non-smoker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an you be Addicted to Caffeine?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Had times when you ended up drinking more, or longer, than you intended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More than once wanted to cut down or stop drinking, or tried to, but couldn’t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Spent a lot of time drinking? Or being sick or getting over other aftereffects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Wanted a drink so badly you couldn’t think of anything else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Found that drinking often interfered with taking care of your home or family? Or caused job troubles? Or school problems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Continued to drink even though it was causing trouble with your family or friends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Given up or cut back on activities that were important or interesting to you, or gave you pleasure, in order to drink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More than once gotten into situations while or after drinking that increased your chances of getting hurt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Continued to drink even though it was making you feel anxious or adding to another health problem? 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Had to drink much more than you once did to get the effect you want? Or found that your usual number of drinks had much less effect than before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Found that when the effects of caffeine were wearing off, you had withdrawal symptoms, such as headache, drowsiness, fatigue, bad mood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Amount Caffeine in:</a:t>
            </a:r>
            <a:br>
              <a:rPr sz="4200"/>
            </a:br>
            <a:r>
              <a:rPr b="0" lang="en-US" sz="2000" spc="-1" strike="noStrike">
                <a:solidFill>
                  <a:srgbClr val="ebebeb"/>
                </a:solidFill>
                <a:latin typeface="Century Gothic"/>
              </a:rPr>
              <a:t>Note – levels for next 2 slides vary depending on exact type, and depending on source consulted</a:t>
            </a:r>
            <a:endParaRPr b="0" lang="en-US" sz="2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offee – 100 mg (range 50-150 mg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ea – 50 mg (range 25-90 mg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ocoa/chocolate milk – 5 m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1 oz milk chocolate – 6 m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1 oz dark chocolate – 20 m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affeine Content in Various Starbucks Drink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https://www.caffeineinformer.com/the-complete-guide-to-starbucks-caffei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Amount Caffeine in: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Vivarin – 200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Red Bull – 80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Mountain Dew – 55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Mellow Yellow – 51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Diet Coke – 40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Sunkist Orange – 40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Coke – 34.5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Regular and diet Dr. Pepper – 41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Pepsi and diet Pepsi – 30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7-up and Sprite – 0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Excedrin – 65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Midol – 32.4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5-hour energy – 200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Acute Effect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eople report feeling more alert and confiden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97240" indent="-5972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t induces a favorable mood stat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97240" indent="-5972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t enhances wakefulness, therefore, it can overcome fatigue, sleepiness, boredom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97240" indent="-5972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t can relieve headache pai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97240" indent="-5972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t increases sleep latency, decreases total sleep tim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97240" indent="-5972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verted U effect, becomes aversive at high dos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97240" indent="-5972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any individual differences in sensitivity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More info about Caffeine’s effect on Sleep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https://www.ncbi.nlm.nih.gov/pmc/articles/PMC3805807/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400 mg given 0, 3, or 6 hrs before bed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Decreased total sleep tim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Increased sleep latency (time to fall asleep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Decreased stage 1, 2, and SW sleep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t 6 hrs before bed, caffeine decreased sleep by more than one hou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Acute Effect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Dilates peripheral blood vessel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onstricts cerebral blood vessel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Increases heart rate, body temp, and Blood Pressur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Dilates bronchial passageway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affeine levels peak in bloodstream after an hou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Elderly, infants, and women in late pregnancy or on oral contraceptives show slower elimination of caffein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affeine in the Body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aken by mouth, absorbed into blood thru stomach lining,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mall intestin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, and large intestin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dose takes full effect within 30-60 mi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venly distributed thru body, metabolized by liver, excreted through kidney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20-03-03T16:24:04Z</dcterms:modified>
  <cp:revision>72</cp:revision>
  <dc:subject/>
  <dc:title>How do organisms adapt to change?</dc:title>
</cp:coreProperties>
</file>