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1CAD-7BEC-45A4-8018-6D0DD491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FA15-6105-4E4D-A296-5002180E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3004-9927-43C3-93C9-116C9C91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AACED-C8D9-4E39-9122-DB2A3761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4F76-CB09-4D51-8144-049BFCF5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BBCB-4A5C-4364-9F3C-E993BC4D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0C8A-ED1B-435D-A4AC-54604DA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2DAC-D558-4C5E-B24D-29BD0127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F975-BA69-4CF3-B0E2-B6E9ABC0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80FB-FEB6-4D51-9330-6D14BF8F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BA1C-D93D-4B4D-8C64-4857A907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259A-E26C-41CA-8E29-2D37FB6B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7F7E-7EEB-42C4-BD42-7DE43112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053E-A70C-4189-9210-965E751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5B25-B70F-443F-81AA-D5EE58C3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EE8A-71A6-4CAB-8C0C-9A7C2D05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A3E1-8461-4635-A49B-1B327B81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B4C2-BD3B-479E-BED2-6365F3CA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D0EFA-134C-4C0C-8BAE-4055C0FD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3F64-0F88-49DD-977E-F1A9C7A3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7F8A-9103-4028-ABBA-C697995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2425-1DDD-440E-A0A0-5B9C7822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B1DB-15F1-44F5-A057-DE7A4A03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E4A7-00A3-4FEF-A2B7-8DCE01A6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11BE-3E78-41D3-A0BA-06F7D90232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E650-041F-49F2-969B-84F3380A8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2B7w4Z3uOI&amp;feature=fvwre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FWUmYs5Ro" TargetMode="External"/><Relationship Id="rId2" Type="http://schemas.openxmlformats.org/officeDocument/2006/relationships/hyperlink" Target="http://www.youtube.com/watch?v=HqkqjQzR6W0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b2B7w4Z3uOI&amp;feature=fvwr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youtube.com/watch?v=v6uBkJSbQO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5, 736 people in Alabama died from drug overdoses, according to the Centers for Disease Control and Prevention, the governor's office sa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36 deaths, a total of 282 were caused by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52,404 people died in 2015 from drug overdoses in the United States. Sixty-three percent of the deaths - 33,091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information on the opioid cri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kephal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a-End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68FWUmYs5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youtube.com/watch?v=HqkqjQzR6W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3-05T15:46:33Z</dcterms:modified>
  <cp:revision>72</cp:revision>
  <dc:subject/>
  <dc:title>How do organisms adapt to change?</dc:title>
</cp:coreProperties>
</file>