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B7790-E458-4CF2-85F9-2CBD2587E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6C678-CFC2-4AFA-941D-7B38FB18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023E3-726F-4F3B-9E86-287A709DA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3150A-0F95-4DCB-873E-D152DD447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9A90-26F4-4A98-ADD2-5C69CA3E5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E65D-13A9-458E-939B-DD248E58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E489-765A-4046-A5AF-15FC7E35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E46DB-2AE0-4550-8115-B540E758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402A-F892-4458-A833-78468797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2798-EF52-4FD0-AFAD-676A68DB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0C14-6E67-473D-8706-40893227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2458E-C410-484F-BB09-DDC8C715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FE7A-F5EF-4FB2-A308-D24A0D9C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A8EB-362A-4A5B-9E45-7C7A42A1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9222-98E1-44F7-8263-0EBD3E17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0109-B531-4270-8093-A156C6317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F34A6-0502-45E4-8FC5-0CC805738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0B43B-1B73-4791-A4DD-D8485A63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112E3-219E-4E48-8A00-0F857D27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AD401-956E-444B-B1FF-BB1E05A4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17511-1332-4393-AE94-AC8E18DC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06AAF-5549-4F2A-A3A0-25FBC067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F09E9-8B05-4BFC-8B43-7C9CF83D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D00D4-045E-4C5E-9B08-C9162042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EF81-98EE-4C0B-AB65-79E3EDB953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7327-6580-4FCC-9650-D39BECDCA0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2B7w4Z3uOI&amp;feature=fvwrel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68FWUmYs5Ro" TargetMode="External"/><Relationship Id="rId2" Type="http://schemas.openxmlformats.org/officeDocument/2006/relationships/hyperlink" Target="http://www.youtube.com/watch?v=HqkqjQzR6W0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Opiate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tion at the neuronal lev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nds to endorphin/enkephalin (endogenous opioid) recepto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 Opioid Receptor subtypes (all metabotropic)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59040" indent="-5792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u – strongest analgesia, pleasurable effects, respiratory depres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59040" indent="-5792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lta – similar effects to above, also regulates effects on breathing and blood pressu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59040" indent="-5792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appa – modest analgesia, constipation, pinpoint pupils, aversive effec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NAc, reduce GABA inhibition on DA neurons, results in net exci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piate Antagoni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aloxone (Narcan)– used to counteract effects of heroin overdo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altrexone (Trexan) – lasts longer, can block heroin’s effects, may produce slight dysphori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se drugs bind to the Mu receptor, but then elicit no change in cellular functioning.  They block access of both endogenous and exogenous ligands, even those administered after antagonis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olera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intermittent use, little tolerance develop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repeated use, tolerance develops rapidly, especially to euphoric and analgesic effec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se increase from 50 to 500 mg can occur in as short as 10 day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ever, very little tolerance develops to pinpoint pupils and constipating effec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ithdraw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ot life threatening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atering eyes, runny nose, yawn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ausea, vomiting, diarrhe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ooseflesh, tremors, chill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ever, sweating, pant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xiety, restlessness, dysphor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rainspotting clip – watch first minute,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Warning – bad languag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www.youtube.com/watch?v=b2B7w4Z3uOI&amp;feature=fvwr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tracted abstinence syndrom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an persist up to 6 months, depression, craving, anxiety, decreased self-esteem, abnormal response to stressful situation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4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4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2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ealth Effec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ute effect – coma and death from respiratory depression due to overdo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ronic use results in few direct negative health effe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mpote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stip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creased Cancer risk 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ppressed immune func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algesia can conceal early signs of illnes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direct effects from lifestyle include malnutrition, infection at injection sites, increased risk of HI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so unpredictable composition of street dru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piates and Pregnanc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creased fetal growth and increased risk of intrauterine fetal dea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rious indices of physical and intellectual development delayed or impair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reased risk of ADH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onatal abstinence syndrome (withdrawal, feeding problems, and slower weight gai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founded by other drug use, lifesty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eat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loxone used for OD.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other Trainspotting clip- same Warning as before, plus needle shot!  If you have a youtube account, click on Trainspotting scene 11 “A visit to Mother Superior” – it explains mor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ttp://www.youtube.com/watch?v=v6uBkJSbQO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ltrexo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thado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A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ong-acting methado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uprenorphin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“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ld Turkey”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toxification without medic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iginally came from opiate withdrawal – the chills and goose bumps that go along with 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thado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ynthetic narco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s same analgesic and sedative effects as hero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t lasts much longer than heroin (12-24 hrs compared to 2-3 hr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’ll talk about more in treatment chap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prenorph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de names Suboxone, Buprenex, Subutex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ly mildly addicti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tial agon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nds to all 3 opioid receptors, but with lower efficacy, so there is ceiling to effe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vents other opiate drugs from bind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s a greater safety profile than full agonists b/c less likely to cause respiratory depre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oman God of Dreams, Morpheus below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2190600" y="3581280"/>
            <a:ext cx="47628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Prescription Opia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.g. OxyContin (oxycodone), propoxyphene (Darvon), Percodan (aspirin and oxycodone), hydromorphone (Dilaudid), hydrocodone (Vicodin), meperidine (Demerol), Methadone, fentanyl (Sublimaz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xyContin originally thought to be safe from abuse b/c of oral administration and it is absorbed slowly over 12 h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owever, if tablets were crushed and swallowed, inhaled, or injected, effect was similar to heroin.  This is no longer tru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on Problem, esp. in our Are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ople get addicted to prescription opiates, and then progress to heroin b/c it may be cheaper and easier to obtain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roin frequently mixed with additives/contaminants.  Can’t predict what you are getting.  Can lead to overdo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injecting heroin, chances of contracting Hepatitis C and HIV are greatly increas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me Statistic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 2015, 736 people in Alabama died from drug overdoses, according to the Centers for Disease Control and Prevention, the governor's office said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f those 736 deaths, a total of 282 were caused by opioids, according to a Kaiser Family Foundation review of CDC dat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CDC said 52,404 people died in 2015 from drug overdoses in the United States. Sixty-three percent of the deaths - 33,091 - involved an opioid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ttps://www.drugabuse.gov/drugs-abuse/opioids/opioid-summaries-by-state/alabama-opioid-summar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ttp://www.al.com/business/index.ssf/2017/06/alabama_narcan_naloxone.htm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ome information on the opioid crisi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ttps://www.youtube.com/watch?v=Nf9NspiAfB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ttps://www.dea.gov/press-releases/2019/06/21/alabama-pill-mill-doctor-pleads-guilty-illegally-dispensing-prescrip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Endorphi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dogenous Morphine substances in the bra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kephali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ynorphi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ta-Endorphi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tural pain-reliev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ody contains receptors for all of these neurotransmit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duce pain sensations and also =&gt; calm by slowing breathing, decreasing BP and motor activ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me Background on Opia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ioid = endogenous chemicals (endorphin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iate = exogenously administered drug derived from/related to opium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phine and Codeine are derived from the opium popp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roin is a synthetic morphine derivative (2 acetyl groups were added onto the morphine molecul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me Histo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ium has been used for thousands of years to produce euphoria, analgesia, sleep, and relief from diarrhea and coug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www.youtube.com/watch?v=68FWUmYs5R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udanum – opium and alcohol, used in Patent medicines.  Watch first 2 min belo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http://www.youtube.com/watch?v=HqkqjQzR6W0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re Histo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rly 1800s – morphine isolated from opiu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853 Alexander Wood invented hypodermic syrin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roin originally introduced as non-addicting substitute for codeine by Bayer company.  Bayer’s scientists added an extra chemical group on morphine to make it more fat-soluble, so it could enter brain fast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rph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tremely effective analges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cause it is not as lipid soluble as heroin, the rush is not as intense as that of hero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roin enters the brain rapidly and is then converted to morphin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ute Effects of Morph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alges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laxed euphor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upilary constriction (pinpoint pupil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ppression of cough reflex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d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duced apprehen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iratory depre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tip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ften nausea and vomiting with initial use(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ute Effects of Opiate Drug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ush – intense pleasure, only happens when drug reaches brain quickly (mostly associated with heroi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igh – feeling of general well-be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d – calm, contented, detached, escape from rea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n feel pain, but don’t c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Trench, Lynne S.</cp:lastModifiedBy>
  <dcterms:modified xsi:type="dcterms:W3CDTF">2020-03-05T15:46:33Z</dcterms:modified>
  <cp:revision>72</cp:revision>
  <dc:subject/>
  <dc:title>How do organisms adapt to change?</dc:title>
</cp:coreProperties>
</file>