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E462-CA72-44CE-BF50-D5212CD2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9244-2CBF-4BED-8108-7C15332E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2DE9-D9D3-466D-BABE-E4A3E363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51CF8-C10A-489D-AF29-F7004458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C667-DBE5-42FD-948A-899D24C8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6AD5-9ACC-4115-A66A-EF3DFC7B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9D09-9275-4CAC-B9F0-69193C1D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3733-FECF-46A2-9EE6-D339C927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E710-9D46-415D-9B84-7335C719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DE67-B094-4674-8031-6719BEC2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159B-5449-40EB-99A2-B1691B42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F2826-F10A-43EB-8AAF-2720CA9C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3BDA-15E8-4374-86E3-38D3E383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0CE7-2D36-4E05-820A-3082E1FB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8560-BF29-463A-BC3D-ECBCA9B8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31A9-B411-45F7-AE04-7FD5CBB0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62DE-F0EF-49C8-A130-18DD8AB0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EAB83-1DD4-458F-9042-FD7BE04E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A8183-A38C-4017-8A76-D4BD6120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9AB3D-B4E2-4A75-89C6-0B1B7322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CFC7-1ECA-478F-BD8F-4C099706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ADED3-6C57-476C-8ADA-6C6452E2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A3FCD-677D-476D-B412-2EA5CF36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D698-DAB6-4859-9F8C-4CC9566B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0853-E292-4031-A84E-63DB946CBE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1DB4-1B12-4948-83A8-3995B5E4E2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2B7w4Z3uOI&amp;feature=fvwre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FWUmYs5Ro" TargetMode="External"/><Relationship Id="rId2" Type="http://schemas.openxmlformats.org/officeDocument/2006/relationships/hyperlink" Target="http://www.youtube.com/watch?v=HqkqjQzR6W0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Opiat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on at the neuronal lev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endorphin/enkephalin (endogenous opioid) recep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Opioid Receptor subtypes (all metabotropic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 – strongest analgesia, pleasurable effects, respiratory depre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ta – similar effects to above, also regulates effects on breathing and blood press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appa – modest analgesia, constipation, pinpoint pupils, aversive eff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NAc, reduce GABA inhibition on DA neurons, results in net exci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 Antagoni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oxone (Narcan)– used to counteract effects of heroin overd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trexone (Trexan) – lasts longer, can block heroin’s effects, may produce slight dysphor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drugs bind to the Mu receptor, but then elicit no change in cellular functioning.  They block access of both endogenous and exogenous ligands, even those administered after antagoni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le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intermittent use, little tolerance develop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repeated use, tolerance develops rapidly, especially to euphoric and analgesic effec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se increase from 50 to 500 mg can occur in as short as 1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ever, very little tolerance develops to pinpoint pupils and constipating effec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thdraw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life threaten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ering eyes, runny nose, yaw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, vomiting, diarrh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oseflesh, tremors, chi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er, sweating, pan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xiety, restlessness, dyspho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inspotting clip – watch first minute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arning – bad langu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b2B7w4Z3uOI&amp;feature=fvwr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tracted abstinence syndrom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n persist up to 6 months, depression, craving, anxiety, decreased self-esteem, abnormal response to stressful situ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alth Effe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ute effect – coma and death from respiratory depression due to overd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ronic use results in few direct negative health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ot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ed Cancer risk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ressed immune fu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algesia can conceal early signs of illnes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rect effects from lifestyle include malnutrition, infection at injection sites, increased risk of H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unpredictable composition of street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s and Pregna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reased fetal growth and increased risk of intrauterine fetal de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ous indices of physical and intellectual development delayed or impa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d risk of ADH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onatal abstinence syndrome (withdrawal, feeding problems, and slower weight ga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ounded by other drug use, lifesty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loxone used for OD.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other Trainspotting clip- same Warning as before, plus needle shot!  If you have a youtube account, click on Trainspotting scene 11 “A visit to Mother Superior” – it explains mo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ttp://www.youtube.com/watch?v=v6uBkJSbQO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ltrex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ad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ng-acting methad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prenorphi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d Turkey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oxification without medic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iginally came from opiate withdrawal – the chills and goose bumps that go along with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ad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tic narco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s same analgesic and sedative effects as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lasts much longer than heroin (12-24 hrs compared to 2-3 h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’ll talk about more in treatment chap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pren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e names Suboxone, Buprenex, Subute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mildly addi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al ag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all 3 opioid receptors, but with lower efficacy, so there is ceiling to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ents other opiate drugs from bi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s a greater safety profile than full agonists b/c less likely to cause 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oman God of Dreams, Morpheus below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190600" y="3581280"/>
            <a:ext cx="4762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Prescripti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OxyContin (oxycodone), propoxyphene (Darvon), Percodan (aspirin and oxycodone), hydromorphone (Dilaudid), hydrocodone (Vicodin), meperidine (Demerol), Methadone, fentanyl (Sublimaz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xyContin originally thought to be safe from abuse b/c of oral administration and it is absorbed slowly over 12 h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ever, if tablets were crushed and swallowed, inhaled, or injected, effect was similar to heroin.  This is no longer tr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 Problem, esp. in our A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get addicted to prescription opiates, and then progress to heroin b/c it may be cheaper and easier to obtai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frequently mixed with additives/contaminants.  Can’t predict what you are getting.  Can lead to overdo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injecting heroin, chances of contracting Hepatitis C and HIV are greatly increas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Statis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2015, 736 people in Alabama died from drug overdoses, according to the Centers for Disease Control and Prevention, the governor's office sai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those 736 deaths, a total of 282 were caused by opioids, according to a Kaiser Family Foundation review of CDC da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DC said 52,404 people died in 2015 from drug overdoses in the United States. Sixty-three percent of the deaths - 33,091 - involved an opioi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s://www.drugabuse.gov/drugs-abuse/opioids/opioid-summaries-by-state/alabama-opioid-summa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www.al.com/business/index.ssf/2017/06/alabama_narcan_naloxone.ht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me information on the opioid cri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s://www.youtube.com/watch?v=Nf9NspiAfB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s://www.dea.gov/press-releases/2019/06/21/alabama-pill-mill-doctor-pleads-guilty-illegally-dispensing-pr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Endorph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dogenous Morphine substances in the b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kephal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ynorph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ta-Endorph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ural pain-relie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dy contains receptors for all of these neurotransmit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 pain sensations and also =&gt; calm by slowing breathing, decreasing BP and motor activ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Background 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oid = endogenous chemicals (endorphi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ate = exogenously administered drug derived from/related to opiu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phine and Codeine are derived from the opium pop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is a synthetic morphine derivative (2 acetyl groups were added onto the morphine molecu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um has been used for thousands of years to produce euphoria, analgesia, sleep, and relief from diarrhea and coug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youtube.com/watch?v=68FWUmYs5R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udanum – opium and alcohol, used in Patent medicines.  Watch first 2 min be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youtube.com/watch?v=HqkqjQzR6W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rly 1800s – morphine isolated from opi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53 Alexander Wood invented hypodermic syri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originally introduced as non-addicting substitute for codeine by Bayer company.  Bayer’s scientists added an extra chemical group on morphine to make it more fat-soluble, so it could enter brain fas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remely effective analges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it is not as lipid soluble as heroin, the rush is not as intense as that of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enters the brain rapidly and is then converted to morph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alge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laxed eupho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pilary constriction (pinpoint pupi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ression of cough refl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d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d apprehen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en nausea and vomiting with initial use(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Opiat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sh – intense pleasure, only happens when drug reaches brain quickly (mostly associated with hero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 – feeling of general well-be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d – calm, contented, detached, escape from re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feel pain, but don’t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03-05T15:46:33Z</dcterms:modified>
  <cp:revision>72</cp:revision>
  <dc:subject/>
  <dc:title>How do organisms adapt to change?</dc:title>
</cp:coreProperties>
</file>