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3D7A-DE5C-4F7E-8982-7D4832B2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C91-4FE4-444D-8E09-A3EACE8F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073-217F-42BD-8E11-50471444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315F-0472-4F49-AFB2-52DB4BE8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90C1-3D00-4D4B-9DEC-660BABDC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668D-B58C-4329-B507-AE3ADA76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C472-8AB3-4EF1-8256-27786510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5219-E817-418E-86C1-68D6F380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67E7-BCD9-40D9-9BBD-CAE5139B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FC51-088F-4411-99B0-3A5E83C3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E186-A576-4786-9363-538E3A40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D539-CC7A-42F7-A76A-CE40168F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BA13-E79D-4914-95F2-190AA124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5D43-D8A7-42BE-91B1-0668129B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61AE-D6A2-480D-811E-2147A917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73DA-9553-46B7-87EC-D79C11F9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950E-9885-46DE-950E-20801F3C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F53-CD8E-4DB3-977C-1FBF252D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6D5-093D-4955-BE3B-5FBC2C1A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00F-0610-4EEC-9E0F-3B66D867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51F3-12AF-4951-8A9B-B59F7987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EF4-523F-4BCA-A3D8-AC4DC227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8FD3-9BFE-4A60-A6D3-B321791D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EE1-A9B9-4DEE-985D-677C7E51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5A67-0CB1-48A2-AEC5-8ABD9DD4B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4D67-B1EE-455A-93FC-C3C0F6F004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5duLMjaTL0U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eE_Ymzc1r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wwCkXz-gD0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Learning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.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i similar to the CS produce the C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ri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tion between two stimuli, especially if one is associated with the US and one is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-Order Conditioning (also called Higher Order Condition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S is associated with a US now C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ssociated with C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C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sults in a C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ob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r condi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al emotional responses- emotional reactions are often learned through Pavlovian conditio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ould phobias be a result of condition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tle Albert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5duLMjaTL0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ob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ing Phob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erconditio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 Cover J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atic Desensit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ditioned Taste Aver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this different than other forms of conditio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erant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ward Thornd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studied animal intellig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zzle Box” experi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w of Effe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 response is followed by a satisfying event, it will be repe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 response is followed by an annoying event, it will not be repe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ther words, behavior is a function of its conseque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ength of behavior depends on consequences it had in the pa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perant or Instrumental Learn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 operates on the environment =&gt; operant learning or operant condi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 (bx) is instrumental in producing consequences =&gt; instrumental learning or condi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"/>
          <p:cNvPicPr/>
          <p:nvPr/>
        </p:nvPicPr>
        <p:blipFill>
          <a:blip r:embed="rId1"/>
          <a:stretch/>
        </p:blipFill>
        <p:spPr>
          <a:xfrm>
            <a:off x="1371600" y="19044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perant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OpCond"/>
          <p:cNvPicPr/>
          <p:nvPr/>
        </p:nvPicPr>
        <p:blipFill>
          <a:blip r:embed="rId1"/>
          <a:stretch/>
        </p:blipFill>
        <p:spPr>
          <a:xfrm>
            <a:off x="685800" y="2057400"/>
            <a:ext cx="76960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"/>
          <p:cNvPicPr/>
          <p:nvPr/>
        </p:nvPicPr>
        <p:blipFill>
          <a:blip r:embed="rId1"/>
          <a:stretch/>
        </p:blipFill>
        <p:spPr>
          <a:xfrm>
            <a:off x="1600200" y="560520"/>
            <a:ext cx="624852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imulus following a response that increases the likelihood that the response will be repe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kinner 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ping - Reinforcement of successive approximations of a desired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imple forms of Learning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d responsiveness to repeated presentations of a nonthreatening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it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in responsiveness to repeated presentations of a threatening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reinfor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nately reinforcing; satisfy biological needs, e.g. food, water, 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reinfor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ome reinforcers through their repeated pairings with primary reinforc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sitive 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probability of behavior being repeated by administering a pleasant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rat presses lever in the Skinner box, it gets a pellet of f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child cleans room, mom gives him a h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gative 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probability of behavior being repeated by removing an aversive (unpleasant)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 presses lever in Skinner box to terminate sh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aspirin to get rid of annoying head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sitive Punish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Pun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probability of behavior being repeated by administering an aversive (unpleasant)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rat presses lever, he gets shoc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child stalls, he is scolded by pa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 and Punish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ative Punis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probability of behavior being repeated by removing a pleasant stimu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pigeon pecks wrong key, the light goes off and no food is available for 10 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pinching her sister, child gets a time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inforcement vs. Punish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1981080"/>
          <a:ext cx="8229600" cy="4542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98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response rate (likely to do agai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reases response rate (less likely to do agai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hing is added to sit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 Reinforc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 Punish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hing is taken away from sit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 reinforc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 Punish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s: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s it PR, NR, PP, or N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hockey game after high sticking, the player has to sit in the penalty box and can’t play for a period of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Ralphie swears, his Mom washes his mouth out with so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I get in my car and don’t put the seat belt on, there is an annoying beep until I put it on.  At that point the beeping sto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my kids get good grades, their grandma sends them mon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put up an umbrella so I won’t get w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he dog jumps on a visitor, the owner pushes it down and says “Bad dog!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the dog comes when the owner calls, the dog gets a tre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my son comes home past curfew, I take his video controllers away so he can’t play the next d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blems with Punishment, especially corpor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n’t teach proper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nishment may be rewarding (may do behavior to get atten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lead to fear, anger, aggression, im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hedules of Reinforc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often should a reinforcer be giv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ous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al reinfor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tio Schedules:</a:t>
            </a:r>
            <a:br>
              <a:rPr sz="44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Number of responses is importan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ed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ertain number of responses is done and that results in reinforc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rat presses the bar 3 times, it gets a pellet of food.  FR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 factory worker completes 7 widgets, he gets $5 added to his payche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ical or Pavlovian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an Pavlov was a Russian physiologist interested in the salivary refle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ould give dogs various types of food and see how much saliva they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realized the dogs were salivating well before they tasted the food, when researcher entered the room or when dog saw the bowl food was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tio Schedules:</a:t>
            </a:r>
            <a:br>
              <a:rPr sz="44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Number of responses is important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le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ariable number of responses is required for reinforcement, but it varies around some aver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at will be reinforced after anywhere between 1 and 10 responses, but on average 5.  VR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ing the button on a slot machine is reinforced by a payout after a variable number of pr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val Schedules: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sponse is reinforced after some amount of time has passe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ed 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sponse is reinforced after a certain amount of time has pa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a FI20” schedule, rat is reinforced for first response after 20 sec have pas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behavior of looking at the clock is reinforced only after 60 min (when class end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val Schedules: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sponse is reinforced after some amount of time has passe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le 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sponse is reinforced after a varying amount of time has pa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20” - Rat is reinforced for first response after 15”, 25”, 10”, 30”, but on average for first response after 2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’t go pick up your car (at repair shop) until some variable amount of time has passed.  Your calling behavior will be reinforced on a VI schedu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schedule of reinforcement are these examples of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eam has to keep running laps until the coach says they can stop.  The behavior of waiting for the coach to say stop is reinforced on a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 usually has between 3 and 20 math problems to do at night for homework, but usually it is around 15.  At that point he can watch T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doing the elliptical machine for 35 min, I can stop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Jenny folds 30 shirts, she can take a brea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le fishing, your behavior of watching a bobber on the lake is reinforced by seeing the bobber go down after some amount of 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m usually has to approach 6 customers before he makes a sa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y sells cars.  On average, she sells a car about every 4 day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servational Lear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behaviors are acquired or modified following exposure to others performing the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dura’s observational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he sh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youtube.com/watch?v=ZeE_Ymzc1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(Bobo Doll Experiment Vide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al learning of f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ical or Pavlovian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eutral stimulus is associated with a stimulus that reliably causes a response.  With enough pairings, the neutral stimulus will eventually bring about a respo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sic 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– elicits a response without prior training (foo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 – automatic response to US without prior training (saliv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 – originally neutral, after paired with US several times, it elicits a response (metronome or b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 – response to CS after training (salivation to metronome or b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2 Things to Remember About C.C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of 2 stimuli (CS and US) is independent of behavior of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e involved is often a reflex or relatively simple response, e.g. salivating, blinking, startle response, e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ical Conditi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ice Cl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lwwCkXz-gD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ed Emotional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e soundtrack 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quis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learning of a behavior; formation of association between conditioned and unconditioned stimu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i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ed stimulus is presented without the unconditioned stimulus – will result in inhibition of respo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ntaneous 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extinction, CS again produces CR, after the passage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0" y="30240"/>
            <a:ext cx="8991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Lynne Trench</cp:lastModifiedBy>
  <dcterms:modified xsi:type="dcterms:W3CDTF">2020-03-06T22:07:28Z</dcterms:modified>
  <cp:revision>48</cp:revision>
  <dc:subject/>
  <dc:title>How do organisms adapt to change?</dc:title>
</cp:coreProperties>
</file>