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60F1-4320-465C-9D30-9FC0EDF1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ACA6-AFF6-4F3C-BC6E-97D8C506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1EB1-7C36-433D-B6F9-7E549A70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2585-8A07-4CE2-A5CC-973BDF44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CDAC-4250-4275-923F-96D903CA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9CEF-513C-43BD-A808-819535D4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2C74-D6EA-480E-A976-8B477881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5335-3E32-4773-B1C5-D767B07A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0601-1513-4687-9C97-9FEFCA88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CA10-AB15-4BA7-8276-C4CE4891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6B14-D114-4FBF-A3BA-EBDBE35D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6CAB-543D-4FFF-A541-5B8FF62A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2076-4265-45C8-B131-12F53B3A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FC53-8EAF-4FD8-A434-95840901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89EC-8698-454B-BC9B-D70CB1DF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C49D-0910-4418-8C1A-F597A6C4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D43F-85B2-4ACB-9E7D-A5E995D0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3AEA-FE6B-4B37-94D9-4483D3E9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5D8B-83DA-411C-A0F5-A7F713D7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0F46-EEFE-4FC5-B754-308D02A2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6E1A-26C0-44E1-8D94-D34D64F6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6A6F-7967-4FE8-99CC-8153A5E9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ED08-5D6E-41B7-A86B-E82C6D79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2E1E-FCBC-4D1E-8446-B50445FC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373E-6E3E-4BBB-B14B-BCA34322E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ECC6-CCDA-4CF4-B173-7C1642896A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5duLMjaTL0U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eE_Ymzc1r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lwwCkXz-gD0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Learning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.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re 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uli similar to the CS produce the C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ri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iation between two stimuli, especially if one is associated with the US and one is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-Order Conditioning (also called Higher Order Condition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S is associated with a US now C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ssociated with C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C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sults in a C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ob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r condi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itional emotional responses- emotional reactions are often learned through Pavlovian conditio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could phobias be a result of condition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tle Albert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s://www.youtube.com/watch?v=5duLMjaTL0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ob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ing Phob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erconditio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y Cover J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atic Desensit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ditioned Taste Aver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s this different than other forms of conditio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perant Conditi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ward Thornd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studied animal intel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zzle Box” experi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Effec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a response is followed by a satisfying event, it will be repea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a response is followed by an annoying event, it will not be repea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ther words, behavior is a function of its conseque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ength of behavior depends on consequences it had in the pa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perant or Instrumental Learn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avior operates on the environment =&gt; operant learning or operant condi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avior (bx) is instrumental in producing consequences =&gt; instrumental learning or condi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"/>
          <p:cNvPicPr/>
          <p:nvPr/>
        </p:nvPicPr>
        <p:blipFill>
          <a:blip r:embed="rId1"/>
          <a:stretch/>
        </p:blipFill>
        <p:spPr>
          <a:xfrm>
            <a:off x="1371600" y="190440"/>
            <a:ext cx="6400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perant Conditi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OpCond"/>
          <p:cNvPicPr/>
          <p:nvPr/>
        </p:nvPicPr>
        <p:blipFill>
          <a:blip r:embed="rId1"/>
          <a:stretch/>
        </p:blipFill>
        <p:spPr>
          <a:xfrm>
            <a:off x="685800" y="2057400"/>
            <a:ext cx="76960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"/>
          <p:cNvPicPr/>
          <p:nvPr/>
        </p:nvPicPr>
        <p:blipFill>
          <a:blip r:embed="rId1"/>
          <a:stretch/>
        </p:blipFill>
        <p:spPr>
          <a:xfrm>
            <a:off x="1600200" y="560520"/>
            <a:ext cx="624852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infor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imulus following a response that increases the likelihood that the response will be repe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kinner B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ping - Reinforcement of successive approximations of a desired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imple forms of Learning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bit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d responsiveness to repeated presentations of a nonthreatening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sit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in responsiveness to repeated presentations of a threatening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infor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reinfor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nately reinforcing; satisfy biological needs, e.g. food, water, s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reinfor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ome reinforcers through their repeated pairings with primary reinforc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sitive Reinfor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probability of behavior being repeated by administering a pleasant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rat presses lever in the Skinner box, it gets a pellet of f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child cleans room, mom gives him a h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gative Reinfor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ative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probability of behavior being repeated by removing an aversive (unpleasant)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 presses lever in Skinner box to terminate sh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aspirin to get rid of annoying head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sitive Punish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Punis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s probability of behavior being repeated by administering an aversive (unpleasant)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rat presses lever, he gets shock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child stalls, he is scolded by pa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inforcement and Punish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ative Punis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s probability of behavior being repeated by removing a pleasant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pigeon pecks wrong key, the light goes off and no food is available for 10 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pinching her sister, child gets a time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inforcement vs. Punish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57200" y="1981080"/>
          <a:ext cx="8229600" cy="4542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98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s response rate (likely to do again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reases response rate (less likely to do again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thing is added to sit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 Reinforc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 Punish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thing is taken away from sit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 reinforc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 Punish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amples: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s it PR, NR, PP, or N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hockey game after high sticking, the player has to sit in the penalty box and can’t play for a period of ti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Ralphie swears, his Mom washes his mouth out with so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I get in my car and don’t put the seat belt on, there is an annoying beep until I put it on.  At that point the beeping sto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my kids get good grades, their grandma sends them mon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put up an umbrella so I won’t get w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the dog jumps on a visitor, the owner pushes it down and says “Bad dog!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the dog comes when the owner calls, the dog gets a tre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my son comes home past curfew, I take his video controllers away so he can’t play the next d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oblems with Punishment, especially corpora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c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n’t teach proper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nishment may be rewarding (may do behavior to get atten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lead to fear, anger, aggression, im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hedules of Reinfor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often should a reinforcer be giv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ous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al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tio Schedules:</a:t>
            </a:r>
            <a:br>
              <a:rPr sz="44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Number of responses is importan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xed R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ertain number of responses is done and that results in reinforc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 rat presses the bar 3 times, it gets a pellet of food.  F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 factory worker completes 7 widgets, he gets $5 added to his payche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ssical or Pavlovian Conditi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van Pavlov was a Russian physiologist interested in the salivary refle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ould give dogs various types of food and see how much saliva they p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ealized the dogs were salivating well before they tasted the food, when researcher entered the room or when dog saw the bowl food was 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tio Schedules:</a:t>
            </a:r>
            <a:br>
              <a:rPr sz="44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Number of responses is importan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ble R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variable number of responses is required for reinforcement, but it varies around some aver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at will be reinforced after anywhere between 1 and 10 responses, but on average 5.  VR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ing the button on a slot machine is reinforced by a payout after a variable number of pr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val Schedules: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sponse is reinforced after some amount of time has passe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xed 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sponse is reinforced after a certain amount of time has pa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a FI20” schedule, rat is reinforced for first response after 20 sec have pas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behavior of looking at the clock is reinforced only after 60 min (when class end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val Schedules: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sponse is reinforced after some amount of time has passe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ble 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sponse is reinforced after a varying amount of time has pa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20” - Rat is reinforced for first response after 15”, 25”, 10”, 30”, but on average for first response after 2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’t go pick up your car (at repair shop) until some variable amount of time has passed.  Your calling behavior will be reinforced on a VI schedu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schedule of reinforcement are these examples of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team has to keep running laps until the coach says they can stop.  The behavior of waiting for the coach to say stop is reinforced on a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hn usually has between 3 and 20 math problems to do at night for homework, but usually it is around 15.  At that point he can watch T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doing the elliptical machine for 35 min, I can stop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Jenny folds 30 shirts, she can take a brea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le fishing, your behavior of watching a bobber on the lake is reinforced by seeing the bobber go down after some amount of ti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m usually has to approach 6 customers before he makes a sa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y sells cars.  On average, she sells a car about every 4 day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servational Lear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behaviors are acquired or modified following exposure to others performing the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dura’s observational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id he sh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youtube.com/watch?v=ZeE_Ymzc1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(Bobo Doll Experiment Vide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al learning of f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ssical or Pavlovian Conditi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eutral stimulus is associated with a stimulus that reliably causes a response.  With enough pairings, the neutral stimulus will eventually bring about a respo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sic 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 – elicits a response without prior training (foo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 – automatic response to US without prior training (saliv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 – originally neutral, after paired with US several times, it elicits a response (metronome or be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 – response to CS after training (salivation to metronome or be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 Things to Remember About C.C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 of 2 stimuli (CS and US) is independent of behavior of 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nse involved is often a reflex or relatively simple response, e.g. salivating, blinking, startle response, emo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ssical Conditi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ice Cl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s://www.youtube.com/watch?v=lwwCkXz-gD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ed Emotional Respon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ie soundtrack 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quisi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 learning of a behavior; formation of association between conditioned and unconditioned stimu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i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itioned stimulus is presented without the unconditioned stimulus – will result in inhibition of respo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ntaneous Reco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extinction, CS again produces CR, after the passage o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0" y="30240"/>
            <a:ext cx="8991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Lynne Trench</cp:lastModifiedBy>
  <dcterms:modified xsi:type="dcterms:W3CDTF">2020-03-06T22:07:28Z</dcterms:modified>
  <cp:revision>48</cp:revision>
  <dc:subject/>
  <dc:title>How do organisms adapt to change?</dc:title>
</cp:coreProperties>
</file>