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6137-CFD4-4669-BD65-156A5023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8C34-E378-40BB-932C-029CFE3E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F21-846C-4407-95E9-7AE408F0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27CE-82A9-47D3-B2B2-76EFB8B2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0F41-DA17-47E1-8AD7-6879E665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CADA-23CC-4104-AF2F-AB89AB6D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6127-40C2-4751-AC4C-96CA6448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4607-B161-4F9F-90F1-B2537346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0D72-971A-4F70-AC5F-AFB1417C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0BF7-22C6-4871-A563-0A7E1849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72A1-EDA9-4687-9E2D-4EFEF58D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A6F-256A-4F8B-A137-9FFA22BF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14C2-7842-499D-9B9F-D840D51A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F3F4-3EC6-4597-BD61-85293156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6224-FA2F-4C89-9A7F-49EB44F9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2FFD-06BC-4248-AB8A-51FEFBA6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F675-398E-497E-8565-99DA6350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4B0-117B-4CE4-BE1A-44E54AC6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B50-19FC-4ABE-BBB7-66A6D00A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2AF9-6D25-4105-A7D2-6131F1DF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33D-BD6A-40A2-AFD6-D6963B43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CA0-09E6-4FB9-9BC0-4666B008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897E-33F0-401A-ACBB-24CE0A58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C23-F9C3-4DDE-B021-373AA278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D668-F50D-4A67-B2C7-4E6C4EF7C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9CA1-2807-4AB6-A571-71DCE2343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5duLMjaTL0U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eE_Ymzc1r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wwCkXz-gD0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Learning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.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i similar to the CS produce the C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ri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tion between two stimuli, especially if one is associated with the US and one is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-Order Conditioning (also called Higher Order Condition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S is associated with a US now C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ssociated with C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C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sults in a C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b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r condi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al emotional responses- emotional reactions are often learned through Pavlovian conditio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ould phobias be a result of condi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tle Albert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5duLMjaTL0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b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ing Phob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erconditio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 Cover J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atic Desensit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ditioned Taste Aver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this different than other forms of conditio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erant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ward Thorn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studied animal intel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zzle Box” experi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Effe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response is followed by a satisfying event, it will be repe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response is followed by an annoying event, it will not be repe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ther words, behavior is a function of its conseque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ength of behavior depends on consequences it had in the p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perant or Instrumental Learn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 operates on the environment =&gt; operant learning or operant condi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 (bx) is instrumental in producing consequences =&gt; instrumental learning or condi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1371600" y="19044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erant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OpCond"/>
          <p:cNvPicPr/>
          <p:nvPr/>
        </p:nvPicPr>
        <p:blipFill>
          <a:blip r:embed="rId1"/>
          <a:stretch/>
        </p:blipFill>
        <p:spPr>
          <a:xfrm>
            <a:off x="685800" y="2057400"/>
            <a:ext cx="76960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"/>
          <p:cNvPicPr/>
          <p:nvPr/>
        </p:nvPicPr>
        <p:blipFill>
          <a:blip r:embed="rId1"/>
          <a:stretch/>
        </p:blipFill>
        <p:spPr>
          <a:xfrm>
            <a:off x="1600200" y="560520"/>
            <a:ext cx="624852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imulus following a response that increases the likelihood that the response will be repe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kinner 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ing - Reinforcement of successive approximations of a desired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mple forms of Learning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d responsiveness to repeated presentations of a nonthreatening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it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in responsiveness to repeated presentations of a threatening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reinfor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nately reinforcing; satisfy biological needs, e.g. food, water, 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reinfor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ome reinforcers through their repeated pairings with primary reinfor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sitive 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probability of behavior being repeated by administering a pleasant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rat presses lever in the Skinner box, it gets a pellet of f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child cleans room, mom gives him a h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gative 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probability of behavior being repeated by removing an aversive (unpleasant)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 presses lever in Skinner box to terminate sh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aspirin to get rid of annoying head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sitive Punish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Pun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probability of behavior being repeated by administering an aversive (unpleasant)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rat presses lever, he gets shoc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child stalls, he is scolded by pa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 and Punish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 Pun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probability of behavior being repeated by removing a pleasant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pigeon pecks wrong key, the light goes off and no food is available for 10 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pinching her sister, child gets a time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 vs. Punish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1981080"/>
          <a:ext cx="8229600" cy="4542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9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response rate (likely to do agai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reases response rate (less likely to do agai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hing is added to sit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 Reinforc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 Punish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hing is taken away from sit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 reinforc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 Punish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s: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s it PR, NR, PP, or N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hockey game after high sticking, the player has to sit in the penalty box and can’t play for a period of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Ralphie swears, his Mom washes his mouth out with so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I get in my car and don’t put the seat belt on, there is an annoying beep until I put it on.  At that point the beeping sto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my kids get good grades, their grandma sends them mon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put up an umbrella so I won’t get w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he dog jumps on a visitor, the owner pushes it down and says “Bad dog!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he dog comes when the owner calls, the dog gets a tre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my son comes home past curfew, I take his video controllers away so he can’t play the next d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blems with Punishment, especially corpor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n’t teach proper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nishment may be rewarding (may do behavior to get atten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lead to fear, anger, aggression, im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hedules of 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often should a reinforcer be giv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ous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al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tio Schedules:</a:t>
            </a:r>
            <a:br>
              <a:rPr sz="44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Number of responses is importan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ed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rtain number of responses is done and that results in reinforc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rat presses the bar 3 times, it gets a pellet of food.  F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factory worker completes 7 widgets, he gets $5 added to his payche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ical or Pavlovian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an Pavlov was a Russian physiologist interested in the salivary refle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uld give dogs various types of food and see how much saliva they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alized the dogs were salivating well before they tasted the food, when researcher entered the room or when dog saw the bowl food was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tio Schedules:</a:t>
            </a:r>
            <a:br>
              <a:rPr sz="44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Number of responses is importan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le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ariable number of responses is required for reinforcement, but it varies around some aver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at will be reinforced after anywhere between 1 and 10 responses, but on average 5.  VR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ing the button on a slot machine is reinforced by a payout after a variable number of pr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val Schedules: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sponse is reinforced after some amount of time has passe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ed 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ponse is reinforced after a certain amount of time has pa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a FI20” schedule, rat is reinforced for first response after 20 sec have pas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behavior of looking at the clock is reinforced only after 60 min (when class end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val Schedules: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sponse is reinforced after some amount of time has passe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le 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ponse is reinforced after a varying amount of time has pa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20” - Rat is reinforced for first response after 15”, 25”, 10”, 30”, but on average for first response after 2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’t go pick up your car (at repair shop) until some variable amount of time has passed.  Your calling behavior will be reinforced on a VI schedu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schedule of reinforcement are these examples of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eam has to keep running laps until the coach says they can stop.  The behavior of waiting for the coach to say stop is reinforced on a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 usually has between 3 and 20 math problems to do at night for homework, but usually it is around 15.  At that point he can watch T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doing the elliptical machine for 35 min, I can stop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Jenny folds 30 shirts, she can take a brea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le fishing, your behavior of watching a bobber on the lake is reinforced by seeing the bobber go down after some amount of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m usually has to approach 6 customers before he makes a sa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y sells cars.  On average, she sells a car about every 4 day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servational Lear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behaviors are acquired or modified following exposure to others performing the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dura’s observational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he sh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youtube.com/watch?v=ZeE_Ymzc1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(Bobo Doll Experiment Vide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al learning of f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ical or Pavlovian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utral stimulus is associated with a stimulus that reliably causes a response.  With enough pairings, the neutral stimulus will eventually bring about a respo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sic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– elicits a response without prior training (fo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 – automatic response to US without prior training (saliv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 – originally neutral, after paired with US several times, it elicits a response (metronome or b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 – response to CS after training (salivation to metronome or b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 Things to Remember About C.C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of 2 stimuli (CS and US) is independent of behavior of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e involved is often a reflex or relatively simple response, e.g. salivating, blinking, startle response, e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ical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ice Cl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lwwCkXz-gD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ed Emotional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e soundtrack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quis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learning of a behavior; formation of association between conditioned and unconditioned stimu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i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ed stimulus is presented without the unconditioned stimulus – will result in inhibition of respo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ntaneous 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extinction, CS again produces CR, after the passage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0" y="30240"/>
            <a:ext cx="8991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Lynne Trench</cp:lastModifiedBy>
  <dcterms:modified xsi:type="dcterms:W3CDTF">2020-03-06T22:07:28Z</dcterms:modified>
  <cp:revision>48</cp:revision>
  <dc:subject/>
  <dc:title>How do organisms adapt to change?</dc:title>
</cp:coreProperties>
</file>