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61DB-B4D1-40BF-B642-DD46DDBE7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38A0-D1F4-44E6-9A07-1577FAC4050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6" name="PlaceHolder 1"/>
          <p:cNvSpPr>
            <a:spLocks noGrp="1"/>
          </p:cNvSpPr>
          <p:nvPr>
            <p:ph type="sldImg"/>
          </p:nvPr>
        </p:nvSpPr>
        <p:spPr>
          <a:xfrm>
            <a:off x="1150920" y="692280"/>
            <a:ext cx="4556160" cy="341604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F280-560F-46C6-A3B0-56FA73818DE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DF3AF0B-3C1C-4D55-97B8-657673D35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4414A71-03E3-40E4-8965-D069BC97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D897AC7-6DD9-40E3-B916-D38BAD67C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00F8264-2302-41F3-8BCF-BD7A5A07A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14D1A-D78B-4107-A016-AF6844A91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F206A-FD9E-4781-8065-45B1D7A8A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AC53D-7771-453A-87AC-D984ACCFC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4E055-C83A-4BA0-9DC9-A0922F48B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1F6A5-8833-4022-A576-9055D8202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B375B-AEA8-46C0-8F5E-D4198B869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C6AB9-E1D7-4184-81FC-DF36E606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D0957F-0A41-4040-A08B-D8E80453D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01A2-2F27-45AF-B14E-CFB658B7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689D8-8805-4198-B733-74106C9D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F8B90-B143-42BB-8B35-75B69B315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D276F-9234-4492-BCDB-A8C035505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F0A44-55BC-400C-B0C9-0BD42AC1C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A04B637-6788-4433-B885-04E3027B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90FECB-77A5-49CA-922A-C3E397BA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4EDFBC-E471-4428-BB33-F94D3BFD7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AEC52D-9247-49E4-B17C-57469D8E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B09C9E-E086-43AF-A595-5BA653D4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2FD9BD-426C-44F5-A087-66AA568B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5605999-C63E-4710-B3D9-EC7D91BE2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075F-CC9B-48C7-9DA1-E4473A80756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C756-85C5-44C4-8BA2-74A6431C60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opiate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ma-hydroxybutyrat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vailable for prescription (Xyrem) for treating narcoleps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occur easily</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and withdrawal will develop with repeated us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and Rohypnol) can be used as “date-rape drugs” and added to drinks. GHB sometimes has a salty tas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phenobarbit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bind to GABA</a:t>
            </a:r>
            <a:r>
              <a:rPr b="0" lang="en-US" sz="3200" spc="-1" strike="noStrike" baseline="-25000">
                <a:solidFill>
                  <a:srgbClr val="ffffff"/>
                </a:solidFill>
                <a:latin typeface="Garamond"/>
              </a:rPr>
              <a:t>A </a:t>
            </a:r>
            <a:r>
              <a:rPr b="0" lang="en-US" sz="3200" spc="-1" strike="noStrike">
                <a:solidFill>
                  <a:srgbClr val="ffffff"/>
                </a:solidFill>
                <a:latin typeface="Garamond"/>
              </a:rPr>
              <a:t>receptor and facilitate GABA binding.  Can also open Cloride channel in absence of GABA (accounts for increased toxicity over BZD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lerance does develop, but not much to respiratory depression.</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thdrawal – muscle twitching, tremors, weakness, dizziness, nausea, vomiting, insomnia to delirium, convulsions and even dea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had Nembutal in her system</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had Vesperax (2 barbs + 1 antihistami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popsugar.com/celebrity/How-Did-Jimi-Hendrix-Die-43956615</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Nembutal (pentobarbitone)</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OusADDs_3p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Michael Jackson</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ichael Jackson Death Ruled as Homicide, Fans Celebrate Michael Jackson's Birthday - ABC New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s included:</a:t>
            </a:r>
            <a:endParaRPr b="0" lang="en-US" sz="32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000" spc="-1" strike="noStrike">
                <a:solidFill>
                  <a:srgbClr val="ffffff"/>
                </a:solidFill>
                <a:latin typeface="Garamond"/>
              </a:rPr>
              <a:t>Propofol (Diprivan) – sedative (not Barb or BZD)</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orazepam – BDZ </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Valium -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Midazolam – short acting BDZ</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Lidocaine – local anesthetic</a:t>
            </a:r>
            <a:endParaRPr b="0" lang="en-US" sz="2000" spc="-1" strike="noStrike">
              <a:solidFill>
                <a:srgbClr val="ffffff"/>
              </a:solidFill>
              <a:latin typeface="Garamond"/>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Ephedrin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3-12T15:19:44Z</dcterms:modified>
  <cp:revision>109</cp:revision>
  <dc:subject/>
  <dc:title>How do organisms adapt to change?</dc:title>
</cp:coreProperties>
</file>