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4F3-1ECB-4405-BEB4-CFE89139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F0F-E532-4D0E-A686-FCD26110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7C9-F054-428A-85B7-DDC6E242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B5D-5403-4430-9E7E-0A69E9E6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48E7-AC56-4752-A3BD-D8710157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845F-04B7-4F8D-8C39-6379B6E6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822F-6545-43EB-A238-6A19C409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A02F-AA93-4AE1-8D2C-C71F3684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0CF5-D517-4598-89AC-6010AE31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E52B-16B5-48D7-85B2-BEBDDE0F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1D80-07D9-4BB1-8897-FEB0E272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2D8-D2D5-4222-BD6B-2A9D869F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724B-CF2A-442D-9BA3-C2FB40E6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5F42-0F78-4D06-B309-61464DE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F14B-8AD0-4131-BFA1-A73B1862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18E1-6A61-4A47-B045-CABB3914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E016-339F-425A-A86B-CD22E554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019-9EA6-4C1F-9438-FD6C1833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C92-DC59-43E6-9D4A-3ED0278A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A29-B88D-4A14-B3C2-840191E8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44E-BF1E-4F3B-9832-984871AC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8ED-BF03-408A-94F2-49DE66C3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BA9-52F7-4599-B634-5357B92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A0B-7732-4158-A68F-E5F92F1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3C6D-EE98-4CAD-A853-EE5ADB514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99C5-6A29-400D-BB10-0C0FA974698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s0Cr4Fl7b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1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ys0Cr4Fl7b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0-30T16:46:58Z</dcterms:modified>
  <cp:revision>74</cp:revision>
  <dc:subject/>
  <dc:title>How do organisms adapt to change?</dc:title>
</cp:coreProperties>
</file>