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122-02A7-436D-B99E-5A0B3340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A25-A961-4222-867B-809CE6A1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727-E642-49EF-8C43-357212C2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9D3-19A6-4525-BAEE-B9BD47D5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879E-A5A8-48C8-95FE-4361EEED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A6FA-7507-4B84-8336-EB011D18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20EA-1638-44A8-8E45-728212C3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3028-1134-4607-B5D7-89696557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9EC1-8D69-4990-82BE-2722DC77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7893-FBBD-44E3-8340-CAB8BDFF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0D2F-E69C-48B1-8039-F1F8FB2A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1C1-CC4A-41FF-BBE1-E91290AF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96C7-FD34-4FFA-B98A-D09931FD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6148-F149-4844-9707-21774DE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1144-1553-4440-9768-77E12141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818B-8C47-4008-9AF4-96166D11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B3A6-8FDE-4527-97C6-60BBD214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4E7-58AD-48F0-9F40-8D14F8AD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401-55A5-422F-9F6B-24353F05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950-5196-40D8-A47B-0192CDB2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81C-069B-4541-A376-1D551DFA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3FC-D0CA-4D81-A02A-18F2050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6DE-30F8-4309-9444-7A8F541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2AE-F258-41E0-A1BA-6088B8B4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22C3-692B-494B-9D6F-C12999F2E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E3F6-9367-4448-82A7-B236B40E554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s0Cr4Fl7b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ys0Cr4Fl7b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0-30T16:46:58Z</dcterms:modified>
  <cp:revision>74</cp:revision>
  <dc:subject/>
  <dc:title>How do organisms adapt to change?</dc:title>
</cp:coreProperties>
</file>