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A0A8C-9A67-48E3-B666-0D110016A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FF333-B8AA-44D7-82DC-BF431D249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A9CB6-6457-4D2D-8FDB-0277D9204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62749-20AE-4360-AFCA-E3822A062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278A5-4644-4D36-A581-8F3B5D9FB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17EC3-A439-4714-8B8E-8BBF9765B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D9840-0046-4D22-8025-8D27357B2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A6A44-ECB0-4A9D-8E07-5CFC91D42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89580-46F3-443D-A051-45D914DCF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F3C70-78A4-4EEA-AAF6-FA7A4D328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9524F-384E-412F-972F-F0B743651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A6AF7-30CA-4971-BFC6-B2345F28E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290DF-59C4-4BBB-82D5-8380D1E7C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244A1-E610-4E0D-8D74-472ED318D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A36E7-D003-4300-8DCA-BE2646D7D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77794-7B2D-4C9D-82C3-52BDD4A99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C1E176-1971-469E-B48B-7AD1762FD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CC70C-2249-447E-8F22-7DD525885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C082D-5B5A-4A4C-B911-6846CBE76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72ECD-70FA-47ED-B3CD-EC8C4BA93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A626C-C130-4B45-8EA6-289832D0F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E8B8D-948D-4AF6-89C8-1A53CE7C9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4FF73-6A60-4EF1-9344-9EFC98FA8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780B-60D5-4A7C-B0CB-49769EA8D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CD69-54BB-42BD-8AEA-207B763DFB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4F1E-875D-41BA-8E9C-4A144AC1AB34}"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s://www.youtube.com/watch?v=bWaFqw8XnpA" TargetMode="External"/><Relationship Id="rId2" Type="http://schemas.openxmlformats.org/officeDocument/2006/relationships/hyperlink" Target="https://www.everydayhealth.com/bipolar-disorder-pictures/famous-people-with-bipolar-disorder.aspx#Specific Phobia" TargetMode="External"/><Relationship Id="rId3" Type="http://schemas.openxmlformats.org/officeDocument/2006/relationships/hyperlink" Target="https://www.youtube.com/watch?v=mdKM8n7mwq0" TargetMode="External"/><Relationship Id="rId4" Type="http://schemas.openxmlformats.org/officeDocument/2006/relationships/hyperlink" Target="https://www.youtube.com/watch?v=xPeraafH5tM" TargetMode="External"/><Relationship Id="rId5" Type="http://schemas.openxmlformats.org/officeDocument/2006/relationships/hyperlink" Target="https://www.youtube.com/watch?v=oAK0FmZbsu8" TargetMode="External"/><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sychological Disorders and Their Treatment</a:t>
            </a:r>
            <a:endParaRPr b="0" lang="en-US" sz="40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pters 14 &amp; 1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orders that Emphasize Emotional States</a:t>
            </a:r>
            <a:endParaRPr b="0" lang="en-US" sz="4400" spc="-1" strike="noStrike">
              <a:solidFill>
                <a:srgbClr val="ffcc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emotions or moods go from being a normal part of daily living to being extreme enough to disrupt people’s ability to work, learn, and have fun, these are symptoms of psychological disord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nxiety Disorders</a:t>
            </a:r>
            <a:endParaRPr b="0" lang="en-US" sz="4400" spc="-1" strike="noStrike">
              <a:solidFill>
                <a:srgbClr val="ffcc00"/>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ized by excessive fear and anxiety in the absence of true dange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utonomic Nervous System is often aroused, leading to bodily symptoms such as sweating, rapid pulse, shallow breathing.</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in 4 Americans will have an anxiety disorder in their lifetime.  Women are more likely to have them than Men.</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5 types of Anxiety Disord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5 Types of Anxiety Disorders</a:t>
            </a:r>
            <a:endParaRPr b="0" lang="en-US" sz="4400" spc="-1" strike="noStrike">
              <a:solidFill>
                <a:srgbClr val="ffcc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ecific Phobia</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ocial Anxiety Disord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neralized Anxiety Disord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nic Disord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goraphob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pecific Phobia</a:t>
            </a:r>
            <a:endParaRPr b="0" lang="en-US" sz="40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ecific object or situation produces a high level of anxiety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r is exaggerated and out of proportion to actual dang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 knows it’s irrational; copes by avoid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cts 1 in 8 peop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are fears of snakes, enclosed spaces, heights, fly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ocial Anxiety Disorder</a:t>
            </a:r>
            <a:endParaRPr b="0" lang="en-US" sz="4400" spc="-1" strike="noStrike">
              <a:solidFill>
                <a:srgbClr val="ffcc00"/>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ar of being negatively evaluated by other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begins early, at around age 13</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are fear of public speaking, fear of meeting new people, fear of eating in front of other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orbidity with depression and substance abu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neralized Anxiety Disorder</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ut 6% of population; women more than me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ffer from constant undercurrent of anxiety not linked to identifiable sour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itive to criticism, has hard time making decisions, dwells on mistakes, worries constantl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suffer from other anxiety disorders to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anic Disorder</a:t>
            </a:r>
            <a:endParaRPr b="0" lang="en-US" sz="40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whelming anxiety and terror</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mptoms of extreme sympathetic activation (heart palpitations, shortness of breath, chest pain, lightheadednes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also experience fear of losing control or even dy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develop agoraphobia as a result of frequent panic attack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goraphobia</a:t>
            </a:r>
            <a:endParaRPr b="0" lang="en-US" sz="4400" spc="-1" strike="noStrike">
              <a:solidFill>
                <a:srgbClr val="ffcc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raid of being in situations where escape is difficult or impossib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fear may lead to a panic attack in that situ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ear of having a panic attack leads to them avoiding these situations; therefore they may rarely or never leave ho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Anxiety Disorders</a:t>
            </a:r>
            <a:endParaRPr b="0" lang="en-US" sz="4400" spc="-1" strike="noStrike">
              <a:solidFill>
                <a:srgbClr val="ffcc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anxiety drugs (anxiolytic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nzodiazepines such as Xanax, Ativa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increase the activity of the neurotransmitter GABA (the most common inhibitory neurotransmitt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anxiety, increase relax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they also increase drowsiness and are very addi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Anxiety Disorders</a:t>
            </a:r>
            <a:endParaRPr b="0" lang="en-US" sz="4400" spc="-1" strike="noStrike">
              <a:solidFill>
                <a:srgbClr val="ffcc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depressant drug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discussed in depression section) are also be effective for anxiety disorder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gnitive-Behavioral Therap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orporates techniques from cognitive therapy and behavior therap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es to correct client’s faulty cognitions and to train the client to engage in new behavio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at is Psychopathology?</a:t>
            </a:r>
            <a:endParaRPr b="0" lang="en-US" sz="4400" spc="-1" strike="noStrike">
              <a:solidFill>
                <a:srgbClr val="ffcc00"/>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ickness or disorder of the min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th environment and biology interact to produce psychological disorder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for Specific Phobias</a:t>
            </a:r>
            <a:endParaRPr b="0" lang="en-US" sz="4400" spc="-1" strike="noStrike">
              <a:solidFill>
                <a:srgbClr val="ffcc00"/>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ype of exposure therapy – Systematic Desensitiz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ent makes a fear hierarchy, example on p. 635</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ent works way through list until can be relaxed in the presence of those stimul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Disorders involving unwanted thoughts or the desire to engage in maladaptive behaviors</a:t>
            </a:r>
            <a:endParaRPr b="0" lang="en-US" sz="3200" spc="-1" strike="noStrike">
              <a:solidFill>
                <a:srgbClr val="ffcc00"/>
              </a:solidFill>
              <a:latin typeface="Times New Roman"/>
            </a:endParaRPr>
          </a:p>
        </p:txBody>
      </p:sp>
      <p:sp>
        <p:nvSpPr>
          <p:cNvPr id="1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an obsession with an idea or though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mpulsion to act in a certain w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ing this temporarily reduces anxie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arding, and hair pulling are examples of this, but the most common is OC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Obsessive-Compulsive Disorder</a:t>
            </a:r>
            <a:br>
              <a:rPr sz="4000"/>
            </a:br>
            <a:endParaRPr b="0" lang="en-US" sz="40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s life is dominated by repetitive thoughts and/or a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sessions are persistent intrusions of unwelcome thoughts, images, or impulses that create anxiety.  Examples are fear of contamination, fear of accid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lsions are irresistible urges to carry out certain acts or engage in rituals to reduce anxiet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s are cleaning, checking, and count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 is aware this is irrational, but they can’t sto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Treatment of </a:t>
            </a:r>
            <a:br>
              <a:rPr sz="4000"/>
            </a:br>
            <a:r>
              <a:rPr b="0" lang="en-US" sz="4000" spc="-1" strike="noStrike">
                <a:solidFill>
                  <a:srgbClr val="ffcc00"/>
                </a:solidFill>
                <a:latin typeface="Times New Roman"/>
              </a:rPr>
              <a:t>Obsessive-Compulsive Disorder</a:t>
            </a:r>
            <a:br>
              <a:rPr sz="4000"/>
            </a:br>
            <a:endParaRPr b="0" lang="en-US" sz="40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depressants, especially SSRIs can be effective (explained in depression se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gnitive-behavioral therap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olves exposure to stimuli that produce compulsive behavior, but don’t allow client to engage in compulsive behavior (called response prevention)</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sttraumatic Stress Disorder</a:t>
            </a:r>
            <a:endParaRPr b="0" lang="en-US" sz="4400" spc="-1" strike="noStrike">
              <a:solidFill>
                <a:srgbClr val="ffcc00"/>
              </a:solidFill>
              <a:latin typeface="Times New Roman"/>
            </a:endParaRPr>
          </a:p>
        </p:txBody>
      </p:sp>
      <p:sp>
        <p:nvSpPr>
          <p:cNvPr id="145"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quent and recurring unwanted thoughts related to a trauma, such as nightmares, intrusive thoughts, flashback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rauma could be a serious accident, being raped, fighting in active combat, surviving a natural disaster.</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fetime prevalence about 7%, women more likely to develop than m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pressive Disorders</a:t>
            </a:r>
            <a:endParaRPr b="0" lang="en-US" sz="4400" spc="-1" strike="noStrike">
              <a:solidFill>
                <a:srgbClr val="ffcc00"/>
              </a:solidFill>
              <a:latin typeface="Times New Roman"/>
            </a:endParaRPr>
          </a:p>
        </p:txBody>
      </p:sp>
      <p:sp>
        <p:nvSpPr>
          <p:cNvPr id="1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nce of sad or irritable mood as well as bodily symptoms and cognitive problems that interfere with daily lif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Depressive Disord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istent Depressive Disord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epression</a:t>
            </a:r>
            <a:endParaRPr b="0" lang="en-US" sz="40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one experiences periods of depression, especially after a traumatic eve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one is clinically depressed if the deep sadness and despair does not have an identifiable cause, and lasts for 2 weeks or mor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fetime prevalence is 10-25% for women and 5-12% for me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epressive Disorders</a:t>
            </a:r>
            <a:endParaRPr b="0" lang="en-US" sz="40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 is Characterized by: </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dness, hopelessnes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s of pleasure in food, sex, enjoyable activiti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ative thoughts about oneself</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tlessness and agitation, including change in sleep patterns and difficulty making decis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ck of energy and fatigu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urring thoughts of suicide and dea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51">
                                            <p:txEl>
                                              <p:pRg st="5" end="5"/>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pic>
        <p:nvPicPr>
          <p:cNvPr id="153" name="Picture 4" descr=""/>
          <p:cNvPicPr/>
          <p:nvPr/>
        </p:nvPicPr>
        <p:blipFill>
          <a:blip r:embed="rId1"/>
          <a:stretch/>
        </p:blipFill>
        <p:spPr>
          <a:xfrm>
            <a:off x="380880" y="0"/>
            <a:ext cx="8458200" cy="692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O Inhibitors, e.g. Iproniazi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oamine oxidase is an enzyme that breaks down monoamines (Dopamine, Norepinephrine, Epinephrin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inhibit this enzyme resulting in more monoamines available to act at recept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dietary restrictions and severe side effects so these are only used as a last resor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sychological Disorders are Very Common</a:t>
            </a:r>
            <a:endParaRPr b="0" lang="en-US" sz="40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ximately 1/2 of Americans will have some form of a psychological disorder at some point in his/her life.  This is referred to as the Lifetime Prevalence of a disord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in 4 of Americans has a psychological disorder in a given ye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cyclic Antidepressants, e.g. Imipramin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increase levels of monoamines by blocking serotonin and norepinephrine reuptake, allowing neurotransmitter to keep acting at recept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unpleasant side effect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SRIs, e.g. Prozac</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ive Serotonin Reuptake Inhibit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block the pumps that bring serotonin back into presynaptic neuron, therefore it can keep acting at postsynaptic recept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type of drug has fewer side effects compared to MAOIs and Tricyclic, therefore it is often prescribed fir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tudies evaluating effectiveness of antidepressant drugs are funded by drug companie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king at all published and unpublished studies on antidepressant drugs, evidence showed that placebos were 80% as effective as antidepressant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do seem to be effective for some individuals though, and the placebo effect can be a powerful thing, so these treatments are still worth do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Cognitive Behavioral Therapy</a:t>
            </a:r>
            <a:endParaRPr b="0" lang="en-US" sz="4400" spc="-1" strike="noStrike">
              <a:solidFill>
                <a:srgbClr val="ffcc00"/>
              </a:solidFill>
              <a:latin typeface="Times New Roman"/>
            </a:endParaRPr>
          </a:p>
        </p:txBody>
      </p:sp>
      <p:sp>
        <p:nvSpPr>
          <p:cNvPr id="16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ust as effective as antidepressant drug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 is characterized by negative thoughts about oneself, the situation, and the fut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BT helps patient think more adaptive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bining CBT and Drug Therapy is more effective than either alo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Electroconvulsive therapy</a:t>
            </a:r>
            <a:endParaRPr b="0" lang="en-US" sz="4400" spc="-1" strike="noStrike">
              <a:solidFill>
                <a:srgbClr val="ffcc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depressed individual is not responding to other treatments, and is at risk of committing suicide, ECT may be us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des are attached to scalp and electrical stimulation that produces a seizure is appli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can cause memory loss and is very controversial, but can be helpful in severe depres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ood Disorders</a:t>
            </a:r>
            <a:endParaRPr b="0" lang="en-US" sz="4000" spc="-1" strike="noStrike">
              <a:solidFill>
                <a:srgbClr val="ffcc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auses depression?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logical factor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er levels of serotonin and norepinephrine?</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er levels of cortisol</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ain differences – less active left frontal lobe</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sychological factor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gative childhood experiences predispose?</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arned helplessnes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gnitive focusing on negative events, and self-bla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67">
                                            <p:txEl>
                                              <p:pRg st="6" end="6"/>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67">
                                            <p:txEl>
                                              <p:pRg st="7" end="7"/>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jor Depressive Disorder</a:t>
            </a:r>
            <a:endParaRPr b="0" lang="en-US" sz="4400" spc="-1" strike="noStrike">
              <a:solidFill>
                <a:srgbClr val="ffcc00"/>
              </a:solidFill>
              <a:latin typeface="Times New Roman"/>
            </a:endParaRPr>
          </a:p>
        </p:txBody>
      </p:sp>
      <p:sp>
        <p:nvSpPr>
          <p:cNvPr id="169"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 will experience this sometime in life.  Women more likely than men.</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ed mood is experienced every day for at least two week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problems such as sleep disturbances, appetite changes, difficulty concentrat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lings of guilt, hopelessness, even contemplation of suici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rsistent Depressive Disorder</a:t>
            </a:r>
            <a:endParaRPr b="0" lang="en-US" sz="4400" spc="-1" strike="noStrike">
              <a:solidFill>
                <a:srgbClr val="ffcc00"/>
              </a:solidFill>
              <a:latin typeface="Times New Roman"/>
            </a:endParaRPr>
          </a:p>
        </p:txBody>
      </p:sp>
      <p:sp>
        <p:nvSpPr>
          <p:cNvPr id="1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called Dysthym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ilar to Major depressive disorder, but the symptoms are less intense, and it may last a lot longer than Major depressive Disord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page 580 of tex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ipolar Disorders</a:t>
            </a:r>
            <a:endParaRPr b="0" lang="en-US" sz="4400" spc="-1" strike="noStrike">
              <a:solidFill>
                <a:srgbClr val="ffcc00"/>
              </a:solidFill>
              <a:latin typeface="Times New Roman"/>
            </a:endParaRPr>
          </a:p>
        </p:txBody>
      </p:sp>
      <p:sp>
        <p:nvSpPr>
          <p:cNvPr id="1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 with these disorders experience depression, but at other times they experience man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a is characterized by energy, enthusiasm, self-confidence.  They may think they can do anything and become hostile to someone that tries to stop th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ood Disorders</a:t>
            </a:r>
            <a:endParaRPr b="0" lang="en-US" sz="40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Disord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alternates between depression and mania every few days to few month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ia can include not sleeping for days, spending money indiscriminantly, having many sexual partners in a short tim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idence for strong genetic component; this often runs in famil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sychological Disorders are Very Common</a:t>
            </a:r>
            <a:endParaRPr b="0" lang="en-US" sz="40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all rates of disorders are not different among men and women, howev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are more likely than women to have antisocial personality disorder, childhood ADHD, and abuse alcohol and dru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men are more likely than men to suffer from mood, anxiety, and eating disorde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 page 571 in tex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ipolar Disorders</a:t>
            </a:r>
            <a:endParaRPr b="0" lang="en-US" sz="4400" spc="-1" strike="noStrike">
              <a:solidFill>
                <a:srgbClr val="ffcc00"/>
              </a:solidFill>
              <a:latin typeface="Times New Roman"/>
            </a:endParaRPr>
          </a:p>
        </p:txBody>
      </p:sp>
      <p:sp>
        <p:nvSpPr>
          <p:cNvPr id="177" name=""/>
          <p:cNvSpPr txBox="1"/>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I Disorder</a:t>
            </a:r>
            <a:endParaRPr b="0" lang="en-US" sz="32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s more extreme manic episodes than seen in Bipolar II.</a:t>
            </a:r>
            <a:endParaRPr b="0" lang="en-US" sz="28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II Disorder</a:t>
            </a:r>
            <a:endParaRPr b="0" lang="en-US" sz="32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nic episodes are less extreme, often called hypomania.  This could go on for a while without being diagnosed.</a:t>
            </a:r>
            <a:endParaRPr b="0" lang="en-US" sz="28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 and Women equally likely to have Bipolar Disord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Bipolar Disorders</a:t>
            </a:r>
            <a:endParaRPr b="0" lang="en-US" sz="4400" spc="-1" strike="noStrike">
              <a:solidFill>
                <a:srgbClr val="ffcc00"/>
              </a:solidFill>
              <a:latin typeface="Times New Roman"/>
            </a:endParaRPr>
          </a:p>
        </p:txBody>
      </p:sp>
      <p:sp>
        <p:nvSpPr>
          <p:cNvPr id="17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hium (a metallic ion) helps to stabilize mood (reduce both mania and depressive episod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ticonvulsive medications (used to reduce seizures) can also be effective for Bipola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ypical antipsychotics (used to treat Schizophrenia) are also effectiv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tidepressants not advised because they can produce man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uicide</a:t>
            </a:r>
            <a:endParaRPr b="0" lang="en-US" sz="4000" spc="-1" strike="noStrike">
              <a:solidFill>
                <a:srgbClr val="ffcc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someone is clinically depressed they are in danger of attempting suicid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the second leading cause of death for people your a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suicides preceded by remarks about death or leaving, and by behavioral clu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over the section on this in your text pp. 584-58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orders involving Thought Disturbances</a:t>
            </a:r>
            <a:endParaRPr b="0" lang="en-US" sz="4400" spc="-1" strike="noStrike">
              <a:solidFill>
                <a:srgbClr val="ffcc00"/>
              </a:solidFill>
              <a:latin typeface="Times New Roman"/>
            </a:endParaRPr>
          </a:p>
        </p:txBody>
      </p:sp>
      <p:sp>
        <p:nvSpPr>
          <p:cNvPr id="1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Amnes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Fug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Identity Disord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issociative Disorders</a:t>
            </a:r>
            <a:endParaRPr b="0" lang="en-US" sz="4000" spc="-1" strike="noStrike">
              <a:solidFill>
                <a:srgbClr val="ffcc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sociation – portion of one’s experience becomes separated or detached from one’s identity or conscious memor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ized by long-term gaps in memor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sociative amnesia is a partial or complete memory loss; only forget “self-relevant” memori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sociative fugue state is a more extensive memory loss; person may take on a new ident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1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issociative Disorders</a:t>
            </a:r>
            <a:endParaRPr b="0" lang="en-US" sz="40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Identity Disorder (used to be called multiple personality disorder)</a:t>
            </a:r>
            <a:endParaRPr b="0" lang="en-US" sz="32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 has 2 or more distinct identities.</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 may not recall what happens when a particular personality is in control.</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report being childhood victims of severe abuse.</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y Controversial – some psychologists don’t think this is re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87">
                                            <p:txEl>
                                              <p:pRg st="1" end="1"/>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87">
                                            <p:txEl>
                                              <p:pRg st="2" end="2"/>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87">
                                            <p:txEl>
                                              <p:pRg st="3" end="3"/>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chizophrenic Disorders</a:t>
            </a:r>
            <a:endParaRPr b="0" lang="en-US" sz="4000" spc="-1" strike="noStrike">
              <a:solidFill>
                <a:srgbClr val="ffcc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fects approximately 0.5-1% of population across cultures, equal rates in men and wom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phrenia does NOT mean split personality.  Refers to split between thoughts, beliefs, perceptions and other brain function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chizophrenia</a:t>
            </a:r>
            <a:endParaRPr b="0" lang="en-US" sz="40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main types of symptom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itive symptom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esses, such as delusions, hallucinations, disorganized speech, inappropriate affect, bizarre behavior.</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symptom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cits, such as apathy, lack of emotion, slow movement and speech, social withdraw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91">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ain Symptoms of Schizophrenia</a:t>
            </a:r>
            <a:endParaRPr b="0" lang="en-US" sz="4000" spc="-1" strike="noStrike">
              <a:solidFill>
                <a:srgbClr val="ffcc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usions (false belief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think themselves very important </a:t>
            </a:r>
            <a:endParaRPr b="0" lang="en-US" sz="28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think people are watching them at all times and commenting on their behavior</a:t>
            </a:r>
            <a:endParaRPr b="0" lang="en-US" sz="28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llucination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ory experiences w/o actual stimulation</a:t>
            </a:r>
            <a:endParaRPr b="0" lang="en-US" sz="28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ditory hallucinations are the most common</a:t>
            </a:r>
            <a:endParaRPr b="0" lang="en-US" sz="28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often hear voices mocking them or telling them to do things</a:t>
            </a:r>
            <a:endParaRPr b="0" lang="en-US" sz="24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193">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193">
                                            <p:txEl>
                                              <p:pRg st="1" end="1"/>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193">
                                            <p:txEl>
                                              <p:pRg st="2" end="2"/>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193">
                                            <p:txEl>
                                              <p:pRg st="3" end="3"/>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193">
                                            <p:txEl>
                                              <p:pRg st="4" end="4"/>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93">
                                            <p:txEl>
                                              <p:pRg st="5" end="5"/>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ain Symptoms of Schizophrenia</a:t>
            </a:r>
            <a:endParaRPr b="0" lang="en-US" sz="40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ganized Speech </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rd to follow</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n’t fit normal conversational structure</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times called “word salad”</a:t>
            </a:r>
            <a:endParaRPr b="0" lang="en-US" sz="28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ganized Behavior</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 strangely</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or hygiene</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catatonic (in same position for hou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195">
                                            <p:txEl>
                                              <p:pRg st="1" end="1"/>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195">
                                            <p:txEl>
                                              <p:pRg st="2" end="2"/>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195">
                                            <p:txEl>
                                              <p:pRg st="3" end="3"/>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195">
                                            <p:txEl>
                                              <p:pRg st="4" end="4"/>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499"/>
                                          </p:stCondLst>
                                        </p:cTn>
                                        <p:tgtEl>
                                          <p:spTgt spid="195">
                                            <p:txEl>
                                              <p:pRg st="5" end="5"/>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195">
                                            <p:txEl>
                                              <p:pRg st="6" end="6"/>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19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w to Determine When Behavior is Psychopathology?</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the person act in a way that deviates from cultural norms for acceptable behavio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the behavior interfere with the person’s ability to respond appropriately in different situations (is it maladaptiv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the behavior self-destructive, causes the individual distress, or threatens other peop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Causes of Schizophrenia?</a:t>
            </a:r>
            <a:endParaRPr b="0" lang="en-US" sz="40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logical</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risk if parent has the disorder</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positive symptoms associated with overactivity of dopamin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symptoms correlated with shrinkage of gray matter and enlarged ventricl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neurodevelopmental disorder – caused by abnormal brain development at or before birt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197">
                                            <p:txEl>
                                              <p:pRg st="3" end="3"/>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Causes of Schizophrenia?</a:t>
            </a:r>
            <a:endParaRPr b="0" lang="en-US" sz="4000" spc="-1" strike="noStrike">
              <a:solidFill>
                <a:srgbClr val="ffcc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logica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thesis-stress mod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with genetic vulnerability who are also exposed to high levels of stress are likely to develop Schizophren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tressors might include birth complications, conflict at home, social problems, even growing up in an urban enviro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199">
                                            <p:txEl>
                                              <p:pRg st="0" end="0"/>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199">
                                            <p:txEl>
                                              <p:pRg st="1" end="1"/>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199">
                                            <p:txEl>
                                              <p:pRg st="2" end="2"/>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1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Schizophrenia</a:t>
            </a:r>
            <a:endParaRPr b="0" lang="en-US" sz="4400" spc="-1" strike="noStrike">
              <a:solidFill>
                <a:srgbClr val="ffcc00"/>
              </a:solidFill>
              <a:latin typeface="Times New Roman"/>
            </a:endParaRPr>
          </a:p>
        </p:txBody>
      </p:sp>
      <p:sp>
        <p:nvSpPr>
          <p:cNvPr id="20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ical Antipsychotics (anti-Schizophrenia drugs), e.g. chlorpromazine, haloperido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 in reducing positive symptoms of schizophreni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help negative sympto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side effects that can resemble Parkinson’s Disease or that cause involuntary movements of facial muscles (Tardive Dyskinesi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Schizophrenia</a:t>
            </a:r>
            <a:endParaRPr b="0" lang="en-US" sz="4400" spc="-1" strike="noStrike">
              <a:solidFill>
                <a:srgbClr val="ffcc00"/>
              </a:solidFill>
              <a:latin typeface="Times New Roman"/>
            </a:endParaRPr>
          </a:p>
        </p:txBody>
      </p:sp>
      <p:sp>
        <p:nvSpPr>
          <p:cNvPr id="20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ypical Antipsychotics (anti-Schizophrenia drugs), e.g. clozapin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s both positive and negative sympto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not result in motor side effects of typical antipsychotic drug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ersonality Disorders</a:t>
            </a:r>
            <a:endParaRPr b="0" lang="en-US" sz="40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one has a personality disorder if their personality is extremely inflexible, maladaptive, and causes distress (maybe only to other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is long-lasting and causes problems at work and in social situation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controversial.  Maybe they are just extremes of normal personality traits.</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rsonality Disorders</a:t>
            </a:r>
            <a:endParaRPr b="0" lang="en-US" sz="4400" spc="-1" strike="noStrike">
              <a:solidFill>
                <a:srgbClr val="ffcc00"/>
              </a:solidFill>
              <a:latin typeface="Times New Roman"/>
            </a:endParaRPr>
          </a:p>
        </p:txBody>
      </p:sp>
      <p:sp>
        <p:nvSpPr>
          <p:cNvPr id="2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think I will have you do an assignment in the next couple weeks where you pick a personality disorder and make some PP slides on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Personality Disorders</a:t>
            </a:r>
            <a:endParaRPr b="0" lang="en-US" sz="4400" spc="-1" strike="noStrike">
              <a:solidFill>
                <a:srgbClr val="ffcc00"/>
              </a:solidFill>
              <a:latin typeface="Times New Roman"/>
            </a:endParaRPr>
          </a:p>
        </p:txBody>
      </p:sp>
      <p:sp>
        <p:nvSpPr>
          <p:cNvPr id="2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ity Disorders are extremely difficult to treat effective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reason is that personality disorders do not cause the individual distress (at least not that they recognize) but are frequently more of a problem for other people that person interacts wi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sychological Disorders common in Childhood</a:t>
            </a:r>
            <a:endParaRPr b="0" lang="en-US" sz="4400" spc="-1" strike="noStrike">
              <a:solidFill>
                <a:srgbClr val="ffcc00"/>
              </a:solidFill>
              <a:latin typeface="Times New Roman"/>
            </a:endParaRPr>
          </a:p>
        </p:txBody>
      </p:sp>
      <p:sp>
        <p:nvSpPr>
          <p:cNvPr id="2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ism Spectrum Disord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tention Deficit Hyperactivity Disord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ism Spectrum Disorder</a:t>
            </a: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of children, more boys than girls</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ized by:</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cits in social interaction</a:t>
            </a:r>
            <a:endParaRPr b="0" lang="en-US" sz="2800" spc="-1" strike="noStrike">
              <a:solidFill>
                <a:srgbClr val="ffffff"/>
              </a:solidFill>
              <a:latin typeface="Times New Roman"/>
            </a:endParaRPr>
          </a:p>
          <a:p>
            <a:pPr lvl="2" marL="1108440" indent="-2214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ear unaware of others; don’t establish eye contact</a:t>
            </a:r>
            <a:endParaRPr b="0" lang="en-US" sz="24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aired communication, both verbal and nonverbal</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ricted interests</a:t>
            </a:r>
            <a:endParaRPr b="0" lang="en-US" sz="2800" spc="-1" strike="noStrike">
              <a:solidFill>
                <a:srgbClr val="ffffff"/>
              </a:solidFill>
              <a:latin typeface="Times New Roman"/>
            </a:endParaRPr>
          </a:p>
          <a:p>
            <a:pPr lvl="2" marL="1108440" indent="-2214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 on sensory aspects of objects</a:t>
            </a:r>
            <a:endParaRPr b="0" lang="en-US" sz="24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ries in severity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ism Spectrum Disorder</a:t>
            </a:r>
            <a:endParaRPr b="0" lang="en-US" sz="4400" spc="-1" strike="noStrike">
              <a:solidFill>
                <a:srgbClr val="ffcc00"/>
              </a:solidFill>
              <a:latin typeface="Times New Roman"/>
            </a:endParaRPr>
          </a:p>
        </p:txBody>
      </p:sp>
      <p:sp>
        <p:nvSpPr>
          <p:cNvPr id="2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ought to be the causes of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vaccines cause Autism?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text pp. 605-608 to answ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ism can be treated with Behavioral Treatments, such as Applied Behavior Analysis, that use principles of operant conditioning to modify behavi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ng normal and abnormal</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things to think abou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isn’t just difference from statistical norms.  What about extremely talente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considered normal differs across cultures, and even within cultures over tim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l and abnormal are points on a continuum; it’s hard to determine when the line is cross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behaviors are thought to be abnormal not because they cause personal distress, but because they may cause harm to oth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Attention Deficit Hyperactivity Disorder</a:t>
            </a:r>
            <a:endParaRPr b="0" lang="en-US" sz="4000" spc="-1" strike="noStrike">
              <a:solidFill>
                <a:srgbClr val="ffcc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ually seen in childhood</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cts 7% of children and occurs more often in boys than girls</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ults in inattention, impulsivity, and hyperactivity.</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Lower level of CNS arousal?</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ed with stimulants, e.g. Ritalin, that increase arousal and NE and DA production. Thought to increase concentration in frontal lobe of bra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499"/>
                                          </p:stCondLst>
                                        </p:cTn>
                                        <p:tgtEl>
                                          <p:spTgt spid="217">
                                            <p:txEl>
                                              <p:pRg st="2" end="2"/>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499"/>
                                          </p:stCondLst>
                                        </p:cTn>
                                        <p:tgtEl>
                                          <p:spTgt spid="217">
                                            <p:txEl>
                                              <p:pRg st="3" end="3"/>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ideo clips and Links</a:t>
            </a:r>
            <a:endParaRPr b="0" lang="en-US" sz="4400" spc="-1" strike="noStrike">
              <a:solidFill>
                <a:srgbClr val="ffcc00"/>
              </a:solidFill>
              <a:latin typeface="Times New Roman"/>
            </a:endParaRPr>
          </a:p>
        </p:txBody>
      </p:sp>
      <p:sp>
        <p:nvSpPr>
          <p:cNvPr id="219"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izophrenia </a:t>
            </a:r>
            <a:r>
              <a:rPr b="0" lang="en-US" sz="2400" spc="-1" strike="noStrike" u="sng">
                <a:solidFill>
                  <a:srgbClr val="9999ff"/>
                </a:solidFill>
                <a:uFillTx/>
                <a:latin typeface="Times New Roman"/>
                <a:hlinkClick r:id="rId1"/>
              </a:rPr>
              <a:t>https://www.youtube.com/watch?v=bWaFqw8XnpA</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a:t>
            </a:r>
            <a:r>
              <a:rPr b="0" lang="en-US" sz="2400" spc="-1" strike="noStrike" u="sng">
                <a:solidFill>
                  <a:srgbClr val="9999ff"/>
                </a:solidFill>
                <a:uFillTx/>
                <a:latin typeface="Times New Roman"/>
                <a:hlinkClick r:id="rId2"/>
              </a:rPr>
              <a:t>https://www.everydayhealth.com/bipolar-disorder-pictures/famous-people-with-bipolar-disorder.aspx#13</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ression </a:t>
            </a:r>
            <a:r>
              <a:rPr b="0" lang="en-US" sz="2400" spc="-1" strike="noStrike" u="sng">
                <a:solidFill>
                  <a:srgbClr val="9999ff"/>
                </a:solidFill>
                <a:uFillTx/>
                <a:latin typeface="Times New Roman"/>
                <a:hlinkClick r:id="rId3"/>
              </a:rPr>
              <a:t>https://www.youtube.com/watch?v=mdKM8n7mwq0</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nic Disorder </a:t>
            </a:r>
            <a:r>
              <a:rPr b="0" lang="en-US" sz="2400" spc="-1" strike="noStrike" u="sng">
                <a:solidFill>
                  <a:srgbClr val="9999ff"/>
                </a:solidFill>
                <a:uFillTx/>
                <a:latin typeface="Times New Roman"/>
                <a:hlinkClick r:id="rId4"/>
              </a:rPr>
              <a:t>https://www.youtube.com/watch?v=xPeraafH5tM</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CD – this is from “As Good As it Gets” movie</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5"/>
              </a:rPr>
              <a:t>https://www.youtube.com/watch?v=oAK0FmZbsu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What is the difference between a Clinical Psychologist and a Psychiatrist?</a:t>
            </a:r>
            <a:endParaRPr b="0" lang="en-US" sz="3600" spc="-1" strike="noStrike">
              <a:solidFill>
                <a:srgbClr val="ffcc00"/>
              </a:solidFill>
              <a:latin typeface="Times New Roman"/>
            </a:endParaRPr>
          </a:p>
        </p:txBody>
      </p:sp>
      <p:sp>
        <p:nvSpPr>
          <p:cNvPr id="2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is answer in the treatment chap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sychological Disorders Have Many Causes</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athesis-Stress Mode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dividual has an underlying vulnerability (diathesis) to a psychological disorder.  This can b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ological, such as a genetic predisposition</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vironmental, such as childhood trauma</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is vulnerability is combined with stressful circumstances (severe car accident, death of close family member, rape, etc.), and if that level of stress exceeds an individual’s ability to cope, the psychological disorder is likely to occu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agnosis</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cess of grouping and naming mental disorde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mental health professionals use the Diagnostic and Statistical Manual of Mental Disorders (DSM-V)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orders are described in terms of observable sympto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lient must meet specific criteria to receive a particular diagnosi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at is Comorbidity?</a:t>
            </a:r>
            <a:endParaRPr b="0" lang="en-US" sz="4400" spc="-1" strike="noStrike">
              <a:solidFill>
                <a:srgbClr val="ffcc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psychological disorders occur together, e.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ion and anxie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ion and substance abus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 person is diagnosed with a disorder, the clinician should also assess them for commonly occurring comorbid disord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Lynne Trench</cp:lastModifiedBy>
  <dcterms:modified xsi:type="dcterms:W3CDTF">2020-05-04T19:22:50Z</dcterms:modified>
  <cp:revision>85</cp:revision>
  <dc:subject/>
  <dc:title>How do organisms adapt to change?</dc:title>
</cp:coreProperties>
</file>