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9D9CF-B66C-483C-840E-1DC252F07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8DE4A-FFB7-4E75-925F-63D9E8B77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CE6BC-199B-4F01-956F-9B6F7FBC3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962FA-2099-4625-BDF2-660E83BDF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F24AA8-E9AE-46C0-9784-BADBD33585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315E7-F679-4742-8636-D812EABDC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F3E02-1D8B-4D11-BBE4-0B7DE0C47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7DF8F-704E-4AE5-8201-BC6B77EE9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EAB5F-6CAD-441C-A54A-677593EBF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ADA2E-7451-41EC-9F6D-1C5DE6E1A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60899-8843-4B30-BD03-ED399920C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1683D-3032-41FB-811A-A30ECDE4E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267F8-A868-47D4-BB27-C2FE9EAE6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B8603-59B3-4DA7-AD97-6487D3B2C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AC580-820E-444A-957F-29D80BEBB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EB3111-44BA-46E7-89BF-C850E9998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501CBB-5FF0-4007-AED7-2114A3ED18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07E06-3BF3-44B3-9B75-49D8DD032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37778-39E3-425E-8B78-402C93C80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88918-4703-4B6E-9AC3-DE9F04090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AF1BE-7979-47F5-8654-0D2373C62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FB1B0-39F3-4533-987B-8BA6E1020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1B103-8A39-4EC5-B712-AE24102FB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9D843-1CDF-42F1-9A9A-464C8A237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0"/>
        </a:gradFill>
      </p:bgPr>
    </p:bg>
    <p:spTree>
      <p:nvGrpSpPr>
        <p:cNvPr id="1" name=""/>
        <p:cNvGrpSpPr/>
        <p:nvPr/>
      </p:nvGrpSpPr>
      <p:grpSpPr>
        <a:xfrm>
          <a:off x="0" y="0"/>
          <a:ext cx="0" cy="0"/>
          <a:chOff x="0" y="0"/>
          <a:chExt cx="0" cy="0"/>
        </a:xfrm>
      </p:grpSpPr>
      <p:sp>
        <p:nvSpPr>
          <p:cNvPr id="0" name="Rectangle 2"/>
          <p:cNvSpPr/>
          <p:nvPr/>
        </p:nvSpPr>
        <p:spPr>
          <a:xfrm>
            <a:off x="8783640" y="444600"/>
            <a:ext cx="360360" cy="3152520"/>
          </a:xfrm>
          <a:prstGeom prst="rect">
            <a:avLst/>
          </a:prstGeom>
          <a:gradFill rotWithShape="0">
            <a:gsLst>
              <a:gs pos="0">
                <a:srgbClr val="000022"/>
              </a:gs>
              <a:gs pos="50000">
                <a:srgbClr val="9999ff"/>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Freeform 3"/>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4"/>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869F4-A199-499F-9151-63D4C508CD5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0"/>
        </a:gradFill>
      </p:bgPr>
    </p:bg>
    <p:spTree>
      <p:nvGrpSpPr>
        <p:cNvPr id="1" name=""/>
        <p:cNvGrpSpPr/>
        <p:nvPr/>
      </p:nvGrpSpPr>
      <p:grpSpPr>
        <a:xfrm>
          <a:off x="0" y="0"/>
          <a:ext cx="0" cy="0"/>
          <a:chOff x="0" y="0"/>
          <a:chExt cx="0" cy="0"/>
        </a:xfrm>
      </p:grpSpPr>
      <p:sp>
        <p:nvSpPr>
          <p:cNvPr id="49" name="Rectangle 2"/>
          <p:cNvSpPr/>
          <p:nvPr/>
        </p:nvSpPr>
        <p:spPr>
          <a:xfrm>
            <a:off x="8783640" y="444600"/>
            <a:ext cx="360360" cy="3152520"/>
          </a:xfrm>
          <a:prstGeom prst="rect">
            <a:avLst/>
          </a:prstGeom>
          <a:gradFill rotWithShape="0">
            <a:gsLst>
              <a:gs pos="0">
                <a:srgbClr val="000022"/>
              </a:gs>
              <a:gs pos="50000">
                <a:srgbClr val="9999ff"/>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Freeform 3"/>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Freeform 4"/>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ABABA-11AD-4D91-8CD7-C33A6DFF8CFF}"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s://www.youtube.com/watch?v=bWaFqw8XnpA" TargetMode="External"/><Relationship Id="rId2" Type="http://schemas.openxmlformats.org/officeDocument/2006/relationships/hyperlink" Target="https://www.everydayhealth.com/bipolar-disorder-pictures/famous-people-with-bipolar-disorder.aspx#Specific Phobia" TargetMode="External"/><Relationship Id="rId3" Type="http://schemas.openxmlformats.org/officeDocument/2006/relationships/hyperlink" Target="https://www.youtube.com/watch?v=mdKM8n7mwq0" TargetMode="External"/><Relationship Id="rId4" Type="http://schemas.openxmlformats.org/officeDocument/2006/relationships/hyperlink" Target="https://www.youtube.com/watch?v=xPeraafH5tM" TargetMode="External"/><Relationship Id="rId5" Type="http://schemas.openxmlformats.org/officeDocument/2006/relationships/hyperlink" Target="https://www.youtube.com/watch?v=oAK0FmZbsu8" TargetMode="External"/><Relationship Id="rId6"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Psychological Disorders and Their Treatment</a:t>
            </a:r>
            <a:endParaRPr b="0" lang="en-US" sz="4000" spc="-1" strike="noStrike">
              <a:solidFill>
                <a:srgbClr val="ffcc00"/>
              </a:solidFill>
              <a:latin typeface="Times New Roman"/>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pters 14 &amp; 1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sorders that Emphasize Emotional States</a:t>
            </a:r>
            <a:endParaRPr b="0" lang="en-US" sz="4400" spc="-1" strike="noStrike">
              <a:solidFill>
                <a:srgbClr val="ffcc00"/>
              </a:solidFill>
              <a:latin typeface="Times New Roman"/>
            </a:endParaRPr>
          </a:p>
        </p:txBody>
      </p:sp>
      <p:sp>
        <p:nvSpPr>
          <p:cNvPr id="1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emotions or moods go from being a normal part of daily living to being extreme enough to disrupt people’s ability to work, learn, and have fun, these are symptoms of psychological disord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nxiety Disorders</a:t>
            </a:r>
            <a:endParaRPr b="0" lang="en-US" sz="4400" spc="-1" strike="noStrike">
              <a:solidFill>
                <a:srgbClr val="ffcc00"/>
              </a:solidFill>
              <a:latin typeface="Times New Roman"/>
            </a:endParaRPr>
          </a:p>
        </p:txBody>
      </p:sp>
      <p:sp>
        <p:nvSpPr>
          <p:cNvPr id="119"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acterized by excessive fear and anxiety in the absence of true danger.</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utonomic Nervous System is often aroused, leading to bodily symptoms such as sweating, rapid pulse, shallow breathing.</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in 4 Americans will have an anxiety disorder in their lifetime.  Women are more likely to have them than Men.</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5 types of Anxiety Disord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5 Types of Anxiety Disorders</a:t>
            </a:r>
            <a:endParaRPr b="0" lang="en-US" sz="4400" spc="-1" strike="noStrike">
              <a:solidFill>
                <a:srgbClr val="ffcc00"/>
              </a:solidFill>
              <a:latin typeface="Times New Roman"/>
            </a:endParaRPr>
          </a:p>
        </p:txBody>
      </p:sp>
      <p:sp>
        <p:nvSpPr>
          <p:cNvPr id="121" name=""/>
          <p:cNvSpPr txBox="1"/>
          <p:nvPr/>
        </p:nvSpPr>
        <p:spPr>
          <a:xfrm>
            <a:off x="685800" y="1981080"/>
            <a:ext cx="7772400" cy="411480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pecific Phobia</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ocial Anxiety Disorder</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eneralized Anxiety Disorder</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anic Disorder</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goraphob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Specific Phobia</a:t>
            </a:r>
            <a:endParaRPr b="0" lang="en-US" sz="4000" spc="-1" strike="noStrike">
              <a:solidFill>
                <a:srgbClr val="ffcc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pecific object or situation produces a high level of anxiety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ar is exaggerated and out of proportion to actual dange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on knows it’s irrational; copes by avoidanc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fects 1 in 8 peopl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s are fears of snakes, enclosed spaces, heights, fly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23">
                                            <p:txEl>
                                              <p:pRg st="3" end="3"/>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ocial Anxiety Disorder</a:t>
            </a:r>
            <a:endParaRPr b="0" lang="en-US" sz="4400" spc="-1" strike="noStrike">
              <a:solidFill>
                <a:srgbClr val="ffcc00"/>
              </a:solidFill>
              <a:latin typeface="Times New Roman"/>
            </a:endParaRPr>
          </a:p>
        </p:txBody>
      </p:sp>
      <p:sp>
        <p:nvSpPr>
          <p:cNvPr id="125"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ar of being negatively evaluated by others</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ten begins early, at around age 13</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ples are fear of public speaking, fear of meeting new people, fear of eating in front of others</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orbidity with depression and substance abus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eneralized Anxiety Disorder</a:t>
            </a:r>
            <a:endParaRPr b="0" lang="en-US" sz="4400" spc="-1" strike="noStrike">
              <a:solidFill>
                <a:srgbClr val="ffcc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out 6% of population; women more than me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ffer from constant undercurrent of anxiety not linked to identifiable sourc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nsitive to criticism, has hard time making decisions, dwells on mistakes, worries constantl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suffer from other anxiety disorders to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127">
                                            <p:txEl>
                                              <p:pRg st="2" end="2"/>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Panic Disorder</a:t>
            </a:r>
            <a:endParaRPr b="0" lang="en-US" sz="4000" spc="-1" strike="noStrike">
              <a:solidFill>
                <a:srgbClr val="ffcc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whelming anxiety and terror</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mptoms of extreme sympathetic activation (heart palpitations, shortness of breath, chest pain, lightheadednes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also experience fear of losing control or even dyin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develop agoraphobia as a result of frequent panic attack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goraphobia</a:t>
            </a:r>
            <a:endParaRPr b="0" lang="en-US" sz="4400" spc="-1" strike="noStrike">
              <a:solidFill>
                <a:srgbClr val="ffcc00"/>
              </a:solidFill>
              <a:latin typeface="Times New Roman"/>
            </a:endParaRPr>
          </a:p>
        </p:txBody>
      </p:sp>
      <p:sp>
        <p:nvSpPr>
          <p:cNvPr id="13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raid of being in situations where escape is difficult or impossibl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at fear may lead to a panic attack in that situ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fear of having a panic attack leads to them avoiding these situations; therefore they may rarely or never leave ho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Anxiety Disorders</a:t>
            </a:r>
            <a:endParaRPr b="0" lang="en-US" sz="4400" spc="-1" strike="noStrike">
              <a:solidFill>
                <a:srgbClr val="ffcc00"/>
              </a:solidFill>
              <a:latin typeface="Times New Roman"/>
            </a:endParaRPr>
          </a:p>
        </p:txBody>
      </p:sp>
      <p:sp>
        <p:nvSpPr>
          <p:cNvPr id="1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i-anxiety drugs (anxiolytic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nzodiazepines such as Xanax, Ativa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drugs increase the activity of the neurotransmitter GABA (the most common inhibitory neurotransmitte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duce anxiety, increase relaxa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t they also increase drowsiness and are very addictiv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Anxiety Disorders</a:t>
            </a:r>
            <a:endParaRPr b="0" lang="en-US" sz="4400" spc="-1" strike="noStrike">
              <a:solidFill>
                <a:srgbClr val="ffcc00"/>
              </a:solidFill>
              <a:latin typeface="Times New Roman"/>
            </a:endParaRPr>
          </a:p>
        </p:txBody>
      </p:sp>
      <p:sp>
        <p:nvSpPr>
          <p:cNvPr id="13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idepressant drug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drugs (discussed in depression section) are also be effective for anxiety disorder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gnitive-Behavioral Therap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orporates techniques from cognitive therapy and behavior therap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es to correct client’s faulty cognitions and to train the client to engage in new behavio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What is Psychopathology?</a:t>
            </a:r>
            <a:endParaRPr b="0" lang="en-US" sz="4400" spc="-1" strike="noStrike">
              <a:solidFill>
                <a:srgbClr val="ffcc00"/>
              </a:solidFill>
              <a:latin typeface="Times New Roman"/>
            </a:endParaRPr>
          </a:p>
        </p:txBody>
      </p:sp>
      <p:sp>
        <p:nvSpPr>
          <p:cNvPr id="10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ickness or disorder of the min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th environment and biology interact to produce psychological disorder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for Specific Phobias</a:t>
            </a:r>
            <a:endParaRPr b="0" lang="en-US" sz="4400" spc="-1" strike="noStrike">
              <a:solidFill>
                <a:srgbClr val="ffcc00"/>
              </a:solidFill>
              <a:latin typeface="Times New Roman"/>
            </a:endParaRPr>
          </a:p>
        </p:txBody>
      </p:sp>
      <p:sp>
        <p:nvSpPr>
          <p:cNvPr id="13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type of exposure therapy – Systematic Desensitiz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ent makes a fear hierarchy, example on p. 635</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ent works way through list until can be relaxed in the presence of those stimul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Disorders involving unwanted thoughts or the desire to engage in maladaptive behaviors</a:t>
            </a:r>
            <a:endParaRPr b="0" lang="en-US" sz="3200" spc="-1" strike="noStrike">
              <a:solidFill>
                <a:srgbClr val="ffcc00"/>
              </a:solidFill>
              <a:latin typeface="Times New Roman"/>
            </a:endParaRPr>
          </a:p>
        </p:txBody>
      </p:sp>
      <p:sp>
        <p:nvSpPr>
          <p:cNvPr id="13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is an obsession with an idea or though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mpulsion to act in a certain wa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ing this temporarily reduces anxie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arding, and hair pulling are examples of this, but the most common is OC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Obsessive-Compulsive Disorder</a:t>
            </a:r>
            <a:br>
              <a:rPr sz="4000"/>
            </a:br>
            <a:endParaRPr b="0" lang="en-US" sz="4000" spc="-1" strike="noStrike">
              <a:solidFill>
                <a:srgbClr val="ffcc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s life is dominated by repetitive thoughts and/or act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sessions are persistent intrusions of unwelcome thoughts, images, or impulses that create anxiety.  Examples are fear of contamination, fear of accident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ulsions are irresistible urges to carry out certain acts or engage in rituals to reduce anxiet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s are cleaning, checking, and counting.</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on is aware this is irrational, but they can’t sto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14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1">
                                            <p:txEl>
                                              <p:pRg st="3" end="3"/>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Treatment of </a:t>
            </a:r>
            <a:br>
              <a:rPr sz="4000"/>
            </a:br>
            <a:r>
              <a:rPr b="0" lang="en-US" sz="4000" spc="-1" strike="noStrike">
                <a:solidFill>
                  <a:srgbClr val="ffcc00"/>
                </a:solidFill>
                <a:latin typeface="Times New Roman"/>
              </a:rPr>
              <a:t>Obsessive-Compulsive Disorder</a:t>
            </a:r>
            <a:br>
              <a:rPr sz="4000"/>
            </a:br>
            <a:endParaRPr b="0" lang="en-US" sz="4000" spc="-1" strike="noStrike">
              <a:solidFill>
                <a:srgbClr val="ffcc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idepressants, especially SSRIs can be effective (explained in depression sec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gnitive-behavioral therap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olves exposure to stimuli that produce compulsive behavior, but don’t allow client to engage in compulsive behavior (called response prevention)</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osttraumatic Stress Disorder</a:t>
            </a:r>
            <a:endParaRPr b="0" lang="en-US" sz="4400" spc="-1" strike="noStrike">
              <a:solidFill>
                <a:srgbClr val="ffcc00"/>
              </a:solidFill>
              <a:latin typeface="Times New Roman"/>
            </a:endParaRPr>
          </a:p>
        </p:txBody>
      </p:sp>
      <p:sp>
        <p:nvSpPr>
          <p:cNvPr id="145"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quent and recurring unwanted thoughts related to a trauma, such as nightmares, intrusive thoughts, flashbacks</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rauma could be a serious accident, being raped, fighting in active combat, surviving a natural disaster.</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fetime prevalence about 7%, women more likely to develop than me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pressive Disorders</a:t>
            </a:r>
            <a:endParaRPr b="0" lang="en-US" sz="4400" spc="-1" strike="noStrike">
              <a:solidFill>
                <a:srgbClr val="ffcc00"/>
              </a:solidFill>
              <a:latin typeface="Times New Roman"/>
            </a:endParaRPr>
          </a:p>
        </p:txBody>
      </p:sp>
      <p:sp>
        <p:nvSpPr>
          <p:cNvPr id="14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ence of sad or irritable mood as well as bodily symptoms and cognitive problems that interfere with daily lif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 Depressive Disorde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istent Depressive Disord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Depression</a:t>
            </a:r>
            <a:endParaRPr b="0" lang="en-US" sz="4000" spc="-1" strike="noStrike">
              <a:solidFill>
                <a:srgbClr val="ffcc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ression</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one experiences periods of depression, especially after a traumatic even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one is clinically depressed if the deep sadness and despair does not have an identifiable cause, and lasts for 2 weeks or mor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fetime prevalence is 10-25% for women and 5-12% for me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Depressive Disorders</a:t>
            </a:r>
            <a:endParaRPr b="0" lang="en-US" sz="4000" spc="-1" strike="noStrike">
              <a:solidFill>
                <a:srgbClr val="ffcc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ression is Characterized by: </a:t>
            </a:r>
            <a:endParaRPr b="0" lang="en-US" sz="32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dness, hopelessness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s of pleasure in food, sex, enjoyable activities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gative thoughts about oneself</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tlessness and agitation, including change in sleep patterns and difficulty making decision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ck of energy and fatigu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urring thoughts of suicide and deat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51">
                                            <p:txEl>
                                              <p:pRg st="3" end="3"/>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151">
                                            <p:txEl>
                                              <p:pRg st="4" end="4"/>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51">
                                            <p:txEl>
                                              <p:pRg st="5" end="5"/>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pic>
        <p:nvPicPr>
          <p:cNvPr id="153" name="Picture 4" descr=""/>
          <p:cNvPicPr/>
          <p:nvPr/>
        </p:nvPicPr>
        <p:blipFill>
          <a:blip r:embed="rId1"/>
          <a:stretch/>
        </p:blipFill>
        <p:spPr>
          <a:xfrm>
            <a:off x="380880" y="0"/>
            <a:ext cx="8458200" cy="6924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Depression-</a:t>
            </a:r>
            <a:br>
              <a:rPr sz="4400"/>
            </a:br>
            <a:r>
              <a:rPr b="0" lang="en-US" sz="4400" spc="-1" strike="noStrike">
                <a:solidFill>
                  <a:srgbClr val="ffcc00"/>
                </a:solidFill>
                <a:latin typeface="Times New Roman"/>
              </a:rPr>
              <a:t>Drug Treatments</a:t>
            </a:r>
            <a:endParaRPr b="0" lang="en-US" sz="4400" spc="-1" strike="noStrike">
              <a:solidFill>
                <a:srgbClr val="ffcc00"/>
              </a:solidFill>
              <a:latin typeface="Times New Roman"/>
            </a:endParaRPr>
          </a:p>
        </p:txBody>
      </p:sp>
      <p:sp>
        <p:nvSpPr>
          <p:cNvPr id="1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O Inhibitors, e.g. Iproniazid</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noamine oxidase is an enzyme that breaks down monoamines (Dopamine, Norepinephrine, Epinephrin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drugs inhibit this enzyme resulting in more monoamines available to act at receptor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dietary restrictions and severe side effects so these are only used as a last resor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Psychological Disorders are Very Common</a:t>
            </a:r>
            <a:endParaRPr b="0" lang="en-US" sz="4000" spc="-1" strike="noStrike">
              <a:solidFill>
                <a:srgbClr val="ffcc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ximately 1/2 of Americans will have some form of a psychological disorder at some point in his/her life.  This is referred to as the Lifetime Prevalence of a disorder.</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in 4 of Americans has a psychological disorder in a given ye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Depression-</a:t>
            </a:r>
            <a:br>
              <a:rPr sz="4400"/>
            </a:br>
            <a:r>
              <a:rPr b="0" lang="en-US" sz="4400" spc="-1" strike="noStrike">
                <a:solidFill>
                  <a:srgbClr val="ffcc00"/>
                </a:solidFill>
                <a:latin typeface="Times New Roman"/>
              </a:rPr>
              <a:t>Drug Treatments</a:t>
            </a:r>
            <a:endParaRPr b="0" lang="en-US" sz="4400" spc="-1" strike="noStrike">
              <a:solidFill>
                <a:srgbClr val="ffcc00"/>
              </a:solidFill>
              <a:latin typeface="Times New Roman"/>
            </a:endParaRPr>
          </a:p>
        </p:txBody>
      </p:sp>
      <p:sp>
        <p:nvSpPr>
          <p:cNvPr id="15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icyclic Antidepressants, e.g. Imipramin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drugs increase levels of monoamines by blocking serotonin and norepinephrine reuptake, allowing neurotransmitter to keep acting at receptor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unpleasant side effect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Depression-</a:t>
            </a:r>
            <a:br>
              <a:rPr sz="4400"/>
            </a:br>
            <a:r>
              <a:rPr b="0" lang="en-US" sz="4400" spc="-1" strike="noStrike">
                <a:solidFill>
                  <a:srgbClr val="ffcc00"/>
                </a:solidFill>
                <a:latin typeface="Times New Roman"/>
              </a:rPr>
              <a:t>Drug Treatments</a:t>
            </a:r>
            <a:endParaRPr b="0" lang="en-US" sz="4400" spc="-1" strike="noStrike">
              <a:solidFill>
                <a:srgbClr val="ffcc00"/>
              </a:solidFill>
              <a:latin typeface="Times New Roman"/>
            </a:endParaRPr>
          </a:p>
        </p:txBody>
      </p:sp>
      <p:sp>
        <p:nvSpPr>
          <p:cNvPr id="15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SRIs, e.g. Prozac</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ive Serotonin Reuptake Inhibitor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block the pumps that bring serotonin back into presynaptic neuron, therefore it can keep acting at postsynaptic recepto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type of drug has fewer side effects compared to MAOIs and Tricyclic, therefore it is often prescribed firs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Depression-</a:t>
            </a:r>
            <a:br>
              <a:rPr sz="4400"/>
            </a:br>
            <a:r>
              <a:rPr b="0" lang="en-US" sz="4400" spc="-1" strike="noStrike">
                <a:solidFill>
                  <a:srgbClr val="ffcc00"/>
                </a:solidFill>
                <a:latin typeface="Times New Roman"/>
              </a:rPr>
              <a:t>Drug Treatments</a:t>
            </a:r>
            <a:endParaRPr b="0" lang="en-US" sz="4400" spc="-1" strike="noStrike">
              <a:solidFill>
                <a:srgbClr val="ffcc00"/>
              </a:solidFill>
              <a:latin typeface="Times New Roman"/>
            </a:endParaRPr>
          </a:p>
        </p:txBody>
      </p:sp>
      <p:sp>
        <p:nvSpPr>
          <p:cNvPr id="161"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studies evaluating effectiveness of antidepressant drugs are funded by drug companie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oking at all published and unpublished studies on antidepressant drugs, evidence showed that placebos were 80% as effective as antidepressant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drugs do seem to be effective for some individuals though, and the placebo effect can be a powerful thing, so these treatments are still worth do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Depression-</a:t>
            </a:r>
            <a:br>
              <a:rPr sz="4400"/>
            </a:br>
            <a:r>
              <a:rPr b="0" lang="en-US" sz="4400" spc="-1" strike="noStrike">
                <a:solidFill>
                  <a:srgbClr val="ffcc00"/>
                </a:solidFill>
                <a:latin typeface="Times New Roman"/>
              </a:rPr>
              <a:t>Cognitive Behavioral Therapy</a:t>
            </a:r>
            <a:endParaRPr b="0" lang="en-US" sz="4400" spc="-1" strike="noStrike">
              <a:solidFill>
                <a:srgbClr val="ffcc00"/>
              </a:solidFill>
              <a:latin typeface="Times New Roman"/>
            </a:endParaRPr>
          </a:p>
        </p:txBody>
      </p:sp>
      <p:sp>
        <p:nvSpPr>
          <p:cNvPr id="16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ust as effective as antidepressant drug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ression is characterized by negative thoughts about oneself, the situation, and the futur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BT helps patient think more adaptivel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bining CBT and Drug Therapy is more effective than either alo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Depression-</a:t>
            </a:r>
            <a:br>
              <a:rPr sz="4400"/>
            </a:br>
            <a:r>
              <a:rPr b="0" lang="en-US" sz="4400" spc="-1" strike="noStrike">
                <a:solidFill>
                  <a:srgbClr val="ffcc00"/>
                </a:solidFill>
                <a:latin typeface="Times New Roman"/>
              </a:rPr>
              <a:t>Electroconvulsive therapy</a:t>
            </a:r>
            <a:endParaRPr b="0" lang="en-US" sz="4400" spc="-1" strike="noStrike">
              <a:solidFill>
                <a:srgbClr val="ffcc00"/>
              </a:solidFill>
              <a:latin typeface="Times New Roman"/>
            </a:endParaRPr>
          </a:p>
        </p:txBody>
      </p:sp>
      <p:sp>
        <p:nvSpPr>
          <p:cNvPr id="165"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depressed individual is not responding to other treatments, and is at risk of committing suicide, ECT may be use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odes are attached to scalp and electrical stimulation that produces a seizure is applie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can cause memory loss and is very controversial, but can be helpful in severe depress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Mood Disorders</a:t>
            </a:r>
            <a:endParaRPr b="0" lang="en-US" sz="4000" spc="-1" strike="noStrike">
              <a:solidFill>
                <a:srgbClr val="ffcc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causes depression?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ological factors</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wer levels of serotonin and norepinephrine?</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er levels of cortisol</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rain differences – less active left frontal lobe</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sychological factors</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gative childhood experiences predispose?</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arned helplessness</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gnitive focusing on negative events, and self-bla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67">
                                            <p:txEl>
                                              <p:pRg st="5" end="5"/>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67">
                                            <p:txEl>
                                              <p:pRg st="6" end="6"/>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167">
                                            <p:txEl>
                                              <p:pRg st="7" end="7"/>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jor Depressive Disorder</a:t>
            </a:r>
            <a:endParaRPr b="0" lang="en-US" sz="4400" spc="-1" strike="noStrike">
              <a:solidFill>
                <a:srgbClr val="ffcc00"/>
              </a:solidFill>
              <a:latin typeface="Times New Roman"/>
            </a:endParaRPr>
          </a:p>
        </p:txBody>
      </p:sp>
      <p:sp>
        <p:nvSpPr>
          <p:cNvPr id="169"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6% will experience this sometime in life.  Women more likely than men.</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ressed mood is experienced every day for at least two week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problems such as sleep disturbances, appetite changes, difficulty concentratin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elings of guilt, hopelessness, even contemplation of suicid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ersistent Depressive Disorder</a:t>
            </a:r>
            <a:endParaRPr b="0" lang="en-US" sz="4400" spc="-1" strike="noStrike">
              <a:solidFill>
                <a:srgbClr val="ffcc00"/>
              </a:solidFill>
              <a:latin typeface="Times New Roman"/>
            </a:endParaRPr>
          </a:p>
        </p:txBody>
      </p:sp>
      <p:sp>
        <p:nvSpPr>
          <p:cNvPr id="17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ten called Dysthymi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ilar to Major depressive disorder, but the symptoms are less intense, and it may last a lot longer than Major depressive Disord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page 580 of tex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Bipolar Disorders</a:t>
            </a:r>
            <a:endParaRPr b="0" lang="en-US" sz="4400" spc="-1" strike="noStrike">
              <a:solidFill>
                <a:srgbClr val="ffcc00"/>
              </a:solidFill>
              <a:latin typeface="Times New Roman"/>
            </a:endParaRPr>
          </a:p>
        </p:txBody>
      </p:sp>
      <p:sp>
        <p:nvSpPr>
          <p:cNvPr id="17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ople with these disorders experience depression, but at other times they experience mani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a is characterized by energy, enthusiasm, self-confidence.  They may think they can do anything and become hostile to someone that tries to stop the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Mood Disorders</a:t>
            </a:r>
            <a:endParaRPr b="0" lang="en-US" sz="4000" spc="-1" strike="noStrike">
              <a:solidFill>
                <a:srgbClr val="ffcc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polar Disorder</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 alternates between depression and mania every few days to few month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ia can include not sleeping for days, spending money indiscriminantly, having many sexual partners in a short tim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idence for strong genetic component; this often runs in famil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5">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5">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Psychological Disorders are Very Common</a:t>
            </a:r>
            <a:endParaRPr b="0" lang="en-US" sz="4000" spc="-1" strike="noStrike">
              <a:solidFill>
                <a:srgbClr val="ffcc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all rates of disorders are not different among men and women, however…</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n are more likely than women to have antisocial personality disorder, childhood ADHD, and abuse alcohol and drug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men are more likely than men to suffer from mood, anxiety, and eating disorder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 page 571 in tex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Bipolar Disorders</a:t>
            </a:r>
            <a:endParaRPr b="0" lang="en-US" sz="4400" spc="-1" strike="noStrike">
              <a:solidFill>
                <a:srgbClr val="ffcc00"/>
              </a:solidFill>
              <a:latin typeface="Times New Roman"/>
            </a:endParaRPr>
          </a:p>
        </p:txBody>
      </p:sp>
      <p:sp>
        <p:nvSpPr>
          <p:cNvPr id="177" name=""/>
          <p:cNvSpPr txBox="1"/>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polar I Disorder</a:t>
            </a:r>
            <a:endParaRPr b="0" lang="en-US" sz="3200" spc="-1" strike="noStrike">
              <a:solidFill>
                <a:srgbClr val="ffffff"/>
              </a:solidFill>
              <a:latin typeface="Times New Roman"/>
            </a:endParaRPr>
          </a:p>
          <a:p>
            <a:pPr lvl="1" marL="668520" indent="-257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s more extreme manic episodes than seen in Bipolar II.</a:t>
            </a:r>
            <a:endParaRPr b="0" lang="en-US" sz="2800" spc="-1" strike="noStrike">
              <a:solidFill>
                <a:srgbClr val="ffffff"/>
              </a:solidFill>
              <a:latin typeface="Times New Roman"/>
            </a:endParaRPr>
          </a:p>
          <a:p>
            <a:pPr marL="308520" indent="-308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polar II Disorder</a:t>
            </a:r>
            <a:endParaRPr b="0" lang="en-US" sz="3200" spc="-1" strike="noStrike">
              <a:solidFill>
                <a:srgbClr val="ffffff"/>
              </a:solidFill>
              <a:latin typeface="Times New Roman"/>
            </a:endParaRPr>
          </a:p>
          <a:p>
            <a:pPr lvl="1" marL="668520" indent="-257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anic episodes are less extreme, often called hypomania.  This could go on for a while without being diagnosed.</a:t>
            </a:r>
            <a:endParaRPr b="0" lang="en-US" sz="2800" spc="-1" strike="noStrike">
              <a:solidFill>
                <a:srgbClr val="ffffff"/>
              </a:solidFill>
              <a:latin typeface="Times New Roman"/>
            </a:endParaRPr>
          </a:p>
          <a:p>
            <a:pPr marL="308520" indent="-308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n and Women equally likely to have Bipolar Disord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Bipolar Disorders</a:t>
            </a:r>
            <a:endParaRPr b="0" lang="en-US" sz="4400" spc="-1" strike="noStrike">
              <a:solidFill>
                <a:srgbClr val="ffcc00"/>
              </a:solidFill>
              <a:latin typeface="Times New Roman"/>
            </a:endParaRPr>
          </a:p>
        </p:txBody>
      </p:sp>
      <p:sp>
        <p:nvSpPr>
          <p:cNvPr id="179"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thium (a metallic ion) helps to stabilize mood (reduce both mania and depressive episod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ticonvulsive medications (used to reduce seizures) can also be effective for Bipola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ypical antipsychotics (used to treat Schizophrenia) are also effectiv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tidepressants not advised because they can produce mani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Suicide</a:t>
            </a:r>
            <a:endParaRPr b="0" lang="en-US" sz="4000" spc="-1" strike="noStrike">
              <a:solidFill>
                <a:srgbClr val="ffcc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someone is clinically depressed they are in danger of attempting suicide.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is the second leading cause of death for people your ag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suicides preceded by remarks about death or leaving, and by behavioral clu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d over the section on this in your text pp. 584-585.</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81">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81">
                                            <p:txEl>
                                              <p:pRg st="2" end="2"/>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1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sorders involving Thought Disturbances</a:t>
            </a:r>
            <a:endParaRPr b="0" lang="en-US" sz="4400" spc="-1" strike="noStrike">
              <a:solidFill>
                <a:srgbClr val="ffcc00"/>
              </a:solidFill>
              <a:latin typeface="Times New Roman"/>
            </a:endParaRPr>
          </a:p>
        </p:txBody>
      </p:sp>
      <p:sp>
        <p:nvSpPr>
          <p:cNvPr id="18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sociative Amnesi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sociative Fug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sociative Identity Disord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Dissociative Disorders</a:t>
            </a:r>
            <a:endParaRPr b="0" lang="en-US" sz="4000" spc="-1" strike="noStrike">
              <a:solidFill>
                <a:srgbClr val="ffcc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sociation – portion of one’s experience becomes separated or detached from one’s identity or conscious memory.</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acterized by long-term gaps in memory.</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sociative amnesia is a partial or complete memory loss; only forget “self-relevant” memori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sociative fugue state is a more extensive memory loss; person may take on a new identi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1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Dissociative Disorders</a:t>
            </a:r>
            <a:endParaRPr b="0" lang="en-US" sz="4000" spc="-1" strike="noStrike">
              <a:solidFill>
                <a:srgbClr val="ffcc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sociative Identity Disorder (used to be called multiple personality disorder)</a:t>
            </a:r>
            <a:endParaRPr b="0" lang="en-US" sz="32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on has 2 or more distinct identities.</a:t>
            </a:r>
            <a:endParaRPr b="0" lang="en-US" sz="28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on may not recall what happens when a particular personality is in control.</a:t>
            </a:r>
            <a:endParaRPr b="0" lang="en-US" sz="28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report being childhood victims of severe abuse.</a:t>
            </a:r>
            <a:endParaRPr b="0" lang="en-US" sz="28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ry Controversial – some psychologists don’t think this is re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7">
                                            <p:txEl>
                                              <p:pRg st="0" end="0"/>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87">
                                            <p:txEl>
                                              <p:pRg st="1" end="1"/>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87">
                                            <p:txEl>
                                              <p:pRg st="2" end="2"/>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87">
                                            <p:txEl>
                                              <p:pRg st="3" end="3"/>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Schizophrenic Disorders</a:t>
            </a:r>
            <a:endParaRPr b="0" lang="en-US" sz="4000" spc="-1" strike="noStrike">
              <a:solidFill>
                <a:srgbClr val="ffcc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fects approximately 0.5-1% of population across cultures, equal rates in men and wom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izophrenia does NOT mean split personality.  Refers to split between thoughts, beliefs, perceptions and other brain functions.</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499"/>
                                          </p:stCondLst>
                                        </p:cTn>
                                        <p:tgtEl>
                                          <p:spTgt spid="189">
                                            <p:txEl>
                                              <p:pRg st="0" end="0"/>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Schizophrenia</a:t>
            </a:r>
            <a:endParaRPr b="0" lang="en-US" sz="4000" spc="-1" strike="noStrike">
              <a:solidFill>
                <a:srgbClr val="ffcc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main types of symptom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itive symptoms</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cesses, such as delusions, hallucinations, disorganized speech, inappropriate affect, bizarre behavior.</a:t>
            </a: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gative symptoms</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cits, such as apathy, lack of emotion, slow movement and speech, social withdraw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191">
                                            <p:txEl>
                                              <p:pRg st="3" end="3"/>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1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Main Symptoms of Schizophrenia</a:t>
            </a:r>
            <a:endParaRPr b="0" lang="en-US" sz="4000" spc="-1" strike="noStrike">
              <a:solidFill>
                <a:srgbClr val="ffcc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lusions (false beliefs)</a:t>
            </a:r>
            <a:endParaRPr b="0" lang="en-US" sz="32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think themselves very important </a:t>
            </a:r>
            <a:endParaRPr b="0" lang="en-US" sz="28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think people are watching them at all times and commenting on their behavior</a:t>
            </a:r>
            <a:endParaRPr b="0" lang="en-US" sz="2800" spc="-1" strike="noStrike">
              <a:solidFill>
                <a:srgbClr val="ffffff"/>
              </a:solidFill>
              <a:latin typeface="Times New Roman"/>
            </a:endParaRPr>
          </a:p>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llucinations</a:t>
            </a:r>
            <a:endParaRPr b="0" lang="en-US" sz="32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nsory experiences w/o actual stimulation</a:t>
            </a:r>
            <a:endParaRPr b="0" lang="en-US" sz="28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ditory hallucinations are the most common</a:t>
            </a:r>
            <a:endParaRPr b="0" lang="en-US" sz="2800" spc="-1" strike="noStrike">
              <a:solidFill>
                <a:srgbClr val="ffffff"/>
              </a:solidFill>
              <a:latin typeface="Times New Roman"/>
            </a:endParaRPr>
          </a:p>
          <a:p>
            <a:pPr lvl="2" marL="1051560" indent="-2102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often hear voices mocking them or telling them to do things</a:t>
            </a:r>
            <a:endParaRPr b="0" lang="en-US" sz="2400" spc="-1" strike="noStrike">
              <a:solidFill>
                <a:srgbClr val="ffffff"/>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193">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193">
                                            <p:txEl>
                                              <p:pRg st="1" end="1"/>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499"/>
                                          </p:stCondLst>
                                        </p:cTn>
                                        <p:tgtEl>
                                          <p:spTgt spid="193">
                                            <p:txEl>
                                              <p:pRg st="2" end="2"/>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193">
                                            <p:txEl>
                                              <p:pRg st="3" end="3"/>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193">
                                            <p:txEl>
                                              <p:pRg st="4" end="4"/>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193">
                                            <p:txEl>
                                              <p:pRg st="5" end="5"/>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1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Main Symptoms of Schizophrenia</a:t>
            </a:r>
            <a:endParaRPr b="0" lang="en-US" sz="4000" spc="-1" strike="noStrike">
              <a:solidFill>
                <a:srgbClr val="ffcc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organized Speech </a:t>
            </a:r>
            <a:endParaRPr b="0" lang="en-US" sz="32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rd to follow</a:t>
            </a:r>
            <a:endParaRPr b="0" lang="en-US" sz="28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esn’t fit normal conversational structure</a:t>
            </a:r>
            <a:endParaRPr b="0" lang="en-US" sz="28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times called “word salad”</a:t>
            </a:r>
            <a:endParaRPr b="0" lang="en-US" sz="28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organized Behavior</a:t>
            </a:r>
            <a:endParaRPr b="0" lang="en-US" sz="32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 strangely</a:t>
            </a:r>
            <a:endParaRPr b="0" lang="en-US" sz="28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or hygiene</a:t>
            </a:r>
            <a:endParaRPr b="0" lang="en-US" sz="28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be catatonic (in same position for hou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195">
                                            <p:txEl>
                                              <p:pRg st="1" end="1"/>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195">
                                            <p:txEl>
                                              <p:pRg st="2" end="2"/>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195">
                                            <p:txEl>
                                              <p:pRg st="3" end="3"/>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499"/>
                                          </p:stCondLst>
                                        </p:cTn>
                                        <p:tgtEl>
                                          <p:spTgt spid="195">
                                            <p:txEl>
                                              <p:pRg st="4" end="4"/>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499"/>
                                          </p:stCondLst>
                                        </p:cTn>
                                        <p:tgtEl>
                                          <p:spTgt spid="195">
                                            <p:txEl>
                                              <p:pRg st="5" end="5"/>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195">
                                            <p:txEl>
                                              <p:pRg st="6" end="6"/>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19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How to Determine When Behavior is Psychopathology?</a:t>
            </a:r>
            <a:endParaRPr b="0" lang="en-US" sz="4400" spc="-1" strike="noStrike">
              <a:solidFill>
                <a:srgbClr val="ffcc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es the person act in a way that deviates from cultural norms for acceptable behavio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es the behavior interfere with the person’s ability to respond appropriately in different situations (is it maladaptiv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 the behavior self-destructive, causes the individual distress, or threatens other peop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Causes of Schizophrenia?</a:t>
            </a:r>
            <a:endParaRPr b="0" lang="en-US" sz="4000" spc="-1" strike="noStrike">
              <a:solidFill>
                <a:srgbClr val="ffcc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ological</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reased risk if parent has the disorder</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positive symptoms associated with overactivity of dopamin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gative symptoms correlated with shrinkage of gray matter and enlarged ventricl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be neurodevelopmental disorder – caused by abnormal brain development at or before birt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197">
                                            <p:txEl>
                                              <p:pRg st="3" end="3"/>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Causes of Schizophrenia?</a:t>
            </a:r>
            <a:endParaRPr b="0" lang="en-US" sz="4000" spc="-1" strike="noStrike">
              <a:solidFill>
                <a:srgbClr val="ffcc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sychological</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athesis-stress mod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ople with genetic vulnerability who are also exposed to high levels of stress are likely to develop Schizophrenia.</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stressors might include birth complications, conflict at home, social problems, even growing up in an urban environ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199">
                                            <p:txEl>
                                              <p:pRg st="0" end="0"/>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199">
                                            <p:txEl>
                                              <p:pRg st="1" end="1"/>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199">
                                            <p:txEl>
                                              <p:pRg st="2" end="2"/>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1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Schizophrenia</a:t>
            </a:r>
            <a:endParaRPr b="0" lang="en-US" sz="4400" spc="-1" strike="noStrike">
              <a:solidFill>
                <a:srgbClr val="ffcc00"/>
              </a:solidFill>
              <a:latin typeface="Times New Roman"/>
            </a:endParaRPr>
          </a:p>
        </p:txBody>
      </p:sp>
      <p:sp>
        <p:nvSpPr>
          <p:cNvPr id="201"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ical Antipsychotics (anti-Schizophrenia drugs), e.g. chlorpromazine, haloperido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ffective in reducing positive symptoms of schizophreni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help negative symptom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ve side effects that can resemble Parkinson’s Disease or that cause involuntary movements of facial muscles (Tardive Dyskinesi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Schizophrenia</a:t>
            </a:r>
            <a:endParaRPr b="0" lang="en-US" sz="4400" spc="-1" strike="noStrike">
              <a:solidFill>
                <a:srgbClr val="ffcc00"/>
              </a:solidFill>
              <a:latin typeface="Times New Roman"/>
            </a:endParaRPr>
          </a:p>
        </p:txBody>
      </p:sp>
      <p:sp>
        <p:nvSpPr>
          <p:cNvPr id="203"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ypical Antipsychotics (anti-Schizophrenia drugs), e.g. clozapin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ats both positive and negative symptom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es not result in motor side effects of typical antipsychotic drug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Personality Disorders</a:t>
            </a:r>
            <a:endParaRPr b="0" lang="en-US" sz="4000" spc="-1" strike="noStrike">
              <a:solidFill>
                <a:srgbClr val="ffcc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one has a personality disorder if their personality is extremely inflexible, maladaptive, and causes distress (maybe only to others)</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t is long-lasting and causes problems at work and in social situations</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e are controversial.  Maybe they are just extremes of normal personality traits.</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ersonality Disorders</a:t>
            </a:r>
            <a:endParaRPr b="0" lang="en-US" sz="4400" spc="-1" strike="noStrike">
              <a:solidFill>
                <a:srgbClr val="ffcc00"/>
              </a:solidFill>
              <a:latin typeface="Times New Roman"/>
            </a:endParaRPr>
          </a:p>
        </p:txBody>
      </p:sp>
      <p:sp>
        <p:nvSpPr>
          <p:cNvPr id="2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think I will have you do an assignment in the next couple weeks where you pick a personality disorder and make some PP slides on i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Personality Disorders</a:t>
            </a:r>
            <a:endParaRPr b="0" lang="en-US" sz="4400" spc="-1" strike="noStrike">
              <a:solidFill>
                <a:srgbClr val="ffcc00"/>
              </a:solidFill>
              <a:latin typeface="Times New Roman"/>
            </a:endParaRPr>
          </a:p>
        </p:txBody>
      </p:sp>
      <p:sp>
        <p:nvSpPr>
          <p:cNvPr id="2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ality Disorders are extremely difficult to treat effectivel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reason is that personality disorders do not cause the individual distress (at least not that they recognize) but are frequently more of a problem for other people that person interacts wit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sychological Disorders common in Childhood</a:t>
            </a:r>
            <a:endParaRPr b="0" lang="en-US" sz="4400" spc="-1" strike="noStrike">
              <a:solidFill>
                <a:srgbClr val="ffcc00"/>
              </a:solidFill>
              <a:latin typeface="Times New Roman"/>
            </a:endParaRPr>
          </a:p>
        </p:txBody>
      </p:sp>
      <p:sp>
        <p:nvSpPr>
          <p:cNvPr id="21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ism Spectrum Disord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tention Deficit Hyperactivity Disord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utism Spectrum Disorder</a:t>
            </a:r>
            <a:endParaRPr b="0" lang="en-US" sz="4400" spc="-1" strike="noStrike">
              <a:solidFill>
                <a:srgbClr val="ffcc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 of children, more boys than girls</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acterized by:</a:t>
            </a:r>
            <a:endParaRPr b="0" lang="en-US" sz="2800" spc="-1" strike="noStrike">
              <a:solidFill>
                <a:srgbClr val="ffffff"/>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cits in social interaction</a:t>
            </a:r>
            <a:endParaRPr b="0" lang="en-US" sz="2800" spc="-1" strike="noStrike">
              <a:solidFill>
                <a:srgbClr val="ffffff"/>
              </a:solidFill>
              <a:latin typeface="Times New Roman"/>
            </a:endParaRPr>
          </a:p>
          <a:p>
            <a:pPr lvl="2" marL="1108440" indent="-2214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ear unaware of others; don’t establish eye contact</a:t>
            </a:r>
            <a:endParaRPr b="0" lang="en-US" sz="2400" spc="-1" strike="noStrike">
              <a:solidFill>
                <a:srgbClr val="ffffff"/>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aired communication, both verbal and nonverbal</a:t>
            </a:r>
            <a:endParaRPr b="0" lang="en-US" sz="2800" spc="-1" strike="noStrike">
              <a:solidFill>
                <a:srgbClr val="ffffff"/>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tricted interests</a:t>
            </a:r>
            <a:endParaRPr b="0" lang="en-US" sz="2800" spc="-1" strike="noStrike">
              <a:solidFill>
                <a:srgbClr val="ffffff"/>
              </a:solidFill>
              <a:latin typeface="Times New Roman"/>
            </a:endParaRPr>
          </a:p>
          <a:p>
            <a:pPr lvl="2" marL="1108440" indent="-2214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cus on sensory aspects of objects</a:t>
            </a:r>
            <a:endParaRPr b="0" lang="en-US" sz="2400" spc="-1" strike="noStrike">
              <a:solidFill>
                <a:srgbClr val="ffffff"/>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ries in severity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utism Spectrum Disorder</a:t>
            </a:r>
            <a:endParaRPr b="0" lang="en-US" sz="4400" spc="-1" strike="noStrike">
              <a:solidFill>
                <a:srgbClr val="ffcc00"/>
              </a:solidFill>
              <a:latin typeface="Times New Roman"/>
            </a:endParaRPr>
          </a:p>
        </p:txBody>
      </p:sp>
      <p:sp>
        <p:nvSpPr>
          <p:cNvPr id="21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ought to be the causes of i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vaccines cause Autism?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text pp. 605-608 to answ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ism can be treated with Behavioral Treatments, such as Applied Behavior Analysis, that use principles of operant conditioning to modify behavi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ng normal and abnormal</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things to think abou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normal isn’t just difference from statistical norms.  What about extremely talented?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considered normal differs across cultures, and even within cultures over tim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rmal and abnormal are points on a continuum; it’s hard to determine when the line is crosse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behaviors are thought to be abnormal not because they cause personal distress, but because they may cause harm to oth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09">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0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Attention Deficit Hyperactivity Disorder</a:t>
            </a:r>
            <a:endParaRPr b="0" lang="en-US" sz="4000" spc="-1" strike="noStrike">
              <a:solidFill>
                <a:srgbClr val="ffcc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ually seen in childhood</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fects 7% of children and occurs more often in boys than girls</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ults in inattention, impulsivity, and hyperactivity.</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Lower level of CNS arousal?</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ated with stimulants, e.g. Ritalin, that increase arousal and NE and DA production. Thought to increase concentration in frontal lobe of brai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17">
                                            <p:txEl>
                                              <p:pRg st="0" end="0"/>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p:stCondLst>
                                    <p:cond delay="0"/>
                                  </p:stCondLst>
                                  <p:childTnLst>
                                    <p:set>
                                      <p:cBhvr>
                                        <p:cTn id="526" dur="1" fill="hold">
                                          <p:stCondLst>
                                            <p:cond delay="499"/>
                                          </p:stCondLst>
                                        </p:cTn>
                                        <p:tgtEl>
                                          <p:spTgt spid="217">
                                            <p:txEl>
                                              <p:pRg st="1" end="1"/>
                                            </p:txEl>
                                          </p:spTgt>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p:stCondLst>
                                    <p:cond delay="0"/>
                                  </p:stCondLst>
                                  <p:childTnLst>
                                    <p:set>
                                      <p:cBhvr>
                                        <p:cTn id="530" dur="1" fill="hold">
                                          <p:stCondLst>
                                            <p:cond delay="499"/>
                                          </p:stCondLst>
                                        </p:cTn>
                                        <p:tgtEl>
                                          <p:spTgt spid="217">
                                            <p:txEl>
                                              <p:pRg st="2" end="2"/>
                                            </p:txEl>
                                          </p:spTgt>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p:stCondLst>
                                    <p:cond delay="0"/>
                                  </p:stCondLst>
                                  <p:childTnLst>
                                    <p:set>
                                      <p:cBhvr>
                                        <p:cTn id="534" dur="1" fill="hold">
                                          <p:stCondLst>
                                            <p:cond delay="499"/>
                                          </p:stCondLst>
                                        </p:cTn>
                                        <p:tgtEl>
                                          <p:spTgt spid="217">
                                            <p:txEl>
                                              <p:pRg st="3" end="3"/>
                                            </p:txEl>
                                          </p:spTgt>
                                        </p:tgtEl>
                                        <p:attrNameLst>
                                          <p:attrName>style.visibility</p:attrName>
                                        </p:attrNameLst>
                                      </p:cBhvr>
                                      <p:to>
                                        <p:strVal val="visible"/>
                                      </p:to>
                                    </p:se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1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Video clips and Links</a:t>
            </a:r>
            <a:endParaRPr b="0" lang="en-US" sz="4400" spc="-1" strike="noStrike">
              <a:solidFill>
                <a:srgbClr val="ffcc00"/>
              </a:solidFill>
              <a:latin typeface="Times New Roman"/>
            </a:endParaRPr>
          </a:p>
        </p:txBody>
      </p:sp>
      <p:sp>
        <p:nvSpPr>
          <p:cNvPr id="219"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izophrenia </a:t>
            </a:r>
            <a:r>
              <a:rPr b="0" lang="en-US" sz="2400" spc="-1" strike="noStrike" u="sng">
                <a:solidFill>
                  <a:srgbClr val="9999ff"/>
                </a:solidFill>
                <a:uFillTx/>
                <a:latin typeface="Times New Roman"/>
                <a:hlinkClick r:id="rId1"/>
              </a:rPr>
              <a:t>https://www.youtube.com/watch?v=bWaFqw8XnpA</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polar </a:t>
            </a:r>
            <a:r>
              <a:rPr b="0" lang="en-US" sz="2400" spc="-1" strike="noStrike" u="sng">
                <a:solidFill>
                  <a:srgbClr val="9999ff"/>
                </a:solidFill>
                <a:uFillTx/>
                <a:latin typeface="Times New Roman"/>
                <a:hlinkClick r:id="rId2"/>
              </a:rPr>
              <a:t>https://www.everydayhealth.com/bipolar-disorder-pictures/famous-people-with-bipolar-disorder.aspx#13</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ression </a:t>
            </a:r>
            <a:r>
              <a:rPr b="0" lang="en-US" sz="2400" spc="-1" strike="noStrike" u="sng">
                <a:solidFill>
                  <a:srgbClr val="9999ff"/>
                </a:solidFill>
                <a:uFillTx/>
                <a:latin typeface="Times New Roman"/>
                <a:hlinkClick r:id="rId3"/>
              </a:rPr>
              <a:t>https://www.youtube.com/watch?v=mdKM8n7mwq0</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nic Disorder </a:t>
            </a:r>
            <a:r>
              <a:rPr b="0" lang="en-US" sz="2400" spc="-1" strike="noStrike" u="sng">
                <a:solidFill>
                  <a:srgbClr val="9999ff"/>
                </a:solidFill>
                <a:uFillTx/>
                <a:latin typeface="Times New Roman"/>
                <a:hlinkClick r:id="rId4"/>
              </a:rPr>
              <a:t>https://www.youtube.com/watch?v=xPeraafH5tM</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CD – this is from “As Good As it Gets” movie</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ff"/>
                </a:solidFill>
                <a:uFillTx/>
                <a:latin typeface="Times New Roman"/>
                <a:hlinkClick r:id="rId5"/>
              </a:rPr>
              <a:t>https://www.youtube.com/watch?v=oAK0FmZbsu8</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What is the difference between a Clinical Psychologist and a Psychiatrist?</a:t>
            </a:r>
            <a:endParaRPr b="0" lang="en-US" sz="3600" spc="-1" strike="noStrike">
              <a:solidFill>
                <a:srgbClr val="ffcc00"/>
              </a:solidFill>
              <a:latin typeface="Times New Roman"/>
            </a:endParaRPr>
          </a:p>
        </p:txBody>
      </p:sp>
      <p:sp>
        <p:nvSpPr>
          <p:cNvPr id="22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 this answer in the treatment chapt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sychological Disorders Have Many Causes</a:t>
            </a:r>
            <a:endParaRPr b="0" lang="en-US" sz="4400" spc="-1" strike="noStrike">
              <a:solidFill>
                <a:srgbClr val="ffcc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athesis-Stress Model</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individual has an underlying vulnerability (diathesis) to a psychological disorder.  This can be:</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ological, such as a genetic predisposition</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vironmental, such as childhood trauma</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is vulnerability is combined with stressful circumstances (severe car accident, death of close family member, rape, etc.), and if that level of stress exceeds an individual’s ability to cope, the psychological disorder is likely to occu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1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agnosis</a:t>
            </a:r>
            <a:endParaRPr b="0" lang="en-US" sz="4400" spc="-1" strike="noStrike">
              <a:solidFill>
                <a:srgbClr val="ffcc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cess of grouping and naming mental disorder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mental health professionals use the Diagnostic and Statistical Manual of Mental Disorders (DSM-V)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orders are described in terms of observable symptom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lient must meet specific criteria to receive a particular diagnosis</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13">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What is Comorbidity?</a:t>
            </a:r>
            <a:endParaRPr b="0" lang="en-US" sz="4400" spc="-1" strike="noStrike">
              <a:solidFill>
                <a:srgbClr val="ffcc00"/>
              </a:solidFill>
              <a:latin typeface="Times New Roman"/>
            </a:endParaRPr>
          </a:p>
        </p:txBody>
      </p:sp>
      <p:sp>
        <p:nvSpPr>
          <p:cNvPr id="11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y psychological disorders occur together, e.g.</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ression and anxiet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ression and substance abuse</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 person is diagnosed with a disorder, the clinician should also assess them for commonly occurring comorbid disord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Lynne Trench</cp:lastModifiedBy>
  <dcterms:modified xsi:type="dcterms:W3CDTF">2020-05-04T19:22:50Z</dcterms:modified>
  <cp:revision>85</cp:revision>
  <dc:subject/>
  <dc:title>How do organisms adapt to change?</dc:title>
</cp:coreProperties>
</file>