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4095-7B30-41C8-AF62-F73F71BB5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6911-FA04-40FC-B15A-D7AC33FE3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ssing Over Between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918A-0619-401A-A389-F43C0C059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ossing Over Between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gure 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E679-5A3F-46F6-A743-7888F083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BFC1-986A-45D5-8CD8-30F1C7BEB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ge 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3 A Three-Point Testcross Can Be Used to Map Three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tructing a Genetic Map with a Three-Point Test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3 A Three-Point Testcross Can Be Used to Map Three Linked 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structing a Genetic Map with a Three-Point Test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cept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265-885D-4D09-96D5-B1723A26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 Mapping with Recombination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EE95-106E-4910-B564-8ABBFB5D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 Mapping with Recombination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FF15-EDEC-4158-B4B6-55E99644C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1 Linked Genes Do Not Assor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041B-E081-4595-AF5C-1465B3F0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cation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5.1 Linked Genes Do Not Assor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791-1614-4E65-80F8-83CDA677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AA0C-1C26-4DBC-A16E-D26239B2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B67-6E83-4CB9-9A08-5919AEC6D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BBF-6B53-49AD-8CCF-32CEE52C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E84E-5241-437E-9C49-52E12F1E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104A-3857-4AFA-A80B-9822C915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18B-B312-4543-8A5C-2C76CF79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0909-B73C-4FC6-9DE2-C3A7676E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C958-85F3-41D0-AE59-AA9A7B7F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7A8A-7D28-4752-B3E5-39DF04F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0D78-3039-4B35-A5BB-E3D60BE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3CD-9CDB-451B-9FBF-C233115E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90F2-8E5E-4350-841A-EE74A8C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C501-CE30-4AD5-A5C7-315AD032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F02C-94F6-43CC-995F-7501FC5D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8D64-EE28-4F2E-BA09-00962E2B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D5E-2A9F-44BF-8CE9-31A5A5C8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3690-248C-4E76-B4F5-0A8E7DB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A32-C083-49F7-8DC4-39AB29F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E0C-ED68-4378-8DC6-D9F263B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F5E-B44C-45ED-B597-616B2DDD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027-F105-4A72-B40E-969CDE1B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C4B-5F5A-428C-8D74-6C46D90A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ABA-E442-4A71-B5C9-71D4BEE5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627-7321-412D-AA7E-88F1C965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D43-F644-4F73-B016-6D262D656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HdIBRYvDUzM&amp;feature=youtu.b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167652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GENETICS ESS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Concepts and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FOUR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4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Benjamin A. P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20840" y="4419720"/>
            <a:ext cx="8305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b3d7"/>
                </a:solidFill>
                <a:latin typeface="Arial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b3d7"/>
                </a:solidFill>
                <a:latin typeface="Arial"/>
              </a:rPr>
              <a:t>Linkage, Recombination, and Eukaryotic Gene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-27000" y="6550200"/>
            <a:ext cx="91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16 W. 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age and Crossing 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age- keeps particular gene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ing over- mixes genes up (producing new combin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22200" y="2209680"/>
            <a:ext cx="8534520" cy="3305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9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ssing over can break up linked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121360" cy="5626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9440" y="-360"/>
            <a:ext cx="847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for gene linkage: a test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4444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rossing over on inheritance of  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genes A and B are linked, what is the maximum percentage of recombinant gametes that can be produced if a single crossover occurs during gametogenesi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3623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genes A and B are linked, what is the maximum percentage of recombinant gametes that can be produced if a single crossover occurs during gametogenesi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1295280" y="34290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Linked Genes Segregate Together and Crossing Over Produces Recombination Between The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ng Recombination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 frequency = (No. recombinant progeny/Total no. of progeny) x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8 + 7/ 55 + 53 + 8 + 7 x 100%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/123 x 100%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2% or 0.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533520" y="160020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914480" y="314280"/>
            <a:ext cx="53150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2262240" y="314280"/>
            <a:ext cx="46195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oss AB/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b/ab, what is the recombination frequency if the progeny numbers are 72 AB/ab, 68 ab/ab, 17 Ab/ab, and 21 aB/a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4721400" y="2133720"/>
            <a:ext cx="3965400" cy="3794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e pattern baldness (androgenic alopeci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981080"/>
            <a:ext cx="4264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linked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X chromosome exist single-nucleotide genetic variants called “snips” at position p12-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androgen receptor gene- which binds testo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oss AB/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b/ab, what is the recombination frequency if the progeny numbers are 72 AB/ab, 68 ab/ab, 17 Ab/ab, and 21 aB/a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"/>
          <p:cNvSpPr/>
          <p:nvPr/>
        </p:nvSpPr>
        <p:spPr>
          <a:xfrm>
            <a:off x="838080" y="25909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847960" y="1824120"/>
            <a:ext cx="57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 + 21/ 17+21+72+68 = 38/178 = 0.2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6480"/>
            <a:ext cx="84582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Arrangement of Linked Ge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and Repulsion Configuration of Linked Genes- determines which phenotypes will be most common in the progeny of a test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pling (cis configuratio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-type alleles are found on one chromosome; mutant alleles are found on the other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ulsion (trans configuration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-type allele and mutant allele are found on the same chrom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p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95360" y="9907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pling vs. Repulsion test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pling(ci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pb  X  pp/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pulsion(trans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/p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X  pp/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both wild type and domin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difference in the genotypes of the parent being testcrossed. The differences in # of phenotypes of the offspring are only due to the cis vs trans arran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457200" y="12193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469800" y="314280"/>
            <a:ext cx="82044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00600" cy="5481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 the outcomes of crosses with 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5390640" y="586728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if 16% are recombinan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% would be nonrecombi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2185920" y="314280"/>
            <a:ext cx="477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p. 127: Testing for Independent asso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p. 128-9: Chi-square test of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M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44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Morgan proposed that recombination frequencies could be used to determine the order of genes on a chromosome and result in an estimate of relative distance between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etic map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map using recombination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ysical maps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 map using physical distances (often # of base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533520" y="10666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Mapping with Recombination Frequencies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distances between genes on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ome are related to their rat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un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iMorgans (cM)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s on genetic maps are measured in map units. One map unit = a 1% recombination rate. Map units are also called centiMorg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52280" y="152280"/>
            <a:ext cx="8458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ene Mapping with Recombination Frequen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6765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mapping with 2-point testcro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Content Placeholder 3" descr="unnumbered_05_p129a.jpg"/>
          <p:cNvPicPr/>
          <p:nvPr/>
        </p:nvPicPr>
        <p:blipFill>
          <a:blip r:embed="rId1"/>
          <a:stretch/>
        </p:blipFill>
        <p:spPr>
          <a:xfrm>
            <a:off x="466560" y="3108240"/>
            <a:ext cx="8229600" cy="3444840"/>
          </a:xfrm>
          <a:prstGeom prst="rect">
            <a:avLst/>
          </a:prstGeom>
          <a:ln w="0">
            <a:noFill/>
          </a:ln>
        </p:spPr>
      </p:pic>
      <p:sp>
        <p:nvSpPr>
          <p:cNvPr id="158" name="Line 4"/>
          <p:cNvSpPr/>
          <p:nvPr/>
        </p:nvSpPr>
        <p:spPr>
          <a:xfrm>
            <a:off x="609480" y="152388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468360" y="1523880"/>
            <a:ext cx="82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maps can be constructed by conducting a seri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rosses and by determining recombination frequ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airs of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ecombination frequency between a and b is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1 Linked Genes Do Not Assort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nciple of segre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separate during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assor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at one locus sort independently from alleles at another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comb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eles sort into new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09480" y="144792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unnumbered_05_p129c.jpg"/>
          <p:cNvPicPr/>
          <p:nvPr/>
        </p:nvPicPr>
        <p:blipFill>
          <a:blip r:embed="rId1"/>
          <a:stretch/>
        </p:blipFill>
        <p:spPr>
          <a:xfrm>
            <a:off x="457200" y="2502000"/>
            <a:ext cx="8229600" cy="427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tic mapping with 2-point testcro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533520" y="12193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57200" y="13143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b is 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 and d is 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c is 5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and d is 28% (approx. 3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d is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nd c is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484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. 5.10- In genetic mapping, watch out for the double crossover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3 A Three-Point Testcross Can Be Used to Map Three Linked Gen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double-crossovers can be missed, a more efficient mapping technique is a testcross for 3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-Point Testc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. 5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gene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loca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uble-crossov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it is more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24520" cy="5072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784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overs with 3 linked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14280" y="1143000"/>
            <a:ext cx="1692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(Aa Bb 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/abc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s or cou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172200" y="2743200"/>
            <a:ext cx="990720" cy="457200"/>
          </a:xfrm>
          <a:prstGeom prst="rect">
            <a:avLst/>
          </a:prstGeom>
          <a:noFill/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144960" y="314280"/>
            <a:ext cx="2854080" cy="6229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"/>
          <p:cNvSpPr/>
          <p:nvPr/>
        </p:nvSpPr>
        <p:spPr>
          <a:xfrm>
            <a:off x="621000" y="609480"/>
            <a:ext cx="202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 5.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point test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gene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progeny are the nonrecombinants: they will be the 2 most numerous classes of pro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double-crossover progeny, they are the 2 least num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3 possible gene orders and see which matches the closest to 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.e. which locus is in the middl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know the correct order of the loci on the chromosome, you can rewrite the phenotypes of the testcross progeny in the correc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frequencies of recombination, in order to determine map di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draw a map of the 3 genes on the chromos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gene order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ncept Che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hree-point testcross is carried out between three linked genes.  The resulting nonrecombinant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he double-crossover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middle loc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ncept Check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hree-point testcross is carried out between three linked genes.  The resulting nonrecombinant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nd the double-crossover progeny ar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 r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s the middle loc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99cc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 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deo: 3-pt testcross &amp; ge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youtube.com/watch?v=HdIBRYvDUzM&amp;feature=youtu.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533520" y="12952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4041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independ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sortment of flower color and polle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a three-point test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eterozygous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omozygous recessive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termine gen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ing a three-point test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eterozygous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an individual that is homozygous recessive for three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determine gen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457200" y="3962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ost likely order of the linked genes R, S, and T if the distance between R and S is 22 m.u., the distance between S and T is 8 m.u., and the distance between R and T is 14 m.u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most likely order of the linked genes R, S, and T if the distance between R and S is 22 m.u., the distance between S and T is 8 m.u., and the distance between R and T is 14 m.u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be determ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838080" y="28195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"/>
          <p:cNvSpPr/>
          <p:nvPr/>
        </p:nvSpPr>
        <p:spPr>
          <a:xfrm>
            <a:off x="4572000" y="2971800"/>
            <a:ext cx="350532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4"/>
          <p:cNvSpPr/>
          <p:nvPr/>
        </p:nvSpPr>
        <p:spPr>
          <a:xfrm>
            <a:off x="457200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>
            <a:off x="685800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9"/>
          <p:cNvSpPr/>
          <p:nvPr/>
        </p:nvSpPr>
        <p:spPr>
          <a:xfrm>
            <a:off x="8077320" y="2819520"/>
            <a:ext cx="0" cy="1522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4399200" y="2521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6725160" y="252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2"/>
          <p:cNvSpPr/>
          <p:nvPr/>
        </p:nvSpPr>
        <p:spPr>
          <a:xfrm>
            <a:off x="7942320" y="2521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 Brace 7"/>
          <p:cNvSpPr/>
          <p:nvPr/>
        </p:nvSpPr>
        <p:spPr>
          <a:xfrm rot="5400000">
            <a:off x="6148080" y="536040"/>
            <a:ext cx="352440" cy="3505320"/>
          </a:xfrm>
          <a:custGeom>
            <a:avLst/>
            <a:gdLst>
              <a:gd name="textAreaLeft" fmla="*/ 225360 w 352440"/>
              <a:gd name="textAreaRight" fmla="*/ 352800 w 352440"/>
              <a:gd name="textAreaTop" fmla="*/ 0 h 3505320"/>
              <a:gd name="textAreaBottom" fmla="*/ 350568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6107400" y="182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72576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7"/>
          <p:cNvSpPr/>
          <p:nvPr/>
        </p:nvSpPr>
        <p:spPr>
          <a:xfrm>
            <a:off x="5415480" y="263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143080" y="314280"/>
            <a:ext cx="48578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5010120" cy="55720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864720" y="6019920"/>
            <a:ext cx="75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he 2 loci for color and pollen shape lie close to each other on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some &amp; therefore do not assort independently. Act as a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fc5"/>
                </a:solidFill>
                <a:latin typeface="Arial"/>
              </a:rPr>
              <a:t>In performing a dihybrid cross, you expect to see a 9:3:3:1 ratio. What is a good explanation if you do not see a 9:3:3:1 ratio in a dihybrid cro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not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enes is dominant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ssort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es that Mendel’s laws are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bfc5"/>
                </a:solidFill>
                <a:latin typeface="Arial"/>
              </a:rPr>
              <a:t>In performing a dihybrid cross, you expect to see a 9:3:3:1 ratio. What is a good explanation if you do not see a 9:3:3:1 ratio in a dihybrid cros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not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re lin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enes is dominant ove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genes assort independen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ves that Mendel’s laws are in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838080" y="1905120"/>
            <a:ext cx="5335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-228600"/>
            <a:ext cx="845820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5.2 Linked Genes Segregate Together and Crossing Over Produces Recombinatio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tion for crosses with linkag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B/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linkage- No crossing over. Leads to non-recombinant gametes and non-recombinant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ing over- with linked genes leads to recombinant gametes and recombinant prog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3:44:52Z</dcterms:created>
  <dc:creator>hbadmin</dc:creator>
  <dc:description/>
  <dc:language>en-US</dc:language>
  <cp:lastModifiedBy>Rigdon, Kenda</cp:lastModifiedBy>
  <dcterms:modified xsi:type="dcterms:W3CDTF">2020-03-02T15:05:45Z</dcterms:modified>
  <cp:revision>139</cp:revision>
  <dc:subject/>
  <dc:title>Pierce Genetics:  A Conceptual Approach 3e</dc:title>
</cp:coreProperties>
</file>