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683A-989A-4BB2-A3AB-BACEBB5D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9E03-108C-41B0-AA53-A9A0066C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ssing Over Between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8EB-DF7E-465A-9B22-FE1AE4C6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ssing Over Between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0A3-4D93-4084-8F46-0A0E99DD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E83-D523-4162-A181-4D52D2F4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3 A Three-Point Testcross Can Be Used to Map Three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tructing a Genetic Map with a Three-Point Test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3 A Three-Point Testcross Can Be Used to Map Three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tructing a Genetic Map with a Three-Point Test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CED-AF05-4B44-9EE2-A4FA1C75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 Mapping with Recombination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13BE-CD91-47BC-B8FE-86AD29FA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 Mapping with Recombination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2CAE-2A76-4797-898B-EB915DF4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1 Linked Genes Do Not Assor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323C-A415-4EB6-8B3D-75969630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1 Linked Genes Do Not Assor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0E3-1FDF-4CB5-B3AB-230541D6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CB8-4676-4941-AFEE-4661678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68F-8C6A-4B20-BA3A-21BDD0D4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28C-8EAC-47BF-8253-F1802285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BAB5-51F4-4B5F-93B5-0562C23A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DA95-E2A5-435F-801F-1D4BE918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9179-D53E-480E-B899-1CF32E85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92B-CDD5-4580-BF6E-B7FD1C6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1E76-837E-4D16-8E23-E275A1B5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0891-DB82-4F05-8340-3F230B1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8098-2079-438D-953F-201244F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B10-B24F-485E-BE80-DAE45F3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630-5664-4EF9-B679-554DD84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F131-FD7A-4C50-AA74-ABA8713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7602-0A52-47E3-AC2F-797888C0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752-AFB6-4883-9DD2-F992C45C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2547-D7CA-4DDF-B8CE-CC3CD1C3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40B-B41F-4440-A661-9C4137B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F6A-D032-4FAC-AEF7-9A99D26E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C8F-95B3-43C2-9C70-6DA8340F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668-A4EB-40FD-AFD6-C86335B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B5B-90B8-4760-9D41-380A41D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04B-89DB-4A53-BA95-9FE915B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78D-D839-46CA-A661-89755A5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C4B4-6E28-4706-BDD6-B6D04C3EA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5D37-3543-4638-96B8-2F1E250DA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dIBRYvDUzM&amp;feature=youtu.b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67652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GENETICS ESS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Concepts and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4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Benjamin A. P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20840" y="4419720"/>
            <a:ext cx="8305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b3d7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b3d7"/>
                </a:solidFill>
                <a:latin typeface="Arial"/>
              </a:rPr>
              <a:t>Linkage, Recombination, and Eukaryotic Gene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-27000" y="6550200"/>
            <a:ext cx="91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16 W. 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age and 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age- keeps particular gene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- mixes genes up (producing new combin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22200" y="2209680"/>
            <a:ext cx="8534520" cy="3305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ing over can break up linked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21360" cy="5626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or gene linkage: a test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444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rossing over on inheritance of  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genes A and B are linked, what is the maximum percentage of recombinant gametes that can be produced if a single crossover occurs during gametogenesi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genes A and B are linked, what is the maximum percentage of recombinant gametes that can be produced if a single crossover occurs during gametogenesi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1295280" y="34290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Linked Genes Segregate Together and Crossing Over Produces Recombination Between Th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frequency = (No. recombinant progeny/Total no. of progeny) x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 + 7/ 55 + 53 + 8 + 7 x 100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/123 x 100%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% or 0.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533520" y="160020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914480" y="314280"/>
            <a:ext cx="53150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2262240" y="314280"/>
            <a:ext cx="46195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oss AB/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b/ab, what is the recombination frequency if the progeny numbers are 72 AB/ab, 68 ab/ab, 17 Ab/ab, and 21 aB/a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4721400" y="2133720"/>
            <a:ext cx="3965400" cy="3794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pattern baldness (androgenic alopec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981080"/>
            <a:ext cx="4264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linked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X chromosome exist single-nucleotide genetic variants called “snips” at position p12-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androgen receptor gene- which binds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oss AB/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b/ab, what is the recombination frequency if the progeny numbers are 72 AB/ab, 68 ab/ab, 17 Ab/ab, and 21 aB/a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838080" y="25909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847960" y="1824120"/>
            <a:ext cx="57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 + 21/ 17+21+72+68 = 38/178 = 0.2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6480"/>
            <a:ext cx="84582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Arrangement of Linked Ge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and Repulsion Configuration of Linked Genes- determines which phenotypes will be most common in the progeny of a test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pling (cis configuratio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-type alleles are found on one chromosome; mutant alleles are found on the other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lsion (trans configuratio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-type allele and mutant allele are found on the same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p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95360" y="9907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pling vs. Repulsion test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pling(ci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b  X  pp/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ulsion(tran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/p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pp/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both wild type and domin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difference in the genotypes of the parent being testcrossed. The differences in # of phenotypes of the offspring are only due to the cis vs trans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457200" y="12193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469800" y="314280"/>
            <a:ext cx="82044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00600" cy="5481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 the outcomes of crosses with 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390640" y="586728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f 16% are recombinan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% would be nonrecomb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185920" y="314280"/>
            <a:ext cx="477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p. 127: Testing for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p. 128-9: Chi-square test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44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gan proposed that recombination frequencies could be used to determine the order of genes on a chromosome and result in an estimate of relative distance between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map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map using recombination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ap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map using physical distances (often # of base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533520" y="10666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Mapping with Recombination Frequencies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stances between genes o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 are related to their rat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un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iMorgans (cM)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s on genetic maps are measured in map units. One map unit = a 1% recombination rate. Map units are also called centiM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52280" y="15228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ene Mapping with Recombination Frequen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mapping with 2-point testcr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3" descr="unnumbered_05_p129a.jpg"/>
          <p:cNvPicPr/>
          <p:nvPr/>
        </p:nvPicPr>
        <p:blipFill>
          <a:blip r:embed="rId1"/>
          <a:stretch/>
        </p:blipFill>
        <p:spPr>
          <a:xfrm>
            <a:off x="466560" y="3108240"/>
            <a:ext cx="8229600" cy="3444840"/>
          </a:xfrm>
          <a:prstGeom prst="rect">
            <a:avLst/>
          </a:prstGeom>
          <a:ln w="0">
            <a:noFill/>
          </a:ln>
        </p:spPr>
      </p:pic>
      <p:sp>
        <p:nvSpPr>
          <p:cNvPr id="158" name="Line 4"/>
          <p:cNvSpPr/>
          <p:nvPr/>
        </p:nvSpPr>
        <p:spPr>
          <a:xfrm>
            <a:off x="609480" y="152388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68360" y="1523880"/>
            <a:ext cx="82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maps can be constructed by conducting a seri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rosses and by determining recombination frequ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airs of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ecombination frequency between a and b is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1 Linked Genes Do Not Assort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ciple of se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separate during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assor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at one locus sort independently from alleles at another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sort into new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unnumbered_05_p129c.jpg"/>
          <p:cNvPicPr/>
          <p:nvPr/>
        </p:nvPicPr>
        <p:blipFill>
          <a:blip r:embed="rId1"/>
          <a:stretch/>
        </p:blipFill>
        <p:spPr>
          <a:xfrm>
            <a:off x="457200" y="2502000"/>
            <a:ext cx="8229600" cy="427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tic mapping with 2-point testcr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7200" y="1314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b is 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and d is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c is 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and d is 28% (approx.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d is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nd c is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484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. 5.10- In genetic mapping, watch out for the double crossov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3 A Three-Point Testcross Can Be Used to Map Three Linked Gen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double-crossovers can be missed, a more efficient mapping technique is a testcross for 3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-Point Test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5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gen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loc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uble-crossov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more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24520" cy="5072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784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s with 3 linked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14280" y="1143000"/>
            <a:ext cx="1692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(Aa Bb 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/abc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s or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172200" y="2743200"/>
            <a:ext cx="990720" cy="4572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144960" y="314280"/>
            <a:ext cx="2854080" cy="6229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621000" y="60948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 5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point test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gene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progeny are the nonrecombinants: they will be the 2 most numerous classes of pro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ouble-crossover progeny, they are the 2 least num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3 possible gene orders and see which matches the closest to 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which locus is in the midd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know the correct order of the loci on the chromosome, you can rewrite the phenotypes of the testcross progeny in the correc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frequencies of recombination, in order to determine map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draw a map of the 3 genes on the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gene order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ncept Che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hree-point testcross is carried out between three linked genes.  The resulting nonrecombinant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he double-crossover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middle loc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ncept Che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hree-point testcross is carried out between three linked genes.  The resulting nonrecombinant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he double-crossover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middle loc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99cc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deo: 3-pt testcross &amp; ge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HdIBRYvDUzM&amp;feature=youtu.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4041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rtment of flower color and polle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a three-point test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eterozygous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omozygous recessive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termine gen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a three-point test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eterozygous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omozygous recessive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termine gen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457200" y="3962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ost likely order of the linked genes R, S, and T if the distance between R and S is 22 m.u., the distance between S and T is 8 m.u., and the distance between R and T is 14 m.u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ost likely order of the linked genes R, S, and T if the distance between R and S is 22 m.u., the distance between S and T is 8 m.u., and the distance between R and T is 14 m.u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838080" y="2819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"/>
          <p:cNvSpPr/>
          <p:nvPr/>
        </p:nvSpPr>
        <p:spPr>
          <a:xfrm>
            <a:off x="4572000" y="2971800"/>
            <a:ext cx="35053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"/>
          <p:cNvSpPr/>
          <p:nvPr/>
        </p:nvSpPr>
        <p:spPr>
          <a:xfrm>
            <a:off x="457200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>
            <a:off x="685800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9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4399200" y="252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6725160" y="252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7942320" y="252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 Brace 7"/>
          <p:cNvSpPr/>
          <p:nvPr/>
        </p:nvSpPr>
        <p:spPr>
          <a:xfrm rot="5400000">
            <a:off x="6148080" y="536040"/>
            <a:ext cx="352440" cy="3505320"/>
          </a:xfrm>
          <a:custGeom>
            <a:avLst/>
            <a:gdLst>
              <a:gd name="textAreaLeft" fmla="*/ 225360 w 352440"/>
              <a:gd name="textAreaRight" fmla="*/ 352800 w 352440"/>
              <a:gd name="textAreaTop" fmla="*/ 0 h 3505320"/>
              <a:gd name="textAreaBottom" fmla="*/ 350568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6107400" y="182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72576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415480" y="263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143080" y="314280"/>
            <a:ext cx="48578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010120" cy="5572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864720" y="6019920"/>
            <a:ext cx="75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he 2 loci for color and pollen shape lie close to each other on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some &amp; therefore do not assort independently. Act as a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fc5"/>
                </a:solidFill>
                <a:latin typeface="Arial"/>
              </a:rPr>
              <a:t>In performing a dihybrid cross, you expect to see a 9:3:3:1 ratio. What is a good explanation if you do not see a 9:3:3:1 ratio in a dihybrid cro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not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enes is dominant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ssort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es that Mendel’s laws are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fc5"/>
                </a:solidFill>
                <a:latin typeface="Arial"/>
              </a:rPr>
              <a:t>In performing a dihybrid cross, you expect to see a 9:3:3:1 ratio. What is a good explanation if you do not see a 9:3:3:1 ratio in a dihybrid cro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not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enes is dominant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ssort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es that Mendel’s laws are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228600"/>
            <a:ext cx="84582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crosses with linkag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B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linkage- No crossing over. Leads to non-recombinant gametes and non-recombinant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over- with linked genes leads to recombinant gametes and recombinant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3:44:52Z</dcterms:created>
  <dc:creator>hbadmin</dc:creator>
  <dc:description/>
  <dc:language>en-US</dc:language>
  <cp:lastModifiedBy>Rigdon, Kenda</cp:lastModifiedBy>
  <dcterms:modified xsi:type="dcterms:W3CDTF">2020-03-02T15:05:45Z</dcterms:modified>
  <cp:revision>139</cp:revision>
  <dc:subject/>
  <dc:title>Pierce Genetics:  A Conceptual Approach 3e</dc:title>
</cp:coreProperties>
</file>