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759-E839-4B17-BD94-275BB455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BA7-00C2-4E7E-8376-A6A57955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B8A-179D-4B4F-A973-608E13E6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2F3-19A1-49D6-823E-24CFCD77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CFBF-C094-4EE1-95BB-1A862469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FE65-2749-4C1B-9E67-14031DC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8498-1DD8-43C2-AEC3-04098B12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7489-78B1-4EA9-82C5-654B3FE3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E3F4-ABDE-4640-9A9B-F0BAE0AC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1A59-E7E9-45D3-9D50-579B18C8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4B1E-80FE-480B-86D8-1481FB01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72E-6C96-4438-892F-FBD80AC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1A59-6088-4E02-908C-48A7FC4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1153-5CFF-4D11-A26B-9EB53CBE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E800-2547-41C3-B17F-245D765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6514-D8BD-46AB-AC2F-07F2E964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67D0-12C1-4B9A-A5CC-680DF906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245-C326-48B9-9E86-2E557351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0ED-A29D-4E53-BBA6-D1309D27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866C-68FA-4DC4-ACC4-18F9ADE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AD11-2CB3-43DB-9FB3-9E4433D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082-8691-4E2C-82AD-D1183A9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DFE-7D67-4849-8420-2A7A2105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5D1-3EB3-4128-BEA1-AA871D69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E6D7-9596-446A-88DC-F6149A69D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7632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64D0-5718-49C9-8C33-AA5D8A5B4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2285640" y="2895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1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167652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GENETICS ESS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b3d7"/>
                </a:solidFill>
                <a:latin typeface="Arial"/>
              </a:rPr>
              <a:t>Concepts and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e6f2"/>
                </a:solidFill>
                <a:latin typeface="Arial"/>
              </a:rPr>
              <a:t>Benjamin A. Pi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20840" y="4419720"/>
            <a:ext cx="8305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b3d7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5b3d7"/>
                </a:solidFill>
                <a:latin typeface="Arial"/>
              </a:rPr>
              <a:t>DNA: The Chemical Nature of the G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11160" y="6477120"/>
            <a:ext cx="914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© 2016 W. H. Freeman and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538360" y="314280"/>
            <a:ext cx="406728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666880" y="812880"/>
            <a:ext cx="3505320" cy="5730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606760" y="1135080"/>
            <a:ext cx="3413160" cy="5408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econdary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530280" y="1073160"/>
            <a:ext cx="3965400" cy="5580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DNA Secondary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193760"/>
            <a:ext cx="403848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Less water is present (dehyd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-handed helix. Common. Plenty of water and no unusual b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-handed helix. Zigzag form. Stretches of G and 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 form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mporary 3- stranded heli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8.4 Large Amounts of DNA Are Packed into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st be tightly packed to fit in small spaces, Fig 8.16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percoi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ative supercoi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igure 8.16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 DNA in it’s lowest energy state has about 10 bp per turn of its hel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poisome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zyme responsible for adding and removing turns in the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63680" y="314280"/>
            <a:ext cx="82166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357120" y="314280"/>
            <a:ext cx="84297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15880" y="106668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15880" y="1600200"/>
            <a:ext cx="839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oncept Check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"/>
          <p:cNvSpPr/>
          <p:nvPr/>
        </p:nvSpPr>
        <p:spPr>
          <a:xfrm>
            <a:off x="533520" y="114300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1600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DNA molecule 300 bp long has 20 complete rotations. This DNA molecul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supercoi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380880" y="3657600"/>
            <a:ext cx="53352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46767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914400" y="5410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st bacterial genomes have a single circular DNA molecule &amp; no hi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4175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5880240" y="426708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225080" y="48006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5334120"/>
            <a:ext cx="84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son and Cri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 discovery of the three-dimensional structure of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5426640" y="4691160"/>
            <a:ext cx="32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diffraction image of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5497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457200" y="76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Organization levels of Chromatin pg. 2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8.3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imary structure of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xyribo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e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ugar, a phosphate, and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 structure: Figure 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ine or pyrimidine base: Figure 8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33520" y="14479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04920" y="1020600"/>
            <a:ext cx="853416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286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"/>
          <p:cNvSpPr/>
          <p:nvPr/>
        </p:nvSpPr>
        <p:spPr>
          <a:xfrm>
            <a:off x="1105560" y="5715000"/>
            <a:ext cx="74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side = ribose sugar + nitrogenous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2313000" y="314280"/>
            <a:ext cx="4518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508200" y="304920"/>
            <a:ext cx="4035600" cy="6229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513360" y="838080"/>
            <a:ext cx="29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Nucleoti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G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8.3 DNA Consists of Two Complementary and Antiparallel Nucleotide Strands that Form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 Double Helix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ary structur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bone formed through phosphodiester bo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bond and base pa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parallel complementary DNA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8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533520" y="1406520"/>
            <a:ext cx="7924680" cy="0"/>
          </a:xfrm>
          <a:prstGeom prst="line">
            <a:avLst/>
          </a:prstGeom>
          <a:ln w="57240">
            <a:solidFill>
              <a:srgbClr val="2fb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862280" y="314280"/>
            <a:ext cx="541944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3:44:52Z</dcterms:created>
  <dc:creator>hbadmin</dc:creator>
  <dc:description/>
  <dc:language>en-US</dc:language>
  <cp:lastModifiedBy>Rigdon, Kenda</cp:lastModifiedBy>
  <dcterms:modified xsi:type="dcterms:W3CDTF">2020-03-09T16:16:24Z</dcterms:modified>
  <cp:revision>91</cp:revision>
  <dc:subject/>
  <dc:title>Pierce Genetics:  A Conceptual Approach 3e</dc:title>
</cp:coreProperties>
</file>