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669-0ABF-4C9A-9600-08680631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576-DE1F-4734-992E-DC453BF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6EA-26D7-4291-9329-6C1F8A32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7D7-1E17-46DC-915B-3ED1149F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67B3-F607-490F-9554-E0172B1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2755-E1F3-4515-856C-C39AB6D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FDAB-3EFA-4B72-8185-D9C1A3A6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C72-BB4F-4CF9-8D9B-A548B3C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C650-F0AF-44A9-B66C-4BE36D1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3BB4-E14B-43AE-88A7-F5F08C6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47CA-5921-4A5A-AF9F-73C4C25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B26-B5DC-46C4-8A3B-DDA454E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E4B2-06E0-45CD-8A59-7CEE7F6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39D-14F2-413C-BF57-124CA87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2107-B78B-4A81-8E90-82B4C7C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CD6-3A95-4A5A-95EC-5CF42099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5930-38F7-43F0-A2E9-2B380400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131-73A6-4756-A50C-4808658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272-1D92-48FD-BC80-B27F57BD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412-501C-4658-8E3D-65771C88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76D-8060-499E-86C8-783860C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A48-9832-4543-9AAC-5F72807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61C-F7A6-4D68-AB62-196961B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C7C-2BD1-4250-9AC8-A2420E2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27EE-28D7-430D-A404-EABB2416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40BF-3311-41F5-877F-153FC232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DNA: The Chemical Nature of the 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11160" y="6477120"/>
            <a:ext cx="914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538360" y="314280"/>
            <a:ext cx="40672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666880" y="812880"/>
            <a:ext cx="3505320" cy="573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606760" y="1135080"/>
            <a:ext cx="3413160" cy="540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530280" y="1073160"/>
            <a:ext cx="3965400" cy="5580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DNA Secondar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193760"/>
            <a:ext cx="4038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Less water is present (dehyd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Common. Plenty of water and no unusual b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-handed helix. Zigzag form. Stretches of G and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3- stranded hel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8.4 Large Amounts of DNA Are Packed into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st be tightly packed to fit in small spaces, Fig 8.16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percoi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 DNA in it’s lowest energy state has about 10 bp per turn of its hel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isome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zyme responsible for adding and removing turns in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63680" y="314280"/>
            <a:ext cx="82166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7120" y="314280"/>
            <a:ext cx="84297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1588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5880" y="1600200"/>
            <a:ext cx="839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533520" y="11430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1600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80880" y="36576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4676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5410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bacterial genomes have a single circular DNA molecule &amp; no hi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4175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5880240" y="42670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225080" y="4800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53341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son and Cri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discovery of the three-dimensional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426640" y="46911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diffraction image of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549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57200" y="76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Organization levels of Chromatin pg. 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8.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mary structure of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ugar, a phosphate, and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 structure: Figure 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ne or pyrimidine base: Figure 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14479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04920" y="1020600"/>
            <a:ext cx="853416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105560" y="571500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side = ribose sugar + nitrogen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313000" y="314280"/>
            <a:ext cx="4518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508200" y="304920"/>
            <a:ext cx="4035600" cy="6229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513360" y="838080"/>
            <a:ext cx="29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Nucleoti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G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8.3 DNA Consists of Two Complementary and Antiparallel Nucleotide Strands that Form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 Double Helix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ructur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bone formed through phosphodiester b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 and base pa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parallel complementary DNA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533520" y="140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862280" y="314280"/>
            <a:ext cx="54194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9T16:16:24Z</dcterms:modified>
  <cp:revision>91</cp:revision>
  <dc:subject/>
  <dc:title>Pierce Genetics:  A Conceptual Approach 3e</dc:title>
</cp:coreProperties>
</file>