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65B-ED89-4426-9B2E-C7148A3C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91C-9DD8-4E04-AAFB-793A6B5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6C6-6FF9-423B-BA59-CA1FC75F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B32-4AA9-4E41-86DF-341AF6CC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377-FB80-430E-9787-6907B4E5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81CB-BFA0-4410-B4B5-9ED9CB6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81D1-9C3C-471E-80A7-D1966412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046-7910-417A-B0D6-75707F6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48A-50EA-4351-B1D0-F8CBC2E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869B-973A-4973-BF02-BC143665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2F1B-E3B4-4149-A446-991ED93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3B5-8C19-420A-93A4-4F90D7E3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E5C2-9347-4748-9734-761EB6F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609-AF79-4064-BEB1-9D7FDAE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F18-B241-496D-BA7B-249B18CB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F0F-912C-4611-BC2E-CBDA0CEB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6AB-2848-4241-BCFF-FE4493DD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E92-C886-4202-A7BD-D4300C5D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C68-147C-4C47-AF81-5C350FA6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B93-D9BD-4E21-B33D-06731CDA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0E8-B0DD-40C6-AC00-B2C330B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3F8-BCC0-4DE3-B8F7-F282BDC1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B6D-5B03-4E59-B4E9-995A4BD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B86-C8D8-44D8-AF20-60DF13E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820-38A0-4E15-94FD-FBB491E8C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700-ECF3-4EDB-AC01-38356AA3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DNA: The Chemical Nature of the 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11160" y="6477120"/>
            <a:ext cx="914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538360" y="314280"/>
            <a:ext cx="40672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666880" y="812880"/>
            <a:ext cx="3505320" cy="573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606760" y="1135080"/>
            <a:ext cx="3413160" cy="540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530280" y="1073160"/>
            <a:ext cx="3965400" cy="5580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DNA Secondar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193760"/>
            <a:ext cx="4038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Less water is present (dehyd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Common. Plenty of water and no unusual b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-handed helix. Zigzag form. Stretches of G and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3- stranded hel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8.4 Large Amounts of DNA Are Packed into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st be tightly packed to fit in small spaces, Fig 8.16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percoi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 DNA in it’s lowest energy state has about 10 bp per turn of its hel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isome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zyme responsible for adding and removing turns in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63680" y="314280"/>
            <a:ext cx="82166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7120" y="314280"/>
            <a:ext cx="84297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1588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5880" y="1600200"/>
            <a:ext cx="839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533520" y="11430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1600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80880" y="36576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4676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5410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bacterial genomes have a single circular DNA molecule &amp; no hi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4175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5880240" y="42670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225080" y="4800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53341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son and Cri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discovery of the three-dimensional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426640" y="46911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diffraction image of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549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57200" y="76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Organization levels of Chromatin pg. 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8.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mary structure of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ugar, a phosphate, and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 structure: Figure 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ne or pyrimidine base: Figure 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14479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04920" y="1020600"/>
            <a:ext cx="853416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105560" y="571500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side = ribose sugar + nitrogen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313000" y="314280"/>
            <a:ext cx="4518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508200" y="304920"/>
            <a:ext cx="4035600" cy="6229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513360" y="838080"/>
            <a:ext cx="29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Nucleoti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G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8.3 DNA Consists of Two Complementary and Antiparallel Nucleotide Strands that Form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 Double Helix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ructur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bone formed through phosphodiester b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 and base pa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parallel complementary DNA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533520" y="140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862280" y="314280"/>
            <a:ext cx="54194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9T16:16:24Z</dcterms:modified>
  <cp:revision>91</cp:revision>
  <dc:subject/>
  <dc:title>Pierce Genetics:  A Conceptual Approach 3e</dc:title>
</cp:coreProperties>
</file>