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4A16-AF4F-4F91-8E14-DA3214325D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883F-AC20-43F0-846D-8713E70F8A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CF3-D59C-4331-A7F1-0C5F4F9D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9BF-20B8-463B-8709-AC72607F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DD77F2-BB02-40FD-BFF2-9B6CF997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CE5352-731D-4662-ACAB-278C0ED6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35F3D-5D9B-4E4D-A36E-0B6CEBAB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A3D6F-C547-4328-917B-E7EBB9A0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3F2EF-3F96-4588-A723-F6ED51F7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97499-6EF1-4D70-A0B3-B1F33A3C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2BE80D-7711-47DD-AAA6-3E598212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46C9D-456B-4DF1-AB05-545CD93F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C47C43-981A-42B4-BD37-5B6AE9EC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857A05-B1A9-4B25-91F5-59099240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206-3CBC-4D0F-9761-35678489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3396A1-4650-44DF-9319-B9456D9A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056455-9442-40EC-9BEB-3D808550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702FB1-F1AC-45CE-A49C-55C9F925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806748-F8F8-481E-9EE1-AF24606D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5EC01A-3945-46C3-8E8B-274F30EB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8A3063-5CA7-4E9A-A607-45A0FDD4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E4E3E-1067-4B67-9E06-40291F8B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BB2AA3-C1FD-42B2-A84D-E3E20694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65F8D8-78DC-40B8-A1E8-54AB04DD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CA3BF0-929C-4099-925D-BF244575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173-0B3C-4792-B296-EC7932CB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8B6CCF-DC4D-416D-B5BC-189BBCBB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34E1F0-EB7B-4B62-B4B8-9F276A1F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099E6B-0DAF-4F58-BDD9-054CF781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6E2815-ACEF-40F6-B7F7-DB7CB515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B41366-D53B-48F5-81B3-815D14F6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F4E71D-DBE0-48C6-A7E2-FE8841C9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68C5A4-FF2F-446E-9CB7-C8DCF951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C9DDAC-630E-47F0-8410-C9CED69F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7E9BC4-C89C-465E-B414-821A8C59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FC619B-27B7-4853-B419-C31B5D67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3A8C8-0AD9-4B66-A264-3B81AB0A22B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914CDE-1ED4-49C6-B2A7-1CE50480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DD2D9A-09E6-4256-A0D5-85077E88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495ADC-44C0-4D85-B30F-A2CED6D8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437BD8-98A8-4A01-A461-69E7C807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B8A4BB-6F8E-4C82-A0D1-FE77D2DF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A6D48B-76BE-4761-99AE-44185F98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D7E67F-9AA1-4357-A9FB-E05B226D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EB4E3F-BFEF-466B-AE2C-325415AF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4B63F5-C3FE-4E52-A738-897ED6B5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6DCDD0-D26B-48B4-BF6D-81D7586F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17EBB-946C-47E7-AA39-33DB706875B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628191-2358-418B-9082-68BAF3EC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CBF655-EA02-4CFB-952F-F0903789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CBA94D-1CB8-4EF7-89BC-FC56AC27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8D6FBA-1682-4FC4-878E-C05E87F1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FAC820-FAE0-47AF-A0AB-853C3DE2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7766D9-DDC6-4917-A427-AABA9F78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678307-258F-443E-9493-79857715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BF6478-5763-4ABA-86E4-EF960596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409603-AE22-4623-B79D-98C3C2BE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0DF45A-437C-4380-811A-66960C05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B8AD9-24AF-45B6-A95B-47868B13ABC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641D12-E5F6-48C7-9F62-B5C48AF1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63AD7E-AB16-46B1-A4BC-71292F38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D437E5-DD57-4DF6-ABD1-859126A8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7B1C11-37CE-4B47-88F7-503D4F63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3094F6-ECD4-40C2-AA0D-FAAE5AAB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2AA15C-55EF-4A12-A7B6-346CB6A1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AC341F-9194-4D8F-A1E5-42CEBF12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17158B-A046-41F1-AEA7-CB580B00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E57DBC-9C84-40A1-B482-1DDC63A8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810C7B-452E-4BA4-8C66-516251BF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1942A-7174-4727-A4BE-F141C104AEA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9327BD-D617-4F46-BD25-4471AB50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71A32B-DA28-433E-91EC-756A048A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260225-8EF9-4A1C-8944-04149D26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C30273-971E-4956-95F6-077EC6D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827377-F7A9-4157-8142-79D50625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6FB10D-6716-4E24-9EAD-EC8D5783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D72434-5EAB-410E-9A63-F90127F5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DB76D1-8A27-42A9-A4CA-F3D85316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3646C4-50BB-4282-96AE-706687CB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2DAF1-0920-44D1-97C7-2A275FCE4A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37D4B-981E-448C-9330-A30F839653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F7E30-D331-4509-8FB7-875902A330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DBF-21E3-4F41-89A8-6AF46802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B8D99-AC6D-48AC-BF16-86C13EDA09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274B0-5F60-40DC-9495-45DAF92FFD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8061F-6AEA-4384-8B17-CFFDDCA6BF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6CE9D-4203-4F24-9026-FD37AF9648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73391-446F-4C7A-ACFC-94C43FD07B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A8A-08DE-458D-8FD7-588ACFE5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7DE-DA9F-4BA8-98A1-12004D67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F2DFE-5A79-483B-8A86-04F4EF71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7E1-043E-4DA2-A13B-A2DFC44F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1B6A8-FA26-4891-A265-F2D8F629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272CB-CC9A-4374-B9DC-B4CC9445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529FD-8011-4B93-B36E-DD764CB5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5C2BD-DF0A-4018-9C28-9207FC70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4897A-44F7-4F57-B3AC-E71B97F3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2B407C-7376-488D-8698-7A70619B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A0DEF-C429-49B2-B280-D0E22352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45310-65DA-439C-B4D9-CDC7FF67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2C012-D789-440C-9AA4-94580D3F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131DB-017C-4ADA-BAC7-9B3D56B7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3120-2044-403D-9F0A-902A086B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0D43F-DEAD-4F07-882A-08089223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4103CE-8004-45A4-993C-52661745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FD62F-A14A-4225-8367-99FD908C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FFFC67-8262-4A69-A2CD-F662542B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A1B268-D103-464B-AF74-B77606C0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89AF7-257C-451A-9DDA-62359EC6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0C28C-5986-42A6-AE20-1E2B7407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A06002-5E3C-4915-AE46-A944F303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F4DEC-0BEE-40F4-A064-8816B940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AD395-5075-4596-B451-69C54D36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018-4999-4340-9C1C-5EC8E251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E5E306-8302-4EFA-9773-74D75604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28A9E5-C662-48CF-9DB9-B52EECD4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560F36-D1C8-48AA-ABDC-E8C20D24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709346-598C-4B11-AD7D-890A278B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DFE1DA-9A05-4AE5-AE00-67D3FECA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3F751-65C1-462E-A58F-1A699C2D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4C840-25CE-4D75-9F68-9F35A111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4ED9C-B6F9-4700-8C1B-9F4B4C89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6C73C7-4AE3-44DF-936E-64F5F62A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21FF7-6DB9-4A0E-82C3-59B268F7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650-119E-4BB2-B6B9-6384B309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29DB2-5B12-43BB-8C35-B2F44702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187B0-777A-4912-9679-95E84409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1EED2-84CA-4A1D-A8F6-5C02C299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A4F7E-BC3D-4B98-9314-3B2B46C9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D3E94-DEE9-469B-A020-408598C3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BD7B2-1B79-47D4-9F9E-05FBB386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1F6C91-226F-4E37-8A2D-CF715A78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2DE761-DBBB-44B6-A786-1842184F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C43ACA-0031-42D0-8525-1537707A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B81A43-E1DF-4001-AE38-BCF7A4F2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386-7908-4407-8579-63F743D0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861D8C-C53F-4DFD-A180-DD30082F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BC0DF-396B-47CE-AAD4-1327815B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9BEF8-CEC1-4724-936F-BF832834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11BD7-FF7E-42FC-9F31-EC03AFB1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7AFBE3-3F86-4219-AA76-061464F1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465572-DCAD-4227-9093-F43FA6B4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ADEAA-253B-487A-A9B5-5A1FAF0C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36D91C-FC7E-4153-A51B-BD51A0A1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088B0-9D52-4051-B6C5-3D27824A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639764-A0E4-4C23-97F9-9F8E4FFC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EFA3-4BF9-4198-94E9-CDA7522FF9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6BF8-E34F-47A2-9282-97518FA4D9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812A-BD41-47A8-B2A5-8544D5A64B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94D6-CDDF-4D29-A576-810AB94204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3D37-6FC5-49ED-858B-2DA9885790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085F-1732-4106-B972-386166B4D9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DD04-879E-4674-8C6F-AF757B8E98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63FD-0E74-44D8-AFA5-6BE17EB2CC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B507-FC4D-40D2-A540-2B48082F86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CCDB-2E28-40D6-B0B6-6FE94E130A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A15F-AE09-460B-ADD8-F139BDCFCF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21F6-00EF-4C85-A173-CA02246F70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5FDC9C93-9991-46E2-A5BC-241A2BFDA2B9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08-30T19:14:44Z</dcterms:modified>
  <cp:revision>330</cp:revision>
  <dc:subject/>
  <dc:title>Slide 1</dc:title>
</cp:coreProperties>
</file>