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758C-BE99-4920-8383-00A2B41620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F1ED-AEF1-4D30-BD08-ABC4D73CBC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06E-18CC-4A2E-BA75-085BD2A4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24A-5D92-47AF-B795-4F902766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8838A-F9D6-4457-94EB-60B32086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EDF9C-F662-4BCC-A5BC-EFB17F1B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26C8A-A924-454A-ABEB-6E2D8015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28718-A8AB-4EB8-A19B-8AC221D2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F047C-9628-40A7-9F45-BF2E9A20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85EFA-746B-4101-A007-91AA8158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B926F7-FE92-466B-B032-41DCB173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FE858-B3EC-4B0C-9AFB-A5F9E310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ABEBB-1E98-4A22-91E2-53071282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EFDB01-B343-4FB1-BB53-10CAC7C2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4AD-7000-4B02-B4F6-F6C5A4AD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9A63CC-9BF5-4EE7-90DC-0403D7B9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C4D444-DB7B-4A6F-B8AF-457D453C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CB5CF-B65C-49C3-B5D2-0EAE74B4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C3C746-9AE1-4ACB-9E07-7B7E12EB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FA609F-2025-4243-BA81-4F463F44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569253-EB8E-49C2-9712-FF6B82ED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5CE1E8-B557-4F39-A0E5-B440FEB7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89BAA-501E-4CE9-A8E0-A79983AC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4B43C7-6D8E-4C28-92FB-E4FFD312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C565B5-1430-4216-B66F-B52E10B9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84EC-F97F-4122-8C84-C5144036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B7D434-A835-43F1-B33C-43769A58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F6DC64-52D1-4187-88C2-8D433E95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016A2C-115F-4B71-8440-9BCE0DC7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203A8E-8D59-4613-A522-52EB2781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07920A-100C-42D2-A0AA-A3C31F9E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C2E9AB-07DC-4922-AD4C-D365BF7C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66AFAE-9C0C-461C-82FB-BE639FC1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9F9FBE-B6DE-474A-BB42-957C60B7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97CF44-B4B8-4D12-8A44-4CE08B68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5F2EBC-857D-48E1-90B7-27CD6526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10D97-0629-4544-B8F4-1B702A1CA0F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4D0992-DFEF-4AAA-9BB0-84392967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0C3555-756E-41EB-A031-1DDEBD76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620A11-DC3D-459E-8FF3-0E0D384C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67022D-BBC1-45DA-9432-BFCBDC9C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291A25-5C06-4BE5-8061-66CABADB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B32D38-6E98-4CB9-AB50-F05FA64B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C3853D-67C1-470E-A9E7-9DBD155F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BD9405-BC8D-4F6A-95E5-4B021B6A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0A0EE0-40EC-483B-A550-0ABEF004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13D453-AB71-4C34-8BC1-7AE79D2E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DF3B1-8A74-4B60-B845-1B6FEAFE0BE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68B424-205A-4192-BA34-F5B88C17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CC9290-28E8-45A0-9E2A-E63F9CAA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BF04CC-591B-49E0-8101-91F48B21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1B3673-30F8-47E0-8608-33109830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428CC0-8087-4E32-B454-38B42811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C1B25D-A52B-4210-B903-814CFBC4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17E1C5-A6A6-4B25-A03B-88346EB7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B8B7AE-A8CE-40CC-A42B-8F879B16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F7984A-694A-45E4-85E1-13F4F190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C59A19-6D7A-446F-9506-DD712623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BA4DE-E4EF-4B38-967F-D9E869FCD40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0D9382-66B5-4D7F-9464-A159ADE6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8D39FF-31A4-436C-A56B-2D63F3C0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8AEE1D-702F-40B4-A0FF-A336A9CB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40B739-3983-4D8F-9AB1-57FF7DCA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0009B5-06B3-448B-B4DC-FFB40520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E4CEA8-C26F-4E92-AE58-F6E881EE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844B57-16F6-475A-B101-97394581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1126CC-203D-4424-80BB-A0665DA3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503576-ED79-4171-929E-08D62ABE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C27414-FD8D-48DF-A4C4-55CC9069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D358D-910B-431D-A1CF-E54E358F2EB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5C0B4E-D8D5-4FD2-A48E-2614DBE4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1890F3-B0C3-4BB6-95EC-0F10D96A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7AD7C3-E6D1-4162-ABBA-92D70F87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DE0F54-6483-466F-84C7-97185256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A4C0A1-F9BF-4535-9370-A3A20F7F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0A3901-B9E9-4BA2-A33D-A23ABD25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606BCD-1EF1-4780-BBCC-0E29B2FF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774863-5524-4C66-B43B-C54E3757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F74D46-E0CC-4B40-9D85-73638683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EA465-E887-4B79-AE2E-D26A4E359D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AC3B4-20C6-4E74-9AE3-7C15CB5A35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0E20C-247D-426A-A0ED-2DD0C50A39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0E4-485F-4576-A507-26D64DFA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05914-EA92-4FBE-BCFA-DB653C8C16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3D05D-3E20-433A-8CCE-69907BA782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44DC6-F636-4D92-A64C-F13BCE380B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315E5-93A8-46B5-9305-192F87B30F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C2644-723D-460E-B682-C0FBB696EF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087-15C5-40A8-BEEE-478CF6A5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133-CC8E-43F9-B4D2-EAA5406A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4A901-62E9-4814-BECA-68D187CA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255-51EF-4B1D-B09A-F4D1F2A3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73121-E1E8-4054-85F8-3AEB4508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2D25A-4E98-49AB-8C64-C9F73FF0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0444B-A155-4D12-A621-50610CDB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C35D7-DBB5-4D9B-BC60-EF4C3377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65369-AE0A-4964-9ABB-743610D3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B42A8-E4CC-45C3-B41D-F64829BB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5CCF0-D073-4D4B-955A-7798860A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FD154-7129-4DC6-B930-E88FF543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1A3AD-C901-4108-B34E-2EE26E73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1C7C0-3AA3-430A-A39B-00EE4F54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3A3-F41A-4E6E-A9A5-9C7CB69B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299E5-4995-4F39-A288-487AA4B7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639AAA-FAD7-42AE-94F6-68DC2F66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21315-F042-44E7-A31C-E5D54CAB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568D18-0ED2-4373-BE44-D41CBC44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73366-F443-4D43-9625-57659775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7B488-D8F0-46AE-B1E0-5D699DE4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8B541-403D-4324-8C8E-ED6DF8D5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00CE7-7078-495F-A203-8E15DE5D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41A42-B7CC-42A7-909F-5BD31B37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D5210-8CA9-49AC-9F40-32A3107A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512-D488-4619-BD30-0E63DD97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A0941-EAED-4C8F-915C-9F96C863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C2BDC-4CEE-4BAB-9E11-936FBFB3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58892-9149-4BF6-A541-4FD49D99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E0496-0B52-493E-AD4B-9F4AD575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31F38-8184-4A05-9B1C-BCEA639A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72535-E6DF-4AB3-B813-2E9AD80E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EA860-82F7-4D3E-A5A1-7F893352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F5D2D-52CE-49C4-AC82-89FC263E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3518C-D975-4CEC-89E9-438E4196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276BC-6A29-4004-921B-8E3CF0E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471-13A1-4D48-A994-47A07EEF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69A04-6DD4-4DEF-BC3C-21E84893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6FAB1-1467-41AF-BD54-97700AEA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E0D04-268A-472F-8428-AA4DC425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E27E7-35C7-470B-85F5-2CDFF6B6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DCA6F-05D6-4E80-B478-64345979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ED3B4-E5C2-4462-9F16-5E90CF72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36877A-B4B5-4FC0-9E9C-1045721D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02778-5A91-4B11-B47C-FA9C76A2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9AB5B-79B6-4A26-A685-E2998397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B1368D-B38A-4564-9D00-A4E1D7F4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066-FE38-42E4-B057-BB1627DE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957DD-79CA-469A-99F6-AD9BE905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06D09-0EC6-4555-9355-4D75DE3B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D1554-FC4F-414E-AE41-EB71069F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6B8AA-CCAD-4BB2-9518-D88D7D4A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74C65-7807-4068-8F9C-1469F67D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4CB9DA-7BE1-466A-8EEE-077792EB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E7DB1-DDBA-4188-8AC6-C8F96586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F69F8-8EB6-4E70-8C4B-CB47B627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34CBE6-E063-4D83-A8E7-C0DCA27F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599420-6D42-466C-ACFF-3C73FD72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03DC-12BD-4BD3-8687-3C79EF8D2B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480D-ACAB-424B-986D-60B8C77FCE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BE27-16AA-4F03-ADAB-2EF02E437B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E7A4-948C-4120-B9AD-D00B67959B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7BA8-EE88-40C0-AB9B-BADA908385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B766-9EDC-40C1-93EB-98E1985B8E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0738-887D-40E0-9AAF-4A42DEC26F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06CD-2A52-4263-B2F7-0A7E7FE1D2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6DF3-BDFE-4FB4-8D5B-209C0BF031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DCFD-807C-4517-8B49-8C7D25F17D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6A08-F035-48B5-9593-B200AF4C1E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7616-717B-4295-9E0A-298AB83316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5AFAC002-F7B7-4036-8965-C627B5AAB447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08-30T19:14:44Z</dcterms:modified>
  <cp:revision>330</cp:revision>
  <dc:subject/>
  <dc:title>Slide 1</dc:title>
</cp:coreProperties>
</file>