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B2B5C-1213-41E7-9CC3-315DA1A83598}"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6CD51-5D34-46C5-8DB9-74101C60AC9F}"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27CF2-B0BF-434D-AF89-4D8F092EF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8C53A-23AB-4E2C-84CA-98F13D4B3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09336A0-EB76-48C3-B943-0F47D434B69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39D35B3-354D-425C-87DB-A753B3787C8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C8E9282-6241-45F8-B878-29075B013BF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E6975A7-B505-4263-9D4B-2E9FE5D28EE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779340E-9C54-498C-A407-A8DA978A944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8616278-2119-4D9E-8DB4-2B654CF1FF9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9B32872-761F-45E8-8AB2-4015AFEA493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AD50E2A-0177-45F8-BCF6-1CDDD5B324B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C1C5C97-D1D4-4C4D-83A1-E136AD5124F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F1D215B-EEEA-4671-9281-C50F3BF4B9A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566CD-EB95-47A6-9CB3-62BD2AB83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559F8E4-9CDB-49B6-8187-9F7D70A024B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014A077-A412-4257-AD68-EEB90BF5038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E37FD07-72B1-4EFA-9F04-3C8EAA86299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138D1C0-8EB4-4D0E-9946-8F0BB5E5BA3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FC43064-FFAE-479D-B8F6-E9D397726F6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ECAAE2D-B0B0-4F90-BE38-4008C29DB90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BAAB779-6A47-4426-A211-F402FF71AD7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63DD2A3-0B35-43B3-8BDA-CE7CB521321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EF20FED-AAB3-488E-A401-A5415637793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D8692FF-8479-44C3-B871-2E4E7F4AAE5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0219B-9220-494D-AC99-E0CF86BDE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876FD91-5314-4048-BD4F-C60B267F9DE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01CCABA-415F-4710-A88C-CC5D81479CD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2F6C842-572B-431F-876A-4E52F959803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B140F38-5229-4E9A-B834-6EC88FE8595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7EF56A0-8188-445D-84B1-2A975E35D1A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EF7DCA8-A264-448F-A4DE-FE160CFE55E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8BAE4E8-F6BE-4C95-A09C-10F83A21558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53DF977-4383-4F0F-AFD2-EA566F78619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347BF9B-DF0F-4780-8ABE-C04BEDE63A3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CDBA715-4CA7-42DD-A4F5-6F2C18EF6F7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5FA17F-1A9C-432E-9A5B-8F79A0834EF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D8F2356-B0E1-476B-B87F-559CC00839D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ECAB218-064D-4383-9262-91EE5098F46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0DC1F13-D7D3-439F-8A8D-2161155C0D3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150FEED-C0E5-41D5-8CFA-02BBEBB8ADF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2633DC7-0B49-4F86-921A-009EF821FB0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D101DFC-C018-4CF3-806A-3B7DCA2D796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7AB2B5C-999E-4F1F-81D5-D54CBCFF23B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A3F3D2D-9E80-46E5-BD7A-473A05196EF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62AFE09-D84A-4E4D-BDC1-7FF4AA68AA8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FA8B8CA-CD99-49FD-A2E9-AA4A500A21C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9707B0-F2D1-4702-94C1-8A61A851AE8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5C97C5F-FF1A-4C9F-956D-4D24FD82AB3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28DD408-6AE8-4DEB-9B97-8D7E77A6CC5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E98BD52-C979-43DC-BFAD-EA4B800181E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66ED42A-4593-4D3C-A91B-6F124BE3CCB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F8C7D51-18DA-402C-9983-A2161940D4B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03774307-8F3F-4613-A708-042BF39E0AC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036B784-9B83-4623-BD84-B11CEFBB746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93026A7-FACC-4B6F-A257-2EB2B43AEB4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862EB74-FB38-4A61-92B7-8A58D66F540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84831FE-1BAF-4296-BC43-702C45067F9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D2E6F9-ABE1-43A0-8779-0BFD00F06B2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23A811D-F1E2-4E95-A97F-9C26BD51A48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D8F65CB-387F-431A-ABE3-000514A5A0B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8890B9C-0B9F-4C5C-9414-1591F340221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7126806-1669-4F71-BF7A-4FC8F78F0D9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5FE29E0-B49E-4CCF-8AC3-F4099BB71C1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986FC8D-7114-4F34-88B9-D6A41183101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8C2551B-302F-45C7-A975-06DFDA4ACBF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6597F50-A270-4869-862B-5C9E0C8FA6DF}"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12D7B34-6E31-4916-AF92-513FB370C56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FF63C08-AD27-4351-9998-D34BC0A009D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93D1AE-3B68-490A-90A2-3429255D587F}"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5151DEA-4A5A-4D2A-8996-617E87A6707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280FE45-58C6-4265-9314-6692475CBA7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793615E-A0C3-4ABB-98FA-8EF87D4D2EA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2918708-B50B-4D74-924E-93A1A883429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48EBD07-A8F3-43C2-95FE-E50DCBADCF0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98DC6E5-8BFD-4885-A8B4-975DEFAFBBD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CD7AE7E-4EB6-4A2B-B17F-C254E8780E2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0BAA6BD-3E0C-4797-8FA4-00C22CEDB763}"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BF8F154A-3B7C-4334-94AD-614319CB286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66AD13-D029-4484-8F7A-3FB11796053A}"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7EDB6D-BC36-4633-8FDA-AA743E0F0BCA}"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B59222-58FA-4967-9290-0DC607A5F9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7C8A2-2C08-4849-A5A5-B51C56D33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3CD6B9-2C07-449F-A23A-FCA81C518F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77A232-756F-43F7-9EB7-F35DE392F4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F2D647-0FAB-4913-9EEE-E81A1E8445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D232BD-A56A-4AD2-8B76-C0313EA117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E1265A-F6B7-4A1D-8563-5DC1219653F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458D7-2702-44B3-9786-84605C435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DF47E-F40D-4CF5-9E23-062A6C9E8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FA0DC7D-8A2A-4DC7-8530-53D2C492261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D6F18-0B8E-4729-9CF3-A254E2F65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A837CB8-0F1A-43EA-A097-9483191303D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184E8FC-4806-488A-A641-34C54665B4D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D689D37-48A2-493B-88F9-142C6C85FB0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079B4C0-4929-4CDA-95D2-A4AC85AFF5E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59B7507-D13D-417A-8A7C-9260B52A786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0DC421-79EE-4D65-BEBC-102D66E0511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390FC02-23C4-42AD-9062-FAFDAD98F25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8409BD2-34FD-4AA4-9059-6DB7E248D1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68F2B5B-C294-4412-983D-F3B1A139EDF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10C2891-06E0-4B31-ADBE-FBD0E6EDC8E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D9619-0808-4C22-9113-9158F36C2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3502B35-9B55-4111-AB0B-5086EF22390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40D757C-03F3-44DE-9E74-FD032051ED7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2271D8C-D47E-45AA-A931-CDB14F2E2B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1FBCDDE-EEFA-41BE-ADE3-18C3FAF120E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48E03CD-05CF-4E02-B96D-0CCC152FAC6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72F9E22-0858-4767-9997-35AA0B47286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D8E846D-08FF-4FB9-9864-9496C936BDE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89E988D-8C13-41BA-BFA0-862C29E4C1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57A52CD-6409-4D47-87CA-B91EF5C27C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493C650-E46B-4D8B-B185-8648A39553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A0EEA-C8D7-4447-B213-568A2CBAA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1246E15-2023-40B1-BADF-4242B95EF2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CA184AE-4DF6-4118-BA10-83B51DE522C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7FC6F39-412B-43F0-8828-C6BD80F2925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CA3F500-66F6-4642-B103-07921D2C616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0FA8378-4E9B-4466-998B-874C3DFB46F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3FB5E1F-DF4D-4B41-8519-9F6FA2C6B72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05F20FD-6532-48CC-9EED-33D2BDF77BE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0EB2A3F-8A0B-4FE2-B25B-27FDB9CB49A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AA4AF84-C2F7-495E-8570-6AC870F8E81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DFF96CE-9EF0-4A5B-AFD7-DE327585F53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950E6-1F76-4DB0-AB1F-575C8AD63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AAA4629-FAC8-4D8A-9287-BAD5BEA63EE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BCF08DD-5E8D-481A-95D1-94AD46C3304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B38F9A8-C08F-47A9-9E74-03606A2EBF4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F2C9FAA-2B60-44B1-852E-BBAF76503C2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AD61199-49D5-47EC-8CB1-FD242E7BED7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E1FB1A7-EB5A-4DA6-8AEE-EA1B0536CF2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F8A90D0-1C73-4B4E-A3A0-EC8F9187C37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48356C4-E42E-45CA-B022-47DF05FE7B6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797810F-075A-4352-85AE-1E15DC7BDB5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CA4AA76-D323-4CB0-A157-2B10DDB6B28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F5267-B6E9-47F4-A971-EEA298FAA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28B1E44-8CF7-4BEE-B284-C402EEBB240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9D6BDB1-0BA9-4438-A084-B1CA426C72B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7FE411B-A04F-451A-8E77-39B9613B82B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1D325F1-1AE6-405A-9341-718FD79888F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FE7F6ED-762E-428C-9CB0-6E35D6D2DC8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E7C8645-1FEC-42BC-BE28-7813B10CD90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6E0C956-7324-4B65-80ED-60910A43C9E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1AE3DCC-DD24-4869-9992-3AD4A640BC9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9E83C0A-3EB1-46ED-8A53-35A999C410A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334C8A4-0129-4351-A173-E2ECC2866AC1}"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B2CBB-9C18-4B8B-B6BC-B30CAD3B19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06C66-8210-441A-BEA5-00D66A844F9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0B033-1B4C-4466-91F4-C4EEB70E727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93F8-A904-4546-802E-1EFE8B811D6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C46E-4A68-461D-8E8D-59474D32232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AAAE1-7DA7-4C4A-95E2-3D969791285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25BE1-B392-459B-B628-5F886550738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9622-754C-4114-83CA-EFD33AEABCB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AF96F-675A-4A18-9BF7-59F33B84282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451FF-8552-4294-A7D5-CA9B5FCC5EE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65E43-C743-48EB-9327-948248603A5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0368-E637-4E0F-9CAC-F8A47914175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4e73"/>
                </a:solidFill>
                <a:latin typeface="News Gothic MT"/>
                <a:ea typeface="Geneva"/>
              </a:rPr>
              <a:t>Chapter 2 </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The External Environment:</a:t>
            </a:r>
            <a:endParaRPr b="0" lang="en-US" sz="3200" spc="-1" strike="noStrike">
              <a:solidFill>
                <a:srgbClr val="595959"/>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Opportunities, Threats, Industry Competition, and Competitor Analysi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nsity of Rivalry</a:t>
            </a:r>
            <a:endParaRPr b="1" lang="en-US" sz="3600" spc="-1" strike="noStrike">
              <a:solidFill>
                <a:srgbClr val="ff0000"/>
              </a:solidFill>
              <a:latin typeface="News Gothic MT"/>
            </a:endParaRPr>
          </a:p>
        </p:txBody>
      </p:sp>
      <p:sp>
        <p:nvSpPr>
          <p:cNvPr id="661" name=""/>
          <p:cNvSpPr txBox="1"/>
          <p:nvPr/>
        </p:nvSpPr>
        <p:spPr>
          <a:xfrm>
            <a:off x="549000" y="1599840"/>
            <a:ext cx="8042040" cy="4343400"/>
          </a:xfrm>
          <a:prstGeom prst="rect">
            <a:avLst/>
          </a:prstGeom>
          <a:noFill/>
          <a:ln w="0">
            <a:noFill/>
          </a:ln>
        </p:spPr>
        <p:txBody>
          <a:bodyPr anchor="t">
            <a:normAutofit/>
          </a:bodyPr>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balance of competitor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dustry growth rate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ack of product differentiation.</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 switching cost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stake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exit barri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Strategic Groups</a:t>
            </a:r>
            <a:endParaRPr b="1" lang="en-US" sz="3600" spc="-1" strike="noStrike">
              <a:solidFill>
                <a:srgbClr val="ff0000"/>
              </a:solidFill>
              <a:latin typeface="News Gothic MT"/>
            </a:endParaRPr>
          </a:p>
        </p:txBody>
      </p:sp>
      <p:sp>
        <p:nvSpPr>
          <p:cNvPr id="663" name="PlaceHolder 2"/>
          <p:cNvSpPr>
            <a:spLocks noGrp="1"/>
          </p:cNvSpPr>
          <p:nvPr>
            <p:ph/>
          </p:nvPr>
        </p:nvSpPr>
        <p:spPr>
          <a:xfrm>
            <a:off x="1218960" y="1752120"/>
            <a:ext cx="7467480" cy="4295880"/>
          </a:xfrm>
          <a:prstGeom prst="rect">
            <a:avLst/>
          </a:prstGeom>
          <a:noFill/>
          <a:ln w="0">
            <a:noFill/>
          </a:ln>
        </p:spPr>
        <p:txBody>
          <a:bodyPr anchor="t">
            <a:normAutofit/>
          </a:bodyPr>
          <a:p>
            <a:pPr marL="455760" indent="-455760">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set of firms that are similar among themselves but different from firms in other groups.</a:t>
            </a:r>
            <a:endParaRPr b="0" lang="en-US" sz="2800" spc="-1" strike="noStrike">
              <a:solidFill>
                <a:srgbClr val="595959"/>
              </a:solidFill>
              <a:latin typeface="News Gothic MT"/>
            </a:endParaRPr>
          </a:p>
          <a:p>
            <a:pPr marL="455760" indent="0">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64"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3B0B4447-B32F-46BD-9061-BA776CC2B87B}"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26">
                                  <p:stCondLst>
                                    <p:cond delay="0"/>
                                  </p:stCondLst>
                                  <p:childTnLst>
                                    <p:set>
                                      <p:cBhvr>
                                        <p:cTn id="13" dur="1" fill="hold">
                                          <p:stCondLst>
                                            <p:cond delay="0"/>
                                          </p:stCondLst>
                                        </p:cTn>
                                        <p:tgtEl>
                                          <p:spTgt spid="663">
                                            <p:txEl>
                                              <p:pRg st="0" end="0"/>
                                            </p:txEl>
                                          </p:spTgt>
                                        </p:tgtEl>
                                        <p:attrNameLst>
                                          <p:attrName>style.visibility</p:attrName>
                                        </p:attrNameLst>
                                      </p:cBhvr>
                                      <p:to>
                                        <p:strVal val="visible"/>
                                      </p:to>
                                    </p:set>
                                    <p:animEffect filter="barn(inHorizontal)" transition="in">
                                      <p:cBhvr additive="repl">
                                        <p:cTn id="14" dur="500"/>
                                        <p:tgtEl>
                                          <p:spTgt spid="6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etitor Analysi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etitor intelligence refers to the information on rival firms that is gathered to better understand and anticipate the strategies, assumptions and capabilities of competitors</a:t>
            </a:r>
            <a:r>
              <a:rPr b="0" lang="en-US" sz="2800" spc="-1" strike="noStrike">
                <a:solidFill>
                  <a:srgbClr val="595959"/>
                </a:solidFill>
                <a:latin typeface="News Gothic MT"/>
              </a:rPr>
              <a: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lementors</a:t>
            </a:r>
            <a:endParaRPr b="1" lang="en-US" sz="3600" spc="-1" strike="noStrike">
              <a:solidFill>
                <a:srgbClr val="ff0000"/>
              </a:solidFill>
              <a:latin typeface="News Gothic MT"/>
            </a:endParaRPr>
          </a:p>
        </p:txBody>
      </p:sp>
      <p:sp>
        <p:nvSpPr>
          <p:cNvPr id="668"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fers to the companies that sell complementary goods and services that may add value to the focal firm’s goods and servic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76680"/>
            <a:ext cx="8042040" cy="13366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The General Environment</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The general environment is composed of segments that are external to the firm and these segments influence </a:t>
            </a:r>
            <a:r>
              <a:rPr b="1" i="1" lang="en-US" sz="3200" spc="-1" strike="noStrike">
                <a:solidFill>
                  <a:srgbClr val="595959"/>
                </a:solidFill>
                <a:latin typeface="News Gothic MT"/>
                <a:ea typeface="Geneva"/>
              </a:rPr>
              <a:t>all </a:t>
            </a:r>
            <a:r>
              <a:rPr b="0" lang="en-US" sz="3200" spc="-1" strike="noStrike">
                <a:solidFill>
                  <a:srgbClr val="595959"/>
                </a:solidFill>
                <a:latin typeface="News Gothic MT"/>
                <a:ea typeface="Geneva"/>
              </a:rPr>
              <a:t>organizations. However, these segments may impact different organizations in different way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1FF49413-2F41-4A9F-A639-9800EA6C7050}"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Industry Environment</a:t>
            </a:r>
            <a:endParaRPr b="1" lang="en-US" sz="3600" spc="-1" strike="noStrike">
              <a:solidFill>
                <a:srgbClr val="ff0000"/>
              </a:solidFill>
              <a:latin typeface="News Gothic MT"/>
            </a:endParaRPr>
          </a:p>
        </p:txBody>
      </p:sp>
      <p:sp>
        <p:nvSpPr>
          <p:cNvPr id="64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industry environment refers to a set of factors that directly impact all firms within a particular industry. These factors will vary from one industry to the next.</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External Environmental Analysis</a:t>
            </a:r>
            <a:endParaRPr b="1" lang="en-US" sz="3600" spc="-1" strike="noStrike">
              <a:solidFill>
                <a:srgbClr val="ff0000"/>
              </a:solidFill>
              <a:latin typeface="News Gothic MT"/>
            </a:endParaRPr>
          </a:p>
        </p:txBody>
      </p:sp>
      <p:sp>
        <p:nvSpPr>
          <p:cNvPr id="64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Opportunities are conditions, that if properly exploited, should help the firm achieve strategic competitivenes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reats are conditions that may hinder or interfere with a firm’s efforts to achieve strategic competitivenes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28600" y="108000"/>
            <a:ext cx="86868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egments in the General Environment</a:t>
            </a:r>
            <a:endParaRPr b="1" lang="en-US" sz="3600" spc="-1" strike="noStrike">
              <a:solidFill>
                <a:srgbClr val="ff0000"/>
              </a:solidFill>
              <a:latin typeface="News Gothic MT"/>
            </a:endParaRPr>
          </a:p>
        </p:txBody>
      </p:sp>
      <p:sp>
        <p:nvSpPr>
          <p:cNvPr id="65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emographic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c</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olitical/Leg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ociocultural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echnology</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lob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Five Industry Forces</a:t>
            </a:r>
            <a:endParaRPr b="1" lang="en-US" sz="3600" spc="-1" strike="noStrike">
              <a:solidFill>
                <a:srgbClr val="ff0000"/>
              </a:solidFill>
              <a:latin typeface="News Gothic MT"/>
            </a:endParaRPr>
          </a:p>
        </p:txBody>
      </p:sp>
      <p:sp>
        <p:nvSpPr>
          <p:cNvPr id="653" name=""/>
          <p:cNvSpPr txBox="1"/>
          <p:nvPr/>
        </p:nvSpPr>
        <p:spPr>
          <a:xfrm>
            <a:off x="549000" y="1142640"/>
            <a:ext cx="8042040" cy="4800600"/>
          </a:xfrm>
          <a:prstGeom prst="rect">
            <a:avLst/>
          </a:prstGeom>
          <a:noFill/>
          <a:ln w="0">
            <a:noFill/>
          </a:ln>
        </p:spPr>
        <p:txBody>
          <a:bodyPr anchor="t">
            <a:normAutofit/>
          </a:bodyPr>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reat of new entra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es of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differentiation</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apital requireme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ccess to distribution channel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st advantages other than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overnmental polic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Suppliers</a:t>
            </a:r>
            <a:endParaRPr b="1" lang="en-US" sz="3600" spc="-1" strike="noStrike">
              <a:solidFill>
                <a:srgbClr val="ff0000"/>
              </a:solidFill>
              <a:latin typeface="News Gothic MT"/>
            </a:endParaRPr>
          </a:p>
        </p:txBody>
      </p:sp>
      <p:sp>
        <p:nvSpPr>
          <p:cNvPr id="655" name=""/>
          <p:cNvSpPr txBox="1"/>
          <p:nvPr/>
        </p:nvSpPr>
        <p:spPr>
          <a:xfrm>
            <a:off x="549000" y="1599840"/>
            <a:ext cx="8042040" cy="4343400"/>
          </a:xfrm>
          <a:prstGeom prst="rect">
            <a:avLst/>
          </a:prstGeom>
          <a:noFill/>
          <a:ln w="0">
            <a:noFill/>
          </a:ln>
        </p:spPr>
        <p:txBody>
          <a:bodyPr anchor="t">
            <a:normAutofit fontScale="89000"/>
          </a:bodyPr>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vailability of substitute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industry to the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the suppliers’ goods to the industry succes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of vertical integration.</a:t>
            </a:r>
            <a:endParaRPr b="0" lang="en-US" sz="3200" spc="-1" strike="noStrike">
              <a:solidFill>
                <a:srgbClr val="595959"/>
              </a:solidFill>
              <a:latin typeface="News Gothic MT"/>
            </a:endParaRPr>
          </a:p>
          <a:p>
            <a:pPr marL="310680" indent="-31068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Buyers</a:t>
            </a:r>
            <a:endParaRPr b="1" lang="en-US" sz="3600" spc="-1" strike="noStrike">
              <a:solidFill>
                <a:srgbClr val="ff0000"/>
              </a:solidFill>
              <a:latin typeface="News Gothic MT"/>
            </a:endParaRPr>
          </a:p>
        </p:txBody>
      </p:sp>
      <p:sp>
        <p:nvSpPr>
          <p:cNvPr id="657" name=""/>
          <p:cNvSpPr txBox="1"/>
          <p:nvPr/>
        </p:nvSpPr>
        <p:spPr>
          <a:xfrm>
            <a:off x="549000" y="1447920"/>
            <a:ext cx="8042040" cy="4495680"/>
          </a:xfrm>
          <a:prstGeom prst="rect">
            <a:avLst/>
          </a:prstGeom>
          <a:noFill/>
          <a:ln w="0">
            <a:noFill/>
          </a:ln>
        </p:spPr>
        <p:txBody>
          <a:bodyPr anchor="t">
            <a:normAutofit/>
          </a:bodyPr>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buyer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Knowledge of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is not differentiated, thus substitutes are available.</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vertical integration.</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reat of Substitutes</a:t>
            </a:r>
            <a:endParaRPr b="1" lang="en-US" sz="3600" spc="-1" strike="noStrike">
              <a:solidFill>
                <a:srgbClr val="ff0000"/>
              </a:solidFill>
              <a:latin typeface="News Gothic MT"/>
            </a:endParaRPr>
          </a:p>
        </p:txBody>
      </p:sp>
      <p:sp>
        <p:nvSpPr>
          <p:cNvPr id="65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 products meet the customers’ needs but do so in different way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y are different goods and services that perform the same or a similar purpose.</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08-30T19:42:43Z</dcterms:modified>
  <cp:revision>318</cp:revision>
  <dc:subject/>
  <dc:title>Slide 1</dc:title>
</cp:coreProperties>
</file>