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5FA3-C0CB-486E-BE3D-78092B994BC6}"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BBC8-86C9-472E-BA1A-A9AFF28D4822}"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8B5BB-6F5E-4936-AB9A-EF37E11D2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9548-52AB-4608-A095-F54AC3980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56B149-EBA0-4496-B92A-A62BF1B2A52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524AAB-D510-4B06-BB72-180434F0D3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A63109-B949-4586-A941-5C2B71F150B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130E61-8A7D-41CF-B300-E2A50046A0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6E8E83E-4B1B-4F2A-9273-45BD7C70F2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DB1E20-0734-46A3-BCCF-D27502E516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68A821-6E7A-4C74-AC18-D93CA69438F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79E6878-1A65-4661-9B74-297A4470405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50EDEFB-AD62-45ED-8A02-10F4C62C351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7332916-78A2-4AA3-BB14-78783F6C94A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477D8-31C9-48D2-945C-528B37317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B27053C-F140-4F56-A27D-F2DD907BF07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FC2044-892E-432A-B239-424A9F38068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3CA52F-0F66-48C3-B629-4D3AABFDC1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5270352-BEBE-4716-833F-9C4E902D0C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87B0A2-6A4A-4FF0-8178-9B8657C6B84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5FAD48-3919-4F53-8F6B-718A54F7420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419627C-0F80-4A7A-AE78-AB385D1EC4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4B8360-DD8C-48FB-9CCD-1D4D245B40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7D67EF-C718-40CF-A83D-21454289F5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EA5556-BCC5-49AF-A5E4-CD05F17BFDA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1424E-BA1A-4D35-B171-00114D17C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C881675-441C-46FE-A764-4C2255D0E80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A448134-DDF2-488A-AF55-E4F38480686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3C88AE-8897-45DC-926C-DBF57A08B25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6FE8C6-2D65-482B-B1A1-4A41287D88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E33DF5E-49E3-4C42-95A5-1E0194A08B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9C18AC-467B-47FB-8308-FDE78EB5AB1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B537B97-39AE-49B8-A56F-A5060077BF8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98804B-A7DD-46BE-A0DD-77724E2C25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B1D68F3-3C7E-48A9-9BF3-8853A6945DE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B87794-6661-49E2-AFF2-FDB0A4D3CC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B69FE2-0989-4C84-8530-A6758D9618C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7B3753D-F954-4BB4-82C8-7D93A3749F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04986A-F3C0-4094-942A-31436B44CF2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44667C5-9643-4B11-8C2A-37D70686B51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5128BE3-2371-43CB-9C99-CD71E0AA800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1E77028-E69C-470A-8792-BD8061209D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84E0728-C70B-4F88-A6EE-018FB49DDE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AFD836-59ED-4618-B5A3-33626AEEBB6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7DF3A4C-BB14-4D39-9FE8-38DBE6AB7C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DB70FA3-F9DF-4E2F-A660-145B5C64B87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B8546A-AB69-487E-977A-6E904AAF9F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F5DC0E-B76C-4C4D-B360-DFEF5D6B328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3D268A2-1762-4C43-AB5B-62E1B7BA2D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1EC3EA-FD80-46BC-90F1-185DC98866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B29B688-5A40-42E2-9B23-6CEC5212051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B30262B-FF0B-4003-89BE-C30090735BE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45BFF9E-072F-48BD-8A74-0AC319EBC35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4B50FE1-5705-4A4F-A2C2-2F9FC2FB05E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6A38E16-0589-425D-9081-0AF593F0A75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D6E40EE-BB0D-4265-BEDC-9CF679E385A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372E1B-B736-4E01-B90D-6611791ED95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DA31779-A380-4D0A-8A3C-DAEFD9FBA0B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7D369-05BE-464A-A8EE-CADAA2C7068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DBCA287-C16F-4956-8EE3-D36B14F814A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359ED5-379D-422A-BBF3-3ECCB3057D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9F7E8C-4C31-483F-AC9A-E21EFDA654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2FA7B2-2DE3-4029-9654-4052E0C225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DD9B246-5B3C-40FA-A2B7-D317B7A0217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E7247C2-DC10-4E1B-844E-45A0A8F63E7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776713-2B38-404A-99D4-1825431286C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EA0D817-2432-4675-9CDE-7AAA73E2A60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BC57089-EBF3-436C-8A33-6E970BC2983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6EF205B-DF4F-48B5-A3EB-B772D4869C4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D62DE5-A420-489E-91F9-51007D82E48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B3424F4-3A25-4DE3-99B5-90BEF1A8CF3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C994292-2054-4EDF-9702-CC36900808A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741E5AA-C748-4B17-A29C-27F2372506E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30C3CC7-8187-47DA-8C0F-9BFD15A2646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88B5B82-6E29-4CC0-A545-31FFC9E1CE8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18FB9AA-6ECE-4053-A4DE-C5F61719F36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1E7C558-D170-45C9-BC52-3FA73FAEA22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089CF17-1D14-4EF4-A5F3-903276A75E5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E5D8B82-31E7-4ADF-A02A-A40D9B46E45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4763C-42FC-4809-A257-F7D95FA3DD9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7F8BA2-8DCA-430D-B772-6CB78C31888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07A17-ED03-4CD3-90B7-E71EAEDD5E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79E48-04B6-450C-AE17-84E39B75A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B2829-2568-412E-A20D-96206FD551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8E8D5-AC7A-4640-9455-9F8BCA0710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2ABDD-CEE4-4800-8435-CB6AF4AFE9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F47806-C633-4C85-A10F-4A5FBC5A4D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FE5651-075B-47C1-90F3-4C22465A59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1C0A3-4340-490B-A449-4D7F8F35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4714-1052-4501-91B4-5FA748C97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1AEF22-EFDB-4C45-A025-8F0AAF16D4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D761-76A2-4E3C-B9C1-0266FD481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10DC03-7D16-4832-9EF4-C39D819855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503325-C8D5-4D73-BDE1-E707D18227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E16666-FFD7-4121-8C05-E09BBE670D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118179-B80B-4A78-BB42-16BFE00864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E19FAF-B9B6-48B4-A451-3DD5E7DAEF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93390C-E130-4A20-846E-A81EA83717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569743-4A13-4E02-8F81-372821F90B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06FDAD-1EAA-49EA-ADDD-05B396F36A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439838-F6B9-4D7B-A093-7612A5ED37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9C83B1-0213-4B4A-85AE-1C2E65ACBC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8497-AFBF-4C0E-99DC-9A8426449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E326C2-BB63-4F66-AA88-10D449FD7A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2E8316-3C20-4BC8-962C-31BEA92B85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94FE75-2991-4936-87B2-E6A7C9639E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39C3FF-9231-492F-BDDA-83D7268EAA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8341AA-F71E-4E9E-B0B3-C2585ED90F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5E6B87-AC03-46F3-8675-24A688F1D9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4D5B82-C9D2-4016-B9A4-DA2963AA1B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1F40DB-A575-4441-9F1B-6E1E7B8330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25C016-4AC4-4C0E-9F99-67DA16CCFE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97DA71-89C7-4406-B893-DAA6F02880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0862-E571-4984-8B78-279F7184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69CC0A-DD16-44C7-BF03-A5FEB3345F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4566F6-1F7A-4A3F-A0A3-ADAE4994FE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EA8A82-DC39-4FB1-8345-9C413ACC60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B077021-2011-4E57-BCAA-4CF55F86ED0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965C81-B273-4E24-97C9-33A70F9A93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AFB9C96-4CA8-4FAA-B6E7-093BC836BA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82F072-2EA0-4DCD-BCF3-8AF71CBCA86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868C15F-5D33-4A04-B8BB-E932C978E2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7B438D-C603-4746-9218-702CC631F9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B1BA21-91F0-4CB4-9BA3-369D14D6ED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D854-223F-47F1-8843-890F38145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FC2337-98DD-419F-9FF8-585450FCF5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A51C2A-6694-40F0-B3EC-271206FC35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9F3C7F-A333-4FD0-A421-CAD94C5A1F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F4AF25F-2615-4F3A-B242-5B82BC7684B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3E0A0C-04C2-499D-9166-DC2E9477A67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D03B0E3-0246-452B-AE69-36881E37A05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167B41-1AF4-4559-A712-DA683E67667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A29E36-3E21-4A67-8349-F1803DDD08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245917-E758-4194-AB9C-EA44EA3623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D151D2-29A2-419D-B1B1-3E177829CFA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D3DF-88DB-4EB9-B44B-4AD7DCB58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C37509-20DA-4131-AD97-ED62B474A6C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00310B-FA64-4CD2-B7D1-AD143B4D781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0C6DA10-FAC9-4F14-886A-E68444330A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86DF32-6F0F-4F36-A7D9-AF594E8E67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C940C7D-9E73-465E-8235-4C77D7B7F7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49FDDF-76EC-492C-ACF9-1E271B57133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838C05E-81EF-4499-B7AC-D4285B096BA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4410B64-204B-43EE-A4D6-35954730256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909189-8479-4812-ADD5-ED5B8A4D087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032A405-A7E9-48CD-8CA3-01211F3235A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385F-D674-4A0E-8830-BFF28D0019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52F4-7B6E-438F-9196-61321E83E0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902B-2125-4DF8-9EC9-7DD0D9F37E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91CB-3E34-4FF8-ADF4-DF128980AF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59D3-E84A-4FD9-BA92-8A505FE09C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825D-6AA7-420C-AF6B-D7DE81B3AD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967E-48B7-4321-B837-BB7B267820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4483-296C-4AAD-872A-A450D97F0D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9A85-B021-4B9E-AA16-45F2C47441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B1EB-BAAC-4684-A577-3F852F0C5A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1B95-8816-452E-927E-C01FC7DC74A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EF57-B123-42ED-80C4-3A6CF2028D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760A92A-F06C-4A39-89CD-E6E5E73171B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D126988-F4C1-4E44-B939-C9C7F0D88E2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8-30T19:42:43Z</dcterms:modified>
  <cp:revision>318</cp:revision>
  <dc:subject/>
  <dc:title>Slide 1</dc:title>
</cp:coreProperties>
</file>