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44534-51CB-40C2-AAF3-DB7C1BE723CE}" type="datetime">
              <a:rPr b="0" lang="en-US" sz="1200" spc="-1" strike="noStrike">
                <a:solidFill>
                  <a:srgbClr val="000000"/>
                </a:solidFill>
                <a:latin typeface="Times New Roman"/>
                <a:ea typeface="Geneva"/>
              </a:rPr>
              <a:t>07/28/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10174-AE84-481D-9D45-FFFA1C2FDF11}"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61091-1EEA-46A0-B322-55C5FCBBF5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9A29E-6E03-4547-A2E6-F6683A3F9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F3B3453-47F9-44AC-A218-3E3FCDA9DD6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F22F11C-34F6-444C-A06B-8ABCF5CFF47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912BD29-7F06-4E77-9145-155934043CC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A427F94-742E-4917-A564-7FA36EA1D92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DDFA64C-A8BA-4C3A-B03C-BDFF8C5ADA1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588EC96-67C6-4A16-A902-79663E29822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5888E13-BB4B-40B9-A570-0D51F9A3CB0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1586F5C-5C95-4F10-941A-9C2E1F207E0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47B0C01-C7AF-442B-AB25-641919471F5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7A59653-C866-408D-9FE9-517C49D0186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1EB31-D498-4969-A671-4A8A2AE5AE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921C410-4F4B-4D66-8D89-6ADE7D24324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0F8FA16-A7C5-4AD5-9FE6-5800070C6D4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3C5E71C-8736-4B7C-843A-106171682AA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9FF7888-EDE2-4AC6-B825-D2D8EDF0D15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B6F9EB4-67D4-42BE-B344-18E1C6EB108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506CEFB-67F3-4597-A4BE-D44A49BAC71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0E105F7-6D53-4387-977A-F13D7E85A74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F8296B8-5861-4063-8240-7BE59C8FE1C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D8BB4C3-399B-46EC-8F13-0BD9F10FD2D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CB9FEC94-C3D1-47BC-80E1-67157D8FE1B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2E21FD-5833-4D01-8F87-CE1D5ED3EC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5DF1BA9-957B-49A2-9389-FE5707D3E93C}"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01FC9EE-6FDC-4CB9-AC5D-143A21CE045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0BD8464-C75E-4F94-AAC6-65A674C542C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80BD3ED-05C5-4344-AA3C-1FA8285D0F3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5E32E69-B574-4E06-8E2C-2156E45EBCB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BFC26AB-DF59-4171-A00E-ADE71055D6E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FDBDD34-60E2-41BC-A6FC-8869E93AD87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6B27FAB-90DC-4C76-9DE0-AACDE5E9AA8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218EC16-B7C9-4100-A2F1-04322CC36EB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2116BC9-CB7D-49C6-98C9-844AA17A511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632709-29EA-4BD9-A45C-5764196E230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4A2D268-4361-446F-9BAF-0F2238BE660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C9A3317C-61BE-4640-9B90-E84073F4D0A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A82CA11-3143-4A03-A57D-0DE8C90D5D0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AFAA2A48-F122-4E14-BFCF-B69E5E8CE4A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C55D88D-8EB2-45E0-B1BB-025D923236E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7A1A8E1-4C9C-4F3E-B897-6CC9E028177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2E29A59-32B8-441D-A243-C4B70B59F9A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7468939-9598-48CD-8B8E-3DE85A3048A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8992618-ACF1-4B41-B173-21B705C11E7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AD44F7C-7A1A-4DCD-8DF1-5F23B77DEF6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72F624-5D79-40A5-BFCC-5852180AF65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29AC7CF-4BBC-4A3F-B303-C22D2F2A8E8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E78116C-037D-404E-9DB0-28A8CA116D8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ADC5455-1BD6-45FC-8E3B-66FDE86F961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BD20E471-DB59-4F3E-A449-0BE86A2741D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C553D358-3A99-4EA8-BFC7-C01B8226B6DC}"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DD7B3FE8-E803-4A38-A24E-13F0155F30C8}"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7BCA8DE-FD15-40AC-800B-A1D25DCE131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7FD0F9E-1605-4A52-9A70-B3C1359436B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EDF9CA4-0816-4075-894C-2E05A03EC9F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7D46BB5-9C00-47C9-8679-64776248B2C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EE5811-00D4-481C-AAB3-EF1C3417BAFD}"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214F5D9-8C00-49A0-AB6D-A2B878088AC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C5DDC54-F6E5-40E7-AE0D-1F2E8ED7E59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4B154CB-7ACD-45B5-8E26-A011E58298D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2499B37-EEB9-46EB-A44D-EF43FFAD590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52A1F42-2713-481C-BA03-C28A175F4A2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4E43D660-524D-4E67-89A8-1C67C3A29CB4}"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2EB48E6B-6929-4EBE-BD10-205A3ED52A69}"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7386481B-C682-4DF4-A417-2308A2B0FEA8}"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2A70D03-52D7-4155-9858-BBC6D94ED67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95584E0-C88B-4171-809A-14AE2E2E72BE}"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650F93-7ADA-4CBE-AE1A-FCED38C0DD08}"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53B5B47F-311D-419F-94C0-31A8EFBE705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A7FD88D-1E57-4CA9-9762-42A97DCF282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CBBFF547-818A-45BB-8AD4-55D068AA09F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987A1F9-CE6E-4925-B31C-03C0C079998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D4D995E-8805-4B58-826B-D1679EE62F8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32E4E08-A319-48A8-A62C-2BE047388E3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2C083290-0DB9-4F5C-A4E3-07E53CE580E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6D0B7F04-561F-417A-BE65-2F6D05AFC0A3}"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DD15EABA-3D0C-4FEE-BCF2-F989354F51F1}"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62F8F8-7863-44D2-A3DB-1032E42DA8C6}"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E69B71-C5F9-4F93-80A6-58B33353B0FC}"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9EBA87-35A3-4FA1-913D-26A2691D19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D6E99-E32D-48AF-A44D-A97BC8045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1F1991-7ABA-4892-9229-3C104F921C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9C8FEA-B1D2-43DD-AC21-A7E2B77C3AF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AA2FB2-5DDE-4E7A-AC2C-8B61D1A93A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A31462-3348-4963-A076-493BCEB76E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44477A-9FD8-4450-9079-9C95F5802F6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F7DBF-A867-49D0-9C03-BD5C1E3C3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C1C39-9670-4569-8439-9BAF67684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F931977-63C3-4C4E-B844-09830294373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C84C1-7634-4931-BFFA-6E0823225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C86E53A-1E07-49D3-A094-977F7D5EE69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C9A04EB-A61D-4CD5-9D4B-5F4EE4A6600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3DFD68F-F9A3-4D74-BDC1-C79C57CA219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76DF64B-02C2-4648-947F-0530EFA51D1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920A853-01D5-49AB-A1ED-45DE8F72202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B9E206C-D2C2-4282-9D12-160F600BD68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E25D433-D58C-40F9-8DF4-A0EBBF12584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2EB3D4F-9CD8-454A-9FD5-E3776267782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621DF05-7063-40B1-B424-05D9457F123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239E8DC-A0BD-46A0-B071-E0B7D17A1D2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C2BB5-3FA9-4405-8D4F-9F69860CE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77F9B46-A776-4004-9E25-3DFF4D9DE71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E80DFB6-2D15-4628-AD0D-C0988C9277E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67C87FB-B167-49F5-8A14-4D1EF7F14CD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D154399-7F8F-419F-BC71-10F9BBE6BEE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9C0655A-8988-41D1-8705-DB4DB9ECCCF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9613E5D-E2F7-45E2-862F-3DEF53D4D6C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4F06F25-5A90-4445-85F2-625354D515C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97A876C-6842-48D8-80FE-7486C8CD492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39E7C31-78D5-4674-A19D-7A537569659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E99B7DD-394B-4783-857A-27FF9A7015D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4EDB8-4B75-439F-8AB1-B3221575C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37269BB-F93F-4272-A69B-91D6B7F2803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6F6AE17-8587-48BC-BBA9-2FB3D444D9E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6A06C43-ACD8-4B8D-AFAD-73440807C98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B963D50-E313-4B57-A26D-2192F03EF0D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7E9B3AA-0B9A-4E66-B18B-773BE0F7721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CD97B3E-A107-440E-893A-2CDC4ACD951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7DF28F8-4E1B-468F-A08D-D328777D05E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77B6C93-BA03-4C66-B5CB-A27C4C6CB08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D64DBFD-5F8B-4B13-B007-6D73BDE594B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83D59A9-826A-4A22-97A6-17B0B789A29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5D853-184A-4D8B-B60F-649ED68B5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67A418B-5343-49AD-A7AA-C7D72A28016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3D0E055-8255-4132-A8E4-D8C8B3102A7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53E6A7C-4ADC-494B-AA97-3E6A655BD16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173F1DA-1767-456B-A27E-E93CFE3624A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F26F551-C332-403E-9688-264EE4A1778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8959B14-FC1B-45BE-B612-95C7D75505E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0D4431F-CF9C-4414-BD3F-1E62D46F121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7B31A62-55B4-4E41-809B-D6664AD432C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D10C462-1C84-4B61-A9AB-0BDF38349F4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02B163A-92FF-45E6-8E3E-5B43BF95E3B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A5BAE-6811-4A57-98B3-CEA892A2D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16FE0D0-3AEA-4C80-B485-32C041F72D8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F75FC43-F9E8-44FA-A386-04DF87EC33E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5153F37-5D30-4CC1-AC4B-F466FA84C5E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5AE8735-CA99-4CBC-AD2A-F89C30D3DC0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5C49A44-08C8-43F4-B3D1-E4A7D23F0DE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419E96B-30FD-42CA-9341-70872902B1FA}"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878C2B7-561F-49F2-A0A3-01DEF86AC89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D89B9C3-B8CB-412F-9070-7619A762AAE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D707385-A13A-4F09-82E9-2FB30792858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6A96A22-B835-4A5C-9C32-70396E8A4389}"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87D5A-67DC-46D3-AE44-14B24608414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2D5FC-C382-4A5D-9DF2-A8B585695E8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BC4DE-5F9C-4CF7-815B-5EBE26B9A82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9DEA6-56BB-4ABD-ACC9-77A29BF71CF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F52B8-69FA-4789-A12A-7000604EAF2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37290-7064-4682-80FB-BB57C29192C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B5B1B-4DB0-4233-B0A4-1916494189E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D108A-7543-4849-98EC-44B76073E84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A1D30-59B2-4A55-A3D6-63CD01A1BE0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4937C-8B27-4517-B90B-BF1C3EEA9AD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3810B-0DD0-45FF-A1DA-41EBEFB2508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DE19B-C66F-4DB9-861F-8AFCE291525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54e73"/>
                </a:solidFill>
                <a:latin typeface="News Gothic MT"/>
                <a:ea typeface="Geneva"/>
              </a:rPr>
              <a:t>Chapter 2 </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The External Environment:</a:t>
            </a:r>
            <a:endParaRPr b="0" lang="en-US" sz="3200" spc="-1" strike="noStrike">
              <a:solidFill>
                <a:srgbClr val="595959"/>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Opportunities, Threats, Industry Competition, and Competitor Analysi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Intensity of Rivalry</a:t>
            </a:r>
            <a:endParaRPr b="1" lang="en-US" sz="3600" spc="-1" strike="noStrike">
              <a:solidFill>
                <a:srgbClr val="ff0000"/>
              </a:solidFill>
              <a:latin typeface="News Gothic MT"/>
            </a:endParaRPr>
          </a:p>
        </p:txBody>
      </p:sp>
      <p:sp>
        <p:nvSpPr>
          <p:cNvPr id="661" name=""/>
          <p:cNvSpPr txBox="1"/>
          <p:nvPr/>
        </p:nvSpPr>
        <p:spPr>
          <a:xfrm>
            <a:off x="549000" y="1599840"/>
            <a:ext cx="8042040" cy="4343400"/>
          </a:xfrm>
          <a:prstGeom prst="rect">
            <a:avLst/>
          </a:prstGeom>
          <a:noFill/>
          <a:ln w="0">
            <a:noFill/>
          </a:ln>
        </p:spPr>
        <p:txBody>
          <a:bodyPr anchor="t">
            <a:normAutofit/>
          </a:bodyPr>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balance of competitors.</a:t>
            </a:r>
            <a:endParaRPr b="0" lang="en-US" sz="3200" spc="-1" strike="noStrike">
              <a:solidFill>
                <a:srgbClr val="595959"/>
              </a:solidFill>
              <a:latin typeface="News Gothic MT"/>
            </a:endParaRPr>
          </a:p>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ndustry growth rates.</a:t>
            </a:r>
            <a:endParaRPr b="0" lang="en-US" sz="3200" spc="-1" strike="noStrike">
              <a:solidFill>
                <a:srgbClr val="595959"/>
              </a:solidFill>
              <a:latin typeface="News Gothic MT"/>
            </a:endParaRPr>
          </a:p>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ack of product differentiation.</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ow switching costs</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igh stakes</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igh exit barrier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Strategic Groups</a:t>
            </a:r>
            <a:endParaRPr b="1" lang="en-US" sz="3600" spc="-1" strike="noStrike">
              <a:solidFill>
                <a:srgbClr val="ff0000"/>
              </a:solidFill>
              <a:latin typeface="News Gothic MT"/>
            </a:endParaRPr>
          </a:p>
        </p:txBody>
      </p:sp>
      <p:sp>
        <p:nvSpPr>
          <p:cNvPr id="663" name="PlaceHolder 2"/>
          <p:cNvSpPr>
            <a:spLocks noGrp="1"/>
          </p:cNvSpPr>
          <p:nvPr>
            <p:ph/>
          </p:nvPr>
        </p:nvSpPr>
        <p:spPr>
          <a:xfrm>
            <a:off x="1218960" y="1752120"/>
            <a:ext cx="7467480" cy="4295880"/>
          </a:xfrm>
          <a:prstGeom prst="rect">
            <a:avLst/>
          </a:prstGeom>
          <a:noFill/>
          <a:ln w="0">
            <a:noFill/>
          </a:ln>
        </p:spPr>
        <p:txBody>
          <a:bodyPr anchor="t">
            <a:normAutofit/>
          </a:bodyPr>
          <a:p>
            <a:pPr marL="455760" indent="-455760">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A set of firms that are similar among themselves but different from firms in other groups.</a:t>
            </a:r>
            <a:endParaRPr b="0" lang="en-US" sz="2800" spc="-1" strike="noStrike">
              <a:solidFill>
                <a:srgbClr val="595959"/>
              </a:solidFill>
              <a:latin typeface="News Gothic MT"/>
            </a:endParaRPr>
          </a:p>
          <a:p>
            <a:pPr marL="455760" indent="0">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p:txBody>
      </p:sp>
      <p:sp>
        <p:nvSpPr>
          <p:cNvPr id="664"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E4AC09D8-7652-4150-9B37-4DB06B4373F1}"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6" presetSubtype="26">
                                  <p:stCondLst>
                                    <p:cond delay="0"/>
                                  </p:stCondLst>
                                  <p:childTnLst>
                                    <p:set>
                                      <p:cBhvr>
                                        <p:cTn id="13" dur="1" fill="hold">
                                          <p:stCondLst>
                                            <p:cond delay="0"/>
                                          </p:stCondLst>
                                        </p:cTn>
                                        <p:tgtEl>
                                          <p:spTgt spid="663">
                                            <p:txEl>
                                              <p:pRg st="0" end="0"/>
                                            </p:txEl>
                                          </p:spTgt>
                                        </p:tgtEl>
                                        <p:attrNameLst>
                                          <p:attrName>style.visibility</p:attrName>
                                        </p:attrNameLst>
                                      </p:cBhvr>
                                      <p:to>
                                        <p:strVal val="visible"/>
                                      </p:to>
                                    </p:set>
                                    <p:animEffect filter="barn(inHorizontal)" transition="in">
                                      <p:cBhvr additive="repl">
                                        <p:cTn id="14" dur="500"/>
                                        <p:tgtEl>
                                          <p:spTgt spid="6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ompetitor Analysis</a:t>
            </a:r>
            <a:endParaRPr b="1" lang="en-US" sz="36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mpetitor intelligence refers to the information on rival firms that is gathered to better understand and anticipate the strategies, assumptions and capabilities of competitors</a:t>
            </a:r>
            <a:r>
              <a:rPr b="0" lang="en-US" sz="2800" spc="-1" strike="noStrike">
                <a:solidFill>
                  <a:srgbClr val="595959"/>
                </a:solidFill>
                <a:latin typeface="News Gothic MT"/>
              </a:rPr>
              <a: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omplementors</a:t>
            </a:r>
            <a:endParaRPr b="1" lang="en-US" sz="3600" spc="-1" strike="noStrike">
              <a:solidFill>
                <a:srgbClr val="ff0000"/>
              </a:solidFill>
              <a:latin typeface="News Gothic MT"/>
            </a:endParaRPr>
          </a:p>
        </p:txBody>
      </p:sp>
      <p:sp>
        <p:nvSpPr>
          <p:cNvPr id="668"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efers to the companies that sell complementary goods and services that may add value to the focal firm’s goods and servic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76680"/>
            <a:ext cx="8042040" cy="133668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The General Environment</a:t>
            </a:r>
            <a:endParaRPr b="1" lang="en-US" sz="3600" spc="-1" strike="noStrike">
              <a:solidFill>
                <a:srgbClr val="ff0000"/>
              </a:solidFill>
              <a:latin typeface="News Gothic MT"/>
            </a:endParaRPr>
          </a:p>
        </p:txBody>
      </p:sp>
      <p:sp>
        <p:nvSpPr>
          <p:cNvPr id="643" name=""/>
          <p:cNvSpPr txBox="1"/>
          <p:nvPr/>
        </p:nvSpPr>
        <p:spPr>
          <a:xfrm>
            <a:off x="533520" y="1752480"/>
            <a:ext cx="769608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The general environment is composed of segments that are external to the firm and these segments influence </a:t>
            </a:r>
            <a:r>
              <a:rPr b="1" i="1" lang="en-US" sz="3200" spc="-1" strike="noStrike">
                <a:solidFill>
                  <a:srgbClr val="595959"/>
                </a:solidFill>
                <a:latin typeface="News Gothic MT"/>
                <a:ea typeface="Geneva"/>
              </a:rPr>
              <a:t>all </a:t>
            </a:r>
            <a:r>
              <a:rPr b="0" lang="en-US" sz="3200" spc="-1" strike="noStrike">
                <a:solidFill>
                  <a:srgbClr val="595959"/>
                </a:solidFill>
                <a:latin typeface="News Gothic MT"/>
                <a:ea typeface="Geneva"/>
              </a:rPr>
              <a:t>organizations. However, these segments may impact different organizations in different ways.</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2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D9734069-6E1F-4298-81CD-46ABEE6C9F52}"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Industry Environment</a:t>
            </a:r>
            <a:endParaRPr b="1" lang="en-US" sz="3600" spc="-1" strike="noStrike">
              <a:solidFill>
                <a:srgbClr val="ff0000"/>
              </a:solidFill>
              <a:latin typeface="News Gothic MT"/>
            </a:endParaRPr>
          </a:p>
        </p:txBody>
      </p:sp>
      <p:sp>
        <p:nvSpPr>
          <p:cNvPr id="64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 industry environment refers to a set of factors that directly impact all firms within a particular industry. These factors will vary from one industry to the next.</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External Environmental Analysis</a:t>
            </a:r>
            <a:endParaRPr b="1" lang="en-US" sz="3600" spc="-1" strike="noStrike">
              <a:solidFill>
                <a:srgbClr val="ff0000"/>
              </a:solidFill>
              <a:latin typeface="News Gothic MT"/>
            </a:endParaRPr>
          </a:p>
        </p:txBody>
      </p:sp>
      <p:sp>
        <p:nvSpPr>
          <p:cNvPr id="64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Opportunities are conditions, that if properly exploited, should help the firm achieve strategic competitivenes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reats are conditions that may hinder or interfere with a firm’s efforts to achieve strategic competitivenes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228600" y="108000"/>
            <a:ext cx="86868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Segments in the General Environment</a:t>
            </a:r>
            <a:endParaRPr b="1" lang="en-US" sz="3600" spc="-1" strike="noStrike">
              <a:solidFill>
                <a:srgbClr val="ff0000"/>
              </a:solidFill>
              <a:latin typeface="News Gothic MT"/>
            </a:endParaRPr>
          </a:p>
        </p:txBody>
      </p:sp>
      <p:sp>
        <p:nvSpPr>
          <p:cNvPr id="65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emographic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Economic</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olitical/Legal</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ociocultural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echnology</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Global</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Five Industry Forces</a:t>
            </a:r>
            <a:endParaRPr b="1" lang="en-US" sz="3600" spc="-1" strike="noStrike">
              <a:solidFill>
                <a:srgbClr val="ff0000"/>
              </a:solidFill>
              <a:latin typeface="News Gothic MT"/>
            </a:endParaRPr>
          </a:p>
        </p:txBody>
      </p:sp>
      <p:sp>
        <p:nvSpPr>
          <p:cNvPr id="653" name=""/>
          <p:cNvSpPr txBox="1"/>
          <p:nvPr/>
        </p:nvSpPr>
        <p:spPr>
          <a:xfrm>
            <a:off x="549000" y="1142640"/>
            <a:ext cx="8042040" cy="4800600"/>
          </a:xfrm>
          <a:prstGeom prst="rect">
            <a:avLst/>
          </a:prstGeom>
          <a:noFill/>
          <a:ln w="0">
            <a:noFill/>
          </a:ln>
        </p:spPr>
        <p:txBody>
          <a:bodyPr anchor="t">
            <a:normAutofit/>
          </a:bodyPr>
          <a:p>
            <a:pPr marL="349200" indent="-349200">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Threat of new entran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Economies of scale</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roduct differentiation</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apital requiremen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ccess to distribution channel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st advantages other than scale</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Governmental polici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Bargaining Power of Suppliers</a:t>
            </a:r>
            <a:endParaRPr b="1" lang="en-US" sz="3600" spc="-1" strike="noStrike">
              <a:solidFill>
                <a:srgbClr val="ff0000"/>
              </a:solidFill>
              <a:latin typeface="News Gothic MT"/>
            </a:endParaRPr>
          </a:p>
        </p:txBody>
      </p:sp>
      <p:sp>
        <p:nvSpPr>
          <p:cNvPr id="655" name=""/>
          <p:cNvSpPr txBox="1"/>
          <p:nvPr/>
        </p:nvSpPr>
        <p:spPr>
          <a:xfrm>
            <a:off x="549000" y="1599840"/>
            <a:ext cx="8042040" cy="4343400"/>
          </a:xfrm>
          <a:prstGeom prst="rect">
            <a:avLst/>
          </a:prstGeom>
          <a:noFill/>
          <a:ln w="0">
            <a:noFill/>
          </a:ln>
        </p:spPr>
        <p:txBody>
          <a:bodyPr anchor="t">
            <a:normAutofit fontScale="89000"/>
          </a:bodyPr>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dominance of supplier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vailability of substitute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mportance of industry to the supplier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mportance of the suppliers’ goods to the industry succes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redible threat of vertical integration.</a:t>
            </a:r>
            <a:endParaRPr b="0" lang="en-US" sz="3200" spc="-1" strike="noStrike">
              <a:solidFill>
                <a:srgbClr val="595959"/>
              </a:solidFill>
              <a:latin typeface="News Gothic MT"/>
            </a:endParaRPr>
          </a:p>
          <a:p>
            <a:pPr marL="310680" indent="-31068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Bargaining Power of Buyers</a:t>
            </a:r>
            <a:endParaRPr b="1" lang="en-US" sz="3600" spc="-1" strike="noStrike">
              <a:solidFill>
                <a:srgbClr val="ff0000"/>
              </a:solidFill>
              <a:latin typeface="News Gothic MT"/>
            </a:endParaRPr>
          </a:p>
        </p:txBody>
      </p:sp>
      <p:sp>
        <p:nvSpPr>
          <p:cNvPr id="657" name=""/>
          <p:cNvSpPr txBox="1"/>
          <p:nvPr/>
        </p:nvSpPr>
        <p:spPr>
          <a:xfrm>
            <a:off x="549000" y="1447920"/>
            <a:ext cx="8042040" cy="4495680"/>
          </a:xfrm>
          <a:prstGeom prst="rect">
            <a:avLst/>
          </a:prstGeom>
          <a:noFill/>
          <a:ln w="0">
            <a:noFill/>
          </a:ln>
        </p:spPr>
        <p:txBody>
          <a:bodyPr anchor="t">
            <a:normAutofit/>
          </a:bodyPr>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dominance of buyer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Knowledge of cost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roduct is not differentiated, thus substitutes are available.</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redible threat vertical integration.</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reat of Substitutes</a:t>
            </a:r>
            <a:endParaRPr b="1" lang="en-US" sz="3600" spc="-1" strike="noStrike">
              <a:solidFill>
                <a:srgbClr val="ff0000"/>
              </a:solidFill>
              <a:latin typeface="News Gothic MT"/>
            </a:endParaRPr>
          </a:p>
        </p:txBody>
      </p:sp>
      <p:sp>
        <p:nvSpPr>
          <p:cNvPr id="65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 products meet the customers’ needs but do so in different way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y are different goods and services that perform the same or a similar purpose.</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16-08-30T19:42:43Z</dcterms:modified>
  <cp:revision>318</cp:revision>
  <dc:subject/>
  <dc:title>Slide 1</dc:title>
</cp:coreProperties>
</file>