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FD0D-47DA-4DA4-808A-419A82A444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6516-AC6B-4EEB-9B5F-80A5A1B0A2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5DB-E9A1-45D9-82F1-EECDC1E4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453-433D-4465-974C-04BC47F8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C8E703-2AB5-49E8-9A4D-0EFC4EEF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ADCCFF-B2AF-472E-AF17-6A790AF1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3C582-CA11-4F43-AE11-F6A37187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1470A8-4208-4FD1-8C12-E141AC5B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757836-ABC0-4509-9818-4D0BBB04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676E32-B5F8-4510-8AAF-8516051A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818B57-B2F5-462A-B877-B1F844AE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27A72C-F8A3-483C-9B80-BA4D5D91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EA40E-4D32-4AC3-91CC-83CD8243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986917-9FEB-460C-BC5B-0498A0F3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A05-BF1C-4102-8A88-1FF004EA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0DF249-8FBD-4F05-A38A-E28861A1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BE1499-9B4D-49A7-B9D3-6B452C5D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AFED81-6A96-454D-A711-EA4E93A9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16A45B-4DB5-4B3C-BAFF-161BD55C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AE31A6-414F-4407-BA8D-732CDC6D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07F159-6B3F-43E0-BD52-86A37099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CD8C7D-EF28-4766-B313-D0DC4221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DAED9E-EA0F-47BF-9F2B-3090B211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9F8D82-5863-4C93-BB8F-C094271B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D6D709-C7D7-4961-B4E1-3FF380FF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23E-290C-4A54-804C-9A41A85E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0F4AA7-5CCB-4813-A680-3F06C881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A362AB-5CEE-48C2-8608-6A23C1F2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D97466-7DFB-4479-BC0A-AF9DAF8D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891659-9E1E-4159-B8B8-523EF7BF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832250-13E6-4155-8C15-C2D5AA44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BD1284-D32B-4554-A2CC-EEC7A6C4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320E74-5BFD-413E-B510-CA92FAA6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658E56-57BC-4F94-B9A3-0448131B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F03394-C8BA-47C8-A2E9-1E4C2E03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4A3656-1909-4EF3-A0E9-818A6C91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AFA6F-2B49-462D-8685-601AB415AA0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4C2002-C2AE-44E8-B7E4-3B373E1A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7DC857-B5E0-4073-A1FB-1EAB3132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933BEE-FF77-41FA-80BA-7FE3C1BA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863CEE-C00E-4646-B699-DAAB3996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F7924F-4831-4819-BB4B-7D018795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047C3C-5875-4F9B-8330-B93F3814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21B2CA-F642-4D93-8C48-2358C5AE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6593A6-0A74-4E4A-B474-B22BD666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D7755D-00B0-4B46-A491-740F4079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CB9C08-5E12-496C-9B16-EAC1E6B1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F9C87-4B07-4C62-AF34-600AF6CBA6D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810EA2-2802-4115-AC94-175FA095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8B4D3A-FB4F-4AA9-9A12-47A0A033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06E9A8-979C-4FE6-B1C0-4EB11B2B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7E56E6-D768-4A40-9AF9-0640E801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A2F3A9-B65F-4B24-A772-3FADDF3C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80807A-1F4A-48AA-8475-A85EFF1D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490936-FFDC-499A-8C25-A6EB0C20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0BD06A-9F43-4A27-A12B-8C56C949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5A2A4C-ADD1-4472-96AC-8055DE61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2CD476-3878-4B47-842D-3E7ACD53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E86A8-1620-4CDA-8CBF-7DC3985A3C8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35F1FF-13A5-4DB5-8AEA-B4F45F4F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98AAB4-6FA5-4C70-AF99-7F9B2BF1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66167E-3B55-42B8-B51B-3B2B12CF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264E85-85DD-4963-8ED7-D71CC0B7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535AC4-7A22-4816-A57D-9A0C834E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727C67-D80B-4B57-B9F9-9C4091AA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AF8B63-812B-4D4C-8F1D-EBD95915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D3E90F-8C4A-4A36-B7C9-BE11A2F4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AB2FE5-6A10-431E-A120-4730F16C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041E5F-EF34-4F1C-9869-6D94F060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649D1-4E44-4387-818F-74EDA97AADB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9F679C-8581-41E1-AB75-C31D0CB3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6C7820-EDFA-479C-9833-A4F8D648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D3E924-D9A1-4E4F-9377-35FD5889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54EEEE-E115-4265-804C-B6B9F7A4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C119FF-C59B-4392-9A1D-D921D6DB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FCD70E-DF00-4EB5-B610-CEED813C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7ABFD2-767E-4B06-8AB5-C49BE00F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4B73C6-C6C0-42EA-8C34-0FECDEAD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68F32D-B34C-4029-9090-56D6D77E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0DC9F-23A6-4BE0-9AF8-BB28DA642B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1DF9E-1EA9-42C3-9356-B456AEDCC4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25156-E365-47BB-A800-F52E1B2FBE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F75-B65F-43FF-B66E-75098192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09C41-1438-4C3E-837D-DD1B414647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D077F-72A7-42D4-A4D3-B6BA2AFAFE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7A069-4B14-4545-9F6F-FF36E47B89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0CB18-C10C-4765-A63D-47F894931B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59A53-8808-4CA1-B0D0-331546ACE8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F5D-97A9-4A0A-9D34-744F5E69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5FB-AA62-4178-8047-330A482F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477EB-82BD-48FA-9B6C-38BF218F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9CE-FDEC-41E1-8362-3A958492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683B6-95B7-4577-8F31-6FC164B1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C9776-F9D8-47C3-95D1-AA747B1A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168F8-E47A-4CD5-9782-2CC5251A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0B09B-DFE9-4FC6-9042-996D84E9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2D613F-3F61-4D6D-8D9F-90D68E92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82E16-6A61-40A0-B76C-43772EEE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045B6-8FA0-42FE-94EC-04255A4B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B46AB-115F-44B0-8F0D-FD0A6EEE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2AA5C-C1DE-4D84-9CDC-9E1CF3A2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2E22D-EAF8-4506-8002-50F066A2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C56-E13E-41E8-A990-E81372E6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3BA58-5205-46AC-BB4A-679D4BA0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BAFA4-303A-4020-988B-BBF6CADC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23FF77-6C2F-41F9-9042-9748D7FA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195074-FC7D-40EC-B738-767241AB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3902A9-8E37-426E-AB2E-445F6285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C29941-8E90-487B-9DD1-15218C6B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42EA4-5B94-4761-99CE-9487B7A9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CE04C2-7F0E-4B6A-A1EA-6D759CCA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BFD5E6-9D4D-43F0-8485-2A0003FC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856EA7-AC43-4D69-A1C3-9133770C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14B-9EA1-4875-BE25-E2CEE7C0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998203-2D1B-4448-A729-F708FA13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C0624-0E50-47DA-80FE-89EB56C9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45A1F-3CDD-4E2B-B828-8EA7D8CC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D4BDB7-C727-41E9-AB98-A2A47DC7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557A0-E5FF-4AC7-B402-98249C80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EBCB0-9312-40D3-96C4-FA95D20C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77E18-A6A7-46F9-BA47-0A981914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6119D-BBD5-436C-9890-AB5F810F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E3C9B-E41F-4749-B2FC-20CCF02C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E09D66-FBE3-4F71-984C-260F94AD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408-D3E3-47C0-AB75-4EB19EEC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A1198-8C8B-4EC9-959F-B2A7DFC6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13933-F71A-433C-98A6-3504D07B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569FFF-F74F-4778-86F0-7508DE39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AFC3A9-BE52-43B7-B9C4-EDD9CCC7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2211FE-8A27-4683-A778-4EEE0B18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738D83-4608-434B-A478-E4CE8B92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8F4B7C-DADD-4548-AD8D-8F5507ED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768E4-B857-4DBC-9EDB-1392E48E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C08559-F12F-4791-9E49-167C6568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1EBBB8-5E12-4574-8D9E-D064E5E6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3E5-73C5-4E30-B240-ACC0C7A8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742BA7-62A1-47F9-8EC6-3CDB43B7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162FE0-F9B2-4806-B0F1-D6FA405A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D3240-712A-49E3-A20B-631B1887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4850CE-6B6E-45C3-988F-56771FF6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54C08-AF1B-42CB-BF04-65C594FE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5C9EB-7ED4-4070-A886-43D8595A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FCB04-4142-4902-8CF1-AFD7D70A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F655FB-DD62-4A9D-93F9-2A3161E3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A0FAF-3CB9-4923-A0B6-C62281CB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C94E1F-63A4-4A86-89B8-ADF1BED5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86CF-9720-4D98-B39A-A1FD5612C5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75C0-7971-423A-8834-540EC7CABD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8E2A-9B06-4256-8203-0D5F90E2E4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4672-213E-461B-947E-CD45359055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0D4F-9F81-4010-B297-65C3F81255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46FB-0971-4810-8981-C9C4A8D4C6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0E45-130D-4EF5-B124-165148CF6C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8E78-26E8-4CF3-8A02-A0EEA6605C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4340-DACE-40A1-BC9F-049F4FA8B0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C519-3307-433A-95BF-83AA127058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4E81-435F-4893-9BCE-AA0DB493D2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AE17-FF01-4A89-A239-8BED6B3439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Internal Organization: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Resources, Capabilities, Core Competencies, and Competitive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Firm Resourc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752480"/>
            <a:ext cx="8305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apabilit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ore Competenc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  <a:ea typeface="Geneva"/>
              </a:rPr>
              <a:t>Creating value and competitive advantage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00C36949-04EB-42A1-881A-5ED8D27203D5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riteria for Sustained Competitive Advantage – VRIO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aluab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a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icult or costly to imit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que historical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usally ambiguou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al complexit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rganizatio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Criteria, Competitive Advantage and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0" t="8511" r="0" b="0"/>
          <a:stretch/>
        </p:blipFill>
        <p:spPr>
          <a:xfrm>
            <a:off x="533520" y="1600200"/>
            <a:ext cx="807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Value Chain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tivities that a firm engages in to produce a product or provide a servi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upport Func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ctivities a firm engages in to support the work being done to produce, sell, distribute and service the products being produc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RM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utsourc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urchasing an activity (value chain or support) from an external suppli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9-09-19T18:15:58Z</dcterms:modified>
  <cp:revision>316</cp:revision>
  <dc:subject/>
  <dc:title>Slide 1</dc:title>
</cp:coreProperties>
</file>