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8480-CA2B-4421-B090-8EAC747D75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1E8D-889D-4864-97DD-A05EFC3544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C3B-C442-43BE-9941-F14418CB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2E8-3B3E-4BF9-8504-FA837749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CBDBB0-E4F5-4A7F-ADE5-7BE66F40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28F00F-C26D-4B7F-8C3E-BCD36825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202ACF-61F7-4962-A4E9-73465324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AC89EA-A2CA-4A04-BD9C-6503CFAA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842AD6-857A-41FE-AE4B-5994908B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F7EF48-7902-418E-9965-16BAC385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65477B-4ED7-4722-B5CC-F7CAEB73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32D05-FAF2-458D-B216-B792E7BA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388880-56EC-42C3-B279-B686046F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9C051B-5973-4DBD-84A9-D7D6BDD6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C91-5DDC-44BB-9ECA-EE7D1280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1A9CCE-2736-4D63-B776-DC189B49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B78036-E0FB-4998-A8E4-8058DF48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4ADF45-8A3C-4C99-8E0B-8A8FAA5C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DE49ED-4E7B-4D15-8FD7-00AB6E1E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0C167A-50D5-449C-8F8A-D9D50DF6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4C0AAD-B639-48E7-8C96-E69472CA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1733E4-17C8-48BB-B107-B15B01A9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8E753E-1351-468A-9E00-C8A33BB4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950A59-416F-4179-ADF8-DC104262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41B13F-8520-4B94-ADFB-9B1B63C5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075-7212-469D-BEF1-544F4D11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9DFD4D-065E-4EB7-9AF9-DA190628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02351C-F445-4D40-9D08-26EA69DE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890B22-D1EA-4CBF-9EE3-99BC56AF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31E4DC-F851-490A-95B3-056740FF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6CF984-2569-4C25-AD3F-95233C43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DC42D6-864F-4A48-B3DC-2188CB0A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0B59C0-8B1A-4A1C-8166-F4F66B2A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9A8C0A-6F47-4883-8183-665B47B6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B3C592-50F5-478D-A3A0-EEB0D2CB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3F57B6-C3FC-42BB-9DA8-8B52A6A2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D0F53-5775-4FD3-B70D-196A7FF7AF3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130EB8-73E1-46F2-9A24-4B64E6DB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D263C4-5CC0-49C7-802F-3E9097BF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1249AD-3B18-4524-91FF-F3601C9C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73EBA0-F42E-4E53-84A5-41F9A00B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5AC271-F554-4DC4-AFA8-900384F0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E9B1EE-B00A-4573-B3FA-E57C6F64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7D4420-4B84-4AAC-9D12-3E817738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543007-D3DA-4B56-AED3-532A50B2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3701CD-9592-4B0E-9AA1-62EB3596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F46906-A4B4-4D0C-A4BA-0C9D9DB1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2385A-F5EC-42CA-9D98-955BE777BB0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7B55E7-7CDF-4129-ABC9-21FB34DC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2889AF-E064-4F4C-BAF2-DCC16260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6A6342-2286-42B2-8C12-BFC9F89F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610976-581D-4B53-BF44-3B79D577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075B13-4815-4D40-B0E4-796603D2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89078D-9789-4E45-96E1-C0183D73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367B52-1B02-4A53-96B1-8EAD821B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2AC3C9-B355-4D48-9E88-014AB315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45B91C-6C30-4F6E-9BBF-D6CBC92A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59C142-2C18-4F4F-B823-C75DC5C5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49A8A-514C-4C42-B47D-86DEC4E2705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B00593-FE01-41C1-A2AB-CC91D07F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1F27B6-61FD-488F-833F-E80EBF4D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77B9B8-1E6E-485B-873E-00D6E603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163044-DBEE-4F47-B791-8DABCF31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2CA5DC-B6CA-4EB4-AEB4-8AA19C1D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49F7A1-7D81-4BDE-A968-28DE1C00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C28B09-3299-42F0-8F8F-EE550162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7AA576-387E-45B3-90C7-D256DEE0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6DFFC4-4FC4-4F3D-A9CA-CD9B9573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7D4416-BFBB-4E9B-AEB2-5F6139B5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68380-BA3D-4AE3-9E98-9F439CD96FD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D202B0-AE64-4148-9442-74CF9C98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4B079A-94B0-4B75-B4E1-056C85CB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5BA9B6-2616-4889-AD6B-85D57730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3F3069-97A3-489E-8545-ADDCC66D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6A3D5F-F9E1-4C84-B34B-FC53C6BF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6DC02F-FDCB-43B4-956A-E63A393C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95B948-00A0-4E71-80F3-E030BC75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9FD548-D203-4989-A53A-BAD7C0E0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38BF04-2D11-4D5D-B3E6-BD6B753E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278AA-1FDF-4DD3-92F7-D341B441FC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E42D3-3625-404E-A0C4-E4449D895A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91A06-F096-4FC8-BDEC-C1DAA9B6BA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1D4-7246-4991-BC0B-07A92241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F8B78-EFAE-44D0-ACAB-983163B2E3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2156F-5C98-4045-A537-15E140E638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53C93-B129-4CB6-9F64-C70AFFA520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915EA-B845-46F3-B579-5F19F7ED90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1A612-1DF3-484C-BACC-14F55BC56C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367-6194-4DEF-8CFC-119ECF0E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B62-558B-418A-8FAD-09F306C8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A0CCE-3861-4815-A13C-B1809688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CF0-6E91-4349-AFFA-9D62EC36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08B19-27B0-4E9A-B1CC-D878B5D3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36F88-D988-484A-ADE9-94383FE8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646DE-237C-4722-8B5E-78BA8054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3B1AD-62BF-432E-9F3F-59D726B1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A3F4D-CBBA-4F54-A106-E2DF04B7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1367A-3993-4017-87EB-8EFBBF05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4C7BB-060A-43AE-A867-5D9E16E8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AC753-02D8-433E-9115-6AC6CE03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06188-04D7-48E4-A596-16A22184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7C00D-2235-438D-AFED-95268F97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017-32E0-47FF-848E-45083BA9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1FB83-B580-4A3B-A2F9-5B0EE907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CD5BE-A665-4E1E-924D-788D3E15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02BA5A-0AAC-4680-B1D8-2CE771A7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D4EE5-42E4-4377-9EB3-31B6A336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F93D88-33E6-452D-A2CC-9EB3C65D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82CFD-403F-4DFB-90F7-42401FC1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F495A7-7398-4D91-96FA-9CA4E36B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996AF2-DDF7-4BCF-9FE9-22CB4F60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ACCFD4-1EF6-4C2A-9FEE-945211DF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A8667-CBE1-4F1A-B71B-69A2F1FC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A8F-DEF8-4FB2-A162-7BE2112E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F06D3-CE87-48C7-B573-E626B881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1CE7E1-E622-43FB-8030-5BDA886E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5B6A2-3FB8-4DCB-9A88-5BA1D5D6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A6FD1D-6AF5-4A1F-8B70-9FAA2DE7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AA1F1-83D5-49CF-91EF-E712FED9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09958-5F27-454A-B681-8A8ACADE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76E7B8-9DB9-4D3E-86E9-B6999E68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F651D-C54E-420F-921B-80249AE4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F774A-FF40-453A-B15E-E632B540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3A3D9-25E9-4F47-A3F5-4FCB4B80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0D5-9DA8-4A97-834A-B4EC3C20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117840-65BA-4075-B1D8-C0523081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1D7195-EBA9-4950-B7B5-427590D8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3999B-2796-45B7-89A7-7588C804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35FBE-17CB-4C56-9111-E2E1E454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C476E-AB6B-4B70-99B9-A454ECAB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BBA79-3860-4110-BDBE-73464D57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30D0A1-F744-47CB-AE1C-ECD12799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50272B-DD84-4E93-9489-096081CE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B9A75-167E-4F07-A626-399286E7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3E679-55B1-4793-8ED1-25DDD609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6A7-26C3-44E8-B0FE-F742B480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42B0D-7E45-43C4-8E58-E5993A05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BEF154-BF1B-47C9-8D1D-8E007456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806BF-8385-44BA-9C7F-4058F44F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920192-5BE2-47C2-ACC2-967AFC22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298B3-B610-45C7-A6C2-6AB10B1B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EF5ED7-7846-49BA-B5E3-2068B693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E244BE-1A8E-41C4-84E3-89967AE5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6EEE6-0A8F-42F3-903C-381A0A43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3D620D-5AF2-45FF-9E00-B5AF08EF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993AD5-66CA-47BC-A2D3-AD2766DE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67A0-479C-417E-9D5A-EAA47CCB99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40DE-ADB9-440B-AA6F-BF99D33692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4909-C865-40B4-89E2-09A78F0507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4832-034D-4AD1-AD70-D619A09FB2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BF37-B635-48C8-9088-806D8E878E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011E-F03C-45A7-B417-BA4931C78C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D362-895C-4CF9-9BF4-605BE11E32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DBC3-E38C-4B0E-AF26-C0FAF2F203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3313-C083-4639-8F8E-BB5665D747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3995-DA2D-423F-BF1C-A1B11B2A83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0595-EAE9-4B55-BF0B-A383C65355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523E-0236-47DA-B3EC-95A9632586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1E5F1F1B-2FB9-45EB-AC38-3429B15A5960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9-09-19T18:15:58Z</dcterms:modified>
  <cp:revision>316</cp:revision>
  <dc:subject/>
  <dc:title>Slide 1</dc:title>
</cp:coreProperties>
</file>