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981CA-C37C-499A-B698-DAD7D0D41FEA}" type="datetime">
              <a:rPr b="0" lang="en-US" sz="1200" spc="-1" strike="noStrike">
                <a:solidFill>
                  <a:srgbClr val="000000"/>
                </a:solidFill>
                <a:latin typeface="Times New Roman"/>
                <a:ea typeface="Geneva"/>
              </a:rPr>
              <a:t>07/30/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8D560-CBCE-4C86-9FA3-5FCE4163F13C}"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0C2FA-D74D-4642-9359-A67FC9AF6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27A56-3201-4D57-AEE2-5C280AF7E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39A98B6-FCD0-4A2D-9F63-0A38F8251DC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5A275E3-F636-4AF8-A541-157EAFD1B36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9474133-B5D3-46CA-93EB-DF06990C429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C814A07-82A1-4A1F-9C44-4F2EBAE93A4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C752B14-396B-4869-9C66-EB02179F920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D0C35EB-4F96-42B1-A02E-37EA18C206D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16D7C84-5F57-4D20-A207-9F3856FE8A5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5E1E8635-1162-4848-B5F4-BE63D52D082E}"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73D8293-CB3F-4B2A-B7A0-A33B0BC428CE}"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01A5C77E-676E-4A33-9361-9624436CB0A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275A18-2D02-4E79-88C7-2B895D3DC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8332A0B-05F6-456F-9E6F-46C15637522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82FC665-39D0-47AB-B5D1-0BEA9CF2EBD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CB92D22-F53F-4FE4-99F6-7D5F69934AD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6CBD78B-C38A-4E48-9F6C-73C86B9168B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F3AB304-AA3B-4B36-9879-6983FD9CCCD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CC198AD-BF69-4220-91B9-15643291FC5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C5D601A-73D2-4A27-B4B8-B45BFB5DAFE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CED69EA-AA67-4EF5-BC6F-F2379ECA71F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801B8A9-AAAA-4A39-B1C3-62DA9F0A84E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8940E47-1B31-46BC-8EF1-7320D3C177F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A4EEFF-6ECD-4533-890F-1DCF0068C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F3012E9-B696-4465-99AC-8F314125241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BE06330-39E8-4B54-A9F7-02962791F2D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12E6026-73E8-4F23-813A-3361C442665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BAC28AB-AFA8-4BC5-B0D1-B492D21C1DE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1695680-11E2-4963-8A3D-2729D179CB0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4BD9428-9CC7-4FD7-A20F-B55DB8A50D8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4D55B35-B4DA-4B90-BE92-146513970E5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EBA36B3-52F5-475E-A905-674928382DC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44AA404-1E72-4C91-8A43-CF31F031D03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35C809B-5B59-42D9-9D78-50876295EF5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25839C-EA7C-4188-95F8-4F58D736694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15CEA1F-D741-4B10-B539-E6DAEBB1EC6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0664C786-361F-4D4E-82C9-5349ABB122A4}"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8CD185B-04AE-4FCB-837C-9DDF047CA8B9}"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AB0BAEEF-73B7-42DC-BC63-E481EC6F936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2F8418B-E709-4872-988D-AA80D3227AA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C4184F7-6D69-484E-B0A3-7BAA963303F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87EF475-DF57-4A88-B643-EDA6F2E12FC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EAC27BB-5533-463E-A81C-FB1D46FC184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9220151-A90A-41D1-9B1B-22A6CC68614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79F039B-A773-403B-9570-3AA22326906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13AB2A-49AD-4629-842A-BB80F462A9E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62BDF33-293D-4910-9188-5694081616F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AECBBE0-DBD8-4E04-941F-AFDE5EAEFF5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60729B7-DB83-4755-834C-D71BD11A92F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5EC0497E-A9CE-46AC-B915-2494EDAEE99F}"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168A5B13-0801-4F43-B98E-F96B9E780CEB}"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73F3E2DA-BF71-4A35-8CA1-92E3F00FB745}"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27862F0-70E6-4EC0-B888-D068477AEEA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2DAAEE1-B41D-4215-B971-591E09729C7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D653702-F45B-454F-831B-30D72AB55D5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7C33618-038E-442E-99A4-5B7BF9CCDBF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C172E2-0B07-45F3-BAC5-AF4073D501AF}"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2A3C7F3-6805-468A-9398-415F04813A3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C000088-97E3-4AC1-9002-25F8083DE1D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D2CA8EC-F4BC-4390-AD4E-5B1680B799C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17F8032-8165-4AF5-8FF8-843ACC0409F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E290B83-DDFD-45B2-8BA8-1BDB48F7CC4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FA7E5FA-FF1C-4542-A48E-71D00211F54E}"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1370FE54-21A2-4612-93BC-9910483797D4}"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A302A833-E5FD-499F-85CD-1818C6022BC7}"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D37F059-6D45-4182-8EF0-64FC88298ED8}"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55BF912-6D90-4657-AA4F-5850BD5C130D}"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B004B3-DA2E-42FC-9666-79EA96BBB361}"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B006B27-E156-48B4-9D46-83406EC2271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735A4959-E58F-482A-8D13-97886E63993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9A8D6B0A-6032-4F05-ACEA-BAF54A1D988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4724281-59BC-43C5-B3BB-6E37542AB9E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2E08E4F-E616-4B0F-9E1E-C1900472821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E191CCC-0137-442E-AE88-37FC979BDCE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51450B7E-0D0C-408B-8938-C57C05A167A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28DF1E2E-879D-41DE-8031-9503BA163595}"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9917F236-31D9-48C2-9A33-A9A55FCCE708}"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52AD68-1297-4600-98D6-CDE474B2BEBD}"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244C01-AB4C-4D26-9044-A9D39E68EFCF}"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3868E1-81FB-477E-8456-0EE3710AA9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D80FE-2921-4D8C-A051-08949C78D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66C7FD-1189-41F7-B3B8-69B6226D5CC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0D826C-D695-4085-8328-A2096CD7139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A38DE8-B3E3-4AD7-950D-F71B488F35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73BFF5-7CB9-4C17-BCB8-00F467544D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85C342-A858-42A3-ADE9-9D43D4A9EF1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DF292-E7F4-4F87-BD0D-88E5A7BE3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11D65-0476-409E-85EA-AEE8E2FD5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88A1307-293C-4081-8B10-7A3D9D3BD53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678FF-98B9-4623-95BA-C1849FB62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D9F2274-E929-44A4-AD8E-423A029147F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3076265-A29B-4CF5-98C9-4BB12AADBD5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3C65BCF-CD2E-4777-89A7-DC3275EBCE9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6DAFFDD-8ED9-4F62-8364-498584607E1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57F1FAC-7409-4F11-96E6-32E442C73FF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2B61E42-1301-4F47-9BB2-B918A1FB88C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DAFA4EA-6733-47DB-82D7-FDB7A974C01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D6C1977-DB31-4668-AF1B-8E4D52E72C5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F5895AD-79F4-47B1-84D1-364EF91CCF0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A1E0951-6DBA-4975-A2A2-736342DED85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A6CB8-1208-4841-85B8-378232F91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F36A48C-8B46-436D-B100-64747FC1AA2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4C0C07C-AAA9-4C1E-A383-310ACB00BB9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0CC3395-0B97-451C-AA2E-7F95C49F5A4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227DFDB-8A0A-44F0-AC8B-A8309842A84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2C44485-36C1-4CEB-9DF2-F09D3D2C6A1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E66D768-7A67-471B-A9A2-EEDB69F0A50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CBA5702-03E0-4338-B120-A0062261E04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B90A159-3826-4058-AE57-E0F53AA8A49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BF18F39-16BE-49C3-BB71-BF9F1CC07D3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E0FE1BF-AA24-44BE-9D01-906FB17E7F4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88D77-8B8E-466E-BAA7-5F5A2BFB9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C41D985-A490-425D-80FA-A77318E0E37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20EF106-BA16-410E-919C-04C6EDBCC96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C38811A-B521-4F8B-8B8E-79DFBB5D56F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90F8023-683F-4C71-B7A8-C21463DD5C6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C010C8E-C93F-40AD-A966-31B39B2274E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4680010-E182-415E-9A29-7DA27502661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E946ADA-E8DC-40E9-BE37-1A68E9D6CC6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67BD6A1-4E24-4A97-AC6B-62DE28B7764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4BEF5F1-7E54-4502-B731-09195359844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4A8AE6F-DDC3-45A7-9075-FF19942F873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B0ABA-7961-43D2-A012-5E3A760E7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9C450A1-E31D-4281-A61A-596088605F3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5FB62F6-732F-48D6-9B7E-288D553E571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6C74CD5-E2F3-4F87-98B9-691551928ED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ECBC755-C98C-44FB-A231-64E2E4AFFDC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00A096D-ABAD-4A2E-8C20-405DA4F2A4E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8CC6C5C-1E1A-414E-9D0B-7D708F46022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2E39279-9C29-40FF-8149-5259413CA82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75A1F05-D011-45C3-851C-5C50A239859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DC2089D-8041-4CF7-9E33-2C5E4B7E4DE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012D429-B0D3-46F9-8E45-01A60CDA578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A7790-6A1E-4F21-B71B-81BD38F4E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85E3BB0-6A7E-4053-B40C-909F95BC8BD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056B068-3C6C-498F-8CAC-6422B13E9DC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E6F2BBA-11FB-450A-A923-4CE90FCCC30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0A16DC7-9D16-4C72-8570-0A3A215C3A1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94E2308-6886-4CE1-9B0A-1572C8CF7F4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FB8D384-6FD2-4F02-9E4F-18393ED9076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44B882D-E2C0-4579-96F4-206C41C0C94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14C6EB6-A3AA-430F-B581-F53F17725D0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A4818B6-2C9D-4BE5-8467-827F570E3FB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08CB334-8CC3-4225-ADA6-303A27C632A7}"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FD07C-72BB-47C4-8B1E-1C673E41ADA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77CDE-4F17-4BAD-AAC6-B1ADF37AF18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D4308-5310-41A6-BCE2-0881AD3F75A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F758C-B7E1-4247-A664-1F7B7DA86A4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A6489-828C-4AF5-8CDC-548C8E44FEE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6C05A-333A-4605-87DD-24C6ABC9036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54E2F-6AC0-4417-88E6-7756C644960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BBE77-8A4C-465C-BC33-DF229083577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11D43-527F-47E1-8886-4281FBDD46D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18908-BD23-4422-A4AE-B2A62D8D54C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29084-ACEF-48AD-8B2F-D05923BC9E6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FBA2A-BD76-4BD4-9A57-7B6FF7699A4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Geneva"/>
              </a:rPr>
              <a:t>Chapter 4</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Business-level Strategy</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Low Cost and the Five Forces</a:t>
            </a:r>
            <a:endParaRPr b="1" lang="en-US" sz="3600" spc="-1" strike="noStrike">
              <a:solidFill>
                <a:srgbClr val="ff0000"/>
              </a:solidFill>
              <a:latin typeface="News Gothic MT"/>
            </a:endParaRPr>
          </a:p>
        </p:txBody>
      </p:sp>
      <p:sp>
        <p:nvSpPr>
          <p:cNvPr id="66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ivalry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buyer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supplier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ew entrant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Product Differentiation Strategy</a:t>
            </a:r>
            <a:endParaRPr b="1" lang="en-US" sz="3600" spc="-1" strike="noStrike">
              <a:solidFill>
                <a:srgbClr val="ff0000"/>
              </a:solidFill>
              <a:latin typeface="News Gothic MT"/>
            </a:endParaRPr>
          </a:p>
        </p:txBody>
      </p:sp>
      <p:sp>
        <p:nvSpPr>
          <p:cNvPr id="664" name=""/>
          <p:cNvSpPr txBox="1"/>
          <p:nvPr/>
        </p:nvSpPr>
        <p:spPr>
          <a:xfrm>
            <a:off x="549000" y="1143000"/>
            <a:ext cx="8042040" cy="5105520"/>
          </a:xfrm>
          <a:prstGeom prst="rect">
            <a:avLst/>
          </a:prstGeom>
          <a:noFill/>
          <a:ln w="0">
            <a:noFill/>
          </a:ln>
        </p:spPr>
        <p:txBody>
          <a:bodyPr anchor="t">
            <a:normAutofit/>
          </a:bodyPr>
          <a:p>
            <a:pPr marL="349200" indent="-349200">
              <a:lnSpc>
                <a:spcPct val="8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Product attribute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features </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onvenience</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Quality</a:t>
            </a:r>
            <a:endParaRPr b="0" lang="en-US" sz="28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Relationships with customer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rvice</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customization</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onsumer marketing</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putation/image/statu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inks with other firm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mix</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549000" y="107640"/>
            <a:ext cx="8042040" cy="141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Product Differentiation </a:t>
            </a:r>
            <a:br>
              <a:rPr sz="3600"/>
            </a:br>
            <a:r>
              <a:rPr b="1" lang="en-US" sz="3600" spc="-1" strike="noStrike">
                <a:solidFill>
                  <a:srgbClr val="ff0000"/>
                </a:solidFill>
                <a:latin typeface="News Gothic MT"/>
              </a:rPr>
              <a:t>and the Five Forces</a:t>
            </a:r>
            <a:endParaRPr b="1" lang="en-US" sz="36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ivalry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buyer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supplier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ew entrant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Focus Strategy</a:t>
            </a:r>
            <a:endParaRPr b="1" lang="en-US" sz="3600" spc="-1" strike="noStrike">
              <a:solidFill>
                <a:srgbClr val="ff0000"/>
              </a:solidFill>
              <a:latin typeface="News Gothic MT"/>
            </a:endParaRPr>
          </a:p>
        </p:txBody>
      </p:sp>
      <p:sp>
        <p:nvSpPr>
          <p:cNvPr id="668" name=""/>
          <p:cNvSpPr txBox="1"/>
          <p:nvPr/>
        </p:nvSpPr>
        <p:spPr>
          <a:xfrm>
            <a:off x="549000" y="1371600"/>
            <a:ext cx="8042040" cy="45720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 special case of the other two strategi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228240" y="108000"/>
            <a:ext cx="89154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Integrated Low Cost and Differentiation</a:t>
            </a:r>
            <a:endParaRPr b="1" lang="en-US" sz="3600" spc="-1" strike="noStrike">
              <a:solidFill>
                <a:srgbClr val="ff0000"/>
              </a:solidFill>
              <a:latin typeface="News Gothic MT"/>
            </a:endParaRPr>
          </a:p>
        </p:txBody>
      </p:sp>
      <p:sp>
        <p:nvSpPr>
          <p:cNvPr id="670" name=""/>
          <p:cNvSpPr txBox="1"/>
          <p:nvPr/>
        </p:nvSpPr>
        <p:spPr>
          <a:xfrm>
            <a:off x="380520" y="1599840"/>
            <a:ext cx="82105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epresents an effort to offer a low price for products with somewhat differentiated featur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Firms risk becoming “stuck in the middl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304920"/>
            <a:ext cx="8042040" cy="129528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It’s at the business-level where a firm competes for customers.</a:t>
            </a:r>
            <a:endParaRPr b="1" lang="en-US" sz="3600" spc="-1" strike="noStrike">
              <a:solidFill>
                <a:srgbClr val="ff0000"/>
              </a:solidFill>
              <a:latin typeface="News Gothic MT"/>
            </a:endParaRPr>
          </a:p>
        </p:txBody>
      </p:sp>
      <p:sp>
        <p:nvSpPr>
          <p:cNvPr id="643" name=""/>
          <p:cNvSpPr txBox="1"/>
          <p:nvPr/>
        </p:nvSpPr>
        <p:spPr>
          <a:xfrm>
            <a:off x="533520" y="1752480"/>
            <a:ext cx="769608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By selecting a business-level strategy, a firm determines:</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Who it will serve.</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What need(s) it will satisfy.</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How these needs will be satisfied.</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2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6F6FFC3A-6168-4055-9E2F-02B2091823AA}"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2" end="2"/>
                                            </p:txEl>
                                          </p:spTgt>
                                        </p:tgtEl>
                                        <p:attrNameLst>
                                          <p:attrName>style.visibility</p:attrName>
                                        </p:attrNameLst>
                                      </p:cBhvr>
                                      <p:to>
                                        <p:strVal val="visible"/>
                                      </p:to>
                                    </p:set>
                                    <p:animEffect filter="blinds(horizontal)" transition="in">
                                      <p:cBhvr additive="repl">
                                        <p:cTn id="12" dur="500"/>
                                        <p:tgtEl>
                                          <p:spTgt spid="643">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17" dur="500"/>
                                        <p:tgtEl>
                                          <p:spTgt spid="643">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43">
                                            <p:txEl>
                                              <p:pRg st="4" end="4"/>
                                            </p:txEl>
                                          </p:spTgt>
                                        </p:tgtEl>
                                        <p:attrNameLst>
                                          <p:attrName>style.visibility</p:attrName>
                                        </p:attrNameLst>
                                      </p:cBhvr>
                                      <p:to>
                                        <p:strVal val="visible"/>
                                      </p:to>
                                    </p:set>
                                    <p:animEffect filter="blinds(horizontal)" transition="in">
                                      <p:cBhvr additive="repl">
                                        <p:cTn id="22" dur="500"/>
                                        <p:tgtEl>
                                          <p:spTgt spid="6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Business-level strategies . . .</a:t>
            </a:r>
            <a:endParaRPr b="1" lang="en-US" sz="3600" spc="-1" strike="noStrike">
              <a:solidFill>
                <a:srgbClr val="ff0000"/>
              </a:solidFill>
              <a:latin typeface="News Gothic MT"/>
            </a:endParaRPr>
          </a:p>
        </p:txBody>
      </p:sp>
      <p:sp>
        <p:nvSpPr>
          <p:cNvPr id="647" name="PlaceHolder 2"/>
          <p:cNvSpPr>
            <a:spLocks noGrp="1"/>
          </p:cNvSpPr>
          <p:nvPr>
            <p:ph/>
          </p:nvPr>
        </p:nvSpPr>
        <p:spPr>
          <a:xfrm>
            <a:off x="609120" y="1752120"/>
            <a:ext cx="8077320" cy="4295880"/>
          </a:xfrm>
          <a:prstGeom prst="rect">
            <a:avLst/>
          </a:prstGeom>
          <a:noFill/>
          <a:ln w="0">
            <a:noFill/>
          </a:ln>
        </p:spPr>
        <p:txBody>
          <a:bodyPr anchor="t">
            <a:norm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use the firm’s competitive advantage(s) as the basis to compete for customers in individual product markets.</a:t>
            </a:r>
            <a:endParaRPr b="0" lang="en-US" sz="32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58A6A980-048D-45C4-BB66-46E4886B513E}"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1" end="1"/>
                                            </p:txEl>
                                          </p:spTgt>
                                        </p:tgtEl>
                                        <p:attrNameLst>
                                          <p:attrName>style.visibility</p:attrName>
                                        </p:attrNameLst>
                                      </p:cBhvr>
                                      <p:to>
                                        <p:strVal val="visible"/>
                                      </p:to>
                                    </p:set>
                                    <p:animEffect filter="barn(inHorizontal)" transition="in">
                                      <p:cBhvr additive="repl">
                                        <p:cTn id="29" dur="500"/>
                                        <p:tgtEl>
                                          <p:spTgt spid="6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Determining Who Our Customer Is</a:t>
            </a:r>
            <a:endParaRPr b="1" lang="en-US" sz="3600" spc="-1" strike="noStrike">
              <a:solidFill>
                <a:srgbClr val="ff0000"/>
              </a:solidFill>
              <a:latin typeface="News Gothic MT"/>
            </a:endParaRPr>
          </a:p>
        </p:txBody>
      </p:sp>
      <p:sp>
        <p:nvSpPr>
          <p:cNvPr id="650" name=""/>
          <p:cNvSpPr txBox="1"/>
          <p:nvPr/>
        </p:nvSpPr>
        <p:spPr>
          <a:xfrm>
            <a:off x="549000" y="1295280"/>
            <a:ext cx="8042040" cy="464832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mpanies divide customers into groups based on differences in customers’ need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rPr>
              <a:t>Market segmentation </a:t>
            </a:r>
            <a:r>
              <a:rPr b="0" lang="en-US" sz="3200" spc="-1" strike="noStrike">
                <a:solidFill>
                  <a:srgbClr val="595959"/>
                </a:solidFill>
                <a:latin typeface="News Gothic MT"/>
              </a:rPr>
              <a:t>is the process of clustering people with similar needs into separate group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Satisfying Customers’ Needs</a:t>
            </a:r>
            <a:endParaRPr b="1" lang="en-US" sz="3600" spc="-1" strike="noStrike">
              <a:solidFill>
                <a:srgbClr val="ff0000"/>
              </a:solidFill>
              <a:latin typeface="News Gothic MT"/>
            </a:endParaRPr>
          </a:p>
        </p:txBody>
      </p:sp>
      <p:sp>
        <p:nvSpPr>
          <p:cNvPr id="65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se needs are related to a product’s benefits and featur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ustomers desire (need) products that create value for them.</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95959"/>
                </a:solidFill>
                <a:latin typeface="News Gothic MT"/>
              </a:rPr>
              <a:t>What do customers valu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How will these needs be satisfied?</a:t>
            </a:r>
            <a:endParaRPr b="1" lang="en-US" sz="36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Firms satisfy their customers’ needs by using their resources and capabilities to provide products and services that are valuable to consumer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04920" y="108000"/>
            <a:ext cx="828648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Purpose of Business-level Strategies</a:t>
            </a:r>
            <a:endParaRPr b="1" lang="en-US" sz="3600" spc="-1" strike="noStrike">
              <a:solidFill>
                <a:srgbClr val="ff0000"/>
              </a:solidFill>
              <a:latin typeface="News Gothic MT"/>
            </a:endParaRPr>
          </a:p>
        </p:txBody>
      </p:sp>
      <p:sp>
        <p:nvSpPr>
          <p:cNvPr id="656" name=""/>
          <p:cNvSpPr txBox="1"/>
          <p:nvPr/>
        </p:nvSpPr>
        <p:spPr>
          <a:xfrm>
            <a:off x="380520" y="1294920"/>
            <a:ext cx="8210520" cy="4800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 business-level strategy is used to create differences between a firm’s position and that of its rival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n creating these differences, a firm must decide if it should “</a:t>
            </a:r>
            <a:r>
              <a:rPr b="0" i="1" lang="en-US" sz="3200" spc="-1" strike="noStrike">
                <a:solidFill>
                  <a:srgbClr val="595959"/>
                </a:solidFill>
                <a:latin typeface="News Gothic MT"/>
              </a:rPr>
              <a:t>do things differently or do different things</a:t>
            </a:r>
            <a:r>
              <a:rPr b="0" lang="en-US" sz="3200" spc="-1" strike="noStrike">
                <a:solidFill>
                  <a:srgbClr val="595959"/>
                </a:solidFill>
                <a:latin typeface="News Gothic MT"/>
              </a:rPr>
              <a:t>.”</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ow will the firm use its value chain and support activities to create valu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ypes of Business-level Strategies</a:t>
            </a:r>
            <a:endParaRPr b="1" lang="en-US" sz="3600" spc="-1" strike="noStrike">
              <a:solidFill>
                <a:srgbClr val="ff0000"/>
              </a:solidFill>
              <a:latin typeface="News Gothic MT"/>
            </a:endParaRPr>
          </a:p>
        </p:txBody>
      </p:sp>
      <p:sp>
        <p:nvSpPr>
          <p:cNvPr id="658" name=""/>
          <p:cNvSpPr txBox="1"/>
          <p:nvPr/>
        </p:nvSpPr>
        <p:spPr>
          <a:xfrm>
            <a:off x="549000" y="1599840"/>
            <a:ext cx="8042040" cy="4343400"/>
          </a:xfrm>
          <a:prstGeom prst="rect">
            <a:avLst/>
          </a:prstGeom>
          <a:noFill/>
          <a:ln w="0">
            <a:noFill/>
          </a:ln>
        </p:spPr>
        <p:txBody>
          <a:bodyPr anchor="t">
            <a:normAutofit fontScale="93000"/>
          </a:bodyPr>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ower costs than rivals (the ability to perform activities differently).</a:t>
            </a:r>
            <a:endParaRPr b="0" lang="en-US" sz="3200" spc="-1" strike="noStrike">
              <a:solidFill>
                <a:srgbClr val="595959"/>
              </a:solidFill>
              <a:latin typeface="News Gothic MT"/>
            </a:endParaRPr>
          </a:p>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ifferentiate, and then demand a price premium that exceeds the costs of doing so (the ability to do different things).</a:t>
            </a:r>
            <a:endParaRPr b="0" lang="en-US" sz="3200" spc="-1" strike="noStrike">
              <a:solidFill>
                <a:srgbClr val="595959"/>
              </a:solidFill>
              <a:latin typeface="News Gothic MT"/>
            </a:endParaRPr>
          </a:p>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se strategies are carried out in either </a:t>
            </a:r>
            <a:r>
              <a:rPr b="1" i="1" lang="en-US" sz="3200" spc="-1" strike="noStrike">
                <a:solidFill>
                  <a:srgbClr val="ff0000"/>
                </a:solidFill>
                <a:latin typeface="News Gothic MT"/>
              </a:rPr>
              <a:t>broad or narrow </a:t>
            </a:r>
            <a:r>
              <a:rPr b="0" lang="en-US" sz="3200" spc="-1" strike="noStrike">
                <a:solidFill>
                  <a:srgbClr val="595959"/>
                </a:solidFill>
                <a:latin typeface="News Gothic MT"/>
              </a:rPr>
              <a:t>market segment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Low Cost Strategy</a:t>
            </a:r>
            <a:endParaRPr b="1" lang="en-US" sz="3600" spc="-1" strike="noStrike">
              <a:solidFill>
                <a:srgbClr val="ff0000"/>
              </a:solidFill>
              <a:latin typeface="News Gothic MT"/>
            </a:endParaRPr>
          </a:p>
        </p:txBody>
      </p:sp>
      <p:sp>
        <p:nvSpPr>
          <p:cNvPr id="66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tandardized products or servic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road market and high turnover.</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eek cost savings in all activiti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articularly inbound and outbound logistic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16-09-14T22:47:07Z</dcterms:modified>
  <cp:revision>324</cp:revision>
  <dc:subject/>
  <dc:title>Slide 1</dc:title>
</cp:coreProperties>
</file>