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D8C4C-AE10-4185-8410-B6D2FC97E4EA}"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2F6AF-A486-4E9A-9B3D-2EF3988D0C5F}"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88EB9-A919-4AD1-B6DE-5DAF285E6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DC1A7-2E9B-47CB-8CEC-DDE266372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29AFDAA-605C-4783-80AA-33C7F4EA6D6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C784B04-10EA-4A9D-B7E9-3B032A203C7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00E5C8B-F460-457E-976D-B5E05FA5260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451FC9D-A852-4018-8858-15F037AD809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14B3A50-3F76-4711-B058-7D0E5CF8FB3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CACFE66-0453-44EA-AA35-9E8786F46D1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53D4658-7D99-4FA0-88FB-BDA83379B80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AB7DCD5-E8EB-481C-B217-4303CDE9A76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C61A503-6182-4F28-A802-268F24E434F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3734726-FFE8-4D43-BC55-23D0E20C36B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B6205-FA4E-4CC5-BDA1-2569BFF23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D15A5DE-279E-4642-BEE1-59FACCB128A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59559A9-1179-4EC4-8BF4-3D54D771C15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AE72A5B-861C-45A4-964B-A4C282AE3DD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75520AD-2273-4692-A7EC-CE909B3C5F3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444C72B-6898-4137-AF09-B47C1C0A648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E86F657-1355-4DC7-BCA4-AD90B3D65FD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5F406A9-E290-423B-BE41-7E05DFEFF61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2B0CCDF-7E21-41F7-A1D3-C7C687A2948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34DE795-7D80-4DDD-B9AB-B456521B79F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5A3C080-977C-4734-A652-D8DAC408251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F105D-54FF-4244-888D-D06F3B704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EE12993-8101-4956-BDB5-3C489A24607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1931767-DB6E-46B3-81F6-3676A5F0DB4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79205E8-6F52-4A5D-B1B4-0FD3C345EDB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F85C904-4EF7-4DF9-83B1-2C4EC618AF6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3D81DC9-0617-420B-9C5B-6077226F7CF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7E165EC-6561-400A-8100-BC842008FAF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06AE836-2DBC-43CE-BA7A-8C91C598E41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E72820A-8513-413D-BC38-548D7FA0DC7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5CD0695-EAB1-4A2C-80F9-CB57D281F68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784CC6C-23F5-4A4F-AB9B-FD8404278C4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CB1C34-3820-4AA2-95FA-10F57499F70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519563C-9E0D-4E44-95FB-FC4C78109F7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5D253F4-1758-4384-A01D-9898B5B8D47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129C505-9DD9-4C3D-A56A-66E281BCD8D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CAD4EDC-B4A0-45CB-98CA-E3C5185972F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BFD1661-0FA2-48F6-B34F-C409FDFD05E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048F9F3-AE2F-4D02-9FD8-B5593934AF3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E14C145-2413-4212-98FF-07F13EE6FBE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0FDFE17-2627-4DFD-93E8-4EFEDC7DCE1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51C0258-C0CF-42B1-B350-12E43337850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80903F6-C967-4237-80D7-718F46C7189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8E2334-2448-42C3-A51A-A6C8B39E19C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C623073-536A-4DAD-A078-D883AF4C0BC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982A064-7545-4662-B7ED-9731C744D8D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5850AE4-E8D0-401B-AB7E-B0E0C761F77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8F12BA4-96DD-4896-8BA5-B8BFB344653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ECAB4BD-B438-4F46-AC79-39A7AE7738B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BBCE322-3C8B-4E3C-8142-8E7AA8A7783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9FA128A-B74C-48ED-BC65-3EE8AB56366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D4C1A61-2F9A-4F4D-8066-1F17EE92A3A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41D5997-6B2C-40A7-A5D6-8A717ABAAF9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4C2CC61-F835-49B3-B00E-5E397E327C8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A71DC5-5B6A-4408-A849-E8CE6F6D51D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E1354F4-8B32-4B85-BB62-299977679F0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949CA8A-A329-4EA0-9335-55BE1643A69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00ED151-5C52-46CF-BD45-DE49E3BAAED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A264C6B-6EED-4898-A9C6-D07F892A5CB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EB6046E-E487-4F9A-AB36-E20E27A557A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701E775-B239-433D-82BA-B6232FCF12C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8540F83-7768-424C-A4A8-76670312AAB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9AC606A7-65EE-4782-9F30-308ACE5523E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5014A46-0C8A-4B6D-BDC3-1BA8E46BA3F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542BEFE-D100-4C17-AABA-BD8F7BD21DB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FCA987-8D2F-4898-8986-D47ED0AAADB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5589C9B-F76D-4F46-ADFC-0C1F5A1A001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7E4C439-37C0-4878-B6F9-D606B7B5C64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C30626D-5A85-4F42-A16F-EA5F62E1729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8E630DE-09D7-434B-9E27-B348E18ADFF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0FF2ECE-92DD-4898-ACDF-F4E8460F908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E704098-A672-4069-AD65-EBCB4F7FD51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17A78EE-6DD9-46A3-92E1-DEB31FE3500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1581776-7564-44E5-B672-2505C92784EE}"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90FBDDA6-F2E5-472A-B79C-4005BDAC06B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1A290A-AB27-4C94-87B5-1380FBD16F9D}"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7F4C02-4613-4473-B096-002549125692}"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B513E3-F7C8-4619-AD39-8C386619A4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A8484-73B8-4805-AC54-F6030439B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03EA67-B2F7-4796-A2D5-27773977EF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B38947-608D-497E-A440-F01819E432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26BDCD-B73B-4C42-994F-11777EA749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AEE772-EFF8-47C9-B2FB-04D6DF5CDA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686F2C-D3F1-4E11-AF15-FB245972C45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081BA-3C6F-4AC2-B9C0-B083F61E4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D36F2-177B-470C-B772-94BF53ABC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68E84E5-BCE1-402F-B402-AB0ABC99743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3DA4C-6045-4D3F-894E-4FC845B80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D9F869B-1A40-4B86-92EB-48D39D6962B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16BB983-F4EF-456B-A998-B127B9FB6EF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E01BA0-78F3-48B2-B165-6092EDCC0E2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821DDAF-7FBD-44DD-B2B8-4C2FD88DE5D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6C53E9-E16C-4EF6-B2A6-C08E54BD020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DF178C-7E67-43C6-B917-CEBB53C61A1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9A1348-35A3-4CC2-A8F1-C73C14CC8C5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E628E86-BBF7-4941-AD59-A0852EB0549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CE4F7B0-E478-4ED7-BCB1-068B1FFE980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ABDB20A-2F37-4544-95A9-BDD9CC7EA88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1C334-92A5-420C-9592-7D8DBC5EE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D4A0FCA-5732-4CA7-9236-BA64A92C22C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4A6338E-16AD-491E-A603-8D4AEB4C5F8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7B7E028-CA54-49E4-901D-26EE3D83BD6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B5A0952-DC42-4FAC-A894-12712AAF04F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0B27ABB-9AA1-458D-9E2F-8B93AC5A275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2DD3B5C-AB34-45A1-AB62-ED330D3F4C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8D89B1D-4964-4E35-B850-D55608495D6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7561613-69A1-41BD-BC2B-5B9C7905B7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AE0A8C4-1F3C-468F-B651-0EB87F40C7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7AE0A77-995B-46B5-8E4C-DB45AADD968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CF697-4F6A-45E6-A55F-2BBEB7B05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D4D6BE2-35AE-4086-8EB1-9CB4525D281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35D4F54-EC30-4BC8-92D6-8138C8BFC46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5C4D4A4-6C7C-4243-9E9C-E3E69A0D248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F8ADAA8-AF6B-4664-AA98-68AF331F54A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CF4FA3A-76BB-44C2-8B95-B158AEAC854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A3F4F21-79F1-44C4-86DA-4965831F58E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A3198B5-2C6E-42DA-96A4-3C6E8AB2E9E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C2B2864-F4FF-465A-A5F0-33FA317F8C3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E59B76D-EAC7-4F72-9597-304E4F39487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E2ECFE8-7EA6-4EB7-9CDF-D0E16CEE014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B82C9-9912-4642-AB1C-2E9877CA0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F1C36BF-8C3F-4620-9D53-DAD36776F09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61EBB5E-D220-42EB-ADE8-74F0CAD4EAD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499BEA6-8864-42B8-81DF-677D8D4F3A2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3506FAA-0883-4FFB-B603-501DE1A47E5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E52F23F-5C91-45F3-A4D5-D03833C27FE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582EBB4-1AA9-4E12-A9BE-143A871F1AE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2636564-BDA7-492F-B473-D2A6AD2D78E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85CCCE4-93D6-4BE0-8C02-ED2FC6B1EBB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690016C-9D4B-4125-B7C8-5447DF0AD81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24F2FA7-2486-4F66-BB31-8C948EB3218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BBED7-A808-4886-8501-09B845828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16C1A6C-B3AE-41A5-9688-66C735A7B91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E679329-BFAD-4E9F-AE0F-126DE0A7004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9CEC555-DA46-461C-8182-F74FE21ABC1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16BF5CA-3AC9-4BC8-87FB-2F1E155C685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B27186A-B5FD-4A23-99A6-9FADA22873A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307F60C-F42C-406E-90D0-2110AF59944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C5B0D79-67A6-4C56-9913-28EEC539F0A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C4062E5-07F0-48F7-A453-82D75CFDC82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B8E0310-642F-48FE-AB21-83AC214F987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35EEA2B-7C80-4748-A72D-52FA7891F1FA}"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196FA-3571-4B56-8717-80892C839D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B418-3BCC-4985-8F17-9EADFC56CFF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7AB47-3417-48A2-876C-B3B2894788A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687D6-44DD-4D84-8D62-9618B6578FA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35BAD-61D3-4C5D-A3EB-7643A550B3A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64017-A4A1-4191-AF75-6857CF6FF00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19DD-E211-4A36-91EE-C63ADF4284F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6EF77-5008-4DE3-AE7F-F4C4B408729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C0524-9A45-4846-92A0-E033247A790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F407-49AB-4178-B22A-3CB28610438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A6EFF-843A-486F-88F8-8767D584D67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69679-83AC-47F4-AF46-FACE4BAE87E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4</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Business-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Low Cost and the Five Forces</a:t>
            </a:r>
            <a:endParaRPr b="1" lang="en-US" sz="3600" spc="-1" strike="noStrike">
              <a:solidFill>
                <a:srgbClr val="ff0000"/>
              </a:solidFill>
              <a:latin typeface="News Gothic MT"/>
            </a:endParaRPr>
          </a:p>
        </p:txBody>
      </p:sp>
      <p:sp>
        <p:nvSpPr>
          <p:cNvPr id="66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Product Differentiation Strategy</a:t>
            </a:r>
            <a:endParaRPr b="1" lang="en-US" sz="3600" spc="-1" strike="noStrike">
              <a:solidFill>
                <a:srgbClr val="ff0000"/>
              </a:solidFill>
              <a:latin typeface="News Gothic MT"/>
            </a:endParaRPr>
          </a:p>
        </p:txBody>
      </p:sp>
      <p:sp>
        <p:nvSpPr>
          <p:cNvPr id="664" name=""/>
          <p:cNvSpPr txBox="1"/>
          <p:nvPr/>
        </p:nvSpPr>
        <p:spPr>
          <a:xfrm>
            <a:off x="549000" y="1143000"/>
            <a:ext cx="8042040" cy="510552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roduct attribute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features </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venien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Quality</a:t>
            </a:r>
            <a:endParaRPr b="0" lang="en-US" sz="28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lationships with customer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rvi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customization</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sumer marketing</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putation/image/statu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inks with other firm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mix</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7640"/>
            <a:ext cx="8042040" cy="141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roduct Differentiation </a:t>
            </a:r>
            <a:br>
              <a:rPr sz="3600"/>
            </a:br>
            <a:r>
              <a:rPr b="1" lang="en-US" sz="3600" spc="-1" strike="noStrike">
                <a:solidFill>
                  <a:srgbClr val="ff0000"/>
                </a:solidFill>
                <a:latin typeface="News Gothic MT"/>
              </a:rPr>
              <a:t>and the Five Force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Focus Strategy</a:t>
            </a:r>
            <a:endParaRPr b="1" lang="en-US" sz="3600" spc="-1" strike="noStrike">
              <a:solidFill>
                <a:srgbClr val="ff0000"/>
              </a:solidFill>
              <a:latin typeface="News Gothic MT"/>
            </a:endParaRPr>
          </a:p>
        </p:txBody>
      </p:sp>
      <p:sp>
        <p:nvSpPr>
          <p:cNvPr id="668" name=""/>
          <p:cNvSpPr txBox="1"/>
          <p:nvPr/>
        </p:nvSpPr>
        <p:spPr>
          <a:xfrm>
            <a:off x="549000" y="1371600"/>
            <a:ext cx="8042040" cy="45720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 special case of the other two strateg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240" y="108000"/>
            <a:ext cx="89154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grated Low Cost and Differentiation</a:t>
            </a:r>
            <a:endParaRPr b="1" lang="en-US" sz="3600" spc="-1" strike="noStrike">
              <a:solidFill>
                <a:srgbClr val="ff0000"/>
              </a:solidFill>
              <a:latin typeface="News Gothic MT"/>
            </a:endParaRPr>
          </a:p>
        </p:txBody>
      </p:sp>
      <p:sp>
        <p:nvSpPr>
          <p:cNvPr id="670" name=""/>
          <p:cNvSpPr txBox="1"/>
          <p:nvPr/>
        </p:nvSpPr>
        <p:spPr>
          <a:xfrm>
            <a:off x="380520" y="1599840"/>
            <a:ext cx="8210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presents an effort to offer a low price for products with somewhat differentiate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risk becoming “stuck in the middl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304920"/>
            <a:ext cx="8042040" cy="12952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It’s at the business-level where a firm competes for customers.</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By selecting a business-level strategy, a firm determine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o it will serve.</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at need(s) it will satisfy.</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How these needs will be satisfied.</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D15465B2-9594-4B90-9830-2906D6085DE7}"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2" dur="500"/>
                                        <p:tgtEl>
                                          <p:spTgt spid="643">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7" dur="500"/>
                                        <p:tgtEl>
                                          <p:spTgt spid="643">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4" end="4"/>
                                            </p:txEl>
                                          </p:spTgt>
                                        </p:tgtEl>
                                        <p:attrNameLst>
                                          <p:attrName>style.visibility</p:attrName>
                                        </p:attrNameLst>
                                      </p:cBhvr>
                                      <p:to>
                                        <p:strVal val="visible"/>
                                      </p:to>
                                    </p:set>
                                    <p:animEffect filter="blinds(horizontal)" transition="in">
                                      <p:cBhvr additive="repl">
                                        <p:cTn id="22" dur="500"/>
                                        <p:tgtEl>
                                          <p:spTgt spid="6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Business-level strategies . . .</a:t>
            </a:r>
            <a:endParaRPr b="1" lang="en-US" sz="3600" spc="-1" strike="noStrike">
              <a:solidFill>
                <a:srgbClr val="ff0000"/>
              </a:solidFill>
              <a:latin typeface="News Gothic MT"/>
            </a:endParaRPr>
          </a:p>
        </p:txBody>
      </p:sp>
      <p:sp>
        <p:nvSpPr>
          <p:cNvPr id="647" name="PlaceHolder 2"/>
          <p:cNvSpPr>
            <a:spLocks noGrp="1"/>
          </p:cNvSpPr>
          <p:nvPr>
            <p:ph/>
          </p:nvPr>
        </p:nvSpPr>
        <p:spPr>
          <a:xfrm>
            <a:off x="609120" y="1752120"/>
            <a:ext cx="8077320" cy="4295880"/>
          </a:xfrm>
          <a:prstGeom prst="rect">
            <a:avLst/>
          </a:prstGeom>
          <a:noFill/>
          <a:ln w="0">
            <a:noFill/>
          </a:ln>
        </p:spPr>
        <p:txBody>
          <a:bodyPr anchor="t">
            <a:norm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use the firm’s competitive advantage(s) as the basis to compete for customers in individual product markets.</a:t>
            </a:r>
            <a:endParaRPr b="0" lang="en-US" sz="32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67C6E2BC-ED10-42DE-BB7A-D5BB2534A38B}"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29"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Determining Who Our Customer Is</a:t>
            </a:r>
            <a:endParaRPr b="1" lang="en-US" sz="3600" spc="-1" strike="noStrike">
              <a:solidFill>
                <a:srgbClr val="ff0000"/>
              </a:solidFill>
              <a:latin typeface="News Gothic MT"/>
            </a:endParaRPr>
          </a:p>
        </p:txBody>
      </p:sp>
      <p:sp>
        <p:nvSpPr>
          <p:cNvPr id="650" name=""/>
          <p:cNvSpPr txBox="1"/>
          <p:nvPr/>
        </p:nvSpPr>
        <p:spPr>
          <a:xfrm>
            <a:off x="549000" y="1295280"/>
            <a:ext cx="8042040" cy="46483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anies divide customers into groups based on differences in customers’ need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Market segmentation </a:t>
            </a:r>
            <a:r>
              <a:rPr b="0" lang="en-US" sz="3200" spc="-1" strike="noStrike">
                <a:solidFill>
                  <a:srgbClr val="595959"/>
                </a:solidFill>
                <a:latin typeface="News Gothic MT"/>
              </a:rPr>
              <a:t>is the process of clustering people with similar needs into separate group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atisfying Customers’ Needs</a:t>
            </a:r>
            <a:endParaRPr b="1" lang="en-US" sz="36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needs are related to a product’s benefits an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ustomers desire (need) products that create value for them.</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95959"/>
                </a:solidFill>
                <a:latin typeface="News Gothic MT"/>
              </a:rPr>
              <a:t>What do customers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How will these needs be satisfied?</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satisfy their customers’ needs by using their resources and capabilities to provide products and services that are valuable to consum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108000"/>
            <a:ext cx="828648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urpose of Business-level Strategies</a:t>
            </a:r>
            <a:endParaRPr b="1" lang="en-US" sz="3600" spc="-1" strike="noStrike">
              <a:solidFill>
                <a:srgbClr val="ff0000"/>
              </a:solidFill>
              <a:latin typeface="News Gothic MT"/>
            </a:endParaRPr>
          </a:p>
        </p:txBody>
      </p:sp>
      <p:sp>
        <p:nvSpPr>
          <p:cNvPr id="656" name=""/>
          <p:cNvSpPr txBox="1"/>
          <p:nvPr/>
        </p:nvSpPr>
        <p:spPr>
          <a:xfrm>
            <a:off x="380520" y="1294920"/>
            <a:ext cx="821052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business-level strategy is used to create differences between a firm’s position and that of its rival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 creating these differences, a firm must decide if it should “</a:t>
            </a:r>
            <a:r>
              <a:rPr b="0" i="1" lang="en-US" sz="3200" spc="-1" strike="noStrike">
                <a:solidFill>
                  <a:srgbClr val="595959"/>
                </a:solidFill>
                <a:latin typeface="News Gothic MT"/>
              </a:rPr>
              <a:t>do things differently or do different things</a:t>
            </a:r>
            <a:r>
              <a:rPr b="0" lang="en-US" sz="3200" spc="-1" strike="noStrike">
                <a:solidFill>
                  <a:srgbClr val="595959"/>
                </a:solidFill>
                <a:latin typeface="News Gothic MT"/>
              </a:rPr>
              <a:t>.”</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ow will the firm use its value chain and support activities to create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ypes of Business-level Strategies</a:t>
            </a:r>
            <a:endParaRPr b="1" lang="en-US" sz="3600" spc="-1" strike="noStrike">
              <a:solidFill>
                <a:srgbClr val="ff0000"/>
              </a:solidFill>
              <a:latin typeface="News Gothic MT"/>
            </a:endParaRPr>
          </a:p>
        </p:txBody>
      </p:sp>
      <p:sp>
        <p:nvSpPr>
          <p:cNvPr id="658" name=""/>
          <p:cNvSpPr txBox="1"/>
          <p:nvPr/>
        </p:nvSpPr>
        <p:spPr>
          <a:xfrm>
            <a:off x="549000" y="1599840"/>
            <a:ext cx="8042040" cy="4343400"/>
          </a:xfrm>
          <a:prstGeom prst="rect">
            <a:avLst/>
          </a:prstGeom>
          <a:noFill/>
          <a:ln w="0">
            <a:noFill/>
          </a:ln>
        </p:spPr>
        <p:txBody>
          <a:bodyPr anchor="t">
            <a:normAutofit fontScale="93000"/>
          </a:bodyPr>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er costs than rivals (the ability to perform activities differently).</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fferentiate, and then demand a price premium that exceeds the costs of doing so (the ability to do different things).</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strategies are carried out in either </a:t>
            </a:r>
            <a:r>
              <a:rPr b="1" i="1" lang="en-US" sz="3200" spc="-1" strike="noStrike">
                <a:solidFill>
                  <a:srgbClr val="ff0000"/>
                </a:solidFill>
                <a:latin typeface="News Gothic MT"/>
              </a:rPr>
              <a:t>broad or narrow </a:t>
            </a:r>
            <a:r>
              <a:rPr b="0" lang="en-US" sz="3200" spc="-1" strike="noStrike">
                <a:solidFill>
                  <a:srgbClr val="595959"/>
                </a:solidFill>
                <a:latin typeface="News Gothic MT"/>
              </a:rPr>
              <a:t>market segment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Low Cost Strategy</a:t>
            </a:r>
            <a:endParaRPr b="1" lang="en-US" sz="3600" spc="-1" strike="noStrike">
              <a:solidFill>
                <a:srgbClr val="ff0000"/>
              </a:solidFill>
              <a:latin typeface="News Gothic MT"/>
            </a:endParaRPr>
          </a:p>
        </p:txBody>
      </p:sp>
      <p:sp>
        <p:nvSpPr>
          <p:cNvPr id="66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tandardized products or servic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road market and high turnover.</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eek cost savings in all activiti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articularly inbound and outbound logistic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09-14T22:47:07Z</dcterms:modified>
  <cp:revision>324</cp:revision>
  <dc:subject/>
  <dc:title>Slide 1</dc:title>
</cp:coreProperties>
</file>