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F21C-3E02-421B-B291-4913A28381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939F-B82B-4255-A7F4-F588EA5C74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77B-7C16-47C2-8417-27A6754D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DE6-80A2-497A-A987-3320B1F9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8969EB-4F72-4FBF-8AED-44586541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71A041-CA64-4EB5-BE7E-1B0053FF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B3A9F-5B59-49E9-A87E-AD4C7163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FA04F-69CC-4FF7-824B-BD78B25C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EE9772-00F5-401B-9B71-7C4B505D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B24108-9A1B-4F16-B6CC-CD922D67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25783-842C-48BF-BDFC-172C5656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21481-A549-4374-80C0-CA487021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92D94-D9F5-4CAB-BFEB-C8B584E3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D5D92E-835F-44BA-9216-369ED913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00E-34E4-41B1-9C9C-7BCCF98E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13F2A0-1E4B-48A5-AB03-536034AB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37AA7A-3323-4E92-8AF7-6E872FA1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62910E-A8BC-4D28-9F41-DE6FF7E0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49C262-B4B9-45A8-8DE7-5375BBB1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60178C-FC9C-4609-AC7F-B3BB07D1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F97943-7F6B-4A9E-A27D-E70F1166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6B90C5-49DE-4008-AB79-77E1E818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434B98-EACE-45F7-8A75-C7886CC4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FFE287-84DF-4C9C-B4D2-23D1BFB8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76F8D5-79F0-4DEE-AFFC-CBED3626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2F7-9909-42E2-8344-781C8EA5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9C4C87-FF09-4E04-864B-CFA673B3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04AE79-C26F-4F4D-9999-76661C32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8F27BE-82C0-4E8E-B018-FB7374AD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64E6F3-ACDF-44DD-BFE0-59B34E20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CA8311-AA06-4D80-AAF9-6FE39875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3381EF-B019-452F-A49F-8D24AD12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C2CCE0-538F-4028-815E-E7ED539D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7D5990-30F4-4981-8C55-1666C11C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B43A69-0CF5-4576-B733-658FEC5C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94954E-F00B-4009-AA28-4AFFF85B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9D070-DE64-4755-993E-9623F88DD5D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2872E8-EA3E-4AD9-B412-57FC618F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873BDD-FBE8-4F66-8D08-DACE8F8C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0EFC0A-63D9-49D5-9214-1B846BA5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2CAAC7-A9DC-4307-94B8-F385C29C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7E59F8-A90E-4E77-B587-999FBDEE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5B3B8F-CEA7-4461-A07A-C02563BA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C1C626-C051-49E6-A201-84CAAB65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735F08-796C-4D52-8B93-F7E0261A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B149EE-B08A-42A5-9B6D-CB34C873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D6D387-2E99-42BE-85ED-283F66E4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AE8EC-98E1-4E88-94D5-0445B64D3CB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367162-5339-41E1-9792-1092D414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50C3BC-F06C-4DB4-8AED-7B8857AD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9991CD-A1E8-4468-8999-5C835D34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D9C842-567B-4E3D-BC0C-6146AE2B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A6E483-F05C-474E-9E16-0F66F499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617BB5-2A7D-4105-A369-A0785004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0D0234-25F3-4AE7-9A32-34D7A153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A2A7BD-DE5F-434D-9524-8555F858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E092CE-70E0-40BB-A9D9-822493EE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D8C7CA-8DE6-471D-A7AC-C552073D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FC718-EE9C-47FA-A99C-84878DE0C2F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B729EC-3213-424D-823D-3BE7E72D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58A6E0-EC43-4C4C-88D0-A8CE6036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5D5294-0160-46B0-A378-5C41B715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65B209-9981-4409-91D7-5FC3BD56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AA4200-237C-4D63-B779-AC685DF1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6B9FDC-A182-4736-BEC9-FE666897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389CB3-D786-4FD2-9B6D-74B0B1A6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4C45CE-BC3D-4007-BE41-ECBF00A4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120FC4-86EA-47BB-A8E3-6A841954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71AB76-0831-4768-AE78-154BDF27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D3945-7B15-4B7C-AA82-0EF42CBB31F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032EAD-1EEA-4BB6-9857-9494889E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FFDF3A-8697-4CC5-94C8-45C45B6F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F0E2D1-3834-4AAB-A4CA-33110359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FA5D78-81CF-4863-83A2-423A35BA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A323E2-B154-4C73-8350-0B7C1645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BDF091-68DE-47F8-A800-BF0737C4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713C3C-80A5-416A-B07D-370B4D31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0F1A32-28E9-4889-ACE8-9F2D30E5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EDDB73-368D-43A6-85CF-D0E366E2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C4F78-113F-42A3-BE5E-824379114E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7BCBE-22FC-4232-8FD9-1F1E560F8E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319E8-966C-4BFA-AAB4-689F56E185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FD5-99AC-490E-97BF-B07C0C1A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9B31A-5C80-4E4B-B141-C06D9972BB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D767D-74CB-45B7-A4E7-6186E3EFF8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52C2E-BCBF-4741-8423-F7463A8965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F25B1-7DCD-4057-A205-7618C47D3C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900FA-406C-403B-A172-17CD1379CB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0A9-AE3E-4204-840C-12AF51FD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E55-96D8-4FE5-B6F0-6DC7B71D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CBCD0-6274-4DF3-B69D-7783FDC3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070-CDA2-4D29-B2BA-CA230474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D79E9-DE1A-42D7-BEEA-C14263B3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5F733-08E6-4DA5-B859-8F72230A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ADE6F-2684-4500-8BB9-4AE9885F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E2D58-89D0-4CE0-922B-38A84595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CA2F9-9749-43C8-81C6-A6190E1A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724B6-50B9-4FF9-A9F6-F181F1D6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A02C5-A93B-4715-A65D-0DEA4FE0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56856-A400-4287-8524-8292A4EE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DA23B-65D3-48E5-8DFB-0A9CA451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D13F1-9C17-4CAE-ADB6-3798282E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B04-33F4-4324-B018-0A658B5C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27C89-1DD2-4A29-A0E0-5C3FC31E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602C76-BD70-49F4-9070-74FE676B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822FC7-7CBA-4EA1-AF3C-19076D44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70C7D1-8FC7-4DC0-AC30-11FAB134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2B787D-C4AC-4AA3-9BC9-3E41C551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59E897-7EAA-49AD-AADE-F162A1B6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F6B8E-FAB8-4F01-801C-6418F6CB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1D726A-D010-4229-B973-2DC3E321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802D6-AECD-47F1-9E28-EFD2BFB3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9480EA-EDF0-42E8-ADB6-3A7E51D3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09DE-1164-4625-B55C-7AE268EB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4E0D1E-168E-42D5-97F1-644B664A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C4A56-4B24-4756-A60A-D283A08C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7612A-3F98-44CC-8E30-2FC01DD4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95AFA-7EEA-41C4-8BA2-E46E4820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5B4BA-359C-4D8C-B6DD-D523AB37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62B63-3C5B-4FB5-8163-147C6475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5BE42-77CC-46F7-B595-AF0EA0AA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2757A-96E9-4AA7-8749-E9B6BBDE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B1CEE1-A213-491B-8A82-33166B3F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0BD39-0896-4EFF-B009-ABE404A7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15A-39CB-4EAA-9357-4845D2B8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8C3F2-F403-4F6F-B89C-8C0C4B0A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0F900-D1BA-4EE5-BF0C-AA687960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97757-4B98-4CAA-9BBA-D9594446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4D365-A97B-4A37-9B87-F763D690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59468-1DDF-4EB6-A7A5-A160CC03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C3900B-9ABC-4F54-B858-87EE8AC9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02EC02-603F-465F-B609-5A204214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8256F4-CC38-4A00-B4DF-2D9EF6F5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B22AB-B018-4966-B682-0CE90931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53C81-5D1D-475F-B08D-8C03CAEC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0BB-5B59-4C6A-8662-424C80D3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7E928-19DA-4482-9499-FFA4D572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17F38B-4EDC-4770-9705-0E28CE90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899DD2-E803-40A2-BBC7-C0908DB9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B0EF7B-0CFD-4F7D-9BAA-4468D848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3C738-FC1B-43A7-8C95-6E87874D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156682-7F8C-4565-8D5D-F5DFB9DE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F64B68-BE2E-43F1-ACD6-4D7D8E92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9547C3-03BA-4CD9-859B-93967785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06C99-4108-43A0-98C2-342F7208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9F47F3-85B7-4E55-AC78-7FAF7080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9F03-F5AE-4C13-B3FC-86F3CBD1BD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0FA6-868B-4666-A121-25A434EDBB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1A7E-0EE4-4F50-BAD3-B364D850C5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77C4-1C84-4519-92F7-8FFED5EE00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394E-91AB-4C99-AD6D-8F10EE8309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AFE4-AAA1-4187-B86A-C58D6D3D85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3298-B706-4EEE-90F5-15A95E1A90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5F4D-BFC5-460C-85E1-B2F249FBF2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0600-72B8-4D0E-8EE5-FA3D5E31A4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ABCD-F09B-4177-88E8-58E90D1018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B55C-BB55-4C5C-847E-CB2F975CDE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C3C1-FAE5-4E0C-82CA-101D8490E2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2:58Z</dcterms:modified>
  <cp:revision>319</cp:revision>
  <dc:subject/>
  <dc:title>Slide 1</dc:title>
</cp:coreProperties>
</file>