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D02C-2EAE-4497-BE2A-0C4A0458F8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C0A0-0A29-4F97-9669-4EC4EBA954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8BC5-419B-4D7F-A666-F147605C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2A7-D288-4DA2-9EA4-870BC4CD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A98970-502E-405D-B3DA-2C2C2143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59D3DD-1A18-4E45-B2D0-ECB4B7DE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927F43-7A71-48DB-82E2-ADCFF114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36B5CF-E67B-4A5C-871C-5A6B6FD9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F6B199-8E97-44A2-841C-185ABB47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BE1925-F478-44B5-AA0F-6A7DA6C6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FF19D5-980E-45F2-9F9C-F488DE80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CB6EF1-F631-4154-9FBA-141E8CFB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9DA60C-1BC7-44A2-BAE3-1588F161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51B0A3-751E-4E16-B84B-B85F242D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6A7B-A0A1-4111-B1DE-C1E5FB3F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707D09-11E0-4917-94C8-237747D6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D34E07-D789-4BB3-B29E-94DD71F3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B4A51A-0036-4A70-AC5E-6CD6E10A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7FEC72-2405-4378-A9BF-F05B292B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613652-6900-407C-9861-B783F7D3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CB6716-A6BC-422A-9900-F5CAFCF3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AF0EA1-FE52-4AD2-A108-515A5823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25C859-562B-4264-AA51-FE540B6D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BE3CA4-3E6D-4217-9BA5-A0E25F9F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42934B-70E4-4D16-9FDA-7CA2321E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79A7-0485-4BBA-A1E0-41D9041F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879B84-3D93-4455-B0E4-DE56E4DA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B58F34-338F-4A14-9894-64E1C6C7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1E3DD3-CDA5-488D-A7D9-E8D31B56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270C10-E122-4DA2-AD79-C82B11F0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09BD52-F130-4986-9BCB-220BA8E8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73E283-20D9-4350-BA27-B2331082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4D0FC7-8DAF-4E24-BB41-B999E6B7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718033-0D9C-4DE3-8A77-489A0923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74B672-CB0C-4B6E-8C90-6E9593E2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610C56-E25A-43EE-AB61-AB7D1669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65E06-4799-47D1-8D61-2295FB22F9C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D57689-9CC2-4399-B11C-2FFB8900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FC467B-59BD-41BA-BD2D-06D34C92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5227F0-81BB-4708-BD98-B6B26775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E32300-257B-47D4-8EE9-7FA2FE38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F26C54-11F9-4CEA-9824-0921EA1B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6F0F81-761D-43F5-A9B6-F715A1C8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1E6C69-5902-4628-AEB6-4318E851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B33269-21EC-4C9F-8A15-A7BC21F0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31E67C-62B0-4729-A0D2-3CDAF5F4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F3B402-1451-4890-B05F-A5638738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12BA9-0046-42B7-9AF4-B7E31C1324A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806DE5-2E0A-4527-9A6C-113CC030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6D07FA-FBF6-40FF-834C-3B1E6596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A2BA19-0A12-4162-879C-599CACD7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69B349-DB54-4DEC-B1D0-2210B90B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7154F1-6B2F-4576-810E-988E4362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2CB646-4D55-4E46-943A-4F631BFC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576A8B-892C-4AA7-986A-FA6448BE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97B70A-6D32-46D9-84FC-CFEFDE29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28368C-67E1-4F0A-BD2B-7F1F2BA0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087F14-D253-4D39-AE56-442B54F6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59751-DD98-477B-BB1B-DD47BF1DE31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D6FAF0-BA62-44EC-A803-C9794E67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97C590-D094-4192-B57D-D15FCC52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D8875B-E3F8-41F4-8663-24594645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BAF50A-D6BD-4869-B6AA-60772CFA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5F3B9F-ACBF-46C2-B524-5D22BF9C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5B9511-E5E0-4C2B-A9FE-675DF203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0F0BB5-6961-43C4-9349-7A4B7F68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2EA1B6-3940-4974-833A-30FF8453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49260B-AC87-45C1-93C1-8E8DBA75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2FF749-C16A-413D-9850-ADEDA15D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5D2FD-4DF9-48C3-A900-B4672174673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42A00F-B921-4795-BD9F-84C69568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80F8BA-497B-4D64-9C58-007C7536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17F571-01F7-42CD-BEC3-BE2945BD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DD8647-B809-43AF-9FC1-2AE68C11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CD3936-F7F6-4350-B7AE-5BC1ACD9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A61E42-A4EB-418B-92E3-C26480EE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4C4A94-ABD9-4AAA-B56D-72EF7FB2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60CBED-52FD-4576-B8D3-232E741D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C8407B-6C4F-4706-9C1D-BB8088F0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16746-7867-4656-A61A-F1F398F5BA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ECF50-BC8D-44FA-868B-1611671396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4B175-AF54-4C2D-8B8E-1B32A2D955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519-F417-47CB-AE3F-EF564C1B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811F1-7327-42EF-9708-A517BB5BCB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096E3-52EB-401B-8FDA-45C2CD4E67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4FB79-AFA3-4328-9B78-014D8E885A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1729D-6039-4CE4-B8CB-ACF8ED7ED6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5CAD4-63F9-44AC-BC1B-6FDF935D2E3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887-A639-4077-8D58-09972F1D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5227-88B9-4A0B-81CD-415DF98E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93B7C-6707-498E-BEC6-06CB3B37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0CE-B1C9-403C-93C7-76B6D53E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E3030A-7EA4-4000-A093-162EFEC3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4F47F5-DD55-499A-A00D-A6E6D3C5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91C649-54F9-4236-AD1D-4380E9F0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066F9-2E1D-4FC4-8730-354A2F1D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BE435-F797-4908-B766-FF963506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DF78A-DFEF-4799-9732-C6F6502D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DACE3F-9706-4C03-B57F-BC3DE0BD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2D5C3E-1B64-4FD7-BE63-014F6F87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B8E64D-E0C4-41D5-B8EB-EE233612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0EBA8-1EC8-4BD3-8E62-5E63529A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6B13-5766-4C40-8AC9-D2815263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E4A62-78EA-4FAC-993A-CCC99B45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757625-CF2F-4DCB-95D5-633A01F6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3F4908-0DB5-4007-940F-FDADBE73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EB28B1-1414-4858-BCC7-84E26320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D2EA33-4025-4B16-9434-EB289321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B2D9A9-1E7D-445B-91E6-F2CF0EFB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97D31B-E840-4F67-82F9-53AD3DDB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04FC28-F64E-49E9-8E10-2D6E35EF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CED591-FC28-4AEB-99CE-ADFE114E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4D0CE2-0934-464E-B41D-4B2E0C57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ECD3-96EB-4D8C-9BC0-FA4FCC01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1230AE-EE33-445E-840B-8E05BEAC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8F84B2-CBD7-4F7F-AE8F-82BF83AA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E57B3F-A17E-489C-9F67-AB5E88D9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2817E2-054D-4B70-A13B-2125C0C0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B32C17-13F2-4ACF-B170-1E05F3D6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5355C5-403E-4117-8EB0-5B2C3139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05DB01-3DFB-40AF-9F03-F8C491D2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2ECBFF-8283-4BAF-A825-4A029577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B5FBB0-B15A-4A38-8300-6A4264C6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ECA422-ED6D-4FBA-ADB6-5ADD2FF0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0463-5D8C-4EAE-A19E-AAD10328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F0AE6F-281C-45B6-9018-EBEF3ED9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B1608B-29C1-40F5-9DEB-E02AD393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9194B5-2C4D-4E85-B440-2F75B1AB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7B0055-1936-411F-8811-1573DDC6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2D2F6-6679-4DE1-9EF3-3BFDF005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488E2B-8D13-409D-BDE0-854FE294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69B456-ED18-4C30-A1A1-F8FD044A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AFE87B-644E-47C3-A595-F247C512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B5722B-1DD4-4A4C-B572-12191122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F92CBF-C2DB-4F59-AEEE-AD0CAF80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D1F3-6A1B-4AB9-94DB-7312BECD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453105-0315-42B7-97D1-4C9B4612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F386ED-62E5-411F-8776-A6BECE1E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CE96A8-AFA9-4181-AE49-8FE9FAB2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F807FD-62D2-4635-B5FB-659081E9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448A4E-C101-48D2-9C20-E99E2D8C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E33DE2-2446-4DDC-8F03-A156418C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00C216-857C-420E-9C44-1399E0C8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0FC56D-9240-4353-A957-EEBE6E0A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B8580F-7849-4A25-AFB9-83F0CA11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19A2D8-8328-472D-ABE2-9FD4846D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9516-27FB-41BA-A4AE-63AD3E72CC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126B-C7C4-4F11-8317-30118AED90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FA65-CF34-46D2-BC13-0AFD9DB5E0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2131-816B-4BB1-A4A3-E2FEBEAD13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3E71-7437-419F-9627-FBA7982438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BF97-DE01-47DB-8534-DAC1446B21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5691-0EB1-48D4-BD6B-D9C39A0D3B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123C-1EF4-46FA-9619-80A8F87179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4AF9-68CA-4B5D-BE07-425CF80561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6A9C-280E-4BB1-9319-B843C4B1AB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8F17-93EB-4F0E-AE8C-7698CEDD6F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8DB6-A84A-4C1C-A57E-07B2193B73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0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Corporate Gover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ternal Governance Mechanis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The market for corporate contro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Managers often adopt defensive mechanism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eparation of Ownership and Contro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371600"/>
            <a:ext cx="804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agency relationship exists when one party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principal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 delegates decision-making authority to another person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gen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are agency problem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Agency problem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ccur when the actions of the agent are not aligned with the wishes of the principal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We assume that managers will act to serve their self-interests (managerial opportunism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  <a:ea typeface="Times New Roman"/>
              </a:rPr>
              <a:t>What are agency cost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56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gency costs are the costs of actions taken to solve agency problems (governance mechanisms) plus the cost of any unsolved agency problem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amples of Agency Proble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versification can create two benefits for managers that stockholders do not sha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creased salary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duction of employment risk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95959"/>
                </a:solidFill>
                <a:latin typeface="News Gothic MT"/>
              </a:rPr>
              <a:t>Free cash flow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y lead to over-diversificatio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level of diversification that stockholders prefer is less than that preferred by manager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wnership Struc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ffuse v. concentrated ownership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arge block owners (5%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titutional investo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What is the relationship between management and the board of directors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iti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atification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mplement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nitoring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the composition of the board serve as a governance mechanism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ide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utsiders (related and unrelate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managerial compensation serve as a governance device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ash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onu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tock op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1-09T14:52:58Z</dcterms:modified>
  <cp:revision>319</cp:revision>
  <dc:subject/>
  <dc:title>Slide 1</dc:title>
</cp:coreProperties>
</file>