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2461-4F2F-4F3D-BB78-96598D2E05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B184-C8E2-4672-ABE3-AB481BD73E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84E-D99A-4C60-80FE-2ACD79E6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0DC-D456-4836-AE24-44A140FB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9C8908-D086-4C63-B900-7B748585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AAE539-1A82-4F1B-A001-6414958E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3B96DE-CCAF-4B13-A70B-9654A1CE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E35B10-216D-4C32-8117-568564D2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EA7C48-2AC9-4616-8491-34A17A24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3F8554-97C8-40F3-8166-075DA1B5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C2CF90-4A35-4FDF-A8A0-4208BFB7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6B9D44-C4DD-48EE-AFEA-78A5BBCA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13FB4B-A133-45CE-A27D-2847EEC5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6AE1EB-9665-424A-8754-403DADF3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65E8-7B33-417E-8E21-734237B3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A2CE3A-4D43-4E4A-93B3-68BFBE44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EF4FAF-1863-49E2-92EB-C410B85B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F3A624-BC9C-4FFF-AEFF-C44CA96B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078003-601F-4511-B1B9-7482C4CF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846267-82E4-46A2-9BB9-030F67DD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422E16-7EE4-49F7-8A2B-D4DB5611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84791C-7D5D-4EFE-8C9A-817676AF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B397AC-C9CB-49D5-A912-4711A776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97B3A0-78E7-4E0D-B5C3-70C7D7AB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26D6D0-A0CE-44BD-B3BA-6851F49D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8F9-3B99-4B13-AD81-443A5424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096F22-953E-4092-A04B-775A3EE6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4B4E90-03B4-4F41-A7C5-BC8B8FDF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4AC5E8-FE75-4B0F-B104-FAFDF91B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99750C-F03E-4F63-BECE-118F75AB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89A6BC-FA57-444A-87FC-F8CA2E5A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20030C-918D-490E-BFF9-9D93D675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31BDC7-9864-4FAE-9D69-D4DA1870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9C8A34-32BF-4EF3-863D-125CFB71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25C765-EAA6-4A8E-9EC9-010CC8DA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D9FCC1-E08F-453B-836D-C6B308FB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02E6C-B132-49DB-AE1B-9BC9E2E41BE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188F7E-173C-4B77-A365-781C9C03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C87148-A1F7-411C-BE28-91F25256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E71716-5F35-473F-BCB8-AD978031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8A59AA-2F01-45B9-8168-624F52CF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0400DB-B7A3-4C3B-BEC2-1AC574E2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C555C3-E207-493B-806B-38F3DDB3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41CCDF-D7F4-4E82-B1B3-9443E59E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FF4B18-5092-4CEC-B4ED-0167CAF1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83E63D-0107-4EF0-A6B9-37D9B344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6B0B0E-C8FC-4F7A-91FC-6DE3F104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68CDE-4C5B-4C5F-A7FD-CAF353DC0D7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86E30F-C4CC-46F5-8C3C-BC61C57C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AA4A60-E87D-4930-B454-AA26E26D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B28CF4-88C6-4681-9CB7-79DEE221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DFAEA1-FDB4-4B9C-9072-EAA287CF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053EFE-D33A-4DA0-B650-264E436C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FC06BD-41D7-4555-AD23-054D47F6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36A445-C87C-471F-AB06-FE6AD8F0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08352A-969C-425E-BE8D-46494CEC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7109AD-39F7-49A2-87DE-F123539E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BC68E4-B284-45C9-AA84-1DC6F2C6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A8F7D-BD6E-49B1-88CB-DC81847B92F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46247D-C50A-48BF-90CF-FA6DFF68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FA8BEA-304F-4FC2-BE39-386C3E5A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915EDA-88E7-49B3-AC0E-6878C794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5A688D-81A0-4D43-84AC-355DCD84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A7788B-936A-4084-96D7-B4E32A07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3AFBAD-2040-495A-B7FF-E551A789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FD74C0-CB1A-4AC3-A00E-3CE9B088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E19578-B1F8-4333-961E-FAF356DB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187BBF-0A45-4835-9545-6ED7DCF9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DE7453-F93B-4D17-B6D5-4F34C4C0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3B231-0349-45B2-9C22-69BA4C0A1A9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EFAC9A-44A6-4623-AA48-E183BC86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CDDAB0-835D-4981-BBF0-E3AA1AC4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50E01A-6496-423F-B6AD-39E60D2B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A27720-7D17-4938-B278-9CB25E43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67F985-076B-4874-A896-188A85E6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6D43BB-3804-4A95-BADE-31CD8773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772052-C8E4-4401-BFC0-B67160B5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F71FDB-4B43-417D-8294-0A6ADC00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4D1C7A-65E2-4632-B273-0E7D654B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E3FCB-27C4-482C-AE70-AA13DC9B32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471E2-0E27-4260-94BC-42A46C874D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4E475-EFA0-42DD-8F12-493F4255FE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CAF-8DC1-4E26-8D5D-B35C2BCC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D17F0-188C-457F-B359-6D9F9E3E66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5D1D0-723F-48E0-AE48-589E7A5E85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3502E-F5B0-42FF-AA6C-82787B48B2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BEF06-D87B-4F4A-A601-C719910232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613E4-2A18-4B86-A21A-178C69F702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699-4450-4FBD-9AE5-711A3B6A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A8C-FBC8-40DA-A037-576C23DF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5B0C9-F29A-4933-B465-1FAFBD01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04FB-75DE-47FC-AB48-0A16A35B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6283D-4CE1-41F9-B4A9-BCE2A9B3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63E5B-6C93-4B44-B565-350F4736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66987-41D5-46D1-9A77-0AB79411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A458F6-5D10-4CA9-8D2E-8BBCC25C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66424-C416-4CB5-B433-1DF358DC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3E2E0E-52A1-41C4-A5F3-02D33645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E2C36-8621-40B3-B463-60A821C5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30A2F-7FB4-4180-977A-AC72CB3B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31722-540C-46AB-9791-F8844C65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21411-946D-4498-BC83-2C357712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CE7-7041-4E93-AF23-1570C514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B9DCE-7859-41B3-927C-58726F4F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7EC14B-FE6D-4E53-97CE-EAAABE17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60DABC-0E5C-490D-8868-482CCDCD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14C1D6-F60E-4590-B3BF-C792A0EC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DB9277-1F4B-44BA-B36C-273349C0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DB0566-B67D-4971-A7C4-1E16A15F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4916A-25F7-459D-ABC8-C1E6BDFD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B3B20D-3956-4B9B-9D8A-ABB3C51E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EDC8A5-E4C8-48B7-BA21-057DB2C8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2A47AF-F24C-4487-A1A0-433BDD90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33A-F099-4F23-B48B-6EC1D8B0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1F992-91B6-4DC6-AB66-9052F8ED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392D93-C99E-4DC7-8396-72DF7C34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14C29-9A0E-4E07-952C-E79FAFC6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FAECC6-B77C-4558-A2FE-3D2D4BF6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8CC03-DB25-4926-AB4B-B350E47C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0EF62-5404-4BD4-A13B-7DDE8CFB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055CEC-827D-4CA3-A89C-5D23A5A5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1A209-B731-4222-AC68-C542FA38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C2312-B9DA-4B21-954C-6CFC7202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A55AE4-34C6-4C78-8C81-E19176C2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5E3-3C93-42C7-B411-494DC9B0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B8AFBD-1618-4FEC-B72E-5F6A9D44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A9B29-84FF-425C-94A8-51931198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3783F-C53A-41DC-99AC-5334775C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686975-7E87-40BF-9316-B83D6C9F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06E58B-B076-4820-B02A-09906894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C0716C-13C2-4A9E-959E-BEE844AB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8A6451-BA16-47C1-B431-5046B94A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D801F-C202-42D9-8689-B27E306E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5DBB8E-5A23-485B-AE57-272A39CF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2A079-60B1-4FE5-B8B4-5B7DD882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D62-AF90-4421-9013-F25DD8D1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E61089-EC6E-4FC2-A007-A09E24D8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225DDB-AA30-42E4-8684-EADC30CA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A7EB0-097A-4055-AA87-E7951A25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52426A-C484-4C8B-AB5C-B79A5970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F19CFD-42E5-4DED-BBBB-900D8042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878269-3DA4-47F4-A5D3-6540C815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FCBAA-ED91-4E2E-8D56-8C9934F3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4C143B-ED70-4A3E-B5F4-EB782991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19BD69-6696-4C87-8BFE-83A6A5ED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F314E2-B54A-4C76-AA60-99E3939D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E7DE-2021-4025-9E59-4CB2E171FA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45F1-8F87-42ED-8D1A-3D5A30CFB8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08EB-4A75-428F-8E72-F1623B0FEB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5015-8FDE-4D56-B600-2A186A21C2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1345-27DC-40CE-A921-823369195B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F281-612D-4F0C-9DC4-578A55C76E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81B1-8800-49F7-B56A-AB98FFB607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F81A-8C73-4EFA-AD52-4626D075FE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4E14-3CE9-4797-9619-1DE74D3EFA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42CB-DF88-460E-BEBA-BCC6CA63A3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F35B-150C-4B2D-88BA-E906F50491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B9ED-9FE0-4766-BA6C-78D6772B5E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1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Organizational Structure and Control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structure specifies the firm’s formal reporting relationships, procedures, controls, authority and decision-making proces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General Types of Structur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ureaucratic structures (mechanistic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c struct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organization’s control systems are developed to guide the implementation of the firm’s strategy, compare actual results to expected results and take corrective action where necessa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v. Financi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Financial control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re largely objective criteria used to asses the firm’s performance relative to previously established quantitative standard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control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are largely subjective criteria and examine the fit between what a company says it will do and what it actually does. There is much less emphasis on the importance of outcom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Evolution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imple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nct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ultidivis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Elements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entr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3:59Z</dcterms:modified>
  <cp:revision>316</cp:revision>
  <dc:subject/>
  <dc:title>Slide 1</dc:title>
</cp:coreProperties>
</file>