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A08B-AF1B-40AF-A89A-25A316B990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C581-A2B7-4D0C-9190-B7FCF67AB7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E012-E678-4F0F-BD66-45282F2B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A87F-C132-4EBC-A73C-F25E9ED6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E0BD8D-FCE3-4C81-ACBB-A9BC4E22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C0E24F-08E0-46FD-A50A-62941178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D0AE4C-518B-4BE5-8D09-6D0FC342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8B3518-721A-4FDA-9AD7-E5DF7DA6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58AA31-776B-493D-ADEA-0DB78BE5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22B385-6512-4E64-8E22-1A3614E6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F39BAA-11DC-4907-9884-4713CCE3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2C4288-89CD-4656-BE3E-C1C0F219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D60C29-B03D-46DB-BFE5-EE69F3BE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62F792-ACFE-4F71-B5B8-C2EB81F0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2DE-E57F-4B84-BE94-2D0B93D6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0AEA60-B762-4CDF-B9D4-5BF5A139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7955B1-5D06-4905-97A3-98D4D825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2530A9-1271-4A63-ABA5-52A84E55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F3EEFF-F320-49ED-92CE-BB772D31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68B3E0-48EC-40D3-8AF9-6DE20AE8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1DC73F-7349-4FFC-8421-C2BD5A3E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8DCB3F-5793-4803-8275-65510BA3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222041-97E1-4CB1-976D-5A5124D1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FF2EBA-C94B-4E05-B009-C881FD3B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435CBB-7906-4887-8C65-C9E55211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D8B-824F-485B-8BEC-209AD6F2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47E4B7-674E-4E4B-BEAF-1CBD87A4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D159EC-350A-47EF-B754-86ABC67F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610A9C-C887-4663-8DC7-EBF797F3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0C132F-5448-40CB-A5F4-FCA15CB8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FBD6A4-BD9E-49B4-A699-877BC62F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187FFF-FE9D-4FAF-B7A2-76FFBD2C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9B35CA-ADC9-4AED-85CB-80AA71E5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BD2A89-E040-48BF-87D1-60C3F072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22E6E1-D155-4817-9932-FEB430BF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43A8B5-A759-4A97-8189-6CBBBC08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997AB-17CB-46B7-99C7-EC6869E6653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AE8660-7D8B-4749-A19A-184D47BF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59267F-51B8-4C74-9CE7-95273539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24DC5E-5045-46CB-B551-011AFBE4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60D3EA-AF1F-437F-A08E-9F84CF88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98549C-6442-4FE3-8031-6A0247C6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11A7AB-DCD7-4541-8D99-B355C8CB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F6B71E-0C61-4774-9393-7A0BFACB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4B0DB5-A84A-47DE-9C65-4626FC48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B81AAD-D596-4B73-B077-FC113F82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7CC487-8F59-427A-941E-F8F90FCA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61589-C1D5-484F-97BA-8748521FA48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B7BBA5-85B1-44C2-84FF-517F3FF9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930E56-66DB-4595-A7CF-5DD46A9D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D122EE-403D-4CA3-983E-9E0FBBCC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100CC7-A5F7-407E-89F5-88A16A2F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8A0D82-FDFE-4C9E-8719-91C52B1C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41AA24-1A42-4348-A01E-74CAEF0E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D7477F-B41D-4D74-B6FC-0D337A99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0A9569-8FB0-49B2-852E-B343DC53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63EF79-99C2-4104-A1B5-5369D101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EB11AA-1F4B-4596-B495-8AF9BCCE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1340F-88E9-4ED2-93C0-756B1D4E7A4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11AD23-93C3-4BCF-BD1A-5C89E251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DE9234-73EA-4A10-BFF4-436F73C4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C2F5CA-EF0C-4222-929F-FE133437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770677-1DA0-40FC-885D-6C51E482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110C78-87FD-49E9-9532-DACFB2B7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F93E7E-C8A8-49CA-933B-AF74DA97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224194-A6E9-4B49-A5AE-788C511D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A7FA54-FB4B-4C82-AFE3-CF7276C8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75B1CD-7702-4D95-9DEC-4B1734B7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9520AD-44B3-4477-9599-C13D3497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BC4FE-8B9A-4CD4-9152-55A1BD8670A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CC8A2B-3D6E-44FD-B2FD-F48707CC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A52FF0-EFF3-41ED-A143-85E2607B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5FC187-43B9-425D-9079-50454F04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362E05-FD5D-473C-BF3C-239E161A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115446-91DF-4034-8003-2B4B1EEF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B6B958-0833-41A2-BDF3-DF4D2D32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D9BBB6-A027-4EF2-9322-EEEDA086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054EA8-6DE7-417D-8C3F-E13CC899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6C7356-A7D6-49AD-9D68-585DECC8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F41A9-DE9B-4147-8BDE-8123E21041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D3297-409C-453B-AE23-9F595768CB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60057-483E-48D9-ABA7-A34F926452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CC82-9BD6-4F7B-874F-CDE548D1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6D275-5D08-4388-B071-FE333501FF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4B76F-9787-4EE1-B1F3-3E94C3686B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C6B02-1D7E-4E57-BE2A-165A535C19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91868-A98A-469E-A7CA-CEA8F5E871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D4587-CF93-43FE-86B5-FE6043CF9E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60D-FB24-49EE-B81B-9E6B0964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856-A5D4-4992-915D-BD72F73A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7CAC5-4192-48DD-8B9F-42D88C7F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AB81-5F4A-48BD-A422-D3CF89F6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69C28-1FC4-47D2-B51D-6CB97C13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98F8B-F4D0-4DF2-8049-BA8D6EEA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2D71F-78BF-4EE1-803F-1EC182AC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E53F6-B3DD-4661-86DA-A65BF2D1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424794-BDEC-4F7A-8B80-9EAD2491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431F6-786A-4428-8822-91185AAC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B0D3F-C745-413F-8C74-E1EF2FC0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FF269-B607-4A11-8A20-CB74D8AE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5C82B-44BA-4995-9DAD-B6E57526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CE3AB7-E569-4AF1-9018-95717FAC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6B31-4EB2-4574-BA4D-357F365B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8D7D9-2DC5-4B1A-B028-57FE0B14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D14527-5738-44CE-A048-4FB49C12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6E2E93-747C-476F-8B66-5121FFE9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4377F2-17FA-4713-9E8D-6F3D44C5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EB5EE-B1A8-4D2C-AA99-1BC7A834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FA1E58-CC03-445F-A548-CFA921C2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119036-88E7-4503-A8AC-E72CC2EA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BD278B-7537-4580-8EF9-4FB8011E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3F5943-0B06-4E66-888B-36C814C1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40D096-92C5-450E-98E1-73A98D33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EBA-E508-4234-A2AD-67C8594B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981BF-596C-4D85-BF9D-1F31D77A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D20B7D-5170-4126-A67C-50DC7558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ED513-6475-4B24-97A0-77EDC19F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CBD0B0-826D-42A4-BA36-AFA51CF5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15CD55-4D4F-4EC6-8808-F628A1EC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AE4DB-6876-48FE-A064-0E33D6CA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28198-31BC-487F-893D-91389D6E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BBE9F-7F56-4B85-84E3-649DCBF5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B7895-E4FA-4CAD-95ED-B5D2CEE0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7F597-DA05-4F10-91FF-7B4CA2AD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8A10-B4A0-4D0B-BA1A-E2FD5CF1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E16131-B016-41C0-BD6A-01F4E6B8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BD15A6-D8D0-4267-A659-BD302381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8BB07F-9BB2-45AF-AF6F-37BCE93B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09B0F-71A7-4ABE-9B02-562EA525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001508-3BBA-4DBA-84FD-295FB0BB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7D0E1-2EE1-41E6-95D0-66AE2D0D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9F53A4-A6FF-44FF-B97B-0A8C3DD9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439A9-5E0B-4CF1-87B0-47595DB0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6E3B47-3834-4462-89B4-220DDD56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9CD35F-0B7D-48DB-89A3-C2564ABF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11E-F607-4A4B-8A94-EE0AD894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0CBAE9-6631-451C-90F5-8638E29A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46A5A6-D106-48B2-B758-3424EF88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B1457D-A0BF-44BF-8374-0F627386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7DE690-3F9C-462D-92C3-53DD1064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CCB4D2-B8F1-44C5-A72D-3D68BD8A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E6F72C-BE31-46BA-873B-52E2AB19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2B6570-02FF-4749-8C75-F4FDF1E8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68885A-F680-453B-AAE1-BD383C32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B7D965-3BCE-4020-8B4A-89DE1218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F7D524-8B87-4CAA-A304-041433B3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885D-BB2F-4AAF-BF4B-0698650B42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ED9B-30FA-45B0-BAE9-E237A31B9C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5AB9-D3E2-4C97-ABDB-AC230CC6F4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738F-337A-4533-A48A-A37F6C1215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85BE-5678-405C-B9AB-6F82DC325A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5234-F085-40D8-906D-5C2E475395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D88F-168C-4280-9BEB-5C4BB5D9D2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7F3C-FC90-45A2-A539-CA11AE33DA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E2D4-8C39-4FD5-AC48-DB2FA72979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314E-2970-4ADF-BAC8-ACF2848B94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A74B-B77B-4E8A-BBB5-078634DD1C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2D4D-0455-43FD-AF9F-42F17AF8BA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1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Organizational Structure and Control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structure specifies the firm’s formal reporting relationships, procedures, controls, authority and decision-making process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General Types of Structur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ureaucratic structures (mechanistic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c struct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organization’s control systems are developed to guide the implementation of the firm’s strategy, compare actual results to expected results and take corrective action where necessa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v. Financi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492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Financial control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re largely objective criteria used to asses the firm’s performance relative to previously established quantitative standard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controls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are largely subjective criteria and examine the fit between what a company says it will do and what it actually does. There is much less emphasis on the importance of outcom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Evolution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imple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nct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ultidivis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Elements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entr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orm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3:59Z</dcterms:modified>
  <cp:revision>316</cp:revision>
  <dc:subject/>
  <dc:title>Slide 1</dc:title>
</cp:coreProperties>
</file>