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EE42-ECE2-4C5E-AB7B-E46405FFD013}"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89B9-52EA-4CC2-91D8-5168A9ADF7DB}"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8BB07-33E5-4FBE-8D50-AAFB22FE6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5023A-5B50-41BA-BFB9-7321A39DC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C6F3C79-2557-4E0F-A55F-23E865C22BB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ED39DD2-7C50-4B7D-A062-B3849A62BDC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AE9FCF1-05B8-41E2-AEF6-2AE67998E8A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F9DC289-6F17-4A7F-B0ED-C8EBAE4EEB9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899ABE7-1776-4007-8927-6B967D810CD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64B6CC8-2FE4-489A-ADBA-300AEF08C83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98E8FFE-7787-48C0-904D-E7CEC4A719C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CA62CBD-48B0-489E-A957-55E069FE548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B9AA309-4EA1-4F88-B0E8-F71CBC31D52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A954049-C16D-4604-976B-2B2BFC476F3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49E62-6D8C-4FBA-80E5-169F720C0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E4312C6-7E54-453A-A78A-5C73558649A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5F0A31C-AE7D-4C05-8B18-05637ED4937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E3EED5E-D462-4B3D-9AC3-17B082FD27E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D9EEAD4-25A6-4831-8B01-43FB06C0EF9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5BE045A-F28F-43B7-BB59-13040F14980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044D6DA-C42A-42AA-A8E9-341B207A330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19ABF56-748B-4364-BDB5-776F8582BAF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F02FF28-734B-42AE-9FF4-914E9F3C215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24A07B0-F44F-4C8E-A4E2-857797BE2BA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65233EA-317A-41E3-AA7C-D41DC2B497B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17155-57C7-404E-8903-2E8F8726B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9C5D034-6BE8-45DC-8BDF-A44A3651AA0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A60025F-5DA3-4197-A073-DA5551B4E9D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8D8C8F7-2F2D-4459-91A0-536E32D0C5D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6A23603-13E9-405C-A19C-E4BFC47C7D3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84A28F4-1676-4C67-9189-83FBA1FD5AE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7B5AE81-E1E0-448D-B903-1C46526FAB8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B37B679-4EC0-43EA-917B-9C039A0F758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6AB9B9D-F8C4-4362-9840-5575FBE5395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D9C7DCC-09BE-45B5-BB03-D96869CB38C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9EC3D86-49B9-497E-A6E6-14CBAB453DA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4F0713-85EC-4D2C-A1B1-277021E15F9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CFAD0B9-B42D-4A1D-8267-B5F08B82B56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31F0565-8B57-437C-A654-734BAA4FDA3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BFAAB9A-6E39-4D40-8CC4-3E5E711B7F5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F856D84-B413-4FBD-94E0-5CAC874D10F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BD3ADD4-7DD6-41E3-B86C-31F12C8C16F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2DC92FB-4467-4CA2-95AC-EE1E1663BD3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868A013-43E9-427C-9E7D-F8BB5910E0A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B17CF4A-B013-4A1B-AA31-C09E7DA66F6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F388D70-DB83-4A67-9B4E-2F47FB0040A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010169C-9935-4B96-8BBE-D1E0AB75FE2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422B89-1A9B-4643-8AB2-892AC980ED4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A621636-2629-4276-AFB8-B25730B2415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699B7AF-0D5E-44A2-BB5E-DAADC4BD4D3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22D0D44-0947-405C-8E4F-B62D58C5E63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9331576-CAB9-4491-B8FF-1FC821EEC10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9686E2E-4BEF-409B-873C-39D9E3755E5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D404377-F5B7-4115-ABC7-B3219B93AF3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A365F31-8546-4402-B93D-A5ED71A0D16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44F04B8-0630-460F-AC26-1BE0C98243D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5E36DDC-35AE-4380-8006-6801DD6E316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FDCE8AA-27D3-42D5-84E8-037E41DA5EB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B9AAC0-A975-4AAD-9CA6-FA8AB158F7D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3807DEE-F4B4-4233-9466-FD127742315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E9B26DF-7CAB-40C3-AFD8-8F276172970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2E17129-C076-4CBF-ADFA-8041B11BD44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8956A4A-F63A-49DA-8A54-24CFD8891E7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20520D3-5DC6-46A1-83BC-3D7DFCD55B6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AD91D48-BA01-49C2-A70E-7AB8107915D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F488A91-B161-453E-A02D-843B879ACC2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17CFDC1-C887-4B2E-9620-D3E9E551732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889BE9D-8E0E-486A-A67E-2ED002470A5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ECCA041-AAE8-4D83-9178-5AE15FC9C58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FB6971-91FD-4E22-B441-5B23A2B415E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0AE5241-7318-4908-B9A1-644C9D98C1A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8AD6B1F-44BD-40F1-89DF-548D747F7B3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E0DE02D-75FA-4C38-988F-756A2539E29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EEE2F99-C34A-42B4-BFCF-8D2E53C3D76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7E4FCCC-63A5-438B-947B-607A2A2ABDB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B84800B-8811-4929-B24A-3BEFDE37405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D7ABCB1-AC83-4C91-99F7-F0776D4CC88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9CF7FC0-A1EE-48C4-BE8D-FFC3731B611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B8BF8A6-9080-489A-96C8-9820E481043C}"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AB1524-DE77-410B-96BC-4F7D1A544A9E}"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5F767F-D127-4A53-BA43-79B19076D66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72ACD5-3E30-4E3D-9FA2-B32FCDB176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85F42-F8AC-4E19-BED7-A31131697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5C71AF-27E8-4B4E-8DFA-B9448909F4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06F349-B650-427F-9ADA-05E62EA840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CB2D43-CE3B-4725-8E58-58E76A8120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15619A-DF05-4574-8C43-675ED4AFB0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D6FE91-29C2-4CF6-AEB2-FDA12E12B44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D483A-9EFF-4332-8C80-91FDF26CD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15D4B-86A5-40DD-A999-9068CC0AF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5D6B976-028D-442E-A70C-D53AE68948D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AB56B-7E5F-4E88-BD1B-E6096948B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4675743-B251-4427-BE86-B9F2EE805EC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AE99370-8701-4371-A876-3238944E8A7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0137AA8-E6B5-476F-BA7E-632A7C72C13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8AF96FB-2468-4FBB-AD19-61B33C3E5A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F097AD-234E-429C-88EC-C851470E0A4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D2342A-B6A1-42E7-A7A8-7E1899FBAF1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9E2D18-31B7-461B-9B2A-02E7851D5C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EECEA9-C06C-43E9-B7E2-8CF58ACFEC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9D121FA-424B-40D3-B76E-70BD5932DA6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B6BE138-CFDC-4681-93A3-48EAB1E5620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C4AAE-F359-4D14-A7BB-D80A5B9E5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B25AE30-FBBC-42CB-A7F2-D4BBB3FC1B0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DDF6D99-0405-41F4-B555-63AE7690FEB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3B5B38C-E220-48AB-8204-CDF54D015D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88B8FE3-5C4F-4FDC-985A-009B935305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3075FE5-285F-4692-917A-B6FC314AFF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26022CE-A6AA-4327-A3EB-2BAE972FE8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B1CF63B-DA9A-4631-89C0-9FD6D4F32D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ED383E-C41F-4E6D-B32C-B896E46B82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10A7CE6-2F67-4943-9A75-6F791A4242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A7354A2-B083-4C44-84D6-B756148BC6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DEC84-FBB5-4B90-956F-F592C488E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2234D71-5F5E-4C33-B839-72358A9E56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1AB226F-C624-4E54-9C14-17B9A794C45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CB3F8BD-CF89-47C0-B267-553A9D6DE0B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E218D19-181E-4605-B667-84995FC336E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E721B78-8011-48A4-A0F6-79186FE5242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DBDDD62-D9C7-44BA-9184-121E7AE1C6B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6C4923E-6766-47C9-B0F7-404B09D411D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78550DA-A784-4019-923E-561F3D6D612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B23F2C2-EF1E-4659-9F2A-E09996C5177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55B76F0-9220-427C-A5F9-438AA28E92B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2E111-83F0-4612-9EC4-261295791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02F4EB-1D11-435D-908E-C74C5A4979E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D2CE302-FF86-4732-A217-DE34F7FC5D1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A1D2059-9D5F-42B0-874E-8DA2308C0B3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27264A8-C017-44B4-AAA3-08ED50B3296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8ED4AD7-EF85-4FA8-8EB7-95BF7017778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916A90F-4832-470F-A877-40D71BE899A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A837231-511C-4FE5-ACEA-43298B81532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28D183B-FED2-4D73-BF95-2D6104700CC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856735C-C31D-4BD7-81C9-A11743C9FE7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3C40740-49C8-4319-8727-901B0C41B46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F80EA-C6E2-4011-B69C-166EF5C58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5C66729-6A17-4D23-A7A2-F7365787BF3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769958B-94C1-4B60-B579-A8F021F79C3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9D1D87D-FB7F-4299-8C28-79B8C6780B9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3F36A25-9613-4801-A88A-B58005DEC5D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52673BB-38C5-42BF-8B66-1F990F406A1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B044B35-E3D2-4CDC-AEC6-B77F188ECD8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6EEBC98-4E33-4385-B12A-510DF91462E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F6E9D2A-3728-4B69-B293-BAAB8485483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2285B8C-991F-476E-9E23-C8015A706EF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0EAC539-63B2-4ADF-A45D-C50CDAA73290}"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6C7BE-782D-4BC9-80C7-C7D3D86C4D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71F4-CE4A-40DF-AF99-29956C3A2FE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C693-F5E2-4BAA-B60F-6CC0B09B830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F61A-D721-4D2C-BA16-49A01503FE2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7A3C-CF27-4796-A268-CEDCD3A259E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7FDA3-5661-43C7-9FEA-3588B77D380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D72D-9441-47BD-B426-DD723EDE722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9BA5-3733-419B-AFC5-A4E03714947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6F95-18C1-4C25-9969-06FDCA3B661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C697-6968-4B59-B320-3D152687000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B529-CDFF-4D4A-8E86-1717AF4CD3C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1AA8-08F6-4C90-933A-C0BD9E33BDB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6</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otives for Diversification </a:t>
            </a:r>
            <a:br>
              <a:rPr sz="3200"/>
            </a:br>
            <a:r>
              <a:rPr b="1" lang="en-US" sz="3200" spc="-1" strike="noStrike">
                <a:solidFill>
                  <a:srgbClr val="ff0000"/>
                </a:solidFill>
                <a:latin typeface="News Gothic MT"/>
              </a:rPr>
              <a:t>That are Unlikely to Create Value </a:t>
            </a:r>
            <a:endParaRPr b="1" lang="en-US" sz="3200" spc="-1" strike="noStrike">
              <a:solidFill>
                <a:srgbClr val="ff0000"/>
              </a:solidFill>
              <a:latin typeface="News Gothic MT"/>
            </a:endParaRPr>
          </a:p>
        </p:txBody>
      </p:sp>
      <p:sp>
        <p:nvSpPr>
          <p:cNvPr id="662" name=""/>
          <p:cNvSpPr txBox="1"/>
          <p:nvPr/>
        </p:nvSpPr>
        <p:spPr>
          <a:xfrm>
            <a:off x="549000" y="1599840"/>
            <a:ext cx="8042040" cy="4724280"/>
          </a:xfrm>
          <a:prstGeom prst="rect">
            <a:avLst/>
          </a:prstGeom>
          <a:noFill/>
          <a:ln w="0">
            <a:noFill/>
          </a:ln>
        </p:spPr>
        <p:txBody>
          <a:bodyPr anchor="t">
            <a:normAutofit/>
          </a:bodyPr>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titrust regulation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ax law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performance</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isk reduction</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urplus resource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ducing employment risk</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Increasing managerial compensa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level Strategy</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Answers the question “what business or businesses to we want to be in”?</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The corporate-level strategy is </a:t>
            </a:r>
            <a:r>
              <a:rPr b="1" lang="en-US" sz="2800" spc="-1" strike="noStrike">
                <a:solidFill>
                  <a:srgbClr val="595959"/>
                </a:solidFill>
                <a:latin typeface="News Gothic MT"/>
                <a:ea typeface="Geneva"/>
              </a:rPr>
              <a:t>diversification</a:t>
            </a:r>
            <a:r>
              <a:rPr b="0" lang="en-US" sz="2800" spc="-1" strike="noStrike">
                <a:solidFill>
                  <a:srgbClr val="595959"/>
                </a:solidFill>
                <a:latin typeface="News Gothic MT"/>
                <a:ea typeface="Geneva"/>
              </a:rPr>
              <a:t> (away from a single business strategy).</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attempts to create value for the shareholders.</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What do shareholders value?</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7A864233-582F-4CFC-9E46-BB64BDD1170C}"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0" end="0"/>
                                            </p:txEl>
                                          </p:spTgt>
                                        </p:tgtEl>
                                        <p:attrNameLst>
                                          <p:attrName>style.visibility</p:attrName>
                                        </p:attrNameLst>
                                      </p:cBhvr>
                                      <p:to>
                                        <p:strVal val="visible"/>
                                      </p:to>
                                    </p:set>
                                    <p:animEffect filter="blinds(horizontal)" transition="in">
                                      <p:cBhvr additive="repl">
                                        <p:cTn id="7" dur="500"/>
                                        <p:tgtEl>
                                          <p:spTgt spid="64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12" dur="500"/>
                                        <p:tgtEl>
                                          <p:spTgt spid="64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7" dur="500"/>
                                        <p:tgtEl>
                                          <p:spTgt spid="64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2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 v. Business Level</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a:bodyPr>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is concerned with what businesses the firm should operate and how the corporate headquarters should manage its business portfolio.</a:t>
            </a:r>
            <a:endParaRPr b="0" lang="en-US" sz="2800" spc="-1" strike="noStrike">
              <a:solidFill>
                <a:srgbClr val="595959"/>
              </a:solidFill>
              <a:latin typeface="News Gothic MT"/>
            </a:endParaRPr>
          </a:p>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business-level strategy must be selected for each business in which the firm has decided to compete.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44642C68-BE69-4879-A290-8D91A0E0D9BD}"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29" dur="500"/>
                                        <p:tgtEl>
                                          <p:spTgt spid="64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34"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The key question is . . . </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When, or under what conditions, can we expect a group of managers within a single firm to more efficiently diversify the firm’s portfolio of businesses than an individual investor could acting on his/her own?</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or the diversification strategy to create value, two conditions must be met:</a:t>
            </a:r>
            <a:endParaRPr b="1" lang="en-US" sz="32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economies of scope among the businesses. </a:t>
            </a: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an efficient hierarchical form of governance (manage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What is Synergy?</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ynergy exists when the value of two or more firms operating together is greater than the value of these firms operating independentl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us, a successful corporate-level strategy involves searching for sources of synergy!</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is the relatedness hypothesis?</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versification among related firms will outperform diversification among unrelat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are the levels of diversification?</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diversification</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ngle business (95%)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dominant business (70 – 95%)</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oderate to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constrained (many links; share 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linked (limited links; share in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Very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unrelated</a:t>
            </a:r>
            <a:r>
              <a:rPr b="0" lang="en-US" sz="2800" spc="-1" strike="noStrike">
                <a:solidFill>
                  <a:srgbClr val="595959"/>
                </a:solidFill>
                <a:latin typeface="News Gothic MT"/>
                <a:ea typeface="Times New Roman"/>
              </a:rPr>
              <a:t> (no common link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Motives for Diversification </a:t>
            </a:r>
            <a:br>
              <a:rPr sz="3600"/>
            </a:br>
            <a:r>
              <a:rPr b="1" lang="en-US" sz="3600" spc="-1" strike="noStrike">
                <a:solidFill>
                  <a:srgbClr val="ff0000"/>
                </a:solidFill>
                <a:latin typeface="News Gothic MT"/>
              </a:rPr>
              <a:t>That May Create Value </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Economies of scope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activities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core competencies</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Market power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Multipoint competi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Vertical Integration</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Financial economies (un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Internal capital alloca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Business restructur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10-12T14:11:49Z</dcterms:modified>
  <cp:revision>319</cp:revision>
  <dc:subject/>
  <dc:title>Slide 1</dc:title>
</cp:coreProperties>
</file>