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3995-27A6-4F57-A2E9-9CD255D6D8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147B-E1CA-4992-A43D-CD67D0BA8E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B40F-D557-4304-900A-2FE019A1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E80A-0030-48C6-9875-5686633D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791D9F-DD50-4F43-8F0C-DCDC34C0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D1C376-9290-482C-949E-62A6CE90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2A572E-A4CE-46F4-8E62-2593ACDD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FDDA97-CB84-4E65-B2DB-B06E224D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E52648-F827-44AF-BB78-A69182F9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93E298-E840-42F1-9F8E-13EB71D7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AD0472-62E5-4F35-8973-7C1EAAD5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610FE4-AE7D-4AB8-85E2-7B4A863A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94165D-CE20-4653-B115-9DB3F4A8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FD9075-296E-4501-82E6-4E941CDA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7417-DF79-463E-8285-6A3792B3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5AD120-64FA-4BB1-93E2-C2E764B3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8D7C12-19E4-4073-90B5-342B9F60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F5A91D-5765-4142-B5E5-18213A5E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78F5B7-90BE-4BC5-8E38-DBADCBB4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56B13A-6EEF-4534-AF33-2D288219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691456-AEBF-4D12-BEC9-B0D7E5A5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50AF0E-2EE2-4E76-B1B6-3B5251F0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F2C431-2485-40E4-A392-F132A9AB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3A6E26-E4D4-4D88-99DC-E192D269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B24095-A8DE-4CC3-8A7B-6706A295A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4A4D-F11C-4C09-9264-75016443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DAC630-5E67-459F-8AA5-15273E93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3E5213-012F-42B4-8E29-F737CB65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4B61F6-CC8B-4ACB-8058-D23D1F77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578707-BCDE-4540-A8B9-224D79BC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12E2CC-23BF-4F52-8B5E-CD565910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7E6050-B04A-4EA5-B9B4-5E7C19BD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B30A69-8B94-4850-88A9-0FD5F363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3A047E-8AB7-44B3-9D83-7F83C3DA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E43A1A-FCF7-4207-9D3B-69CB00AD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4B347F-C1F1-4858-AE35-496551B9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998D9-2B30-4ECD-AFDC-5C764EF12D8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62099D-62BB-4A16-ACF7-A8A670E7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2F8B77-CD7A-4E35-8510-2E2E74D1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71535B-F818-4042-A3D7-162B0E3A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0F172E-A0EE-480B-A267-278B6A69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4A332E-59BC-46F9-B4BC-514FF7D5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A2613F-A84A-4D3B-92AD-DD3D16A6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261360-2EDE-4381-98AE-C55B4A36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7FD25C-0B63-4E48-A7FD-6CED2ADC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1BAF01-27B9-4932-9145-E23AC610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A1C47C-C542-42A9-B74F-85B2758E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7F017-A451-498F-8F2D-C5CD363346D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618779-045B-456D-A774-1F367A85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334AF8-BEB4-4446-9202-97080AAF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4B1B69-92C7-457F-9503-30062DF6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D0BFA4-D0C1-43F1-8063-4F330A16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9AE9A3-F170-4E8A-9A49-00D4458A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0A4655-5E4B-4718-A711-158883B5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5EA3FD-DEEF-4557-809B-52697AEF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BCE9FD-EEE6-4E59-9C73-A66CCD5D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041527-B987-4331-AFB0-7014D986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6A9F86-D4E9-4F42-9A86-976F5AA0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6D5DE-DAD6-4652-8B58-CF044EC0A00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B806D8-9350-4C20-B6C8-FA0BF166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B38A94-B995-4445-ADD7-034BCFF2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A22DCF-B1E8-453E-A718-FE692E66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E3F7D5-6D31-4280-83D9-42900426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FB66F9-DE8C-4AFE-B0E4-DB28534A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2B0CE8-322E-4DC4-BB7A-41F60E42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D5DE70-58B8-49A8-B294-B18296FF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CBD590-60B6-43B9-8CA3-3306C3F6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A8E629-1B4A-4C9C-9367-4C07DA12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D60C20-2594-443D-87D9-CC0E4221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F4493-F46C-4A3B-BBE1-695AC9BA6BF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9D0696-C4DE-4702-ACFF-5E235E82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7BE355-3F64-4FF0-A72C-9F514CF9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E9FE07-DABD-499B-B948-F3507D82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03795F-3780-4218-9BE3-09022C74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8ACBE6-2C9B-4F15-BDF4-F53F9B8D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DD60A1-7C59-4C9C-91D4-9F353499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77DD34-3DEE-426A-84DE-9ABD07CA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219C03-320C-4186-93BF-BFEBE38F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4EA5B8-4D34-4C36-A5DE-29E326A1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C5857-F6D2-48D5-9B3B-458BB52603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15C18-48D6-4A46-91C8-C56639102F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B8116-921E-450D-9A07-E94FB029E9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DF03-1C44-4822-A8CF-CB8F99A9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25243-C9D6-46D1-BD68-2E736FE1E9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B59F8-3423-4930-96D0-CBACE3E884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DDDE7-6D1B-4332-B5AD-B75D92CB6A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DE57B-CE30-4522-ADC6-D9C42E852B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9897D-B5A7-44D9-B75C-D5F112FF23E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7380-5FAD-456C-B9BC-4850A0E1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1232-1499-4CA4-849C-CA0E5721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4AC0F-62D4-49A3-AAF0-09FB684B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B5D7-60D7-4B24-AF94-9EECF480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35A12E-ABE7-43E5-9ACA-797AB3B8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540F9-45CA-488D-8027-145B81AB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C0D7E7-49FA-418A-A1B4-5316741C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05611E-F265-418A-BB59-68020760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B93A41-284E-4D39-9B01-D87A5D0A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A18B93-28DA-47BE-B084-955BBC87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85EDCE-4728-431D-B9BD-D25D6EF6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018DF5-EF81-4457-894F-54B5BFC0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92BFF0-77B2-4E0E-869D-85D4043B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38501C-DA96-45EA-B748-6718D2CD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0A8B-A3F0-48E8-B86B-9A211BB2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3DB93F-8030-412A-8757-0C9DD773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94B2BF-5D66-4012-8E00-FEA1786D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E173AD-F3EB-4A2C-8D92-A9E7901D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BC7B88-E626-4037-9DD8-B8D9CCCB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670D47-7CEE-4F2D-84FF-F1E49138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0806ED-27D6-4920-997B-27A0A724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D007C0-B34F-46D4-9ECE-20A37698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4B00CC-DEC0-4B23-81AD-66A99F1E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5939F7-8D24-4AC4-80DE-6B909988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3BFC17-B638-418C-A79B-9963F5DF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0797-FAC1-413D-AA7B-BABEBBB7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E47691-2458-4BFF-BD95-14E8E114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E27A63-3BC7-4202-9FB7-CFFE489E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40F6B4-790F-4CED-89EE-E26E48AC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960E9B-254C-427E-9FDA-225F68A5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EEE2CB-B04B-4A99-8B79-AF5EB66C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297E2D-3669-4627-8B4C-6E912DDB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207A2-1CC0-42D5-9730-BBAB1B38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9AA36E-8940-4404-8297-DCDA1182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8B65B6-FD0D-4F5A-8F2C-B10F4ED1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486A1F-F229-4A93-8E37-28085658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6A53-466C-4C44-B966-35F10DBB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474DE9-C099-45A8-8D6A-24C587E9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22C1DA-22AB-414C-A3E9-E7137BCF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2A0496-ACDC-40DC-BE59-17B8B39A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F0CB80-27C1-46D8-8379-EAE494A02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DD98ED-AA94-49E4-87F6-B1E19C69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3516F7-C594-43AC-BDDD-191BE271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B4C9AE-0D48-4963-AD5B-9981B93A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D22407-9AA8-47C1-8794-A142D650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791D79-37F3-4E8A-90D3-AA9A2078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76381B-74BF-4AA8-934D-52231FE2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358D-4332-4BF1-9DC9-EBD10D9D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08CF6E-E73A-405E-AAC3-C5A2BFB4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2FA21B-B8F8-41AD-A1B7-354FF2B4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932234-4EE6-4426-84E1-F48BFBFA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3B1037-3EF2-4453-903A-365A1A1A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4EAF06-2AD9-4172-A3AB-E2809F83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C0A9F9-B1B2-40FE-9C5E-125B38A4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AA748C-2D38-436F-80AF-B47DFDB6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D1E139-5485-42DF-AC25-706E0163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ED41B8-05EA-452F-B37C-4ED67F9E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A21E7D-EA3B-46A5-802D-B7CA98D8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10C5-BB59-4220-B16D-0FBB35D264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1BD3-6BF7-47CC-9535-D1A00CDFCA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21DE-78DA-4ED7-9FB6-AFCCFA62B3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A7AE-64BA-475D-A2A6-66A3A80DDB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268F-4E97-42A7-A730-CF81B2D77B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6E26-E19F-4509-ABC8-ED45F994DE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A6A2-B794-4DFF-8243-B7CC72E6E4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C8A1-F917-4901-A710-11653D39BF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65A9-3EA3-4B75-9669-EC7FD36564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AC72-FDFB-4BCE-88FA-C8980D0AFD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BEF0-F5E0-4BC6-82CF-602BA6B230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2EC0-AF57-47F7-BAF3-0572F3C006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7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Merger and Acquisition Strateg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2280" y="108000"/>
            <a:ext cx="876312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rgers, Acquisitions and Takeover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04920" y="12189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merg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two firms agree to integrate their operations on a relatively coequal basi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sition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one firm buys a controlling, or 100% interest, in another firm with the intent of making the acquired firm a subsidiary business within its portfoli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takeov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n unfriendly acquisi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Merger and Acquisition Strategie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re Very Popular Despite . . 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indicates th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ed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earn above normal retur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il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average returns of about zer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urther, in most acquisitions, the stock price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falls after the acquisition is announced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5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asons for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hieving market power is the primary reas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rizont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ertic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lated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coming barriers to entry (cross-border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duces cost of new product development and increases speed to mark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ers risk relative to internal develop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creases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hapes the firm’s competitive scop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earning and developing new capabili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roblems in Achieving Succes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tegration difficul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dequate evaluation of the targ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bility to achieve synerg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ly focused on acquisi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ompany becomes too big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raits of Effective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ssets of the acquired firm are complementa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sition is friendl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ring firm does effective due diligence (evaluates the target’s financial health, culture and systems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erged firm maintains low to moderate levels of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New firm emphasizes R&amp;D and innov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is well managed and flexib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structur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Restructu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a firm changes its financial structure or set of business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izing – cost and/or asset retrench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coping – eliminating business units (divestiture; spinoff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BO – A party (management; private equity firm) takes a company privat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0-19T14:14:11Z</dcterms:modified>
  <cp:revision>317</cp:revision>
  <dc:subject/>
  <dc:title>Slide 1</dc:title>
</cp:coreProperties>
</file>