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CA0F-D1A0-4B9E-9D4D-A0CEEF3EA9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5F76-27AC-46C1-9AB4-3707272E89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E872-2169-4F21-9DB8-257AD0CE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AB00-BD4A-4065-B346-503DAF05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CA0C3C-AF88-42CF-A845-CA298D2A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6D775-C807-485A-B2DD-3E62C49E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EDFBD-F8E9-4D44-B972-4A61AD36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EC497-544F-4D13-898F-B7D9E81C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085A6-9204-4BE2-BE22-8ED76F76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5578B7-B67A-4224-9D5B-B9C3EC1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54B18D-8CAD-458D-8776-9FCF72C6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6ED047-D72E-4C98-B35A-E037C7AB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889E80-D629-4B0E-9428-037A362E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ED8F73-55FE-418E-9DD7-D1669B55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853-0C69-4E11-B033-289DD279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5246EB-95A1-4F3B-8876-33C8E19B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2A16B9-D768-4F87-8713-52EFAE18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9D7A6D-520F-4355-B684-FB9D8954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FCD3DF-4CD6-48D7-B639-BA6DA610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5A2DC9-1849-43FE-AC41-7E0B8279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CB172A-BFCE-47DB-8648-AFE2D388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365DE1-9B36-42AB-87B0-8BEC0E53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9268EF-7DDA-4A83-BF24-9A80C6A2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308BEE-545E-4E6F-8934-FDC21478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4D2AD4-D03A-47CE-B2E7-01E7949D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92D-0D0F-4BFB-88D2-EF76F7EB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724583-E2ED-4C6A-8124-FC3F3E8F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A27475-A30E-477C-9698-9F0C89C6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1C3E96-ED0E-4149-9DA7-51B3A38C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0363DA-DA25-4E58-AFD6-ABC1D536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6EE8BD-14AA-4134-A436-F50264A0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C304B9-C2A1-4A98-A48C-3CB279B3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02EA3E-DB23-4D79-AB3B-BA49A9A0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4C453B-1440-4A3D-A8CF-9642B2F5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182F35-E361-4400-ADB4-54F3E595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B1BB43-6F72-48DC-81D2-2D670EAE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34853-E313-4D3A-BA51-F7E08C6A358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2417E2-ECC2-4803-8D09-57F00A05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DE228A-E3A4-4A3F-95F0-2611F687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F8155C-6225-40C0-ADA6-8784127A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493C97-EA87-40A1-8E8F-B6AEAA11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B0860A-3AFE-4264-8DB9-9F0BD064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ECF863-3C6D-43E2-A2C8-28D9C123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A06827-D0E7-4540-AD3E-7DFA2D45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01DA20-9406-4F5C-8189-66514B0E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2321A1-E2B5-42E4-BA71-153035E9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67F190-4F97-46AB-B556-9B53AF78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8E86B-3BEB-4DC4-8BA5-8EB2C0FA6D3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EA2046-04E7-4CB1-AC6F-D6EC60DB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1BAD31-D0AA-467C-B42B-6373EF3B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CF1725-2C85-4038-844E-2D395D68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2B287D-3C63-495F-87C6-153DD568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08ACB8-37F9-42B6-BCED-A2ABB5E7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F4C258-973C-465D-8617-D45F24CD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A301B3-A49F-4FDA-9131-1959B094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FF08A6-58AB-4513-97A4-D96CF26C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FB3A31-CC99-456E-954F-FE817FAF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89129E-A738-4671-AECD-78A649AC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3FB41-50CF-4FCC-9903-78ADF4A0C70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89A118-45E9-4DD8-A9DF-FE991D5A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813ABF-27C4-4694-8B3F-BE89F651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E71AE9-9C1A-43CA-B083-6E0EA256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A64453-18F6-4995-B8FF-142EE016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F39370-C3EB-404C-BEF3-42219E52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CBAAE5-98F9-42D2-9793-25DCFF68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6B5C2A-636D-4941-8585-CEB862D5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76D68D-12A4-4EBD-9BDD-065274B8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949FE1-DFD3-48C9-990E-160A3414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AEF67C-0CF1-4BFA-AA6A-8E933E2E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7E468-3469-457D-A9C3-0CF3DFADB98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BC6578-F531-4FD6-A21B-AEF6767B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FF04AD-1883-4709-AA74-DC42BE08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A069AA-0CF7-4BF9-BA92-E503D82E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E24E14-E9B4-48B7-B96B-CD24FE23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3813D3-16D0-4865-B0D3-C7C70409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8F931A-03D1-490C-BE2E-21216792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4D308B-C7BD-4D60-9556-9222104A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700E96-7932-4F22-885B-7D677BFA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23CFB5-8C64-4DB7-8951-DADA15A2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EF135-CDF9-428C-9F85-22E5503F33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2D43A-57CD-4482-8716-0BC67FEC4E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1B298-3A14-4074-999E-2BB679979B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3ED-81EC-4B88-9BA3-5EA86C7A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144BB-6620-4AE7-B8D4-7B47375FAA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98027-1821-4AA6-B131-CE70EEA736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79395-4122-4145-B1FD-903C086D64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9FC54-4AB2-46A2-91CD-ADABB5BC8B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04C7E-D953-492F-83B4-A4F1BA9CB0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1D99-B9C5-4B67-AA9D-329D907E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CFA-605D-4302-B5F2-FD442280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40F99-4252-4723-BF3D-54412EBF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4B7-B093-43AC-A91B-CCDE6C1B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2F52A-7DEB-476C-BD79-2BEF2A27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55107-8E21-442B-8072-A5C0E7E1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6EBEC-3EAF-4080-88CF-09871321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1488B-27B6-4D75-B36F-83ED9F8E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89CA8-A3AA-4304-AB1E-D1561F62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9709C-8A0C-4458-AF6B-1F9CF0D4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D07CA-C79D-4E51-80DD-0FC9BCFD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A64E9-7AF0-46A2-9AC4-F10B9307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F05B4-CD7B-432F-B512-F7139812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6E093-BB32-49D5-AB90-C648C5720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ADF7-1A2C-4EBB-B44A-84E438B4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46D2DF-4275-4A28-94D0-714B8E3D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DB702-CA20-492D-AA22-E94418F5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6DDDB8-02E4-4CD4-8F23-B9BAAA71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81A0E-2C61-4D3D-B140-F3C79463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24F6C-9F80-4D48-96F6-F8F9CDC8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B6FDD-946B-4B72-95BA-E1C5AD72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013A03-627A-49CA-9901-108B7EDB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311FA-7D4A-4588-A088-742A420F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1C14E3-4AB4-45F6-900E-2FDEFDE4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96914-D294-416A-ACD8-23A949A5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236-4838-4811-943F-8146B1F2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F1CF66-A93B-4404-A138-35BA8EBB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C9803-950B-4118-8A14-A53B2024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0C7E9-A57A-40E7-9843-D1EC0456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4EDA21-ACF6-4E5C-B437-FEA776C0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0D7EC-F67F-43D0-8505-157E96B6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9157A-790A-49B6-BE05-A84CA594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96FE4-CA9B-4506-9700-BDFE8B28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462F3-EB02-410F-BD52-D6ABF0E8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34181-3015-491C-BCCF-03CB2FE8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EE2B4-EC87-4EC5-B8DE-C3FAA51D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3E8-6669-4E1C-A773-B5FA4418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BF00C-240A-4312-AD60-7B89659F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22ADF-83F2-4FE9-8C6C-1B7DFCC4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ED4AA0-DC7C-46E3-9A4D-C4757CA0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7EF53-FCA2-488B-96D0-D49E0963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176A3-0E86-4A0F-A574-54D24FB1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CB4E8-EEFC-45B2-8571-23FBA2EE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960A71-A1B9-4420-B965-E6C7F46A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7FA413-72EC-440C-980B-68B4095C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12FDF-EC01-4BB7-BFC0-48EE8723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1BDEEE-DAA0-4369-B757-5F39FD52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A22-FF2E-4105-9EF9-81D2A3C4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66B90-0E52-4839-8558-E54B4653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C4D8F-0729-4A52-9AB4-8BCDC8F8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0D13B-4269-4CAF-8AE0-9EB55AA7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01E51-2CE2-4128-A346-C8BDF8E4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20306-672E-488B-ACC8-EBD08020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FBDA6-A6E1-4469-9E49-D0C6FB1F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511A5-2017-46C2-BE5E-D839067D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E5984-6929-4224-B74F-6D53074D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C0793-6E2C-488C-B4E2-27719861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8306CE-157B-4412-8399-67EE9CBC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41C3-C655-49F0-8627-5D11544519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4A3D-383E-45CE-97FD-540C0D5116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8060-D0EA-4BEB-AA22-E67A3F8436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CA4A-3134-456F-80A7-E3FD7A15A4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EB8D-F78B-42A7-B54F-EBEEB2F411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39D9-1C08-4E7B-A638-ED640B4D0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9649-CF04-4742-87DF-F43363F037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43E7-9476-4E06-9CB0-CBFD0E57B2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4EAE-DB81-4226-970C-62BE2F51C4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BED1-B381-4D6D-A819-5964AC6CF6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7EF3-3CAD-4FD9-B2F9-D06BE7AD36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75C3-5A6E-4496-B3B9-56ED05849B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0-19T14:14:11Z</dcterms:modified>
  <cp:revision>317</cp:revision>
  <dc:subject/>
  <dc:title>Slide 1</dc:title>
</cp:coreProperties>
</file>