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57DB-7DC2-47D1-B66C-6935AC77E2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1B44-1568-4601-AC1B-7C738B2163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5CA-4CDD-4F6C-8B7B-55D1A61A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6DC-D53D-43ED-A26A-609967F5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4587AF-DDD0-43A3-B9A7-6ABB4832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9CE8F5-3FE4-4515-AD97-2CEF499C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68E3E5-8BE5-4BEA-AD9E-64662D02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943FC0-E4F1-4F3F-BA6B-2733E82F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7DAC18-84B2-4275-B26E-B06CC2FC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DF11E7-077E-4365-AD24-C96B08E2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6D0B73-48C9-45D0-9453-135CCDCB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91E9B0-F558-441E-8540-45B95DB1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B09C5-3C8A-481F-BCB1-4EA63469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F9015C-F7FC-4523-9DBE-3996624D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94B-6585-45B4-84B3-5498CCC0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7A0FF9-D051-4272-9EBB-256DF4CD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2A0444-2DDE-438F-B735-DDEB05C2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D2E4C4-6B69-4F5E-A249-64297DAD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EC6D73-CB68-469E-B33D-A0DA25D8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438C47-BAD2-4773-9C6F-22019763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E5B156-4FC5-4D6A-89D1-C714D11F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AD8920-C5AB-46D5-A55E-3F044731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5552A5-2095-4F39-93D4-8E318B7D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CE82A1-C42D-468C-91C3-0573E0F8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D8F96D-23BA-4EA8-B468-F9AE9985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513-6D3D-4B03-AB9F-3B82FE09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A59ED4-1B4C-4078-A89C-E6561165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B6B42C-4968-4F5B-B5E0-F57BB468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AEE4A3-8FA3-4D95-B025-733BFD39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AEF0F6-5DFD-4084-B7BC-CD0D655E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499DD0-9711-42CA-91EF-D66BECEB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71B3AF-6C77-4290-902D-93DB104C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A9D243-916C-4715-BF08-A6C1D7CC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C1680A-9C51-4214-990B-D22C8B04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95DB0B-5741-4309-8556-EFB41510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F298EF-433F-47B1-AF32-ADE28F3D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29202-479F-4454-A56C-6EDDC32FF89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44DA39-568C-46A6-B431-D651F353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674E0C-5760-4D78-8A61-3A12287B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07B70B-7FFC-4971-B730-8D8DD515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6B61B5-82EF-4544-AC48-A7182C03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6959F2-86CD-4E26-8493-F220E238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801AA4-7872-41B6-80E8-70465C62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2F9C7C-2455-45EE-B0CF-1DCB6392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537422-0D6F-4610-B32A-2442944D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4AB945-20FA-46CE-BC84-7EABE15B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4B3466-59D4-44EC-9E4F-D5CB0AC8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DE71B-6FAF-4D81-B899-206F3F85A6A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BF3AAB-2153-4168-A6E5-938ABCA9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9E4A2E-34E6-4DB1-9D99-ADFFB760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9F71E5-4A19-4F82-B7E0-6812D7EF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8DC673-90A3-4C98-8A8D-CA0A4D26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A9EFB1-3221-4B05-BF22-2938E35A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6E4842-408F-4E96-AA51-2B9FC93F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38493A-33E5-4520-9451-65A03364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532139-BDBC-4C04-A621-7BC83379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17D95C-453D-4E93-9B54-4851F6D1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FA7871-E4FA-4F27-A184-B7A54C13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DCF14-16C5-4522-80B8-6D1676EB4AA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9B6D48-4974-4861-99D2-36222690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E7786D-9831-402D-BA82-8C693C66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E085A0-8631-4014-92DB-4B3D5F0C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1F1A4D-F075-4B9C-AD81-EAA722B8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8BCF5F-37DB-4962-9487-B97B0802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D4A11E-1C4D-4D8B-9C30-34C03001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48B9E2-BDB6-4648-B912-723364FD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C23C5D-400F-49B6-BBE2-14132D98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CF18F4-A43B-43D4-A47B-E4F4C138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1747CD-0424-453D-8463-F3BE4E30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B6CC9-3715-4BCB-84F2-DE22347CCC0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D29DF7-73D8-4B77-972E-C0095576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E952BC-278A-4554-9A59-81398702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05792D-BF88-462D-88EB-44D2EE38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46C4DA-65E0-4E96-AB50-54BA1FA9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D35311-6BDA-4E9E-A6CD-A251A61D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38A7CD-D62D-4E87-A605-2F493C3C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F174E0-4FEC-4171-9BF6-53190914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F38A82-F0CE-4E94-A8BC-8EDE69A9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B114E9-0408-49F2-BDDA-375DCDF4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0DB87-AC08-42C6-A06E-FA66AE2097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B8205-8750-4F18-BE73-A7826363B8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90361-253E-41A4-B02E-1E1601F114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611-6B8D-4EE3-92C2-D1E976CD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28592-81AE-4450-8DA5-F4C8F1DB5C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E833F-BAE2-43C4-9E0E-3D15EE0DF7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AC061-6DC3-478E-8995-95849E82D6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9A5DF-B188-411B-BD65-C1AD3365C9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B413B-3A6B-452D-AED1-98958F0D6B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5929-DE00-4EE7-ABF4-2545BA4F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4F7-CDE0-43EB-8DD8-653326B7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7D2AA-D042-421C-9CF0-A1E61B5A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6EE-E3BF-4160-98B6-E886D735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6D4C6-4AF1-47AA-BBCB-321332D9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8AAAA-F7EA-4D02-9CDC-7AAF0921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F777E-ADC9-4ACB-89E4-68599312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865ED-D64A-4DB0-BB9F-7DC56F3A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8D84F-A5E5-423C-BC68-2F605E91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A981B-1040-4451-944B-EE4023A1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33928-94E5-4489-9C94-42EA7B5E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BF257-D014-4776-B311-60104105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2F152-5AF5-47EF-B327-3D1E99CB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B3F32-BD31-47B4-80C8-30B00538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172-94CA-4070-897B-F35661EB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8C520-4F6E-4AF9-A6E1-6849E362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665B6-2DB6-46BA-B841-8C8F9462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42BD87-8B04-40A4-B0E3-139D546D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C9D39B-0C6C-422F-B464-6AC15083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4D1144-BBF0-49B0-9254-78E18AF4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076B50-6703-4595-BA3F-AE1E1CBF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B90980-804F-4C2A-AD01-6AB73832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92C89D-154D-49F6-8457-78F02030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8C7C9-5F5B-4069-8F77-1E37C97F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5667FF-0A94-4513-9078-BCCBCAD3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400-30A4-4C54-AAF5-1E839F9D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496EFC-AE71-4AE9-9CE7-250C609C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FDFBDD-5840-4822-B4D5-C7FC94D6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DDD837-E99E-4F07-BD83-96F4814A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EB7C07-D374-4AFF-B54A-631D8616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9E615-B981-4EC1-B4DF-0B202F05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60ED95-35BD-4909-99D6-0CF32320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E2AFF9-EDA3-4332-BEFA-D3A42CB5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8308CA-A55E-4E26-975B-C5945402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F0FEDC-8F40-4C57-9C0F-926B8CAF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8C3C6-2199-46E9-BFC8-DCCB6953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0FB-158E-45EC-9401-FD3BB34F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B947FB-178B-4664-B7DF-92CC7219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F351F-DB37-44A6-87B4-7F3F363C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A6115-2A3B-459B-A8A7-71FB1323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E407C-8BB6-43F0-8319-589405C6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52953-9254-4859-9C7D-80906DB0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6503F-455E-493A-88DC-27DC5EFB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CE8912-D40E-400C-AB77-3CA15070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1AACDA-1D0F-4818-ACA7-25152878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7D2ADC-5EE5-4585-B46F-EB5A572E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E459D-C3D6-4B6F-9753-1321EBDB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F39-9001-4D94-BCD9-3FCFD166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8F2823-53FD-4681-9D5A-22953842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198D3A-61DD-4E20-9EA8-A7590D21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DA8B4A-FC60-444F-B60D-900F890D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89E8EA-E469-46E6-85AE-5BF51A48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ECA1BD-C5E1-4596-A2D5-57117A4B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00EDAC-F36A-4F65-B3AE-6540AFF3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EB16E-6984-4073-944D-C2B65F12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EEF040-8058-4FCF-9AB2-66333CED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F434B1-7D87-41EC-9310-193804C6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4C45C5-3643-4182-BF50-46192E4A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92FE-062F-418B-BDE9-A45F79F1DD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F9DA-A36A-42E8-9A75-42EFB9F311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CF98-675A-4968-A176-CE0C57A521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BF01-5708-41C2-8685-5B4B2C9058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CBEA-3164-40EF-84F8-289FF6FAFA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6258-CE48-461B-9FC7-8D0687C769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FDFA-CD23-4088-854B-14D455A728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93F6-27C1-4FF3-928B-ED18E14A44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9FD3-D59D-493E-AE36-1F9BE5324F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062C-78D2-4541-9CFE-0E97463185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7869-EE27-4C0C-93B0-871E6AE354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700E-971B-4C56-ACFB-782C141AF2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7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Merger and Acquisition Strateg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rgers, Acquisitions and Takeover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4920" y="12189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merg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two firms agree to integrate their operations on a relatively coequal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si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one firm buys a controlling, or 100% interest, in another firm with the intent of making the acquired firm a subsidiary business within its portfoli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takeov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n unfriendly acquis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Merger and Acquisition Strategi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Very Popular Despite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indicates th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e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earn above normal retur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il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average returns of about zer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urther, in most acquisitions, the stock price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falls after the acquisition is announc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asons for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hieving market power is the primary reas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rizon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ertic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coming barriers to entry (cross-border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duces cost of new product development and increases speed to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ers risk relative to internal develop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reases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hapes the firm’s competitive scop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earning and developing new capabil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roblems in Achieving Succ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gration difficul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dequate evaluation of the targ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bility to achieve syner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ly focused on acquisi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pany becomes too bi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raits of Effective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ssets of the acquired firm are complement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sition is friendl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ring firm does effective due diligence (evaluates the target’s financial health, culture and systems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erged firm maintains low to moderate levels of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w firm emphasizes R&amp;D and innov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is well managed and flexi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structur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Restructu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a firm changes its financial structure or set of busines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izing – cost and/or asset retrench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coping – eliminating business units (divestiture; spinoff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BO – A party (management; private equity firm) takes a company privat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0-19T14:14:11Z</dcterms:modified>
  <cp:revision>317</cp:revision>
  <dc:subject/>
  <dc:title>Slide 1</dc:title>
</cp:coreProperties>
</file>