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CE6E-9DEB-46F9-AACA-70C643A6D001}"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24FC-A4FA-4BF4-84AA-69BF47B01046}"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8BE23-CE13-46CE-BF27-EE456BB0D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CFD12-CFDB-416C-861B-318A1CBB2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0C2AABA-10B9-4513-A4E6-51980304D9C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697CD5C-7808-423F-9CA4-B2BCAB6E7FD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D5A88BE-49E5-46AD-AF6E-CC0AD1653E2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C63FAD3-11FF-4C46-8F96-8A32D2490DE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F78424D-2CB6-4857-8BE6-FD677960377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9864A3B-097E-41DF-89B5-52C17ED52AA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35B0DD7-3055-412C-8084-21C7ABB8F68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D8548CF-653B-4E96-BB7A-2900274ACB9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A64AFE5-1863-4D47-8ECC-5EB7AAC4B75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5482441-C13C-46F6-999C-9E395E2609B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93C81-588B-4B67-A550-57B56032C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01810DA-52CB-4492-A386-02BCC839E63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5AE8964-BD76-4CFB-AEB9-9CF150426BA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6861FD1-B47F-4D12-A181-A54B7EB9310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A25C681-F9E4-4354-90F6-A29B8CC6239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F4AC9AF-D8B8-4603-AA75-67B98078771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94E5B02-8851-48FC-972C-801849FA77A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84F5706-34EB-4617-92CA-3485E153674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6495FF8-1A53-4AEA-9F4F-361BEEA3B67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89AEC16-E806-4401-AC9A-56EED0D660C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1742DC6-480E-49C5-ABCF-4ECCD13FB83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DCD3B-60A8-47A9-87BD-D76F86196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2D22927-E1C9-4346-9550-27AFF1564DA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F3420B4-7332-42A3-B882-3FC1AEA7AF7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9ECD692-AD92-4BF4-99F1-61D365D36BB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05502B1-15F8-4018-A978-56AFB93C2F4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BEC5AEE-94DD-48C3-8450-AECE458D2EF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1656F1D-36E3-4DFC-AAF0-6473E9A98B5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6398E78-6A2B-4064-93C2-55922E24590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2FE08AA-4FFA-48CE-9C75-7764188AD98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1899259-C3FA-48A3-8C69-175988C0DFA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DF230A4-49D5-4BB9-9577-DC5BEEE2131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4B5B33-EF8E-4774-B5D4-E4E52387709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D1A42E1-60EA-431F-8E69-CA5AE55B600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2B630EB-DC40-44F3-80C5-BA042032130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FB0D95A-D4F9-4ECB-94E9-84688802137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0CF518D-C9C3-458D-822F-1424736EED4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1403EA0-E4F9-4FEA-AFA1-C96CE5A15F6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B179418-D63A-4B1E-87D2-A04B2EDD089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F2993E2-B670-4065-AE12-DD5E435E10D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D7E8131-1B0F-4744-B32D-5BFB933F6A3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D5A4593-8DFB-481D-992E-94CDD252B82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FA99670-24EF-44B0-80E6-995896BD083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E81E3B-BBE2-4916-9B60-36B29A6AF80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E048774-182C-4832-B882-EAD840A88F8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0A24BFB-B63C-4AC0-BEEB-C70B2E940FE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197BF4B-EA5E-4906-A97B-D039F527A52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1FE0519-1D0D-4322-850D-F718F451C53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C5FB744-07FC-46CD-8054-1EFF43F9F81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54522B7-053E-4FA5-A887-40648F78043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E8D0738-3095-4CFF-9981-CE851BBBE46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E26F297-021F-47C6-B029-66FE510FDAA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53AA24C-6EA6-44BA-A754-8241943B019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3FC2DFA-6390-4CCA-BD48-0A6EB055A54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802B5E-C20B-4217-B317-2F894810751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61F80A0-8595-409E-9A35-E2E6FD1908F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C3E5683-91DD-470E-AB71-98BE9C614D8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191C9D3-1285-4F53-AC1E-F275D7446A5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D005B1C-C3EB-407C-B262-6B9ADC21F56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8E5DE88-A823-4A6D-8872-26131C47D78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303404E-DAD0-4D5E-B45A-5D1AF1BD30A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A91470F-1144-438E-9C70-2CB5452ACA8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7BB6BCA-088E-4813-84E8-E3F3790BE19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BF3A98F-ABD5-470A-A596-62D45251C63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84D3848-5613-43E5-A60D-CA26EE542E4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B8C90C-295D-418A-9B51-88541386AE7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5C80FBC-1DB5-4A51-B9F9-E70EA154A4C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864CE87-26F3-4500-94B4-8146A1F6320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C560225-983F-476D-9BA0-741DD3494BA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37F0541-A383-4624-8276-855F3045893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A6B9609-D8B5-4AFD-B95E-AA1F398238A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C055C6F-2BEE-4620-B81F-0E9A4D309B5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2B58238-37FE-4487-A912-0A103B5C7A2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08EFF8D-66C1-43D1-9139-D765FF944C5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BA5A9D1-9D82-4880-BC3B-1E48282FA1C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B8FED0-1633-4C1A-B68C-D648D5F81DE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D8D9EA-CF2A-492D-A080-53477C68969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6407F1-B1D0-4BC8-97BE-8417F46ED5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B7704-0F74-4EE6-B3BF-83C42CE62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A1F65C-804C-4E3B-BCAA-DFAE5B2993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12EF54-B273-4463-BC24-0452F7D6B5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3DF76E-077A-4131-B173-A724BBB6D1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57D37F-5521-4832-861E-895E62A443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BA4561-8A30-4D41-A2A8-7D1834A5F36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CFC13-A863-4209-9BF8-2E8D2CAA8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E93BA-07BD-45CA-A448-873E86554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37A4CF7-19DF-41D1-A8E2-468F511DFB3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3394F-6DFD-4999-9F01-EDB82E2E0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5F058B-593D-432A-9F8A-A62E2C0FB9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793D134-6C3C-4D53-9054-A9B686F5B0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2FC288-5A1C-4378-895D-D142A9B425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CBA9860-3906-482F-A337-F1E49AD157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BB0908-204C-4C96-922C-D0FD7ACAEE6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47F672-19E1-443A-BCC4-AA64AFB37E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89D680-406B-4215-95B3-C9C94EFFF9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B5ADA3-5D83-4E82-A9B8-9B44DD862E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CE6E29-C281-4BBD-811E-E7B9B31D03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E622CA5-FD42-40CC-980E-AB5506CA667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34E9F-0101-4886-9DEE-DD11E2991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BBBCFBC-5DB0-4E53-A070-D08BADF29FC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A9A4DB6-7297-4FBF-BB6D-70CAA47CCE0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959E90-0823-45EE-B894-EEE783D2F5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F3F45A9-EFEC-4213-8ECD-6896F888F1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6FC0331-13F0-4A49-990E-334752501D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3C9422-E21F-460B-AF39-ACB063AA0E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307B0F4-1D42-4DDE-9A89-1136E1E772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D59A65-F08F-4BF1-A1DE-FB170C850C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2BA35D-1597-4554-BB24-65596B3619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17D8EA-95BF-4B85-8AAA-B05655DB75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B4547-4677-4C7A-9839-8B2F7A4CA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63B370-A7B3-415B-8493-FD17A3059C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8925E5D-F33E-4F93-A0C7-35C514EB38D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098F22D-8B27-47E2-A088-B57B8EEC605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68D2614-52D3-461A-B996-87BA2C0BAB8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ABA477B-0408-4289-A9BE-A72CC919201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3FAC780-42E5-46E0-A723-1CC617148DC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88FD46F-09F2-4D77-B9B3-FA99DFD8865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4ADA763-9341-4CFE-88BD-B9A04C6DD7B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8B56779-F64C-4CAE-AD9A-42A06F5D5B8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711C499-4FAF-4742-935B-D0AF064A565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FADFF-CA26-4D95-9E30-BD466D538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7714BE6-D873-4903-A72E-1416752E767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A86B103-20DC-4271-9A75-4C0A8A3036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3D30845-165C-4237-BF2E-5CD3A38399B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65F02BF-3BCE-4907-A1D0-69F656FB3E8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18B66D1-3C72-4740-9322-07B0D4B5756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45D953E-8971-44D4-A550-F93EC60E704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2EEF63F-3C59-45D4-98AB-62F9E494CD5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7316CAA-8920-4661-9E55-65F67A2A119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DDA6526-B0C7-4D0D-A99D-354E2FFC15B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0E6BF43-83B5-4D5B-A5DD-85432881F8E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532DE-E04C-425B-B913-06D7B23C0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2C62C1C-F93D-4B59-9C65-A34622ED416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AB26D22-EA1B-4D53-AA39-75D5C1A9269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DB036A-13C0-4B0C-AC2E-DF2558DD4DB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69AE68B-35F9-4646-B8B7-E914BDB42FC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390FCB5-8CF8-4E4E-88CA-E9210949229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06F7BC7-767E-48A2-BE57-5CEF629A229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B27E55D-763C-43ED-BA06-406FCDFD208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16BBEBE-BE82-4BEF-8A63-AEDE3CB4258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9AE5FE7-443B-4177-B9E8-9751C2BE476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2E174FD-0439-4388-AB95-230AAEC878AF}"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613D-DA5D-4B7A-8A58-F6F093DAF5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EE74-E410-4D37-9EB1-A4136E05A4B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1E1F-81F8-4F2A-A46D-1B29BB2E698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2D99-9B9B-4EAD-AD56-03A5CF7A016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43E1-BA10-4F9E-BD4F-8CDF57FA9F0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BD36-5776-4686-B726-F864E17E7DA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619A-6D8C-462B-AAA2-56136AA72E4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BBA1-6131-4341-9BA1-CF3A034A298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5BFF-AE2A-47AE-9686-296E56D273C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422A-89A4-4363-B4D8-EA2CEBAA92A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9D08-2DE3-48EC-8C86-9596D6EE046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6A36-8D8B-4193-9FBC-111EE4DFF94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292961DA-0347-4B27-9070-9CE18115D1BD}"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819F4EF7-BFA9-464E-8D45-693A46969A76}"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8-10-17T14:23:48Z</dcterms:modified>
  <cp:revision>322</cp:revision>
  <dc:subject/>
  <dc:title>Slide 1</dc:title>
</cp:coreProperties>
</file>