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049DA-96CE-4F0B-8F5D-7DD44C7D9C53}" type="datetime">
              <a:rPr b="0" lang="en-US" sz="1200" spc="-1" strike="noStrike">
                <a:solidFill>
                  <a:srgbClr val="000000"/>
                </a:solidFill>
                <a:latin typeface="Times New Roman"/>
                <a:ea typeface="Geneva"/>
              </a:rPr>
              <a:t>07/28/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79C0B-D3E5-4B6D-B69F-1F76E7BBC259}"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C6970-820C-4D30-ACB8-35EDF8721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9DEDB-5E13-457A-AD1D-FD98173D8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1364695-A6FC-4DEE-8F18-E186FE1A5C2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159FF9F-1A48-4F05-948D-0B9A44D372D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CA13D34-AE5A-493D-BC0A-72BDE11C9F8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8CCE015-80B8-4E66-9C0A-AC3ABEA37E1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AE56C83-7FDD-449D-9B9D-391B3FDEBB9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D40BF4E-CEFB-4824-9AE2-7A1619CA399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6D79382-0E22-4D88-8572-60535811AF0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973BFB2A-D161-49F1-804C-BF40BF066B5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0A2AC43-5CE7-4558-8BBA-00EB4EDA3247}"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2D9EA20-6817-4CCB-AACE-7323940B185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B50C40-6865-48AB-B4E7-6F4FC39CFC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3761D24-C40A-47C6-B514-51BDB822EFD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58C4502-5960-41F8-8A28-C6DBA39A3C3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B9F4902-FE39-473E-99F7-32A5754FFA2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1317786-A51B-4460-AD70-DFD4BD1156E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44EBA2A-6379-47DF-A6C2-4776F2C23DC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B3D6C61-F5AA-4D41-BEAB-D682F9BA1B0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C3F4940-BFA9-4FE5-B402-6B58F03D963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DD57EE0-7A28-4AC0-B818-03FEDEB00B9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8D6BAF0-6678-443E-9B71-73FD713A82A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C1C31602-D4D3-465C-B429-7B20DFBB1CC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60BA3-BA96-4DE4-9DB4-D0DDB12055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E447BDB-7458-43E9-945A-EF1A9919A824}"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AF73C8C-B658-4846-8920-B2C336B681F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7A13596-D2A8-48C6-A5FA-9DFF982CEE3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F1B7EF7-94DA-4071-9688-7B0B2D7DADD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610B29E-69C9-4D83-8E11-3097421AA45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9D3E70E-40FE-4B23-9639-0D4EA5AF686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C3C511A-9372-499C-B722-D1923ED755B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6C90DC9-18F4-4954-B5E7-939B9ED72DB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4F6DD50-619B-4733-B41C-A4357F00D76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A979EED-8A0F-4BAD-9167-A94768C3890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EE0FE4-9C5C-43CC-93A3-8B86A94EABA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0EC924C-3851-4D88-94B7-04F9B6FB5FE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BB77A05-4C0A-49F1-930C-8022B5ED7D8B}"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A3C918E-3463-4387-868D-508E76DDF1CE}"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4820E18D-4AE6-40E9-B5F6-B29735A06C1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0FC0BBC-EC93-4B4C-B841-6CB5CA78659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4F166F6-C79C-4017-96EC-F21CD0D83E0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17763A0-DC2C-4DCE-B8B6-93282C7CA5B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0CFADF5-DD45-451B-9B9A-6595F3BB886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907263B-4B1B-4CC3-9C00-AB471F5D3B5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E7978D3-FC88-4BDA-9A1F-C512224CE17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82F56A-B88C-4B6F-8394-447FCB00739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D414D06-B013-49F3-9519-138D506500B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B63F2F4-036B-49F5-87FC-2F80158CDA7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48A8DEB-9B95-42F7-B719-F7DE29781CA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A6E40666-5D36-4C2D-9D50-5942FE493D08}"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FD6B58FC-2A78-48E7-A46E-7154913F08B8}"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6E23D3E1-B0A5-456D-94EE-4464328725E3}"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608C362-0108-4610-917F-C83C780C530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7112CD6-6280-4C3E-B1AE-480B6AAD9C8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2F92259-4656-49A7-8786-A4FFE5642B8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1D4F32F-75E1-4EE4-864F-B7DCAB46E32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76D588-8416-4A20-B736-AFA8F89547C4}"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E5CACE3-157E-49E7-9CA9-629AC41A6C5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7A84215-3B2B-40E4-A225-5BC2B1F57F3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4105AB9-1E53-4424-908D-53C0FB7974E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B974FF6-FF84-4D26-B745-9B24DE8A475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1BC9CFA-E9D8-44B3-8F9B-407E69D8AAE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70A6CFE2-FA54-4AB7-B06E-243C7390B8AE}"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5CB7F4A4-93D5-46F4-A13F-26935138494A}"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16B19628-3E54-44AD-AA23-00D1DFC6C227}"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84BF604-6159-4B58-B0F8-EB23C34EECF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183F58E-3683-4EBD-9415-0F5BCB71BBB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8202D1-187B-4132-8E5A-925F4C867407}"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7F65FE2F-BE79-4FF7-A055-C07317D3AED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C1B35CD-21C9-4364-9E53-B1A8FACAD58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0B2841A-EA89-4629-B262-D7B1673D82E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EE6BFC3-65A3-4426-A8D7-6BCA56F91F8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5F01FDF-DF79-4E47-8873-38978CD5F62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4C56B20-6D2A-420F-AD0F-2BCADA91363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53E8947-AD45-48EA-8E30-3C2D8A5517D7}"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D732B748-9D75-4397-8F48-F75C035175B1}"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8AFFE876-E1E6-470A-A4E9-A6DF7F8F3A38}"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2EC7C7-2090-4C76-8A98-0644C0DB41B1}"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DA0462-E891-491B-AD7A-03862174087A}"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A78737-2617-4461-98BC-30D96070F8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F843C-6582-4AD4-A10A-DD3B106D1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94F570-1E4B-465B-91B9-1D792428E8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D5658D-E73B-43FA-BC24-012F7CA530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588AEA-B051-44ED-8676-9C03F470DC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3272FB-BB8B-4C3E-9CFD-0F8E40D31D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D7BFC3-C5AA-4207-89F9-600736A62AD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57CCF-A540-4B41-9C1C-447EB578D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2CD88-F551-4AEE-BB37-CFF27B6FE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E7C2760-88E7-4673-96FC-48929F539A6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49BD9-3F24-45C7-8273-F093AED8E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0A1F52A-98AD-477F-8B04-6321CC5F013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206FD1A-8987-4EA7-AF76-1C85BA79EA1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DFBCD9F-2E29-4EA1-A426-19DC72436F4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642953E-8521-47A8-A136-14676F987D6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6225640-1492-4DA6-BE56-8347D8D95AB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69CFE2E-0F8F-477B-8376-BD4DF65D797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CCF9743-04BC-41CA-94A5-9D2706835DD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70E4285-3F5F-40ED-B696-EC95E1882B8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7CC7656-F077-49C0-886E-741FBFA5EC5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3012C69-3534-42CC-9C36-5476F839B4D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3AC2F-1D48-47EC-BA88-237199EA0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9DEA293-F53B-4AFB-8C1E-738570C8CF0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A85CAA3-55B6-42E9-8BF2-413D3FD04EE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D31F60A-39A1-4180-8434-51BED296A3D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6F5C26D-6968-4D43-9CE6-17C99E88146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43AA420-AF14-41B6-BC21-78B6303FFA8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AC0BAE9-B785-4AF4-BAB4-0FA747B6CA3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4451D0B-C1C2-433E-9B8F-8EB17274EB9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BA5C70C-9BAF-4013-BF45-04F9866C7DC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81E198A-F3A7-498E-A905-C98B16E8FF6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F045620-4CE1-4EC8-926B-4E4E2C771B0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60DAA-99AD-48CD-AB11-C0DB4B05B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F76E5C8-C858-4E76-AC35-ABA96B326CF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B7A73F8-EC6E-4B19-8C91-48B06CD6ED2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92A8ACA-B945-43D4-92A2-470A24FF559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6B0493B-452E-41A7-B572-0FBDB0980E0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673E3C1-4C5D-4E2C-8E38-4F6AF4A4E4C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43A38A8-B2D2-4F04-AA65-D2FB86E04AE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19A147A-B6B6-40BE-B754-B68E041989A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B121307-E787-4ACD-9623-E99D22E5FF6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28A41DB-C884-413F-B027-D615C6D38DC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53F57A5-481B-4B58-A59A-36A38AA86A7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3945C-6C6F-4CC8-B442-F2D9F4BF1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D684D8A-DE08-4ED4-BAB0-15DA0579FF0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8D25639-E3AC-4433-8D41-9A2673B9A45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5707CA0-B793-4AED-A503-416D8E862EA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D7C5B51-C56A-49C8-A64C-B35667428AD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7027249-C0C0-4634-BBDE-9BE7F93A585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8A8CD89-051A-4548-9D9E-74C910C432E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BC987D2-8677-4D45-80B0-346E1C6FF77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64E3BC8-9B27-40EA-A6EC-DF2F04F895B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B1898BB-589E-48C6-82CD-19AAAE42573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24F1411-F748-49F8-8F94-B496FBE8260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F2709-927C-4342-B8AD-3C9C26B82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AB7FAD8-C3D1-437A-8127-66B45D8EB27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95E436D-E93B-46A7-87F8-3F76D32734F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064480C-1D96-4F4A-9388-ABC78929A29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94DD19D-739C-4E45-A775-DC3055C1739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5EBAF33-4CEF-4D28-B997-5FBE581B0FB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3E3C935-1A3D-4B6B-ADA2-888983BE4370}"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5CBEE01-6AF1-40BD-B072-1BFBAAF17A4D}"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CA5053E2-2310-4765-B176-BE0B31DE556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1E428FB-93FB-4972-88EF-972AE4F9684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35EB736-EE6D-4154-9115-CFDA5012A82D}"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067F8-3D0F-4410-A7E2-1A5667660ED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5E446-30E1-4920-BD2A-769B7978C21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0E225-9D7C-4708-BF31-8E414F71652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E179A-450C-44B7-B91C-15BEC2955C7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773EB-DB9F-4BE7-BC58-5561D932BBA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85F66-D3B4-45F6-B753-55CEC33A941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342FB-4523-44CC-BF5A-A77E85AF1AE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F89E8-D1A3-42EC-808C-CD4C85331AC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2BD98-623C-48F5-B1D6-A608815BF77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096D5-83E9-46BA-9CBB-289453CBF4E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A47F8-A3C9-44FB-AAF1-078782790F4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7274A-AF2D-456F-91D2-8D5B26F70D7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Vertical Integration </a:t>
            </a:r>
            <a:endParaRPr b="0" lang="en-US" sz="3200" spc="-1" strike="noStrike">
              <a:solidFill>
                <a:srgbClr val="595959"/>
              </a:solidFill>
              <a:latin typeface="News Gothic MT"/>
            </a:endParaRPr>
          </a:p>
          <a:p>
            <a:pPr marL="349200" indent="-349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within Diversified Firm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Firms may use one of three “forms” of organization to manage economic exchanges.</a:t>
            </a:r>
            <a:endParaRPr b="1" lang="en-US" sz="3200" spc="-1" strike="noStrike">
              <a:solidFill>
                <a:srgbClr val="ff0000"/>
              </a:solidFill>
              <a:latin typeface="News Gothic MT"/>
            </a:endParaRPr>
          </a:p>
        </p:txBody>
      </p:sp>
      <p:sp>
        <p:nvSpPr>
          <p:cNvPr id="662" name=""/>
          <p:cNvSpPr txBox="1"/>
          <p:nvPr/>
        </p:nvSpPr>
        <p:spPr>
          <a:xfrm>
            <a:off x="549000" y="1905120"/>
            <a:ext cx="8042040" cy="441936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Market (e.g. trading)</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Intermediate (strategic allianc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Hierarchical (acquisition)</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What is a strategic alliance?</a:t>
            </a:r>
            <a:endParaRPr b="1" lang="en-US" sz="3200" spc="-1" strike="noStrike">
              <a:solidFill>
                <a:srgbClr val="ff0000"/>
              </a:solidFill>
              <a:latin typeface="News Gothic MT"/>
            </a:endParaRPr>
          </a:p>
        </p:txBody>
      </p:sp>
      <p:sp>
        <p:nvSpPr>
          <p:cNvPr id="66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A strategic alliance exists when two or more organizations cooperate in the development, manufacture or sale of products or servic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Strategic alliances can be used for either business or corporate level reason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80880" y="107640"/>
            <a:ext cx="838224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0000"/>
                </a:solidFill>
                <a:latin typeface="News Gothic MT"/>
              </a:rPr>
              <a:t>What are some types of strategic alliances?</a:t>
            </a:r>
            <a:endParaRPr b="1" lang="en-US" sz="31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supply agree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distribution agree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joint ventures (cooperativ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228240"/>
            <a:ext cx="8042040" cy="11430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i="1" lang="en-US" sz="3600" spc="-1" strike="noStrike">
                <a:solidFill>
                  <a:srgbClr val="ff0000"/>
                </a:solidFill>
                <a:latin typeface="News Gothic MT"/>
                <a:ea typeface="Times New Roman"/>
              </a:rPr>
              <a:t>What is corporate diversification?</a:t>
            </a:r>
            <a:endParaRPr b="1" lang="en-US" sz="3600" spc="-1" strike="noStrike">
              <a:solidFill>
                <a:srgbClr val="ff0000"/>
              </a:solidFill>
              <a:latin typeface="News Gothic MT"/>
            </a:endParaRPr>
          </a:p>
        </p:txBody>
      </p:sp>
      <p:sp>
        <p:nvSpPr>
          <p:cNvPr id="643" name=""/>
          <p:cNvSpPr txBox="1"/>
          <p:nvPr/>
        </p:nvSpPr>
        <p:spPr>
          <a:xfrm>
            <a:off x="533160" y="1752480"/>
            <a:ext cx="8001000" cy="4143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Bringing more than one business within the boundaries of the firm.</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Remember, diversification  may be horizontal or vertical.</a:t>
            </a:r>
            <a:endParaRPr b="0" lang="en-US" sz="28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A7CF261E-3243-407B-B65E-7FFE35C8C627}"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12" dur="500"/>
                                        <p:tgtEl>
                                          <p:spTgt spid="6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i="1" lang="en-US" sz="3600" spc="-1" strike="noStrike">
                <a:solidFill>
                  <a:srgbClr val="ff0000"/>
                </a:solidFill>
                <a:latin typeface="News Gothic MT"/>
              </a:rPr>
              <a:t>What is trading?</a:t>
            </a:r>
            <a:endParaRPr b="1" lang="en-US" sz="3600" spc="-1" strike="noStrike">
              <a:solidFill>
                <a:srgbClr val="ff0000"/>
              </a:solidFill>
              <a:latin typeface="News Gothic MT"/>
            </a:endParaRPr>
          </a:p>
        </p:txBody>
      </p:sp>
      <p:sp>
        <p:nvSpPr>
          <p:cNvPr id="647" name="PlaceHolder 2"/>
          <p:cNvSpPr>
            <a:spLocks noGrp="1"/>
          </p:cNvSpPr>
          <p:nvPr>
            <p:ph/>
          </p:nvPr>
        </p:nvSpPr>
        <p:spPr>
          <a:xfrm>
            <a:off x="761760" y="1752120"/>
            <a:ext cx="7924680" cy="4295880"/>
          </a:xfrm>
          <a:prstGeom prst="rect">
            <a:avLst/>
          </a:prstGeom>
          <a:noFill/>
          <a:ln w="0">
            <a:noFill/>
          </a:ln>
        </p:spPr>
        <p:txBody>
          <a:bodyPr anchor="t">
            <a:normAutofit fontScale="99000"/>
          </a:bodyPr>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Dealing with customers and suppliers.</a:t>
            </a:r>
            <a:endParaRPr b="0" lang="en-US" sz="2800" spc="-1" strike="noStrike">
              <a:solidFill>
                <a:srgbClr val="595959"/>
              </a:solidFill>
              <a:latin typeface="News Gothic MT"/>
            </a:endParaRPr>
          </a:p>
          <a:p>
            <a:pPr marL="3456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Although trading creates value, it is also costly. </a:t>
            </a:r>
            <a:endParaRPr b="0" lang="en-US" sz="2800" spc="-1" strike="noStrike">
              <a:solidFill>
                <a:srgbClr val="595959"/>
              </a:solidFill>
              <a:latin typeface="News Gothic MT"/>
            </a:endParaRPr>
          </a:p>
          <a:p>
            <a:pPr marL="3456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se costs are called transaction costs.</a:t>
            </a:r>
            <a:endParaRPr b="0" lang="en-US" sz="2800" spc="-1" strike="noStrike">
              <a:solidFill>
                <a:srgbClr val="595959"/>
              </a:solidFill>
              <a:latin typeface="News Gothic MT"/>
            </a:endParaRPr>
          </a:p>
          <a:p>
            <a:pPr marL="34560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ea typeface="Geneva"/>
              </a:rPr>
              <a:t> </a:t>
            </a:r>
            <a:endParaRPr b="0" lang="en-US" sz="28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82AA944F-3617-4F1B-9588-6876D1E15127}"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647">
                                            <p:txEl>
                                              <p:pRg st="0" end="0"/>
                                            </p:txEl>
                                          </p:spTgt>
                                        </p:tgtEl>
                                        <p:attrNameLst>
                                          <p:attrName>style.visibility</p:attrName>
                                        </p:attrNameLst>
                                      </p:cBhvr>
                                      <p:to>
                                        <p:strVal val="visible"/>
                                      </p:to>
                                    </p:set>
                                    <p:animEffect filter="barn(inHorizontal)" transition="in">
                                      <p:cBhvr additive="repl">
                                        <p:cTn id="19" dur="500"/>
                                        <p:tgtEl>
                                          <p:spTgt spid="647">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6" presetSubtype="26">
                                  <p:stCondLst>
                                    <p:cond delay="0"/>
                                  </p:stCondLst>
                                  <p:childTnLst>
                                    <p:set>
                                      <p:cBhvr>
                                        <p:cTn id="23" dur="1" fill="hold">
                                          <p:stCondLst>
                                            <p:cond delay="0"/>
                                          </p:stCondLst>
                                        </p:cTn>
                                        <p:tgtEl>
                                          <p:spTgt spid="647">
                                            <p:txEl>
                                              <p:pRg st="2" end="2"/>
                                            </p:txEl>
                                          </p:spTgt>
                                        </p:tgtEl>
                                        <p:attrNameLst>
                                          <p:attrName>style.visibility</p:attrName>
                                        </p:attrNameLst>
                                      </p:cBhvr>
                                      <p:to>
                                        <p:strVal val="visible"/>
                                      </p:to>
                                    </p:set>
                                    <p:animEffect filter="barn(inHorizontal)" transition="in">
                                      <p:cBhvr additive="repl">
                                        <p:cTn id="24" dur="500"/>
                                        <p:tgtEl>
                                          <p:spTgt spid="647">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4" end="4"/>
                                            </p:txEl>
                                          </p:spTgt>
                                        </p:tgtEl>
                                        <p:attrNameLst>
                                          <p:attrName>style.visibility</p:attrName>
                                        </p:attrNameLst>
                                      </p:cBhvr>
                                      <p:to>
                                        <p:strVal val="visible"/>
                                      </p:to>
                                    </p:set>
                                    <p:animEffect filter="barn(inHorizontal)" transition="in">
                                      <p:cBhvr additive="repl">
                                        <p:cTn id="29" dur="500"/>
                                        <p:tgtEl>
                                          <p:spTgt spid="647">
                                            <p:txEl>
                                              <p:pRg st="4" end="4"/>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647">
                                            <p:txEl>
                                              <p:pRg st="5" end="5"/>
                                            </p:txEl>
                                          </p:spTgt>
                                        </p:tgtEl>
                                        <p:attrNameLst>
                                          <p:attrName>style.visibility</p:attrName>
                                        </p:attrNameLst>
                                      </p:cBhvr>
                                      <p:to>
                                        <p:strVal val="visible"/>
                                      </p:to>
                                    </p:set>
                                    <p:animEffect filter="barn(inHorizontal)" transition="in">
                                      <p:cBhvr additive="repl">
                                        <p:cTn id="34" dur="500"/>
                                        <p:tgtEl>
                                          <p:spTgt spid="6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are transaction costs?</a:t>
            </a:r>
            <a:endParaRPr b="1" lang="en-US" sz="3600" spc="-1" strike="noStrike">
              <a:solidFill>
                <a:srgbClr val="ff0000"/>
              </a:solidFill>
              <a:latin typeface="News Gothic MT"/>
            </a:endParaRPr>
          </a:p>
        </p:txBody>
      </p:sp>
      <p:sp>
        <p:nvSpPr>
          <p:cNvPr id="65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ransaction costs are the costs of time, effort and other resources necessary to search out, negotiate, and conclude an exchange.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ransaction costs reduce our ability to gain from trades.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Despite strong incentives to cooperate in order to gain from trading, there may also be strong incentives to cheat. </a:t>
            </a:r>
            <a:endParaRPr b="1" lang="en-US" sz="3200" spc="-1" strike="noStrike">
              <a:solidFill>
                <a:srgbClr val="ff0000"/>
              </a:solidFill>
              <a:latin typeface="News Gothic MT"/>
            </a:endParaRPr>
          </a:p>
        </p:txBody>
      </p:sp>
      <p:sp>
        <p:nvSpPr>
          <p:cNvPr id="652" name=""/>
          <p:cNvSpPr txBox="1"/>
          <p:nvPr/>
        </p:nvSpPr>
        <p:spPr>
          <a:xfrm>
            <a:off x="549000" y="1828440"/>
            <a:ext cx="8042040" cy="4419720"/>
          </a:xfrm>
          <a:prstGeom prst="rect">
            <a:avLst/>
          </a:prstGeom>
          <a:noFill/>
          <a:ln w="0">
            <a:noFill/>
          </a:ln>
        </p:spPr>
        <p:txBody>
          <a:bodyPr anchor="t">
            <a:normAutofit/>
          </a:bodyPr>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News Gothic MT"/>
              </a:rPr>
              <a:t>Opportunism</a:t>
            </a:r>
            <a:r>
              <a:rPr b="0" lang="en-US" sz="2800" spc="-1" strike="noStrike">
                <a:solidFill>
                  <a:srgbClr val="ff0000"/>
                </a:solidFill>
                <a:latin typeface="News Gothic MT"/>
              </a:rPr>
              <a:t> exists whenever there is an occasion to cheat.</a:t>
            </a: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News Gothic MT"/>
              </a:rPr>
              <a:t>Governance mechanisms</a:t>
            </a:r>
            <a:r>
              <a:rPr b="0" lang="en-US" sz="2800" spc="-1" strike="noStrike">
                <a:solidFill>
                  <a:srgbClr val="ff0000"/>
                </a:solidFill>
                <a:latin typeface="News Gothic MT"/>
              </a:rPr>
              <a:t> (which are also costly) are put in place to minimize the threat of opportunism. </a:t>
            </a: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us, firms must seek to simultaneously minimize the costs of governance and the threat of opportunism.</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What two primary characteristics of an exchange determine the threat of opportunism?</a:t>
            </a:r>
            <a:endParaRPr b="1" lang="en-US" sz="32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level of transaction specific invest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level of uncertainty and complexity in the exchange.</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80880" y="108000"/>
            <a:ext cx="8382240" cy="1339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are two types or forms of vertical integration?</a:t>
            </a:r>
            <a:endParaRPr b="1" lang="en-US" sz="3600" spc="-1" strike="noStrike">
              <a:solidFill>
                <a:srgbClr val="ff0000"/>
              </a:solidFill>
              <a:latin typeface="News Gothic MT"/>
            </a:endParaRPr>
          </a:p>
        </p:txBody>
      </p:sp>
      <p:sp>
        <p:nvSpPr>
          <p:cNvPr id="65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News Gothic MT"/>
              </a:rPr>
              <a:t>Forward Vertical Integration</a:t>
            </a:r>
            <a:endParaRPr b="0" lang="en-US" sz="32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News Gothic MT"/>
              </a:rPr>
              <a:t>Backward Vertical Integration </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form” will a transaction take?</a:t>
            </a:r>
            <a:endParaRPr b="1" lang="en-US" sz="3600" spc="-1" strike="noStrike">
              <a:solidFill>
                <a:srgbClr val="ff0000"/>
              </a:solidFill>
              <a:latin typeface="News Gothic MT"/>
            </a:endParaRPr>
          </a:p>
        </p:txBody>
      </p:sp>
      <p:sp>
        <p:nvSpPr>
          <p:cNvPr id="658" name=""/>
          <p:cNvSpPr txBox="1"/>
          <p:nvPr/>
        </p:nvSpPr>
        <p:spPr>
          <a:xfrm>
            <a:off x="228240" y="1599840"/>
            <a:ext cx="85345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form of a transaction will be one that minimizes transaction cos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118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Consider the need to trade for housing and food.</a:t>
            </a:r>
            <a:endParaRPr b="1" lang="en-US" sz="3600" spc="-1" strike="noStrike">
              <a:solidFill>
                <a:srgbClr val="ff0000"/>
              </a:solidFill>
              <a:latin typeface="News Gothic MT"/>
            </a:endParaRPr>
          </a:p>
        </p:txBody>
      </p:sp>
      <p:sp>
        <p:nvSpPr>
          <p:cNvPr id="660" name=""/>
          <p:cNvSpPr txBox="1"/>
          <p:nvPr/>
        </p:nvSpPr>
        <p:spPr>
          <a:xfrm>
            <a:off x="549000" y="1676520"/>
            <a:ext cx="8042040" cy="441936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Why do most people own their homes but do not own a grocery store?</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18-10-17T14:23:48Z</dcterms:modified>
  <cp:revision>322</cp:revision>
  <dc:subject/>
  <dc:title>Slide 1</dc:title>
</cp:coreProperties>
</file>