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7"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0CBFF-4E7D-4CDC-9DE5-F4621ECF5BB8}" type="datetime">
              <a:rPr b="0" lang="en-US" sz="1200" spc="-1" strike="noStrike">
                <a:solidFill>
                  <a:srgbClr val="000000"/>
                </a:solidFill>
                <a:latin typeface="Times New Roman"/>
                <a:ea typeface="Geneva"/>
              </a:rPr>
              <a:t>07/31/26</a:t>
            </a:fld>
            <a:endParaRPr b="0" lang="en-US" sz="1200" spc="-1" strike="noStrike">
              <a:solidFill>
                <a:srgbClr val="000000"/>
              </a:solidFill>
              <a:latin typeface="Times New Roman"/>
            </a:endParaRPr>
          </a:p>
        </p:txBody>
      </p:sp>
      <p:sp>
        <p:nvSpPr>
          <p:cNvPr id="5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5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00"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1"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E2C6A-DF64-469D-AF0D-DB61D716831F}"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3660D9-708B-4E39-A91D-ACB6BD9F9C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46274-6A2C-4784-B692-8B51E5E5E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F672CFE-AC23-4440-8ADA-512505A055E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DF3534E-0A74-4E59-95D2-BC9FBEE0874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907D2E4-0918-4F90-A387-7C25D34BE36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181A86E-F4F3-4981-ABAF-C3FD843E1E9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E3DE6FA-C296-44DC-8AF3-3A4E212D251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A7FE1A5-9E9F-4E6C-9B1B-2600D91B3D6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7CA1369-D56A-4C1E-B7BC-F71BF4A9C6D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957D46F-2DC7-4D28-B03C-2C56B3A55EA4}"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3EBD4729-D30A-4B55-A613-650EB888F70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B05F247-701B-4EDC-9714-B49A73635A2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8E37A-8CA7-4869-818E-6BF858297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91EBAC1-3B75-48F0-B640-FC38A09DE55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877E9B5-7C20-4329-ACA7-D3020055971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C561D4C-0AC7-456D-9877-301A9AADD25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1DCB806-4C78-4B36-978E-39E83C339E2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BD9FBB3-A3B0-43DE-AA12-5E601180FA5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791B242-DD03-4178-896D-A6D2A4831B4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7C18757-71E8-4C41-9D9C-8CC32BFF003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BCAADEF-D5E6-4672-8A87-8021092813E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54B8927-0A3C-4E70-B68D-C70D5C3BDC8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F469D98-2C86-4F00-B209-5BD07EBF404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CB1206-9D9A-432B-971A-48EAFF14C3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9024C3F-4EED-473A-AF5C-97728FE05EB5}"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535A709-84D5-4FBD-B24E-A23D7B4BCE6F}"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16F7DDD-F087-4CB3-83FB-41B5768CC6A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A3CF6A1-6A06-4BAF-A0C1-1794F982E0B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D611691-9035-4CF3-9A06-C41547F3354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9C6504B-FB78-4FD7-8EDB-7CCD354F5B8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45EFF0F-6729-461C-A634-C72370F6066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3ACFB4D-AA4B-4B88-8413-DA2FEB7F6C7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228E66C-2536-4E1D-BB6C-A478938166E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B2EC1C2-4929-472F-8AE5-EFD2045B058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FF45C6-CA3C-49ED-A222-157B1F9F2FA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CB51B61-8D10-434B-A7AE-C069C463580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3EEC60F-A6E2-466D-87ED-8D3FFCBEF85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588AA4C-5C2F-48C9-AB56-A2AC05533937}"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B59ABA00-C9F2-4289-81A2-19905EDC3B7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6164EB9-000D-4F4C-9B83-D11AE841475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DE72471-9354-4D2E-BEDC-75510A3EF8E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92AAED4-69B9-4CFB-BA76-148EA9FFDF4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80BE578-589B-4187-8893-6C91D0AAD23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FC7983B-B1BD-4503-B38D-0F7F049CB42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3B09C17-4131-418B-8308-1D00ED1EE62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205186-A1B5-4A26-80BC-D23EDB44255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4ED5E08-B507-4FCF-A378-3A988394D45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C5B328C-C09A-442F-8323-C0BB0FB8BED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18FA192-6F33-4113-BFF3-B656248C74F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2E285ECC-2AA9-4BB0-B63C-AC0BFBF140FC}"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28721484-1D67-4C86-915A-F16EE6958830}"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349B8700-8DAD-461A-917C-106DB49ED12F}"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2D5FA12-611F-4DE4-AAD4-69C8DE6BD54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A29C8B4-A0CF-4255-8344-F9668BA39CA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939B9CD-18D7-4431-B5C7-0B5D97DDFC6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F7421E6-AFD0-4EF3-ABF7-6ED5DFC1E0D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6B7752-3A94-4813-9F6F-B8D75B807616}"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31CD8ED-E806-436D-994A-14FF9F62358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4E450AB-6933-412D-8496-95FF6AB57CE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8E22E96-B347-44C8-8CFA-DF04C03476F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61BCFF8-527A-4BC5-B6C3-668B3E2A414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98CD6DA-C71D-43FF-B165-5486941FE2D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BA49AA32-8CE9-4B03-8837-AD5C4333A35B}"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442005B3-B9C5-40DD-B48F-D06585EB5743}"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3E318E3A-2A07-4650-B9D3-871E205F8E81}"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1BBD9F4F-1D59-4AE3-BBAD-A047DE272F2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4878200D-83D2-4FEE-A5F1-6355B8B43A2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B30DEF-B5F9-41F0-BEF6-C88345A5EDFC}"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DEC67BF-C5E3-448A-899E-229C3667053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A0F1BE7F-07D5-4D51-B72F-9A3A708507EC}"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10B205CD-EFBD-49FA-96A0-4B3ABD50FC5C}"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F524287-2869-495D-BDF3-ABCC79CB154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20F53B2-11F4-4DE3-914E-F2D12FF9932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F07C9AB-FA4D-4386-90F9-B719040C3E2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723E1A32-8BCB-4208-B9EC-13422A00E5C7}"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A416BEA6-090C-4BA6-AA5B-D648CD000486}"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316FCE8F-851F-4D32-8439-1FE9EB9E4351}"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2B8F98-1C8E-4C08-AC12-BB568A7845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27BE06-88D9-449C-9202-E7CB3C2EEF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D12057-9FB9-4CB0-BD9B-EC99DE6353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8930F-3986-486B-942F-D638CB39D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3528FA-DB27-4F08-8166-EF1B457C85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128EAE-8B98-4A2F-A5EE-FFA46F526C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311F49-B275-4110-8AD8-65180A410D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3E371E-E225-45D9-88B3-46540A5A89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94A98E-796D-4BF8-84B7-F05EFC0D987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5688B-02E9-4483-8BFB-14E168920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F287B-AC69-4AEB-BD46-29A45C249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21260FC-06E0-4057-80CC-6A334EE3920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5DC9D-7C5E-41C5-B3BE-2A80B85D7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72CD36F-5763-4703-8563-CF92603AAFD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C74465B-13D7-407B-A492-1A50211BFB7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F066E68-BB22-4FA6-A179-044DF0F62CF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66133E1-C738-4D1F-9E7D-8EABF0D27DE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9ABA14E-3732-411D-A630-C4AA2F98344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478E654-41DD-4873-996F-51513ED8B7C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5D161E4-50B6-4304-8035-95D5C2B10E7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05EED5A-9820-41C3-A1CF-DB8707CC0EE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FCDAA64-21B0-4E22-837B-4BFB0CAC409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0649E05-C257-49AC-9CE5-46C16FAB36B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69C8A-76EC-4F87-94A8-E959FDC3F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A3ECDAE-541A-402B-85B2-AEDDE363814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704B024-149D-48D5-9AD3-F508A4894E7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08765AC-5595-4ECC-B9EC-7460A328BA8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7B4C607-985D-492B-B72E-11C7574DCB8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55CF636-D043-42A5-A33C-EE3D59B8CAD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E30D4E2-5D7E-475F-8F0C-55101B23D75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2A123BE-150E-4A16-BEF5-BAC5AFBB02B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3623C82-2698-49CF-9A89-25719CB355D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6D1495A-D126-48D0-A382-C522877E989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091E67C-684B-4F74-8977-4BA19EAB807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B652F-5E65-42FF-A0E4-E9CE43F88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1C70E87-8059-42AE-9C24-699226DE9B4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67EF832-834A-46A4-B52E-8695BB2C88C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6C29E9F-6B3F-40C5-81A5-77D52F35A31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AFDF781-867A-41E9-86AA-B7BF7127664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8B4278C-BE76-436E-AB48-429BB3ADAB7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9DA891E-E1C4-427A-AA33-D8D1A6D421A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87478EE-FF03-4229-A37A-52AFBF5246F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093F57C-A69B-41C2-A9E1-38D0868FD64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8DCFDFF-DB92-44D4-9071-056361F6F13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529B8F6-7B3C-4FD8-A53A-7DC48D372B7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D51F0-D628-4F41-BF85-86BE4A016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820A685-33B6-40B7-BCAD-3AA13C54E31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09DA86E-D45E-4CC6-9698-04CB90BE331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08D34F0-94A7-41A4-895A-84618D1A058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F866D82-F012-42CD-960F-C1E1C5FE5F1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D6839B0-1D10-44BF-AFC7-E8A13602C70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8BCBAFA-3C9D-4423-8604-0747EDA4A76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E48255C-E490-4645-8825-D521FCB3D9E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4911D88-21D9-4617-A7B5-B4669C080D6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1D89819-43CE-4BAD-8143-25D20DEC0EA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BF20A32-DB1B-43FC-B2EF-7391C4A87AA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50156-83CE-4A4D-B8DC-97EB5E302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088BD97-27DC-4F93-B9F8-9C32D694757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8761390-A922-4D92-8CDD-71C60879C32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50527CE-A0C7-43BD-825E-B039722AE9E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A165BE2-6826-4A94-B9F9-6AB8D51C546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4C8684A-46F6-4525-8CF9-D77A7678BB4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1E192E5-D244-4759-ACFC-23E8035302AE}"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5E0C1AE-04D1-49A3-BA45-CFE31DDBB8EE}"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F9756B1-F97A-4240-AC00-C000E4E0401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AA6E38D-3B7F-43C6-A6CC-E2F6ED90828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8959C26-146B-4D7E-B308-9CDC55CEF947}"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50709-7620-4CEC-8F3A-CCC2169B4AD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BFE92-775C-4921-AF15-B0C84589ED3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2F2EF-C3FD-4C9D-B585-40F251E7385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72FF5-0A82-4287-9035-F6144AF44FB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0394F-2189-4643-8F06-3EF23CC0DB1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9A59C-998F-46A6-BC91-D1FB4965E02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1BAAA-A5E6-470F-ABE0-80D67A24C3A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17ED8-602D-4EB1-A73C-89A2FEADEDC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089BB-D565-4AC5-B78E-FC102541122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F7C26-6A9A-4C29-835F-B4F967835F2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B6553-BCE2-45B7-BAD1-3390196B12B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86B60-3861-4E91-8DC6-52D36DBD834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49000" y="762120"/>
            <a:ext cx="80420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News Gothic MT"/>
            </a:endParaRPr>
          </a:p>
        </p:txBody>
      </p:sp>
      <p:sp>
        <p:nvSpPr>
          <p:cNvPr id="603" name=""/>
          <p:cNvSpPr txBox="1"/>
          <p:nvPr/>
        </p:nvSpPr>
        <p:spPr>
          <a:xfrm>
            <a:off x="549000" y="1676160"/>
            <a:ext cx="8042040" cy="426708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Corporate Social Responsibility </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PMingLiU"/>
              </a:rPr>
              <a:t>Ethics in Business</a:t>
            </a:r>
            <a:endParaRPr b="1" lang="en-US" sz="3600" spc="-1" strike="noStrike">
              <a:solidFill>
                <a:srgbClr val="ff0000"/>
              </a:solidFill>
              <a:latin typeface="News Gothic MT"/>
            </a:endParaRPr>
          </a:p>
        </p:txBody>
      </p:sp>
      <p:sp>
        <p:nvSpPr>
          <p:cNvPr id="605"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rPr>
              <a:t>Business Ethics </a:t>
            </a:r>
            <a:r>
              <a:rPr b="0" lang="en-US" sz="3200" spc="-1" strike="noStrike">
                <a:solidFill>
                  <a:srgbClr val="595959"/>
                </a:solidFill>
                <a:latin typeface="News Gothic MT"/>
              </a:rPr>
              <a:t>is the moral thinking and analyses by corporate decision-makers regarding the motives and consequences of their decisions and action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PMingLiU"/>
              </a:rPr>
              <a:t>Corporate Social Responsibility</a:t>
            </a:r>
            <a:endParaRPr b="1" lang="en-US" sz="3600" spc="-1" strike="noStrike">
              <a:solidFill>
                <a:srgbClr val="ff0000"/>
              </a:solidFill>
              <a:latin typeface="News Gothic MT"/>
            </a:endParaRPr>
          </a:p>
        </p:txBody>
      </p:sp>
      <p:sp>
        <p:nvSpPr>
          <p:cNvPr id="607" name=""/>
          <p:cNvSpPr txBox="1"/>
          <p:nvPr/>
        </p:nvSpPr>
        <p:spPr>
          <a:xfrm>
            <a:off x="549000" y="1295280"/>
            <a:ext cx="8042040" cy="4648320"/>
          </a:xfrm>
          <a:prstGeom prst="rect">
            <a:avLst/>
          </a:prstGeom>
          <a:noFill/>
          <a:ln w="0">
            <a:noFill/>
          </a:ln>
        </p:spPr>
        <p:txBody>
          <a:bodyPr anchor="t">
            <a:normAutofit fontScale="99000"/>
          </a:bodyPr>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ea typeface="PMingLiU"/>
              </a:rPr>
              <a:t>CSR</a:t>
            </a:r>
            <a:r>
              <a:rPr b="0" lang="en-US" sz="3200" spc="-1" strike="noStrike">
                <a:solidFill>
                  <a:srgbClr val="595959"/>
                </a:solidFill>
                <a:latin typeface="News Gothic MT"/>
                <a:ea typeface="PMingLiU"/>
              </a:rPr>
              <a:t>: Action of a firm to benefit society beyond the requirements of the law and direct interests of the firm.</a:t>
            </a:r>
            <a:endParaRPr b="0" lang="en-US" sz="32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ea typeface="PMingLiU"/>
              </a:rPr>
              <a:t>Closely related to ethics.</a:t>
            </a:r>
            <a:endParaRPr b="0" lang="en-US" sz="32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ea typeface="PMingLiU"/>
              </a:rPr>
              <a:t>CSR involves taking voluntary action.</a:t>
            </a:r>
            <a:endParaRPr b="0" lang="en-US" sz="32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ea typeface="PMingLiU"/>
              </a:rPr>
              <a:t>CSR concerns include working conditions in factories and service centers as well as environmental impacts of corporate activities.</a:t>
            </a:r>
            <a:endParaRPr b="0" lang="en-US" sz="32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News Gothic MT"/>
              </a:rPr>
              <a:t>The Classical View</a:t>
            </a:r>
            <a:endParaRPr b="1" lang="en-US" sz="4000" spc="-1" strike="noStrike">
              <a:solidFill>
                <a:srgbClr val="ff0000"/>
              </a:solidFill>
              <a:latin typeface="News Gothic MT"/>
            </a:endParaRPr>
          </a:p>
        </p:txBody>
      </p:sp>
      <p:sp>
        <p:nvSpPr>
          <p:cNvPr id="609" name="PlaceHolder 2"/>
          <p:cNvSpPr>
            <a:spLocks noGrp="1"/>
          </p:cNvSpPr>
          <p:nvPr>
            <p:ph/>
          </p:nvPr>
        </p:nvSpPr>
        <p:spPr>
          <a:xfrm>
            <a:off x="549000" y="1599840"/>
            <a:ext cx="8042040" cy="4343400"/>
          </a:xfrm>
          <a:prstGeom prst="rect">
            <a:avLst/>
          </a:prstGeom>
          <a:noFill/>
          <a:ln w="0">
            <a:noFill/>
          </a:ln>
        </p:spPr>
        <p:txBody>
          <a:bodyPr anchor="t">
            <a:normAutofit/>
          </a:bodyPr>
          <a:p>
            <a:pPr marL="349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t>
            </a:r>
            <a:r>
              <a:rPr b="0" i="1" lang="en-US" sz="2800" spc="-1" strike="noStrike">
                <a:solidFill>
                  <a:srgbClr val="595959"/>
                </a:solidFill>
                <a:latin typeface="News Gothic MT"/>
              </a:rPr>
              <a:t>Few trends could so thoroughly undermine the very foundations of our free society as the acceptance by corporate officials of social responsibility other than to make as much money for their stockholders as possible.”  </a:t>
            </a:r>
            <a:r>
              <a:rPr b="0" lang="en-US" sz="2800" spc="-1" strike="noStrike">
                <a:solidFill>
                  <a:srgbClr val="595959"/>
                </a:solidFill>
                <a:latin typeface="News Gothic MT"/>
              </a:rPr>
              <a:t>Milton Friedman.</a:t>
            </a:r>
            <a:endParaRPr b="0" lang="en-US" sz="2800" spc="-1" strike="noStrike">
              <a:solidFill>
                <a:srgbClr val="595959"/>
              </a:solidFill>
              <a:latin typeface="News Gothic MT"/>
            </a:endParaRPr>
          </a:p>
          <a:p>
            <a:pPr marL="349200" indent="-349200">
              <a:spcBef>
                <a:spcPts val="2001"/>
              </a:spcBef>
              <a:buClr>
                <a:srgbClr val="ff33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Management’s only responsibility is to maximize returns for the stockholder. </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News Gothic MT"/>
              </a:rPr>
              <a:t>The Business Roundtable</a:t>
            </a:r>
            <a:endParaRPr b="1" lang="en-US" sz="4000" spc="-1" strike="noStrike">
              <a:solidFill>
                <a:srgbClr val="ff0000"/>
              </a:solidFill>
              <a:latin typeface="News Gothic MT"/>
            </a:endParaRPr>
          </a:p>
        </p:txBody>
      </p:sp>
      <p:sp>
        <p:nvSpPr>
          <p:cNvPr id="61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ugust 19, 2019: Business Roundtable today announced the release of a new Statement on the Purpose of a Corporation signed by 181 CEOs who commit to lead their companies for the benefit of all stakeholders – customers, employees, supplies, communities and shareholder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0" y="0"/>
            <a:ext cx="91058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ea typeface="PMingLiU"/>
              </a:rPr>
              <a:t>Corporate Social Responsibility Perspectives </a:t>
            </a:r>
            <a:endParaRPr b="1" lang="en-US" sz="3200" spc="-1" strike="noStrike">
              <a:solidFill>
                <a:srgbClr val="ff0000"/>
              </a:solidFill>
              <a:latin typeface="News Gothic MT"/>
            </a:endParaRPr>
          </a:p>
        </p:txBody>
      </p:sp>
      <p:sp>
        <p:nvSpPr>
          <p:cNvPr id="613" name=""/>
          <p:cNvSpPr txBox="1"/>
          <p:nvPr/>
        </p:nvSpPr>
        <p:spPr>
          <a:xfrm>
            <a:off x="549000" y="1142640"/>
            <a:ext cx="8042040" cy="4800600"/>
          </a:xfrm>
          <a:prstGeom prst="rect">
            <a:avLst/>
          </a:prstGeom>
          <a:noFill/>
          <a:ln w="0">
            <a:noFill/>
          </a:ln>
        </p:spPr>
        <p:txBody>
          <a:bodyPr anchor="t">
            <a:normAutofit fontScale="98000"/>
          </a:bodyPr>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Utilitarian</a:t>
            </a:r>
            <a:r>
              <a:rPr b="0" lang="en-US" sz="2800" spc="-1" strike="noStrike">
                <a:solidFill>
                  <a:srgbClr val="595959"/>
                </a:solidFill>
                <a:latin typeface="News Gothic MT"/>
              </a:rPr>
              <a:t> perspective suggests that CSR is a tool to help achieve a firm’s performance objectives (e.g. sales volume, profitability, ROI).</a:t>
            </a:r>
            <a:endParaRPr b="0" lang="en-US" sz="2800" spc="-1" strike="noStrike">
              <a:solidFill>
                <a:srgbClr val="595959"/>
              </a:solidFill>
              <a:latin typeface="News Gothic MT"/>
            </a:endParaRPr>
          </a:p>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Positive duty </a:t>
            </a:r>
            <a:r>
              <a:rPr b="0" lang="en-US" sz="2800" spc="-1" strike="noStrike">
                <a:solidFill>
                  <a:srgbClr val="595959"/>
                </a:solidFill>
                <a:latin typeface="News Gothic MT"/>
              </a:rPr>
              <a:t>approach suggests that businesses believe that have a duty toward CSR.</a:t>
            </a:r>
            <a:endParaRPr b="0" lang="en-US" sz="2800" spc="-1" strike="noStrike">
              <a:solidFill>
                <a:srgbClr val="595959"/>
              </a:solidFill>
              <a:latin typeface="News Gothic MT"/>
            </a:endParaRPr>
          </a:p>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Negative duty </a:t>
            </a:r>
            <a:r>
              <a:rPr b="0" lang="en-US" sz="2800" spc="-1" strike="noStrike">
                <a:solidFill>
                  <a:srgbClr val="595959"/>
                </a:solidFill>
                <a:latin typeface="News Gothic MT"/>
              </a:rPr>
              <a:t>approach occurs when businesses engage in CSR because they feel compelled to do so.</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SR and Business Operations</a:t>
            </a:r>
            <a:endParaRPr b="1" lang="en-US" sz="3600" spc="-1" strike="noStrike">
              <a:solidFill>
                <a:srgbClr val="ff0000"/>
              </a:solidFill>
              <a:latin typeface="News Gothic MT"/>
            </a:endParaRPr>
          </a:p>
        </p:txBody>
      </p:sp>
      <p:sp>
        <p:nvSpPr>
          <p:cNvPr id="615"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Responsive CSR: </a:t>
            </a:r>
            <a:r>
              <a:rPr b="0" lang="en-US" sz="2800" spc="-1" strike="noStrike">
                <a:solidFill>
                  <a:srgbClr val="595959"/>
                </a:solidFill>
                <a:latin typeface="News Gothic MT"/>
              </a:rPr>
              <a:t>Views the community as an entity in tension or conflict with the company. Engages in CSR as a response to negative publicity.</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Strategic CSR: </a:t>
            </a:r>
            <a:r>
              <a:rPr b="0" lang="en-US" sz="2800" spc="-1" strike="noStrike">
                <a:solidFill>
                  <a:srgbClr val="595959"/>
                </a:solidFill>
                <a:latin typeface="News Gothic MT"/>
              </a:rPr>
              <a:t>Attempts to use CSR in an attempt to build competitive advantage and reach business goal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0-08-22T18:23:16Z</dcterms:modified>
  <cp:revision>331</cp:revision>
  <dc:subject/>
  <dc:title>Slide 1</dc:title>
</cp:coreProperties>
</file>