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5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15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4674-62D1-4B57-B43F-BCB81B59D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EC58-F78E-4207-8F19-90F5D755B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3C71-3B2B-4BA6-A1C6-06D27AD13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A9F6-4BEE-4885-BFDC-563F3AEC8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FFAB-B7CA-4338-A120-2EFF051C6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83EF-F016-4EA2-AB3A-80FEC708F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FBED-4E36-4F55-8BE9-62CA2439F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7750-628D-4252-96C6-B0D2B0E85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0F9C-67D9-4B80-BC61-27ABF885E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217A-4D34-471A-8B14-1976AD8CA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BA2F-D5F8-40A8-92D8-9D5DC4D3F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941F-144E-4082-9B3F-6ECCA1816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3942-86F0-4CD9-8ACA-FF725DCB5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6D0B-1FB8-48D4-B982-322C2D99F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ACB4-66C5-4B14-8CD8-37F2D772A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9933-34DC-4343-8904-5FF4947A3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6208-CC48-4D67-9B52-F3BD4A39A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D5C2-131A-4F3A-BA77-81E46B84F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DEAF-C8CA-48C3-97F2-23858780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5936-06C8-4276-95D7-78A4D56AB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A9D0-F28B-4FED-ACEE-46888FFCF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4A6C-F874-4E05-A68B-9E209257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7508-F15E-4B7A-89B4-4FDC6295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0476-2DEA-4ADE-A1E4-4FCA6EF2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0F9E-5A4C-47E1-BE3C-C7E4DA26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D016-E85B-4B43-9CF5-691E087E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D16D-3849-4D08-89B9-FAF00696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358B-9165-4E10-A52B-418993A7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4E4D-E57C-4558-B566-8ECE80C7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42F4-88F2-44B7-9D5B-EC7C1FC44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457200" y="76320"/>
            <a:ext cx="81532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the Chemistry of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2732400" y="2944800"/>
            <a:ext cx="360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 algn="ctr">
              <a:buClr>
                <a:srgbClr val="000000"/>
              </a:buClr>
              <a:buFont typeface="Time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buClr>
                <a:srgbClr val="000000"/>
              </a:buClr>
              <a:buFont typeface="Time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of the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buClr>
                <a:srgbClr val="000000"/>
              </a:buClr>
              <a:buFont typeface="Time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mo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voet4_fig_01_05"/>
          <p:cNvPicPr/>
          <p:nvPr/>
        </p:nvPicPr>
        <p:blipFill>
          <a:blip r:embed="rId1"/>
          <a:stretch/>
        </p:blipFill>
        <p:spPr>
          <a:xfrm>
            <a:off x="2155680" y="914400"/>
            <a:ext cx="4832640" cy="5803920"/>
          </a:xfrm>
          <a:prstGeom prst="rect">
            <a:avLst/>
          </a:prstGeom>
          <a:ln w="0">
            <a:noFill/>
          </a:ln>
        </p:spPr>
      </p:pic>
      <p:sp>
        <p:nvSpPr>
          <p:cNvPr id="67" name="TextBox 1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d09"/>
                </a:solidFill>
                <a:latin typeface="Arial"/>
                <a:ea typeface="Arial"/>
              </a:rPr>
              <a:t>Intramolecular Complementary &amp; Re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0" y="22860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d09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d09"/>
                </a:solidFill>
                <a:latin typeface="Arial"/>
              </a:rPr>
              <a:t>Introduction to the Chemistry of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d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12600" y="1447920"/>
            <a:ext cx="914400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Checkpoint 1.1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Which four elements occur in virtually all biological molecules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Practice drawing a simple condensation and hydrolysis reacti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xplain why complementarity would have been necessary for the development of self-replicating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0" y="22860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d09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d09"/>
                </a:solidFill>
                <a:latin typeface="Arial"/>
              </a:rPr>
              <a:t>Cellular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d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2600" y="1447920"/>
            <a:ext cx="914400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Key Concepts 1.2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Compartmentation of cells promotes efficiency by maintaining high local concentrations of reactant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Metabolic pathways evolved to synthesize molecules and generate energ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The simplest cells are prokaryot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ukaryotes are characterized by numerous membrane-bounded organelles, including a nucleu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The phylogenetic tree of life includes three domains: bacteria, archaea, and eukary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volution occurs as natural selection acts on randomly occurring variations among individu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voet4_fig_01_06"/>
          <p:cNvPicPr/>
          <p:nvPr/>
        </p:nvPicPr>
        <p:blipFill>
          <a:blip r:embed="rId1"/>
          <a:stretch/>
        </p:blipFill>
        <p:spPr>
          <a:xfrm>
            <a:off x="1884240" y="914400"/>
            <a:ext cx="5375520" cy="580392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Cross-section of </a:t>
            </a:r>
            <a:r>
              <a:rPr b="1" i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E. co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voet4_fig_01_07"/>
          <p:cNvPicPr/>
          <p:nvPr/>
        </p:nvPicPr>
        <p:blipFill>
          <a:blip r:embed="rId1"/>
          <a:stretch/>
        </p:blipFill>
        <p:spPr>
          <a:xfrm>
            <a:off x="2146320" y="1022400"/>
            <a:ext cx="4367160" cy="5803920"/>
          </a:xfrm>
          <a:prstGeom prst="rect">
            <a:avLst/>
          </a:prstGeom>
          <a:ln w="0">
            <a:noFill/>
          </a:ln>
        </p:spPr>
      </p:pic>
      <p:sp>
        <p:nvSpPr>
          <p:cNvPr id="75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Relative Prokaryotic Cell Siz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voet4_fig_01_08"/>
          <p:cNvPicPr/>
          <p:nvPr/>
        </p:nvPicPr>
        <p:blipFill>
          <a:blip r:embed="rId1"/>
          <a:stretch/>
        </p:blipFill>
        <p:spPr>
          <a:xfrm>
            <a:off x="304920" y="843120"/>
            <a:ext cx="8531280" cy="5557680"/>
          </a:xfrm>
          <a:prstGeom prst="rect">
            <a:avLst/>
          </a:prstGeom>
          <a:ln w="0">
            <a:noFill/>
          </a:ln>
        </p:spPr>
      </p:pic>
      <p:sp>
        <p:nvSpPr>
          <p:cNvPr id="77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Typical Animal C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voet4_fig_01_09"/>
          <p:cNvPicPr/>
          <p:nvPr/>
        </p:nvPicPr>
        <p:blipFill>
          <a:blip r:embed="rId1"/>
          <a:stretch/>
        </p:blipFill>
        <p:spPr>
          <a:xfrm>
            <a:off x="304920" y="698400"/>
            <a:ext cx="8531280" cy="5478480"/>
          </a:xfrm>
          <a:prstGeom prst="rect">
            <a:avLst/>
          </a:prstGeom>
          <a:ln w="0">
            <a:noFill/>
          </a:ln>
        </p:spPr>
      </p:pic>
      <p:sp>
        <p:nvSpPr>
          <p:cNvPr id="79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Phylogenetic Relationship of 3 Dom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0" y="22860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d09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d09"/>
                </a:solidFill>
                <a:latin typeface="Arial"/>
              </a:rPr>
              <a:t>Cellular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d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12600" y="1447920"/>
            <a:ext cx="914400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Checkpoint 1.2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Explain the selective advantages of compartmentation and metabolic pathway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Discuss the differences between prokaryotes and eukaryot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Make a list of the major eukaryotic organelles and their function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xplain why a taxonomy based on molecular sequences is more accurate than one based on morpholog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Which of the three domains are prokaryotic? Which domain is most similar to eukaryotes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xplain how individual variations allow evolution to occu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Why is evolutionary change constrained by its past but impossible to predi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0" y="22860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d09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d09"/>
                </a:solidFill>
                <a:latin typeface="Arial"/>
              </a:rPr>
              <a:t>Thermo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d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12600" y="1143000"/>
            <a:ext cx="914400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Key Concepts 1.3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Energy must be conserved, but it can take different form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In most biochemical systems, enthalpy is equivalent to hea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ntropy, a measure of a system’s disorder, tends to increas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The free energy change for a process is determined by the change in enthalpy and the change in entrop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A spontaneous process occurs with a decrease in free energ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The free energy change for a reaction can be calculated from the temperature and the concentrations and stoichiometry of the reactants and product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Biochemists define standard state conditions as a temperature of 25°C, a pressure of 1 atm, and a pH of 7.0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Organisms are nonequilibrium, open systems that constantly exchange matter and energy with their surrounding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nzymes increase the rates of thermodynamically favorable re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2833200" y="552600"/>
            <a:ext cx="393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ws of Thermo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386080" y="1219320"/>
            <a:ext cx="4960800" cy="476244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3744720" y="98424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= ∆H - T∆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0" y="22860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d09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d09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d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563400" y="1295280"/>
            <a:ext cx="8017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the end of this chapter, students should be able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inguish and categorize molecules based on their functional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 how functional groups between macromolecules influence structure and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 and contrast differences between eukaryotic and prokaryotic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 how compartmentalization of cells facilitates metabolic re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mmarize the two laws of thermodynamics through language and mathema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 and determine if a reaction is spontan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 equilibrium and how it relates to the change in free energy of a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ain the different systems (isolated, closed or open) and choose and defend which type of system do living organisms fall un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 and contrast steady state and equilib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3750840" y="428760"/>
            <a:ext cx="18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halp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762120" y="1731960"/>
            <a:ext cx="3554280" cy="2505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838760" y="1577880"/>
            <a:ext cx="3641760" cy="281304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>
            <a:off x="1912680" y="4495680"/>
            <a:ext cx="184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other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favor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6025680" y="4495680"/>
            <a:ext cx="160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other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avor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voet4_fig_01_10"/>
          <p:cNvPicPr/>
          <p:nvPr/>
        </p:nvPicPr>
        <p:blipFill>
          <a:blip r:embed="rId1"/>
          <a:stretch/>
        </p:blipFill>
        <p:spPr>
          <a:xfrm>
            <a:off x="1219320" y="838080"/>
            <a:ext cx="6232320" cy="580392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Entropy Incre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voet4_tab_01_04"/>
          <p:cNvPicPr/>
          <p:nvPr/>
        </p:nvPicPr>
        <p:blipFill>
          <a:blip r:embed="rId1"/>
          <a:stretch/>
        </p:blipFill>
        <p:spPr>
          <a:xfrm>
            <a:off x="304920" y="1357200"/>
            <a:ext cx="8531280" cy="4662720"/>
          </a:xfrm>
          <a:prstGeom prst="rect">
            <a:avLst/>
          </a:prstGeom>
          <a:ln w="0">
            <a:noFill/>
          </a:ln>
        </p:spPr>
      </p:pic>
      <p:sp>
        <p:nvSpPr>
          <p:cNvPr id="95" name="TextBox 1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Spontaneity Depends 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Enthalpy &amp; Entrop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1472040" y="503280"/>
            <a:ext cx="65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librium and Change in Gibbs Free Energy (∆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2942280" y="289548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quilibrium, ∆G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TextBox 3" descr=""/>
          <p:cNvPicPr/>
          <p:nvPr/>
        </p:nvPicPr>
        <p:blipFill>
          <a:blip r:embed="rId1"/>
          <a:stretch/>
        </p:blipFill>
        <p:spPr>
          <a:xfrm>
            <a:off x="2438280" y="1798560"/>
            <a:ext cx="4029120" cy="889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2"/>
          <a:srcRect l="0" t="0" r="19908" b="64547"/>
          <a:stretch/>
        </p:blipFill>
        <p:spPr>
          <a:xfrm>
            <a:off x="2359080" y="1198440"/>
            <a:ext cx="4788000" cy="581040"/>
          </a:xfrm>
          <a:prstGeom prst="rect">
            <a:avLst/>
          </a:prstGeom>
          <a:ln w="0">
            <a:noFill/>
          </a:ln>
        </p:spPr>
      </p:pic>
      <p:pic>
        <p:nvPicPr>
          <p:cNvPr id="100" name="TextBox 6" descr=""/>
          <p:cNvPicPr/>
          <p:nvPr/>
        </p:nvPicPr>
        <p:blipFill>
          <a:blip r:embed="rId3"/>
          <a:stretch/>
        </p:blipFill>
        <p:spPr>
          <a:xfrm>
            <a:off x="3676680" y="3627360"/>
            <a:ext cx="213840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3660840" y="37620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n’t Hoff p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2971800" y="1095480"/>
            <a:ext cx="3198960" cy="639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4371840" y="2711520"/>
            <a:ext cx="4351320" cy="3386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3"/>
          <a:stretch/>
        </p:blipFill>
        <p:spPr>
          <a:xfrm>
            <a:off x="316080" y="2743200"/>
            <a:ext cx="435132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voet4_fig_01_11"/>
          <p:cNvPicPr/>
          <p:nvPr/>
        </p:nvPicPr>
        <p:blipFill>
          <a:blip r:embed="rId1"/>
          <a:stretch/>
        </p:blipFill>
        <p:spPr>
          <a:xfrm>
            <a:off x="949320" y="1054080"/>
            <a:ext cx="7203960" cy="580392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Biosphere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Energy Flow in an Open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3"/>
          <p:cNvSpPr/>
          <p:nvPr/>
        </p:nvSpPr>
        <p:spPr>
          <a:xfrm>
            <a:off x="0" y="22860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d09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d09"/>
                </a:solidFill>
                <a:latin typeface="Arial"/>
              </a:rPr>
              <a:t>Thermo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d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2600" y="1447920"/>
            <a:ext cx="9144000" cy="38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Checkpoint 1.3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Summarize the relationship between energy (U), heat (q), and work (w)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Restate the first and second laws of  thermodynamic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Use the analogy of a china cabinet to describe a system with low entropy or high entrop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xplain why changes in both enthalpy (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Cambria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H) and entropy (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Cambria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S) determine the spontaneity of a proces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What is the relationship between the rate of a process and its thermodynamic spontane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0" y="22860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d09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d09"/>
                </a:solidFill>
                <a:latin typeface="Arial"/>
              </a:rPr>
              <a:t>Thermo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d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12600" y="1447920"/>
            <a:ext cx="9144000" cy="38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Checkpoint 1.3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What is the free energy change for a reaction at equilibrium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Write the equation showing the relationship between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Cambria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G° an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  <a:ea typeface="Cambria"/>
              </a:rPr>
              <a:t>eq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Write the equation showing the relationship between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Cambria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G,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Cambria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G°, and the concentrations of the reactants and product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xplain how biochemists define the  standard state of a solute. Why do biochemists and chemists use different conventions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Explain how organisms avoid reaching equilibrium while maintaining a steady stat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mbria"/>
              </a:rPr>
              <a:t>• How do enzymes affect the rate and free energy change of a reac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voet4_tab_01_01"/>
          <p:cNvPicPr/>
          <p:nvPr/>
        </p:nvPicPr>
        <p:blipFill>
          <a:blip r:embed="rId1"/>
          <a:stretch/>
        </p:blipFill>
        <p:spPr>
          <a:xfrm>
            <a:off x="2463840" y="990720"/>
            <a:ext cx="3790800" cy="580392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Living Matter Consists of Few El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voet4_fig_01_03"/>
          <p:cNvPicPr/>
          <p:nvPr/>
        </p:nvPicPr>
        <p:blipFill>
          <a:blip r:embed="rId1"/>
          <a:stretch/>
        </p:blipFill>
        <p:spPr>
          <a:xfrm>
            <a:off x="2036880" y="646200"/>
            <a:ext cx="5070240" cy="580392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Carboxylic Acid-Amine Rea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voet4_fig_01_04"/>
          <p:cNvPicPr/>
          <p:nvPr/>
        </p:nvPicPr>
        <p:blipFill>
          <a:blip r:embed="rId1"/>
          <a:stretch/>
        </p:blipFill>
        <p:spPr>
          <a:xfrm>
            <a:off x="1233360" y="914400"/>
            <a:ext cx="6677280" cy="5803920"/>
          </a:xfrm>
          <a:prstGeom prst="rect">
            <a:avLst/>
          </a:prstGeom>
          <a:ln w="0">
            <a:noFill/>
          </a:ln>
        </p:spPr>
      </p:pic>
      <p:sp>
        <p:nvSpPr>
          <p:cNvPr id="57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Complementary Molecules Associ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voet4_tab_01_02"/>
          <p:cNvPicPr/>
          <p:nvPr/>
        </p:nvPicPr>
        <p:blipFill>
          <a:blip r:embed="rId1"/>
          <a:stretch/>
        </p:blipFill>
        <p:spPr>
          <a:xfrm>
            <a:off x="1981080" y="596880"/>
            <a:ext cx="4972320" cy="6261120"/>
          </a:xfrm>
          <a:prstGeom prst="rect">
            <a:avLst/>
          </a:prstGeom>
          <a:ln w="0">
            <a:noFill/>
          </a:ln>
        </p:spPr>
      </p:pic>
      <p:sp>
        <p:nvSpPr>
          <p:cNvPr id="59" name="TextBox 1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d09"/>
                </a:solidFill>
                <a:latin typeface="Arial"/>
                <a:ea typeface="Arial"/>
              </a:rPr>
              <a:t>Biochemistry Functional Groups and Link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voet4_tab_01_02_1"/>
          <p:cNvPicPr/>
          <p:nvPr/>
        </p:nvPicPr>
        <p:blipFill>
          <a:blip r:embed="rId1"/>
          <a:stretch/>
        </p:blipFill>
        <p:spPr>
          <a:xfrm>
            <a:off x="380880" y="762120"/>
            <a:ext cx="8321760" cy="593244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d09"/>
                </a:solidFill>
                <a:latin typeface="Arial"/>
                <a:ea typeface="Arial"/>
              </a:rPr>
              <a:t>Biochemistry Functional Groups and Link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voet4_tab_01_02_02"/>
          <p:cNvPicPr/>
          <p:nvPr/>
        </p:nvPicPr>
        <p:blipFill>
          <a:blip r:embed="rId1"/>
          <a:stretch/>
        </p:blipFill>
        <p:spPr>
          <a:xfrm>
            <a:off x="306360" y="685800"/>
            <a:ext cx="8535960" cy="6060960"/>
          </a:xfrm>
          <a:prstGeom prst="rect">
            <a:avLst/>
          </a:prstGeom>
          <a:ln w="0">
            <a:noFill/>
          </a:ln>
        </p:spPr>
      </p:pic>
      <p:sp>
        <p:nvSpPr>
          <p:cNvPr id="63" name="TextBox 1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d09"/>
                </a:solidFill>
                <a:latin typeface="Arial"/>
                <a:ea typeface="Arial"/>
              </a:rPr>
              <a:t>Biochemistry Functional Groups and Link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voet4_tab_01_03"/>
          <p:cNvPicPr/>
          <p:nvPr/>
        </p:nvPicPr>
        <p:blipFill>
          <a:blip r:embed="rId1"/>
          <a:stretch/>
        </p:blipFill>
        <p:spPr>
          <a:xfrm>
            <a:off x="304920" y="2171880"/>
            <a:ext cx="8531280" cy="2511360"/>
          </a:xfrm>
          <a:prstGeom prst="rect">
            <a:avLst/>
          </a:prstGeom>
          <a:ln w="0">
            <a:noFill/>
          </a:ln>
        </p:spPr>
      </p:pic>
      <p:sp>
        <p:nvSpPr>
          <p:cNvPr id="65" name="TextBox 1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d09"/>
                </a:solidFill>
                <a:latin typeface="Arial"/>
                <a:ea typeface="Arial"/>
              </a:rPr>
              <a:t>Biological Polym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4T01:08:46Z</dcterms:created>
  <dc:creator>Voet et al.</dc:creator>
  <dc:description/>
  <dc:language>en-US</dc:language>
  <cp:lastModifiedBy>Hayden, Katherine Leigh</cp:lastModifiedBy>
  <cp:lastPrinted>2014-08-26T16:27:41Z</cp:lastPrinted>
  <dcterms:modified xsi:type="dcterms:W3CDTF">2014-08-26T16:47:55Z</dcterms:modified>
  <cp:revision>71</cp:revision>
  <dc:subject/>
  <dc:title>Fundamentals of Biochemistry</dc:title>
</cp:coreProperties>
</file>