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F925-75DA-4EFC-968F-60B4D0210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6FD7-6054-4B35-8A5E-54C3C3F0E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52D8-B1FF-43F2-8C27-427C268B0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45A6-CAB9-4405-929C-C3DB81917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7300-2B29-4795-A073-B75299382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EA43-80FC-41F2-9BCE-8B1A0448D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114E-E748-4F8F-BF28-D35639A54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386E-8840-4EF3-B8A6-34A9D0939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ED61-4061-4686-9A20-8964A2675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0F81-F28C-4646-8F57-B2F373BFE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2780-B2F5-4F0F-84C5-DFB560324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4C32-DD11-4559-AFA3-1E4FFAFB4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02E7-561C-415F-9B35-567675005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EF2E-2866-40F5-A6DC-EBED858D2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AC8F-77AD-4A3C-AF6B-652BAE63B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BC3E-A01F-4AFF-9833-D95B96673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9E6F-A0E3-40FD-A37F-AE30CC90A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DF0-4A0C-4FCF-9573-54CCAD49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44B-27AE-4F9C-A188-CFBC07EC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419-B152-40CC-A663-CC8CB759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5DC-C264-4F29-A646-5D1D8603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6C0-153F-4DA3-8BD8-4B44FB57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ABD-19A7-4D69-927D-67DF5691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4AD-CA92-4CAF-ACA3-E7A7E3FE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C5D-67DD-4143-B2EB-0521663B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293-B150-4FDE-9415-F47DB806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C5F-B26F-4463-9333-0B0F84F5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E81-6453-48E6-8FD8-73EE22A2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557-47E0-419B-B4F2-83E7C056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F283-C304-4BCE-B20B-DFB0E9961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76320"/>
            <a:ext cx="8153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Chemistr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2732400" y="2944800"/>
            <a:ext cx="36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th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voet4_fig_01_05"/>
          <p:cNvPicPr/>
          <p:nvPr/>
        </p:nvPicPr>
        <p:blipFill>
          <a:blip r:embed="rId1"/>
          <a:stretch/>
        </p:blipFill>
        <p:spPr>
          <a:xfrm>
            <a:off x="2155680" y="914400"/>
            <a:ext cx="4832640" cy="5803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  <a:ea typeface="Arial"/>
              </a:rPr>
              <a:t>Intramolecular Complementary &amp;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Introduction to the Chemistr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600" y="1447920"/>
            <a:ext cx="91440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Which four elements occur in virtually all biological molecul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Practice drawing a simple condensation and hydrolysis rea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complementarity would have been necessary for the development of self-replicating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Cellula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600" y="1447920"/>
            <a:ext cx="91440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Key Concepts 1.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Compartmentation of cells promotes efficiency by maintaining high local concentrations of reacta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Metabolic pathways evolved to synthesize molecules and generate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simplest cells are prokaryot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ukaryotes are characterized by numerous membrane-bounded organelles, including a nucleu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phylogenetic tree of life includes three domains: bacteria, archaea, and eukary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volution occurs as natural selection acts on randomly occurring variations among individu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voet4_fig_01_06"/>
          <p:cNvPicPr/>
          <p:nvPr/>
        </p:nvPicPr>
        <p:blipFill>
          <a:blip r:embed="rId1"/>
          <a:stretch/>
        </p:blipFill>
        <p:spPr>
          <a:xfrm>
            <a:off x="1884240" y="914400"/>
            <a:ext cx="5375520" cy="5803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ross-section of </a:t>
            </a:r>
            <a:r>
              <a:rPr b="1" i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. c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voet4_fig_01_07"/>
          <p:cNvPicPr/>
          <p:nvPr/>
        </p:nvPicPr>
        <p:blipFill>
          <a:blip r:embed="rId1"/>
          <a:stretch/>
        </p:blipFill>
        <p:spPr>
          <a:xfrm>
            <a:off x="2146320" y="1022400"/>
            <a:ext cx="4367160" cy="5803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Relative Prokaryotic Cell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voet4_fig_01_08"/>
          <p:cNvPicPr/>
          <p:nvPr/>
        </p:nvPicPr>
        <p:blipFill>
          <a:blip r:embed="rId1"/>
          <a:stretch/>
        </p:blipFill>
        <p:spPr>
          <a:xfrm>
            <a:off x="304920" y="843120"/>
            <a:ext cx="8531280" cy="5557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Typical Animal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voet4_fig_01_09"/>
          <p:cNvPicPr/>
          <p:nvPr/>
        </p:nvPicPr>
        <p:blipFill>
          <a:blip r:embed="rId1"/>
          <a:stretch/>
        </p:blipFill>
        <p:spPr>
          <a:xfrm>
            <a:off x="304920" y="698400"/>
            <a:ext cx="8531280" cy="5478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Phylogenetic Relationship of 3 Dom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Cellula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600" y="1447920"/>
            <a:ext cx="91440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Explain the selective advantages of compartmentation and metabolic pathway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Discuss the differences between prokaryotes and eukaryot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Make a list of the major eukaryotic organelles and their funct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a taxonomy based on molecular sequences is more accurate than one based on morpholo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ich of the three domains are prokaryotic? Which domain is most similar to eukaryot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individual variations allow evolution to occu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y is evolutionary change constrained by its past but impossible to predi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2600" y="114300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Key Concepts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Energy must be conserved, but it can take different form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In most biochemical systems, enthalpy is equivalent to hea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ntropy, a measure of a system’s disorder, tends to increas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free energy change for a process is determined by the change in enthalpy and the change in entrop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A spontaneous process occurs with a decrease in free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free energy change for a reaction can be calculated from the temperature and the concentrations and stoichiometry of the reactants and produ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Biochemists define standard state conditions as a temperature of 25°C, a pressure of 1 atm, and a pH of 7.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Organisms are nonequilibrium, open systems that constantly exchange matter and energy with their surrounding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nzymes increase the rates of thermodynamically favorable re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833200" y="55260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s of 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86080" y="1219320"/>
            <a:ext cx="4960800" cy="4762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744720" y="98424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∆H - T∆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63400" y="1295280"/>
            <a:ext cx="8017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end of this chapter, students should be abl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 and categorize molecules based on their functional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how functional groups between macromolecules influence structure an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and contrast differences between eukaryotic and prokaryotic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how compartmentalization of cells facilitates metabolic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ize the two laws of thermodynamics through language and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and determine if a reaction is spont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equilibrium and how it relates to the change in free energy of a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the different systems (isolated, closed or open) and choose and defend which type of system do living organisms fall u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and contrast steady state and 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3750840" y="42876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hal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762120" y="1731960"/>
            <a:ext cx="3554280" cy="25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838760" y="1577880"/>
            <a:ext cx="3641760" cy="2813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912680" y="4495680"/>
            <a:ext cx="18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favo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025680" y="4495680"/>
            <a:ext cx="16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other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vo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voet4_fig_01_10"/>
          <p:cNvPicPr/>
          <p:nvPr/>
        </p:nvPicPr>
        <p:blipFill>
          <a:blip r:embed="rId1"/>
          <a:stretch/>
        </p:blipFill>
        <p:spPr>
          <a:xfrm>
            <a:off x="1219320" y="838080"/>
            <a:ext cx="6232320" cy="5803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tropy Incr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voet4_tab_01_04"/>
          <p:cNvPicPr/>
          <p:nvPr/>
        </p:nvPicPr>
        <p:blipFill>
          <a:blip r:embed="rId1"/>
          <a:stretch/>
        </p:blipFill>
        <p:spPr>
          <a:xfrm>
            <a:off x="304920" y="1357200"/>
            <a:ext cx="8531280" cy="4662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Spontaneity Depends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thalpy &amp; Entr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472040" y="503280"/>
            <a:ext cx="65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and Change in Gibbs Free Energy (∆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942280" y="28954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quilibrium, ∆G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TextBox 3" descr=""/>
          <p:cNvPicPr/>
          <p:nvPr/>
        </p:nvPicPr>
        <p:blipFill>
          <a:blip r:embed="rId1"/>
          <a:stretch/>
        </p:blipFill>
        <p:spPr>
          <a:xfrm>
            <a:off x="2438280" y="1798560"/>
            <a:ext cx="4029120" cy="88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rcRect l="0" t="0" r="19908" b="64547"/>
          <a:stretch/>
        </p:blipFill>
        <p:spPr>
          <a:xfrm>
            <a:off x="2359080" y="1198440"/>
            <a:ext cx="4788000" cy="58104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6" descr=""/>
          <p:cNvPicPr/>
          <p:nvPr/>
        </p:nvPicPr>
        <p:blipFill>
          <a:blip r:embed="rId3"/>
          <a:stretch/>
        </p:blipFill>
        <p:spPr>
          <a:xfrm>
            <a:off x="3676680" y="3627360"/>
            <a:ext cx="2138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3660840" y="376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’t Hoff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971800" y="1095480"/>
            <a:ext cx="3198960" cy="63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4371840" y="2711520"/>
            <a:ext cx="4351320" cy="3386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316080" y="2743200"/>
            <a:ext cx="43513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voet4_fig_01_11"/>
          <p:cNvPicPr/>
          <p:nvPr/>
        </p:nvPicPr>
        <p:blipFill>
          <a:blip r:embed="rId1"/>
          <a:stretch/>
        </p:blipFill>
        <p:spPr>
          <a:xfrm>
            <a:off x="949320" y="1054080"/>
            <a:ext cx="7203960" cy="5803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Biospher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ergy Flow in an Ope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2600" y="1447920"/>
            <a:ext cx="9144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Summarize the relationship between energy (U), heat (q), and work (w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Restate the first and second laws of  thermodynamic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Use the analogy of a china cabinet to describe a system with low entropy or high entrop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changes in both enthalpy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H) and entropy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S) determine the spontaneity of a proce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at is the relationship between the rate of a process and its thermodynamic spontane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600" y="1447920"/>
            <a:ext cx="914400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What is the free energy change for a reaction at equilibrium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rite the equation showing the relationship between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°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mbria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rite the equation showing the relationship between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,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°, and the concentrations of the reactants and produ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biochemists define the  standard state of a solute. Why do biochemists and chemists use different convention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organisms avoid reaching equilibrium while maintaining a steady st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How do enzymes affect the rate and free energy change of a rea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voet4_tab_01_01"/>
          <p:cNvPicPr/>
          <p:nvPr/>
        </p:nvPicPr>
        <p:blipFill>
          <a:blip r:embed="rId1"/>
          <a:stretch/>
        </p:blipFill>
        <p:spPr>
          <a:xfrm>
            <a:off x="2463840" y="990720"/>
            <a:ext cx="3790800" cy="5803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Living Matter Consists of Few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voet4_fig_01_03"/>
          <p:cNvPicPr/>
          <p:nvPr/>
        </p:nvPicPr>
        <p:blipFill>
          <a:blip r:embed="rId1"/>
          <a:stretch/>
        </p:blipFill>
        <p:spPr>
          <a:xfrm>
            <a:off x="2036880" y="646200"/>
            <a:ext cx="5070240" cy="5803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arboxylic Acid-Amine Re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voet4_fig_01_04"/>
          <p:cNvPicPr/>
          <p:nvPr/>
        </p:nvPicPr>
        <p:blipFill>
          <a:blip r:embed="rId1"/>
          <a:stretch/>
        </p:blipFill>
        <p:spPr>
          <a:xfrm>
            <a:off x="1233360" y="914400"/>
            <a:ext cx="6677280" cy="5803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omplementary Molecules Assoc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voet4_tab_01_02"/>
          <p:cNvPicPr/>
          <p:nvPr/>
        </p:nvPicPr>
        <p:blipFill>
          <a:blip r:embed="rId1"/>
          <a:stretch/>
        </p:blipFill>
        <p:spPr>
          <a:xfrm>
            <a:off x="1981080" y="596880"/>
            <a:ext cx="4972320" cy="6261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voet4_tab_01_02_1"/>
          <p:cNvPicPr/>
          <p:nvPr/>
        </p:nvPicPr>
        <p:blipFill>
          <a:blip r:embed="rId1"/>
          <a:stretch/>
        </p:blipFill>
        <p:spPr>
          <a:xfrm>
            <a:off x="380880" y="762120"/>
            <a:ext cx="8321760" cy="5932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voet4_tab_01_02_02"/>
          <p:cNvPicPr/>
          <p:nvPr/>
        </p:nvPicPr>
        <p:blipFill>
          <a:blip r:embed="rId1"/>
          <a:stretch/>
        </p:blipFill>
        <p:spPr>
          <a:xfrm>
            <a:off x="306360" y="685800"/>
            <a:ext cx="8535960" cy="6060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voet4_tab_01_03"/>
          <p:cNvPicPr/>
          <p:nvPr/>
        </p:nvPicPr>
        <p:blipFill>
          <a:blip r:embed="rId1"/>
          <a:stretch/>
        </p:blipFill>
        <p:spPr>
          <a:xfrm>
            <a:off x="304920" y="2171880"/>
            <a:ext cx="8531280" cy="2511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Biological Poly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Voet et al.</dc:creator>
  <dc:description/>
  <dc:language>en-US</dc:language>
  <cp:lastModifiedBy>Hayden, Katherine Leigh</cp:lastModifiedBy>
  <cp:lastPrinted>2014-08-26T16:27:41Z</cp:lastPrinted>
  <dcterms:modified xsi:type="dcterms:W3CDTF">2014-08-26T16:47:55Z</dcterms:modified>
  <cp:revision>71</cp:revision>
  <dc:subject/>
  <dc:title>Fundamentals of Biochemistry</dc:title>
</cp:coreProperties>
</file>