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2861-63B3-42BD-B96C-21BE96500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063D-ACD3-4F88-8617-854ADA90D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CC53-101F-416B-992D-9FB7799E9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527F-DD2A-4EFF-92B7-258B143D1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3891-5E0E-4ABC-8DDA-91AF51D30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BA6E-8CEC-42C1-9615-B8D91D962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7748-4690-4BED-A9B4-1C4DCBCF8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5BED-3AE4-4883-B169-FA16F98E8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FCED-F2F0-431D-8904-7846F5BAB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ADA1-BEA7-4726-B24C-24757F655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5CC4-3A2A-4DBB-9112-571B8DA58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0AF9-7BDC-49BA-91E5-D4E5CF4F4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3491-341C-482C-8A1C-E7BF48295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6261-C7D0-4051-92F0-29F358AFD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50E9-31F2-4A76-9A7E-E031775DF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1E95-9856-4F72-B2D2-2A84E9C0D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AAB8-43A1-45FF-BF1A-A34FE832B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DB29-AFCB-4A50-8A69-ECF97193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DF5E-A127-4218-B63D-8A0FED95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8BE0-395C-46B1-9894-CD63749C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C062-C442-49B5-836B-40C91F5B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059-FC8C-42C4-9681-9E597C9B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AD3-74D7-4177-B99F-8FD6AC53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34FD-E67E-40DC-8C8D-1845F1F7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681D-92C5-4D9A-8850-017F3144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9BB3-4131-4429-978F-0C62A10E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44E-302E-418E-ACF3-94760A99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C70-D92E-480F-A919-3367B10F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6F73-635A-4029-9E7B-82C798E8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4B5B-8EC6-4DF1-B473-C18108B0C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57200" y="76320"/>
            <a:ext cx="8153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the Chemistry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2732400" y="2944800"/>
            <a:ext cx="36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 algn="ctr">
              <a:buClr>
                <a:srgbClr val="000000"/>
              </a:buClr>
              <a:buFont typeface="Time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buClr>
                <a:srgbClr val="000000"/>
              </a:buClr>
              <a:buFont typeface="Time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th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buClr>
                <a:srgbClr val="000000"/>
              </a:buClr>
              <a:buFont typeface="Time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o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voet4_fig_01_05"/>
          <p:cNvPicPr/>
          <p:nvPr/>
        </p:nvPicPr>
        <p:blipFill>
          <a:blip r:embed="rId1"/>
          <a:stretch/>
        </p:blipFill>
        <p:spPr>
          <a:xfrm>
            <a:off x="2155680" y="914400"/>
            <a:ext cx="4832640" cy="5803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  <a:ea typeface="Arial"/>
              </a:rPr>
              <a:t>Intramolecular Complementary &amp;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Introduction to the Chemistry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2600" y="1447920"/>
            <a:ext cx="914400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Checkpoint 1.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Which four elements occur in virtually all biological molecule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Practice drawing a simple condensation and hydrolysis reac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why complementarity would have been necessary for the development of self-replicating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Cellula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2600" y="1447920"/>
            <a:ext cx="91440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Key Concepts 1.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Compartmentation of cells promotes efficiency by maintaining high local concentrations of reactan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Metabolic pathways evolved to synthesize molecules and generate energ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The simplest cells are prokaryot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ukaryotes are characterized by numerous membrane-bounded organelles, including a nucleu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The phylogenetic tree of life includes three domains: bacteria, archaea, and eukary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volution occurs as natural selection acts on randomly occurring variations among individu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voet4_fig_01_06"/>
          <p:cNvPicPr/>
          <p:nvPr/>
        </p:nvPicPr>
        <p:blipFill>
          <a:blip r:embed="rId1"/>
          <a:stretch/>
        </p:blipFill>
        <p:spPr>
          <a:xfrm>
            <a:off x="1884240" y="914400"/>
            <a:ext cx="5375520" cy="5803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Cross-section of </a:t>
            </a:r>
            <a:r>
              <a:rPr b="1" i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E. co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voet4_fig_01_07"/>
          <p:cNvPicPr/>
          <p:nvPr/>
        </p:nvPicPr>
        <p:blipFill>
          <a:blip r:embed="rId1"/>
          <a:stretch/>
        </p:blipFill>
        <p:spPr>
          <a:xfrm>
            <a:off x="2146320" y="1022400"/>
            <a:ext cx="4367160" cy="5803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Relative Prokaryotic Cell S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voet4_fig_01_08"/>
          <p:cNvPicPr/>
          <p:nvPr/>
        </p:nvPicPr>
        <p:blipFill>
          <a:blip r:embed="rId1"/>
          <a:stretch/>
        </p:blipFill>
        <p:spPr>
          <a:xfrm>
            <a:off x="304920" y="843120"/>
            <a:ext cx="8531280" cy="555768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Typical Animal C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voet4_fig_01_09"/>
          <p:cNvPicPr/>
          <p:nvPr/>
        </p:nvPicPr>
        <p:blipFill>
          <a:blip r:embed="rId1"/>
          <a:stretch/>
        </p:blipFill>
        <p:spPr>
          <a:xfrm>
            <a:off x="304920" y="698400"/>
            <a:ext cx="8531280" cy="547848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Phylogenetic Relationship of 3 Dom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Cellula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2600" y="1447920"/>
            <a:ext cx="91440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Checkpoint 1.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Explain the selective advantages of compartmentation and metabolic pathway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Discuss the differences between prokaryotes and eukaryot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Make a list of the major eukaryotic organelles and their function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why a taxonomy based on molecular sequences is more accurate than one based on morpholog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hich of the three domains are prokaryotic? Which domain is most similar to eukaryote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how individual variations allow evolution to occu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hy is evolutionary change constrained by its past but impossible to predi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Thermo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2600" y="1143000"/>
            <a:ext cx="91440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Key Concepts 1.3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Energy must be conserved, but it can take different form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In most biochemical systems, enthalpy is equivalent to hea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ntropy, a measure of a system’s disorder, tends to increas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The free energy change for a process is determined by the change in enthalpy and the change in entrop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A spontaneous process occurs with a decrease in free energ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The free energy change for a reaction can be calculated from the temperature and the concentrations and stoichiometry of the reactants and produc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Biochemists define standard state conditions as a temperature of 25°C, a pressure of 1 atm, and a pH of 7.0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Organisms are nonequilibrium, open systems that constantly exchange matter and energy with their surrounding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nzymes increase the rates of thermodynamically favorable re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833200" y="55260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ws of Thermo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386080" y="1219320"/>
            <a:ext cx="4960800" cy="4762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3744720" y="98424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= ∆H - T∆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563400" y="1295280"/>
            <a:ext cx="8017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e end of this chapter, students should be able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inguish and categorize molecules based on their functional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how functional groups between macromolecules influence structure and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and contrast differences between eukaryotic and prokaryotic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how compartmentalization of cells facilitates metabolic 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marize the two laws of thermodynamics through language and mathe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and determine if a reaction is spont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equilibrium and how it relates to the change in free energy of a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ain the different systems (isolated, closed or open) and choose and defend which type of system do living organisms fall un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and contrast steady state and equilib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3750840" y="428760"/>
            <a:ext cx="18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hal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762120" y="1731960"/>
            <a:ext cx="3554280" cy="2505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838760" y="1577880"/>
            <a:ext cx="3641760" cy="2813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1912680" y="4495680"/>
            <a:ext cx="18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ther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favor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6025680" y="4495680"/>
            <a:ext cx="160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other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avor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voet4_fig_01_10"/>
          <p:cNvPicPr/>
          <p:nvPr/>
        </p:nvPicPr>
        <p:blipFill>
          <a:blip r:embed="rId1"/>
          <a:stretch/>
        </p:blipFill>
        <p:spPr>
          <a:xfrm>
            <a:off x="1219320" y="838080"/>
            <a:ext cx="6232320" cy="58039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Entropy Incre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voet4_tab_01_04"/>
          <p:cNvPicPr/>
          <p:nvPr/>
        </p:nvPicPr>
        <p:blipFill>
          <a:blip r:embed="rId1"/>
          <a:stretch/>
        </p:blipFill>
        <p:spPr>
          <a:xfrm>
            <a:off x="304920" y="1357200"/>
            <a:ext cx="8531280" cy="4662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Spontaneity Depends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Enthalpy &amp; Entr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1472040" y="503280"/>
            <a:ext cx="65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librium and Change in Gibbs Free Energy (∆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942280" y="28954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quilibrium, ∆G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TextBox 3" descr=""/>
          <p:cNvPicPr/>
          <p:nvPr/>
        </p:nvPicPr>
        <p:blipFill>
          <a:blip r:embed="rId1"/>
          <a:stretch/>
        </p:blipFill>
        <p:spPr>
          <a:xfrm>
            <a:off x="2438280" y="1798560"/>
            <a:ext cx="4029120" cy="889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rcRect l="0" t="0" r="19908" b="64547"/>
          <a:stretch/>
        </p:blipFill>
        <p:spPr>
          <a:xfrm>
            <a:off x="2359080" y="1198440"/>
            <a:ext cx="4788000" cy="58104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6" descr=""/>
          <p:cNvPicPr/>
          <p:nvPr/>
        </p:nvPicPr>
        <p:blipFill>
          <a:blip r:embed="rId3"/>
          <a:stretch/>
        </p:blipFill>
        <p:spPr>
          <a:xfrm>
            <a:off x="3676680" y="3627360"/>
            <a:ext cx="21384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3660840" y="3762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’t Hoff 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971800" y="1095480"/>
            <a:ext cx="3198960" cy="639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4371840" y="2711520"/>
            <a:ext cx="4351320" cy="3386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3"/>
          <a:stretch/>
        </p:blipFill>
        <p:spPr>
          <a:xfrm>
            <a:off x="316080" y="2743200"/>
            <a:ext cx="43513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voet4_fig_01_11"/>
          <p:cNvPicPr/>
          <p:nvPr/>
        </p:nvPicPr>
        <p:blipFill>
          <a:blip r:embed="rId1"/>
          <a:stretch/>
        </p:blipFill>
        <p:spPr>
          <a:xfrm>
            <a:off x="949320" y="1054080"/>
            <a:ext cx="7203960" cy="5803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Biospher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Energy Flow in an Ope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Thermo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2600" y="1447920"/>
            <a:ext cx="914400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Checkpoint 1.3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Summarize the relationship between energy (U), heat (q), and work (w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Restate the first and second laws of  thermodynamic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Use the analogy of a china cabinet to describe a system with low entropy or high entrop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why changes in both enthalpy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H) and entropy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S) determine the spontaneity of a proces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hat is the relationship between the rate of a process and its thermodynamic spontane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Thermo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2600" y="1447920"/>
            <a:ext cx="9144000" cy="38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Checkpoint 1.3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What is the free energy change for a reaction at equilibrium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rite the equation showing the relationship between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G°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Cambria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rite the equation showing the relationship between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G,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G°, and the concentrations of the reactants and produc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how biochemists define the  standard state of a solute. Why do biochemists and chemists use different convention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how organisms avoid reaching equilibrium while maintaining a steady st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How do enzymes affect the rate and free energy change of a rea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voet4_tab_01_01"/>
          <p:cNvPicPr/>
          <p:nvPr/>
        </p:nvPicPr>
        <p:blipFill>
          <a:blip r:embed="rId1"/>
          <a:stretch/>
        </p:blipFill>
        <p:spPr>
          <a:xfrm>
            <a:off x="2463840" y="990720"/>
            <a:ext cx="3790800" cy="5803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Living Matter Consists of Few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voet4_fig_01_03"/>
          <p:cNvPicPr/>
          <p:nvPr/>
        </p:nvPicPr>
        <p:blipFill>
          <a:blip r:embed="rId1"/>
          <a:stretch/>
        </p:blipFill>
        <p:spPr>
          <a:xfrm>
            <a:off x="2036880" y="646200"/>
            <a:ext cx="5070240" cy="5803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Carboxylic Acid-Amine Re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voet4_fig_01_04"/>
          <p:cNvPicPr/>
          <p:nvPr/>
        </p:nvPicPr>
        <p:blipFill>
          <a:blip r:embed="rId1"/>
          <a:stretch/>
        </p:blipFill>
        <p:spPr>
          <a:xfrm>
            <a:off x="1233360" y="914400"/>
            <a:ext cx="6677280" cy="5803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Complementary Molecules Associ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voet4_tab_01_02"/>
          <p:cNvPicPr/>
          <p:nvPr/>
        </p:nvPicPr>
        <p:blipFill>
          <a:blip r:embed="rId1"/>
          <a:stretch/>
        </p:blipFill>
        <p:spPr>
          <a:xfrm>
            <a:off x="1981080" y="596880"/>
            <a:ext cx="4972320" cy="626112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d09"/>
                </a:solidFill>
                <a:latin typeface="Arial"/>
                <a:ea typeface="Arial"/>
              </a:rPr>
              <a:t>Biochemistry Functional Groups and Link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voet4_tab_01_02_1"/>
          <p:cNvPicPr/>
          <p:nvPr/>
        </p:nvPicPr>
        <p:blipFill>
          <a:blip r:embed="rId1"/>
          <a:stretch/>
        </p:blipFill>
        <p:spPr>
          <a:xfrm>
            <a:off x="380880" y="762120"/>
            <a:ext cx="8321760" cy="59324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d09"/>
                </a:solidFill>
                <a:latin typeface="Arial"/>
                <a:ea typeface="Arial"/>
              </a:rPr>
              <a:t>Biochemistry Functional Groups and Link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voet4_tab_01_02_02"/>
          <p:cNvPicPr/>
          <p:nvPr/>
        </p:nvPicPr>
        <p:blipFill>
          <a:blip r:embed="rId1"/>
          <a:stretch/>
        </p:blipFill>
        <p:spPr>
          <a:xfrm>
            <a:off x="306360" y="685800"/>
            <a:ext cx="8535960" cy="606096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d09"/>
                </a:solidFill>
                <a:latin typeface="Arial"/>
                <a:ea typeface="Arial"/>
              </a:rPr>
              <a:t>Biochemistry Functional Groups and Link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voet4_tab_01_03"/>
          <p:cNvPicPr/>
          <p:nvPr/>
        </p:nvPicPr>
        <p:blipFill>
          <a:blip r:embed="rId1"/>
          <a:stretch/>
        </p:blipFill>
        <p:spPr>
          <a:xfrm>
            <a:off x="304920" y="2171880"/>
            <a:ext cx="8531280" cy="2511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Biological Polym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1:08:46Z</dcterms:created>
  <dc:creator>Voet et al.</dc:creator>
  <dc:description/>
  <dc:language>en-US</dc:language>
  <cp:lastModifiedBy>Hayden, Katherine Leigh</cp:lastModifiedBy>
  <cp:lastPrinted>2014-08-26T16:27:41Z</cp:lastPrinted>
  <dcterms:modified xsi:type="dcterms:W3CDTF">2014-08-26T16:47:55Z</dcterms:modified>
  <cp:revision>71</cp:revision>
  <dc:subject/>
  <dc:title>Fundamentals of Biochemistry</dc:title>
</cp:coreProperties>
</file>