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9BED-E6F8-4818-985B-FF38C6EC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2628-A6BF-4750-A101-F97739611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CE1-0C9F-4E22-81A8-07ABC5109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D78B-73C3-433E-A987-59311C075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0F25-2403-421C-BEB0-5288FB15A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77AB-3E51-4723-AA39-059612AD6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1085-5FC1-4365-BEAF-8546D8DC4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0179-427F-4868-9412-12C8BC0A4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0B43-3B1F-48A3-A9DC-3423D6452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4BEE-4662-49BC-BFB7-E4C9C2B93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BCB7-99D7-469A-954F-F200E19F4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A8D2-18CC-4429-BE23-D304DA1E9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7488-DBF8-484C-98EA-B78FAC44A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F821-75D2-48AE-81DC-7553061AE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CE61-04CC-4567-809D-3E47CE33F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8745-E272-4DD4-8656-E96F08781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5167-9CA0-4EE4-A6B6-86BBC0270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797-5CB6-4CF3-8C6D-B18C409D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906-991B-4172-B928-56EE00D1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9DE-F640-4102-B2E9-970B5BA1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525-36B4-4D0D-9170-D8A3F313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CDB-F16A-4397-B1DD-E91D64D2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E5E-A4D2-4E1A-8563-BCCD364D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2D8-7B6D-447E-8371-0CE40E0D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00E-8FBB-403F-B961-D3D49752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BAC-FF3F-4206-B1BA-44A75E85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792-BC01-486C-B295-164D16BE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D03-4C46-4F7B-8B2F-8E3217CF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F00-3673-4B45-8E4E-3F9CA309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38C3-D5DD-4D65-8EFD-7D1ECAD04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76320"/>
            <a:ext cx="8153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732400" y="2944800"/>
            <a:ext cx="36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oet4_fig_01_05"/>
          <p:cNvPicPr/>
          <p:nvPr/>
        </p:nvPicPr>
        <p:blipFill>
          <a:blip r:embed="rId1"/>
          <a:stretch/>
        </p:blipFill>
        <p:spPr>
          <a:xfrm>
            <a:off x="2155680" y="914400"/>
            <a:ext cx="4832640" cy="5803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  <a:ea typeface="Arial"/>
              </a:rPr>
              <a:t>Intramolecular Complementary &amp;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600" y="1447920"/>
            <a:ext cx="91440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ich four elements occur in virtually all biological molecul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Practice drawing a simple condensation and hydrolysis rea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omplementarity would have been necessary for the development of self-replicating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Compartmentation of cells promotes efficiency by maintaining high local concentrations of react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etabolic pathways evolved to synthesize molecules and generat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simplest cells are pro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ukaryotes are characterized by numerous membrane-bounded organelles, including a nucleu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phylogenetic tree of life includes three domains: bacteria, archaea, and eukary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volution occurs as natural selection acts on randomly occurring variations among individu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voet4_fig_01_06"/>
          <p:cNvPicPr/>
          <p:nvPr/>
        </p:nvPicPr>
        <p:blipFill>
          <a:blip r:embed="rId1"/>
          <a:stretch/>
        </p:blipFill>
        <p:spPr>
          <a:xfrm>
            <a:off x="1884240" y="914400"/>
            <a:ext cx="5375520" cy="5803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ross-section of </a:t>
            </a:r>
            <a:r>
              <a:rPr b="1" i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voet4_fig_01_07"/>
          <p:cNvPicPr/>
          <p:nvPr/>
        </p:nvPicPr>
        <p:blipFill>
          <a:blip r:embed="rId1"/>
          <a:stretch/>
        </p:blipFill>
        <p:spPr>
          <a:xfrm>
            <a:off x="2146320" y="1022400"/>
            <a:ext cx="4367160" cy="5803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Relative Prokaryotic Cell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voet4_fig_01_08"/>
          <p:cNvPicPr/>
          <p:nvPr/>
        </p:nvPicPr>
        <p:blipFill>
          <a:blip r:embed="rId1"/>
          <a:stretch/>
        </p:blipFill>
        <p:spPr>
          <a:xfrm>
            <a:off x="304920" y="843120"/>
            <a:ext cx="8531280" cy="5557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Typical Animal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voet4_fig_01_09"/>
          <p:cNvPicPr/>
          <p:nvPr/>
        </p:nvPicPr>
        <p:blipFill>
          <a:blip r:embed="rId1"/>
          <a:stretch/>
        </p:blipFill>
        <p:spPr>
          <a:xfrm>
            <a:off x="304920" y="698400"/>
            <a:ext cx="8531280" cy="5478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Phylogenetic Relationship of 3 Dom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xplain the selective advantages of compartmentation and metabolic pathway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Discuss the differences between prokaryotes and eu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ake a list of the major eukaryotic organelles and their func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a taxonomy based on molecular sequences is more accurate than one based on morpholo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ich of the three domains are prokaryotic? Which domain is most similar to eukaryot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individual variations allow evolution to occu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y is evolutionary change constrained by its past but impossible to pred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2600" y="114300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nergy must be conserved, but it can take different for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In most biochemical systems, enthalpy is equivalent to hea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tropy, a measure of a system’s disorder, tends to increas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process is determined by the change in enthalpy and the change in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A spontaneous process occurs with a decrease in fre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reaction can be calculated from the temperature and the concentrations and stoichiometry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Biochemists define standard state conditions as a temperature of 25°C, a pressure of 1 atm, and a pH of 7.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Organisms are nonequilibrium, open systems that constantly exchange matter and energy with their surrounding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zymes increase the rates of thermodynamically favorable re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833200" y="55260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s of 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86080" y="1219320"/>
            <a:ext cx="4960800" cy="4762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744720" y="98424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∆H - T∆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63400" y="1295280"/>
            <a:ext cx="8017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end of this chapter, students should be abl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 and categorize molecules based on their functional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functional groups between macromolecules influence structure an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differences between eukaryotic and prokaryotic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compartmentalization of cells facilitates metabolic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ize the two laws of thermodynamics through language and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and determine if a reaction is spont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equilibrium and how it relates to the change in free energy of a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different systems (isolated, closed or open) and choose and defend which type of system do living organisms fall u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steady state and 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3750840" y="42876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hal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62120" y="1731960"/>
            <a:ext cx="3554280" cy="25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838760" y="1577880"/>
            <a:ext cx="3641760" cy="2813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912680" y="449568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025680" y="4495680"/>
            <a:ext cx="16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voet4_fig_01_10"/>
          <p:cNvPicPr/>
          <p:nvPr/>
        </p:nvPicPr>
        <p:blipFill>
          <a:blip r:embed="rId1"/>
          <a:stretch/>
        </p:blipFill>
        <p:spPr>
          <a:xfrm>
            <a:off x="1219320" y="838080"/>
            <a:ext cx="6232320" cy="5803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ropy Incr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voet4_tab_01_04"/>
          <p:cNvPicPr/>
          <p:nvPr/>
        </p:nvPicPr>
        <p:blipFill>
          <a:blip r:embed="rId1"/>
          <a:stretch/>
        </p:blipFill>
        <p:spPr>
          <a:xfrm>
            <a:off x="304920" y="1357200"/>
            <a:ext cx="8531280" cy="4662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Spontaneity Depend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halpy &amp; Entr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472040" y="503280"/>
            <a:ext cx="65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and Change in Gibbs Free Energy (∆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942280" y="28954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quilibrium, ∆G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extBox 3" descr=""/>
          <p:cNvPicPr/>
          <p:nvPr/>
        </p:nvPicPr>
        <p:blipFill>
          <a:blip r:embed="rId1"/>
          <a:stretch/>
        </p:blipFill>
        <p:spPr>
          <a:xfrm>
            <a:off x="2438280" y="1798560"/>
            <a:ext cx="4029120" cy="88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rcRect l="0" t="0" r="19908" b="64547"/>
          <a:stretch/>
        </p:blipFill>
        <p:spPr>
          <a:xfrm>
            <a:off x="2359080" y="1198440"/>
            <a:ext cx="4788000" cy="58104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6" descr=""/>
          <p:cNvPicPr/>
          <p:nvPr/>
        </p:nvPicPr>
        <p:blipFill>
          <a:blip r:embed="rId3"/>
          <a:stretch/>
        </p:blipFill>
        <p:spPr>
          <a:xfrm>
            <a:off x="3676680" y="3627360"/>
            <a:ext cx="2138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3660840" y="376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’t Hoff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971800" y="1095480"/>
            <a:ext cx="3198960" cy="63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371840" y="2711520"/>
            <a:ext cx="4351320" cy="3386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316080" y="2743200"/>
            <a:ext cx="43513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voet4_fig_01_11"/>
          <p:cNvPicPr/>
          <p:nvPr/>
        </p:nvPicPr>
        <p:blipFill>
          <a:blip r:embed="rId1"/>
          <a:stretch/>
        </p:blipFill>
        <p:spPr>
          <a:xfrm>
            <a:off x="949320" y="1054080"/>
            <a:ext cx="7203960" cy="5803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spher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ergy Flow in an Ope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2600" y="1447920"/>
            <a:ext cx="9144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ummarize the relationship between energy (U), heat (q), and work (w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Restate the first and second laws of  thermodynamic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Use the analogy of a china cabinet to describe a system with low entropy or high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hanges in both enthal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H) and entro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) determine the spontaneity of a proce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at is the relationship between the rate of a process and its thermodynamic spontane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600" y="1447920"/>
            <a:ext cx="914400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at is the free energy change for a reaction at equilibrium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mbria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,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, and the concentrations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biochemists define the  standard state of a solute. Why do biochemists and chemists use different convention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organisms avoid reaching equilibrium while maintaining a steady st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How do enzymes affect the rate and free energy change of a rea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voet4_tab_01_01"/>
          <p:cNvPicPr/>
          <p:nvPr/>
        </p:nvPicPr>
        <p:blipFill>
          <a:blip r:embed="rId1"/>
          <a:stretch/>
        </p:blipFill>
        <p:spPr>
          <a:xfrm>
            <a:off x="2463840" y="990720"/>
            <a:ext cx="3790800" cy="5803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Living Matter Consists of Few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voet4_fig_01_03"/>
          <p:cNvPicPr/>
          <p:nvPr/>
        </p:nvPicPr>
        <p:blipFill>
          <a:blip r:embed="rId1"/>
          <a:stretch/>
        </p:blipFill>
        <p:spPr>
          <a:xfrm>
            <a:off x="2036880" y="646200"/>
            <a:ext cx="5070240" cy="5803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arboxylic Acid-Amine Re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voet4_fig_01_04"/>
          <p:cNvPicPr/>
          <p:nvPr/>
        </p:nvPicPr>
        <p:blipFill>
          <a:blip r:embed="rId1"/>
          <a:stretch/>
        </p:blipFill>
        <p:spPr>
          <a:xfrm>
            <a:off x="1233360" y="914400"/>
            <a:ext cx="6677280" cy="5803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omplementary Molecules Asso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voet4_tab_01_02"/>
          <p:cNvPicPr/>
          <p:nvPr/>
        </p:nvPicPr>
        <p:blipFill>
          <a:blip r:embed="rId1"/>
          <a:stretch/>
        </p:blipFill>
        <p:spPr>
          <a:xfrm>
            <a:off x="1981080" y="596880"/>
            <a:ext cx="4972320" cy="6261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voet4_tab_01_02_1"/>
          <p:cNvPicPr/>
          <p:nvPr/>
        </p:nvPicPr>
        <p:blipFill>
          <a:blip r:embed="rId1"/>
          <a:stretch/>
        </p:blipFill>
        <p:spPr>
          <a:xfrm>
            <a:off x="380880" y="762120"/>
            <a:ext cx="8321760" cy="5932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voet4_tab_01_02_02"/>
          <p:cNvPicPr/>
          <p:nvPr/>
        </p:nvPicPr>
        <p:blipFill>
          <a:blip r:embed="rId1"/>
          <a:stretch/>
        </p:blipFill>
        <p:spPr>
          <a:xfrm>
            <a:off x="306360" y="685800"/>
            <a:ext cx="8535960" cy="6060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voet4_tab_01_03"/>
          <p:cNvPicPr/>
          <p:nvPr/>
        </p:nvPicPr>
        <p:blipFill>
          <a:blip r:embed="rId1"/>
          <a:stretch/>
        </p:blipFill>
        <p:spPr>
          <a:xfrm>
            <a:off x="304920" y="2171880"/>
            <a:ext cx="8531280" cy="2511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logical Poly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Voet et al.</dc:creator>
  <dc:description/>
  <dc:language>en-US</dc:language>
  <cp:lastModifiedBy>Hayden, Katherine Leigh</cp:lastModifiedBy>
  <cp:lastPrinted>2014-08-26T16:27:41Z</cp:lastPrinted>
  <dcterms:modified xsi:type="dcterms:W3CDTF">2014-08-26T16:47:55Z</dcterms:modified>
  <cp:revision>71</cp:revision>
  <dc:subject/>
  <dc:title>Fundamentals of Biochemistry</dc:title>
</cp:coreProperties>
</file>