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1DE-7E08-45FD-A4A5-BD9D7A9E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D4C-0B5C-4367-A60A-7CAD9E49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9BA-4D16-4B59-A37B-51F8A119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C50-79DC-47F6-9880-0D71C1B7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888E-2165-4CF1-8E8C-06A4FD62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90DC-1A5B-4B76-95CC-63559DEB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BBCF-E6EA-49FF-862D-06382036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2F0A-6D68-4430-BB89-0C7F1D70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1978-6182-48F7-B133-708C0152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D099-838A-45C8-9955-E53C26F2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D251-1A23-42F6-921D-16AC089E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840-FA08-4B31-ABC1-DBCC354A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4461-5F7B-473A-B09E-BF0824FE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D471-7085-491C-B14B-1B8A4C5E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3469-2005-486D-A494-2D90B38C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EC30-8215-4CC9-BFC7-1BD05E0B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2E98-E406-4EFD-8553-5602BBAE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CB2F-9499-4660-8D7E-0078B871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B8D4D-B7DD-4B8B-93B8-FA7E716C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ADCD-85B0-4E0F-B9CF-DDED42F5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9EA8-DD58-4075-9C9B-5142ED13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D643-2A78-4CCB-9454-00A46B55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D55-B831-4B70-8DC0-BE29BDC4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EA54-31F7-4FCF-8F37-6FEC70B8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FC6A-0B2E-4951-9F83-3B47EE7C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BE459-0AFB-4B52-B589-B580416C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0C961-8017-4DF0-9340-74B09D49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E0EA-17B3-4D11-A723-8C3AE193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EEA02-C321-4139-BF72-57001538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B330-C9B3-47AF-90F8-D90C3D31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66F9-08AA-4A79-A69A-10495CE6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4911-C9E8-4D3B-8ABA-4B041345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EC96-5B30-433D-9813-37B6E9CD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F070-4B10-45E0-9E8F-EDE1F2A8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42973-20ED-4EF7-B5EB-E930005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02A2-859D-4D28-8BD3-A783CEF8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F9FB-D7C2-4E9B-9ADA-A0853933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4B61C-DD55-4F96-84A0-11D8A7D6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09E4-0172-4978-939A-61F119C4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A9CE8-4EA4-43BD-B43B-F97D783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BBBA-A147-41C4-8586-BE5B38B2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9664-3648-439F-B506-619F0EFD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A6C62-10ED-422A-BE34-81226E53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6669-0668-48D0-BD3A-1A9DF544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DC9-1183-4CE8-9DBF-EF8B2379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C5A5-581F-4F93-AFFB-7CC6E032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39F4-EA52-4F95-BFA9-FC9903D0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49CA6-19F3-43D8-950D-E4302576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67EBB-EDED-4D57-8A51-86126200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C1C4F-4E43-4CD9-8AD0-D5DD5E5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1D89-0B50-433A-98F5-F2FD2ED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B608-651D-466A-A280-F125B827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36678-4A92-4BB5-9240-D30C71E8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916D-3D09-49C4-A831-ADF96637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4BDE9-8F8C-4496-8FFB-84B0D466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3A9-3A30-4F22-89BB-F2482517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3CA65-425F-44DA-BFE2-3F956D4C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D2CBD-D468-4D11-B8D7-DD658A91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32121-E2DA-41F9-B1A5-D41C30BB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8877E-FA7C-4D2D-9D17-B3D5A7BC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8470B-7B98-4F9C-9DAF-77139904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75CB4-2F5C-4EA6-A24C-1CC2E110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95F95-94BA-4D7A-B886-7A17EC38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00EE6-7252-4C3C-B3A1-9BEFC753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BCCC8-A176-47B9-B231-D1E5B275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54208-EB55-4F3F-928A-E7581461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626-B4F0-4EA3-9F44-593F3BFD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9D563-171F-43F8-BF4F-B055FBE3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1ABB1-C6FF-4AAC-957F-D4FE0F14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86421-3487-42CC-A371-5CAF85F7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FD6D8-D2E4-49E0-91A6-89E9C3CB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CB593-A5B6-4E11-9794-1A54878E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11DEE-A73C-4DF9-91CC-F28C42AE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CD979-4BAB-460E-9A46-6EA1171C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78516-48FE-485D-8E2E-0A449401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E5C3D-5AA9-467B-B5EA-D408FDFD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754A0-95BB-462D-9C0B-EC223E8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0D6-A08D-4852-A1EC-BAAF0D8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81D64-50B5-41B6-B643-50634886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8A8A7-E2CB-4AFC-B2C6-30C5AF32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D2C43-AE62-46F1-AEF8-C68C033A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5254A-0A09-4CE5-84DF-262B0C91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5E50E-ED89-49A5-9304-91356834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9AF-4CA3-46AF-95ED-036D387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A3FB-EB3F-44CE-B1EB-CBD578B9484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194A-B429-4B15-9804-1A1A6402DAB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AEF7-AC36-4D42-947A-DC0BA81136B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05EB-80F7-4156-AF5E-4E52F9E157A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EB23-AE96-47BB-A6BA-85316E9290F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DF85-CE89-4939-89DE-EA4E1A58268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3C8F-3E68-4179-BCF1-7E58C84ABE7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7-08-25T15:53:25Z</dcterms:modified>
  <cp:revision>32</cp:revision>
  <dc:subject/>
  <dc:title>Special Education Process &amp; IEP</dc:title>
</cp:coreProperties>
</file>