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66C-2778-4F74-97DF-448B969E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C5E-E9E2-41AB-BE1B-BF386B1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618-3842-4777-AF19-4CF66268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062-4E46-4242-A789-4E4EFDD0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7F57-C19D-44F4-8DBE-C935784D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0420-F1B6-49FB-BF60-76EE6060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52F2-098A-47C6-A4F2-70A9635B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A945-666E-465E-983E-FE2A55C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11D-C1EC-4A2A-9AE8-123433E9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78B4-D196-4A88-AF7A-2CC35EAB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E172-E5C2-4206-BE1A-47D2FFB7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325-9340-4F43-8492-061E9D05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8E82-FEC4-48C4-90EE-EDE384AC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EB4E-B1EB-419E-B8D1-13945E6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F5A2-E2C5-4CBF-AF4A-F8F5D53E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A092-C7C9-4B37-87EB-2ECCA0EA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524C-C10B-452E-A8CA-15F75EB7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7FA2-05F5-4C6E-B6C2-E11CE244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C7A37-919D-45BF-8069-4271A08B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96BDA-BFF6-442D-B340-07C9414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5044-0ECD-4248-AB2C-D4FFF226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160D-9E7E-4C7A-AB49-03C1E4BB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EF1-9D1F-45C8-9C07-169BA8D4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C3C9-0A17-4064-B220-5A66426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C7F2-93D3-430F-8AED-661102D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EF47-8337-4939-82C6-2D54AC6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6D70-890B-40C3-8D0E-24898E4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D6DB-8822-488B-B105-17DA3725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9C6DC-BD25-4F18-9ABC-82BCD8EE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95780-56F7-499B-8D0B-09EF802B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F67DE-2E37-4E98-86BC-8A90873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EDA5-227B-4C3C-9C3C-E4D5F0EA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BC0B-8D7B-4A15-8E56-2F3F5C5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F1B-439C-45F5-9C0E-2323F147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2AFE-167C-4A19-991C-C1467F85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0B5F-B93D-4276-9934-A7E1C0E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08EB-B4E9-49B8-8DAE-011F695F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AC93-EA12-4854-A53C-15FC5CD7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8620A-B318-44D0-93A1-43EE1B8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87F4-140B-4C58-BF4B-24A5EA6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C7DE-AD54-4684-9A80-142F754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4D3A4-673C-420B-B508-CD3F0F81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39AA-9B3F-40F4-9695-C3E08823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E69B-37EE-4C3F-9F44-8E7F8747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9A9-46E9-406F-B82F-9AB3301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2214-3ACD-4FFA-B6DF-63D1621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9EA3-B185-498F-9FE4-24976252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D2E5-92AD-491B-8DF5-A6A2B4C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DA82E-70CD-491F-81AF-7E2EBD8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AB384-3F86-4591-9B08-8427E252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A45C-BE49-4BF2-90F3-FA805C5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662E-1094-46BC-A43C-EB24E3B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1113-2C15-4D29-AA2F-C3E3C4B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4E2CE-51BF-47B0-94D2-EA44D87E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72D1-EA14-46F2-981F-2129B61A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F9C-CF00-4A01-AE3E-F8FA3E7E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6CA47-1A44-455B-8A37-F62614EF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F1039-6BB5-45BE-B1A7-DC034B9F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EEDEF-15B9-4859-87C8-B912A740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AD87-B217-49F9-9592-5B677C7F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DEBAC-CF79-4102-AEA2-7074A559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E1CC6-6BF2-4AD4-978A-0172355B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38811-AF71-40DA-9BD6-38CBC89A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4C85-558A-43E1-96C0-689A5A8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ED754-6C2F-4F0E-852C-6D5241A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5EFD-71A0-45DE-9F40-8224C56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28F-A5A4-43FD-8ABA-61E50F5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F0348-67BA-4A4C-B2F0-234CA9D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1F7E-1E45-4F53-864A-C1AFE3DB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D1AE-F398-4974-9479-325477B7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DB0D-BAA0-487B-AEF7-12F1DC13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1AFB-8AB6-4194-9A60-2446F56D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9B62-BF86-4C9E-8D5A-5D48625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2448C-25A5-45F3-A675-2B2805D4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E5D58-89A3-40B2-BAE7-394672A9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7282-EA57-4D53-8428-7A3E8BF7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5E3D-9531-4FD5-BF34-A8A9C6D2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FA3-8742-46F5-9E8A-21021C1D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DDF1-5DDD-44F6-8EC8-D8E72F7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EEFB-C652-4BD3-B51D-9991D358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B3426-287A-4ECB-B442-9641F16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93B5-8F5F-436A-BB87-D96C31CA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C0E4-F1F3-485B-A877-85A6ED53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BF6-FB32-4EFD-8007-77A38ED7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77B1-4E3C-48A9-A857-7DD364C40F2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209-236E-4C5C-82FB-45883804E4A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75F2-7562-408C-960A-1EABF955DBC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766-0C2A-4F49-BD0A-741514D642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1698-D8A0-467D-B33B-6E6A10A7EEC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C18-EAEE-4E32-9099-E569E54FB12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2341-FCDA-406D-B5F2-DC4CA3118CE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7-08-25T15:53:25Z</dcterms:modified>
  <cp:revision>32</cp:revision>
  <dc:subject/>
  <dc:title>Special Education Process &amp; IEP</dc:title>
</cp:coreProperties>
</file>