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5.png" ContentType="image/png"/>
  <Override PartName="/ppt/media/image2.png" ContentType="image/png"/>
  <Override PartName="/ppt/media/image9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F4C8-FC01-4987-BC4B-C4FC92B9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25D5-0522-42CA-AC97-FBE072A8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2C2E-D4A5-4847-93D3-0B762D02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9416-1A9E-482E-89A6-49945313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5EC5-8BE7-477C-B7AB-18B3C550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0F0C-7E7C-4F32-A91F-51BFC816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1463-7785-46D6-BB62-68C184E0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B10A-1E90-4182-AA8B-5B6FF8BB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39E8-5B83-47C8-BDBA-50A143B6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C52F-7596-4C15-9A5E-4797DF93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C001-BE78-4F6E-9B4A-979F8440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8FA2-785D-46B1-8936-0742A7DE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DA10-D74A-4E06-B9AE-7B67357D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7641-EC5E-4EF1-B2F2-BC4EDEA1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09F1-22C0-4EA9-8CC0-F3C2F621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0682-4327-48CB-89B8-B7D85801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B034-A91B-4E34-98CC-B48667DF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1A08C-476F-4AD4-9004-DA6BC0AD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65661-70F6-49C4-86FD-89ED4D5A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9AB05-BDFC-4844-B889-FD98926D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44632-26F6-471B-8D2A-2E97AB2E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DA24E-D23E-4B43-9478-07256A05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4CB7-8749-49EC-AE39-846663BA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4E222-C445-4A92-B41B-8B4FE6A7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08571-4EEF-4E9F-8BA7-A44E4C7B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1BE8C-2FC1-4CA4-AF33-EA799C29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A48C0-4A64-4077-890A-3A2AF2C2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458A7-352B-45EC-9650-FBDCA772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9EF84-E473-4334-9277-DBF03F58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A3914-3FBF-43D1-87A8-24BBBFE3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01B2E-7CFA-4E04-B101-F3CDA7A0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209D9-ABBF-4BC7-8764-A53900D0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23E1E-4E92-4B88-B0BA-4646218C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EE6A-765B-45E8-A910-A6087EF8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D1BB7-34FB-4C5A-9B79-712CE248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D61C6-EED7-4A97-893F-AF224E9B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54AF1-F42B-4CE6-A9FE-829BF5AD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673EB-29C5-4C33-B6BE-AD0E1448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4D77D-6833-430B-9513-5AFB4F36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68292-6ED5-4C08-BA2E-9AA7502F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2CE68-364B-449E-AB55-CD49285F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0CC68-7583-457E-9531-7105797C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7C3AF-AA45-4924-8A9B-30296619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C08C8-88F3-4895-87DD-B6DF885E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BD47-C40C-463B-94FC-CC220FE2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2EE8F-A8D1-420E-9604-88F76FE3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66BF7-3BEF-428E-A4E0-D4E46600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DD382-71BB-4ABB-987A-90E3031C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22193-2F67-4E65-94B3-63A97FDB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CEE59-E6A6-4D1A-AB94-882EE7CD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92E0F-0AC0-4F5E-B985-910B55F3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14DBD-9502-4AA5-A476-4370AB6C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96DFF-FFA1-4CBA-BA51-D01096A1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90671-CCBA-4021-893D-9ED3016B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9E385-14D0-40FA-A630-4F33F6CF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739C-E5CD-4A0C-A47F-5ACF67C2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FE452-A684-469C-A1BA-E0A335D5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2169D-51BA-4BA2-8827-9F7BB558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37744-95AC-44C7-AE79-4A77459F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E213A-52B6-472C-953B-B1AAB2A8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D903F-4518-43AD-8811-82F919D0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F2F3E-6F3C-4649-906C-45CC21CD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446CE-3471-40A3-A5A9-4D207484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DAF0C-31CB-49AD-812C-A237BE7F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FA882-7C9E-45C7-B2A9-EBF49E50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6AF2C-275C-42F3-9AA5-DA1EFC49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8190-3845-43E9-AD7C-BE4DD8A2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F9963-C3C1-4833-A182-FF2EEAB6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7CDDB-1ADA-405D-B63F-79A91FF4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38203-D765-411C-970D-AD40FF2C1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00368-E7E9-4E0C-8DB3-65343AE5E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B0A9A-83E1-4F29-BE56-2F0D0EAF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393AA-B103-4D05-8C5B-150B77C0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FDD90-6CD0-4730-93F2-BB38F365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8E082-139D-4427-8D34-FB637B8B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85E80-62BA-4ABE-81E4-6917715B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A1C52-570A-4253-81D2-A9EDEE73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26A4-1FCF-422B-8E12-2F8FDBB2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B10FB-6744-4752-BBA2-471764DC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0687C-F462-4AFF-8FF5-A36E570B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9B494-D02B-4E7F-BFB1-BFFD825C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F1915-F4C7-440A-83FA-9D982635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830FB-C38B-45DF-9578-E3E71F6D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0209-50D6-4E22-9AAA-16CC1781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643C-B55D-4484-8434-DB2BF3D922B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5221-E69D-4EA1-80E1-573D691E510B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DBED-0C28-41B3-9DF8-A985433B6BC0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E293-F922-4E35-8EA0-1734D033E85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EB19-5597-48D2-9E8C-DC50E5C1317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F20F-16FE-4335-A82E-7B31A702FAC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AA9E-2510-4E0A-9745-73C1A920635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s://www.youtube.com/watch?v=2XsaK3pWyII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914400"/>
            <a:ext cx="3882960" cy="41148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3241080"/>
            <a:ext cx="80773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C:\Documents and Settings\aspencer\Local Settings\Temporary Internet Files\Content.IE5\PPSHIWYG\MP900426612[1].jpg"/>
          <p:cNvPicPr/>
          <p:nvPr/>
        </p:nvPicPr>
        <p:blipFill>
          <a:blip r:embed="rId2"/>
          <a:stretch/>
        </p:blipFill>
        <p:spPr>
          <a:xfrm>
            <a:off x="4583160" y="0"/>
            <a:ext cx="456084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"/>
          <p:cNvSpPr/>
          <p:nvPr/>
        </p:nvSpPr>
        <p:spPr>
          <a:xfrm>
            <a:off x="685800" y="6095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Arial"/>
                <a:hlinkClick r:id="rId3"/>
              </a:rPr>
              <a:t>Special Education Teache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" descr=""/>
          <p:cNvPicPr/>
          <p:nvPr/>
        </p:nvPicPr>
        <p:blipFill>
          <a:blip r:embed="rId1"/>
          <a:stretch/>
        </p:blipFill>
        <p:spPr>
          <a:xfrm>
            <a:off x="5334120" y="22320"/>
            <a:ext cx="3782880" cy="3666960"/>
          </a:xfrm>
          <a:prstGeom prst="rect">
            <a:avLst/>
          </a:prstGeom>
          <a:ln w="0">
            <a:noFill/>
          </a:ln>
        </p:spPr>
      </p:pic>
      <p:pic>
        <p:nvPicPr>
          <p:cNvPr id="331" name="Title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resentative from District (administrat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st Interpreter (psychometris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ther Professions of related services (OT, PT, SLP, nutritionist, consulta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For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stering The Maz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Picture 3" descr="C:\Documents and Settings\aspencer\Local Settings\Temporary Internet Files\Content.IE5\P6J8AG6K\MC900099486[1].wmf"/>
          <p:cNvPicPr/>
          <p:nvPr/>
        </p:nvPicPr>
        <p:blipFill>
          <a:blip r:embed="rId2"/>
          <a:stretch/>
        </p:blipFill>
        <p:spPr>
          <a:xfrm>
            <a:off x="914400" y="2819520"/>
            <a:ext cx="7010280" cy="3622680"/>
          </a:xfrm>
          <a:prstGeom prst="rect">
            <a:avLst/>
          </a:prstGeom>
          <a:ln w="0">
            <a:noFill/>
          </a:ln>
        </p:spPr>
      </p:pic>
      <p:sp>
        <p:nvSpPr>
          <p:cNvPr id="336" name="TextBox 2"/>
          <p:cNvSpPr/>
          <p:nvPr/>
        </p:nvSpPr>
        <p:spPr>
          <a:xfrm>
            <a:off x="609480" y="6553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523520"/>
            <a:ext cx="5867280" cy="4876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academic setting or environ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ows child to mor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urately show wha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/she kno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s the playing field, not giving child advant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: Books on tape, Oral Tests, Calculators, More Time on Tests, Dict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1" descr=""/>
          <p:cNvPicPr/>
          <p:nvPr/>
        </p:nvPicPr>
        <p:blipFill>
          <a:blip r:embed="rId2"/>
          <a:stretch/>
        </p:blipFill>
        <p:spPr>
          <a:xfrm>
            <a:off x="5943600" y="2890800"/>
            <a:ext cx="32004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6840" y="1774800"/>
            <a:ext cx="61722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work, making i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fferent from the 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 other childr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th IDEA, is done b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Extende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andards, written b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AAA (Alabama Alternative Assessme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Picture 1" descr=""/>
          <p:cNvPicPr/>
          <p:nvPr/>
        </p:nvPicPr>
        <p:blipFill>
          <a:blip r:embed="rId2"/>
          <a:stretch/>
        </p:blipFill>
        <p:spPr>
          <a:xfrm>
            <a:off x="5486400" y="2438280"/>
            <a:ext cx="3800520" cy="4181760"/>
          </a:xfrm>
          <a:prstGeom prst="rect">
            <a:avLst/>
          </a:prstGeom>
          <a:ln w="0">
            <a:noFill/>
          </a:ln>
        </p:spPr>
      </p:pic>
      <p:sp>
        <p:nvSpPr>
          <p:cNvPr id="343" name="TextBox 1"/>
          <p:cNvSpPr/>
          <p:nvPr/>
        </p:nvSpPr>
        <p:spPr>
          <a:xfrm>
            <a:off x="466560" y="6219720"/>
            <a:ext cx="47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bama Extended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er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ra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41212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3962520" cy="1249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-360" y="1774800"/>
            <a:ext cx="4343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ecifically Designed instruction, at no cost to parents, to meet the unique needs of a student with a disability, including instruction conducted in the classroom, in the home, in hospitals, and institutions, and in other settings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5" descr="C:\Documents and Settings\aspencer\Local Settings\Temporary Internet Files\Content.IE5\P6J8AG6K\MP900432711[1].jpg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re-refer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sponse to Interven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fe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Instructional Planning and Place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Content Placeholder 3" descr=""/>
          <p:cNvPicPr/>
          <p:nvPr/>
        </p:nvPicPr>
        <p:blipFill>
          <a:blip r:embed="rId2"/>
          <a:stretch/>
        </p:blipFill>
        <p:spPr>
          <a:xfrm>
            <a:off x="-152280" y="3048120"/>
            <a:ext cx="4532040" cy="32004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"/>
          <p:cNvPicPr/>
          <p:nvPr/>
        </p:nvPicPr>
        <p:blipFill>
          <a:blip r:embed="rId3"/>
          <a:stretch/>
        </p:blipFill>
        <p:spPr>
          <a:xfrm>
            <a:off x="4302000" y="304812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0" y="17748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893880" y="1676520"/>
            <a:ext cx="68990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nual Guide to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livery of customized services and instru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laboration between parents and profession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EP must be developed within 30 days of evalua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6840" y="1774800"/>
            <a:ext cx="6248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udent’s present level of academic achiev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asurable Annual go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ort Student Progr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st Services Need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ommod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nsition for 16 or ol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5" descr="C:\Documents and Settings\aspencer\Local Settings\Temporary Internet Files\Content.IE5\XKMHQ9CZ\MP900049992[1].jpg"/>
          <p:cNvPicPr/>
          <p:nvPr/>
        </p:nvPicPr>
        <p:blipFill>
          <a:blip r:embed="rId2"/>
          <a:stretch/>
        </p:blipFill>
        <p:spPr>
          <a:xfrm>
            <a:off x="6172200" y="1447920"/>
            <a:ext cx="297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udent (the who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do what (the behavi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what level (the criterion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der what conditions (the condition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what length of time (the time fram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y the end of the school year, Jessica will be able to complete 20 long-division problems in 10 minutes with 90% accurac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the maximum extent appropriate students with disabilities are educated with students without disabilities, and special clas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4" descr="C:\Documents and Settings\aspencer\Local Settings\Temporary Internet Files\Content.IE5\XKMHQ9CZ\MC900310846[1].wmf"/>
          <p:cNvPicPr/>
          <p:nvPr/>
        </p:nvPicPr>
        <p:blipFill>
          <a:blip r:embed="rId2"/>
          <a:stretch/>
        </p:blipFill>
        <p:spPr>
          <a:xfrm>
            <a:off x="4572000" y="1676520"/>
            <a:ext cx="518148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22:28:30Z</dcterms:created>
  <dc:creator>aspencer</dc:creator>
  <dc:description/>
  <dc:language>en-US</dc:language>
  <cp:lastModifiedBy>Spencer, Amelia G.</cp:lastModifiedBy>
  <dcterms:modified xsi:type="dcterms:W3CDTF">2017-08-25T15:53:25Z</dcterms:modified>
  <cp:revision>32</cp:revision>
  <dc:subject/>
  <dc:title>Special Education Process &amp; IEP</dc:title>
</cp:coreProperties>
</file>