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377-6496-4BC4-A408-7D3DF9AF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92C-1784-4339-88D9-F17A88E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CC8-2F5D-44E8-8E13-4166DC0D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C27-F453-4BB0-BAB9-8BD24968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34EA-DA8A-465A-9C51-F55150CC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993B-D8F1-476F-89A3-76B17702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83B2-F280-469A-AB87-F17FF6CF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C68F-F6DC-4B83-89B2-DCAE4C7D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679F-8EA8-443F-84D0-2EEC7DE6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CCB9-EFDF-4EEC-893B-048CE813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53E8-C084-42F1-AC03-949AC69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E69-72D7-4FC2-8FC9-D55B1142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76B4-80C8-4C80-B1D6-A9C9EEF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D79C-8C62-4C3B-8796-E5AD07CE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69F3-2396-478C-9114-D08202A7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59AD-9FDC-4DA7-BA8E-A341C63F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57F4-172A-4418-9451-FAF0FFD5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2CF3-3A06-411C-A5FE-DD958E9D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C52F-16C7-4907-A1E5-3178EB6E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3FB0C-E195-4FCC-9127-66627169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472A-8BF6-455A-A0DA-F55013DD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BF7D-56FE-49EC-A4CE-C5FA13D4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F17-D092-44B0-9F4D-80ABF1CC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3590-D678-42B8-9B85-A93C0CEB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779F-D31B-4676-96A4-DE8D2E20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945D-C492-4FC6-94A1-764B8349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21CB7-F203-4EDE-ACB2-7800FC16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1C5B-11E7-461E-8CDB-C8AB3628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CAD4-465C-4C46-A19B-5ECFE87D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F645-0C13-481F-A359-723B6765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58A49-9DC1-4343-926D-00E43C5A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B93F9-DEDA-4F5D-846B-F91CE375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BC34-62EE-4D4D-97DF-102EC02F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61B-8EC2-4509-B13A-0DCA260F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FFD40-60A1-448F-8FEB-2EAB3AF3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4B81-5A5F-4BBF-BB5D-6D7B873A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293F0-AE57-46F5-A32F-15073D58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653C3-233A-46F9-BA15-7FDF3045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554D-6450-46D6-AD02-F0964A52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E3E4-CBD9-411C-94C9-00297CA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09CA-179E-442F-B104-EF68F206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2420-2062-4FF9-8C50-7FD61DD6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1F878-54CD-4A5D-A8C3-BEFB4170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3894D-1544-445D-A423-71A2C56D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25D-6126-4DBA-88F1-20222DC6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BFC7C-561F-4CEF-8C4B-A4A55133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150E-DBBE-4C6B-99A3-F9023379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A220-8E6E-4F54-A21C-59782A73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F7E4D-B726-4215-9E00-F40DF1AC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C3E84-93B2-47F6-A6E5-502287C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EAA4C-D879-4E41-B953-97A3AEFB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EBC58-632F-4A92-A2C2-511D80D6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CB28D-FD1D-46CC-BB30-00C2C274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9823E-0249-4479-9477-A415CB2E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6E5A-E9D4-40B7-B0F7-A4E005BB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D4E-0167-4B38-9A51-6B4F7F08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932E-0BBF-4D6C-931F-C5A9F436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FD3EB-6984-4D4C-89E8-5543AB97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92CBC-7982-4C40-9592-78FCF568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8B8A6-0C74-4C82-930C-00CF15E2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4231C-9E3F-4D3C-B624-5AE25313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7352A-9B4F-401E-8DBE-13CBB3B8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29C02-CC09-47EE-AD29-41351748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585DE-71AF-4920-A2EE-1648B93A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36C43-C6E5-4514-9F10-1E9AE1C6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91AC9-E169-4058-A91F-2C529EEA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9AB-062B-4454-B2C5-D8651422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8871D-9F96-4556-A7D3-9149B277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52BF7-5A95-4312-8574-2B3ECEC8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120A6-0415-4299-8052-A6A069DF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B8231-41A0-4FFF-A4D7-8CB6785F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0883C-DD03-4667-9FB9-A9EFF019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768FC-F796-4CA3-9A10-3D7B4E07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8D53F-C849-4BFF-B21B-7182BF1B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0E413-C581-4592-A8D6-7A6BAC01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15F9-51F6-4868-91FC-F29051F3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110B7-2CBE-4189-B542-C226A542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B85-B101-400C-9F36-A4EEB181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8E9E-348D-4694-A76E-C79B863D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B702B-FAFF-48D7-B376-BF6BFB34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B5280-8055-48FD-BBEB-09002AAB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7BEA8-8433-495F-8AB2-79E49461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9F21D-2642-4011-ADEB-E4986346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F39-2978-4B4D-AB04-01F33AC7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7B4F-C251-4698-9554-004C0CD0413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B2AD-B581-4088-8515-6DBD49F3D8C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8B29-9493-4830-B79D-6243DFA946F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33A7-4511-4379-8DDB-E0199C51692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6DF5-2FDC-4169-B037-0E30A5FC69E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645E-7F58-45E6-91CA-282AF3D4937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AB4F-695F-4CBE-B5EF-BE3D34C299D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7-08-25T15:53:25Z</dcterms:modified>
  <cp:revision>32</cp:revision>
  <dc:subject/>
  <dc:title>Special Education Process &amp; IEP</dc:title>
</cp:coreProperties>
</file>