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411-7FFF-4CBC-AF5A-C1AEE613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C58-3C6A-4C46-B2CC-61512CD2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A32-7F11-4C3F-8EFC-7611D3FB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B4A-88CD-4533-9590-3C0267B7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748C-31EB-43A5-B8E7-EBF20624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0386-8FBA-412F-83BE-BB9F6FF1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256B-3E48-479C-AAD7-F4C1F3D5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54B9-9F1D-4A87-9332-0E54237D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A8D6-F830-4EB4-9A56-B9C7EEF9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63E9-8F4A-4834-A6D5-F38DB813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CE44-FC44-40C9-8D3B-827B2EDF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82C-A4BE-4C17-8220-EC30E674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EF24-E88D-43A9-821B-122E7EF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C3A9-248A-4EFE-9DA3-B9C14A8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5B64-8B6A-4608-B45A-6723E8C1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C4F8-A6CC-4CDF-8A37-18147429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C6F0-63FE-45DB-A52D-179831C6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68CB-39DC-4AED-BAE6-7E703CFA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B2E2-280B-4160-A875-E8BACA25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5105-5D4B-4478-B507-1E32A3D7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C814B-430F-4871-9EB9-A741AE24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3E28-3731-44DA-9592-AE9C2C5D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AF3-5738-4751-A73F-AAAD69AD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873E-58F7-4F49-BF78-B6B25268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D21C-3402-4497-B9CE-BB799BA1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BB616-D23B-4D8F-BC79-3FE586E3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9D64-0236-460A-86D5-5FD14C9A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A454-F9EE-42F9-B64F-9292DC62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26E3-323D-4BCC-B34D-6FA9C70E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CD87-7646-4073-9024-0753186F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3986-703B-4549-82C8-A8673BF9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1DD8-498E-426D-A93D-F6C96C5F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A9DE-31C7-4015-A31E-C00BEBC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BE8-D924-4A5C-ADB1-D4A4F5F1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D94F1-55F8-4937-825C-82CCD686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5BD57-27BB-4860-A325-CFBEF7F2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681F-5E4E-4618-8EE6-EA9A96FA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FC2C-999C-47CB-90F4-563774B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8A67-FC23-4C4B-8169-D912C65F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651A-3C5F-474E-8ECF-F1BD66D7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834E-A3BE-44F3-9FFA-C27B102C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1C09-B741-439D-A570-31E04C87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4E81-9902-41E0-BD45-30D80F03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5D98C-4F00-4737-8825-3E79ED48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DAC-5ECF-4014-8B52-83F6DD1E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B340-2099-481D-8600-CDA98452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D41F9-FE40-4357-94D6-365A4E08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844DC-BD12-4807-A41F-E96A8431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BC75-23C3-4536-AE67-06F17EAD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140EC-AB26-4A9D-8026-6B8AD552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F960-C85B-4DD7-AD19-E700247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C5F9-E939-43BF-846D-52CE4827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B0A84-E5FE-4A4A-BF70-C927669E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D1FD3-22D9-47B8-8666-9D78E370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DCF0A-1EFC-4F71-8BBE-93051038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4C3-7B84-485A-AC97-B41151EE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6EC91-4ED7-41B3-AE2F-896BDAA8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FD09-AD01-4800-9FF0-2D2EEC22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2CFAF-1CF5-41A2-AA8C-831AA931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BF7E5-0DF9-4956-BAF6-884DD76A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83DB5-DCA2-4022-9EA1-809AC3D2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A7A3E-8AA8-4617-A24B-CD3DE8E2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1A16C-D63A-4E5D-B7CD-28733646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CA644-3799-4341-947E-E4F8255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43D3D-A4B8-4F07-A02C-13AAD72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4DE55-AA22-4841-8B6E-C74EF502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7C4-CA0F-47FE-AE1E-3628CDE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0AB2-DFBC-4C87-8BD4-0AFDB648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05D85-B128-4D41-B7DB-B1CBC03A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5FFFB-AC79-4B06-80F0-A6384953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36C3-401F-4E3C-BC7E-89507C72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BAA8A-9435-4CE9-8A84-5D696556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A2F03-1BA5-472E-9ECB-ACDF6468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12C8A-D9F2-4353-89C4-0A67AE2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20B0-91E1-4C9F-9071-AA111EEC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3DD26-F919-49A5-A7DB-D373CEA5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4EE6B-C005-48BC-9F7A-1DA39704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68C-E1AA-4F3D-AECE-00FA199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B1B07-1A9F-4B68-8444-CFCD904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E684C-D779-4139-B61C-56CE170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63F36-B9BD-4641-8B58-9F0AF3BF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0117C-EE1B-45D4-833C-32AB91F7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F349-BDE3-4DD4-82CF-CC3059B7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1A3-246E-4459-9FC0-8F328D7D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ABCF-6B08-4109-9AF9-88F53EE99F2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EC91-4DC3-4BA9-84AD-809D1BD9079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9560-0389-4A03-93A8-69FF75C302B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5C9C-AE78-47BE-95F0-D7CC7751F88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089C-18C1-41E6-BDC4-B1059692CF9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194-DFFA-4C8A-A660-633C311CDAF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6166-0B07-4364-8BAE-BB451D039D9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7-08-25T15:53:25Z</dcterms:modified>
  <cp:revision>32</cp:revision>
  <dc:subject/>
  <dc:title>Special Education Process &amp; IEP</dc:title>
</cp:coreProperties>
</file>