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9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4E6-DB61-4437-AE3E-AE8923B0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624E-DA40-4CB3-80DE-F0BECFDA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BEB-FFA3-47F3-BF01-EA6CD439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DFFF-4A36-4BEA-BB6B-864DBF2A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FCE7-9DD2-45EF-926A-45B62891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64C2-919D-47F1-89D7-329A1143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BC83-FBA1-4652-AA65-0BBBB703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055C-1AA8-45BC-A464-1AA1533D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8135-4CA3-4882-8DD1-B4A69DA3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CA25-CC87-48CB-B0C6-371B8A69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27FC-2295-4EA7-BD41-DFA5BB7C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0B9E-88D8-424D-8093-B17EE775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F61E-C039-49A0-BD50-290A141E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52E6-3EF8-4EBF-836A-93583038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1999-EE81-4055-97AE-D55896A4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053E-4F6F-4BA3-90E2-372B3E95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4ABD-3B58-4B66-88D2-B19F6B33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8F123-73A5-40D9-A93C-0B8B248C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E8D53-F8FB-484F-AFCF-CB770AE3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D2472-2EC9-4F3A-AB26-704AF861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57873-93A4-47B8-855C-90909909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875D3-BC68-498E-8271-23D8101F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6A84-1A2F-4FA8-885F-CA2C1C1B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9A950-255F-4CAD-A26B-AB31FA87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CCA03-C342-4CA9-98C8-8ED79DA5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43C20-62F6-469D-8D6C-95D866F9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8012D-AACE-4B26-953B-AC10757F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9DCA3-AC81-4538-B22D-720AC15C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639C6-5A5F-40F4-AF4E-1639A9E5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1F269-A702-4A73-A118-3B736F22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330C4-4545-457D-A178-B129CDC5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98A4B-5B60-4EF7-9842-9324E68A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9C753-8634-42B5-8030-0881ECD3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77CF-CB8B-4148-BB45-9FD05223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3962A-FA34-4866-B0D7-9EA7A5A4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9D7E1-5B27-4555-B951-480BC2B4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2AC3A-0D4A-4217-8CD9-6F3A7ACA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EDFE4-EDDD-4284-BB52-DFA7F3B1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FF94A-28E7-4AED-B085-3ACC21B8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93E4F-7CEB-4357-A474-3F0F4968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9A249-91D4-4073-81F2-81BC5C3A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28542-5267-4411-9542-883CED6A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AB356-AD25-4801-B607-A81EA226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8AB25-CCCB-4DBA-8EE7-69D7891B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4F9-0420-4E98-96C1-AAC9D593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C0A8F-BDEE-4D98-BDAA-F2A7DE7A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99E68-791A-4197-BD48-ED7FE671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6687B-641A-4521-88DC-A8E53ACA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7672C-888F-49D0-92D5-465A65EC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9EE9D-1C49-46BF-866D-C8669A5E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C0D0B-9416-400F-9FAE-F5B47AE0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C6322-3E72-4DE8-AF9E-C8337116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9D282-BD28-4F8F-8CB1-7A91C17B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D1B76-D8D6-4405-AE01-D3A3E519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9ADEC-4E91-4D92-9913-2305BD00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1DC-5F94-4FED-9A95-14C4472C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C7782-A670-4911-BA99-02032C34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B8476-76CE-4B63-94E3-825D6F17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F76EE-3619-4525-9EEB-7411BA56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46377-B7FE-44D0-888C-3107C15D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97D83-3A6C-4ED8-8CDF-CCA9F0E7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D6C39-630D-4BD1-B0C9-F897858C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8A51D-CD48-4DF0-82EF-023F7E71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EB933-5DFD-42E8-87DA-DB862E73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0BD96-D73A-4F1A-9DE4-7D9C5C35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DC95D-EDE2-4DB1-849B-B4E2B189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A69-8FF9-4C61-9F5D-6B9192E4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E21EE-D386-4578-923B-8F1F7B99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C8DB2-D55B-4FF4-B5E7-86914236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3742B-42DD-4F0A-A5A6-94167304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1CE11-E568-47F2-BC41-FAE4DA32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7B9C3-314A-4903-B320-53ECEDFE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10C68-16F7-46CA-997C-A9E8B09E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551FE-5480-48D9-9235-DAC6867E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BECED-65F8-4F7F-95DF-855C59EF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1962F-0871-492A-A70B-4F6856E7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48E69-820E-4630-BC72-1CE2781B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156E-9D10-47A3-9838-289BD928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7F04B-74AA-4ADF-9EE5-BF301762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15F25-5BE4-44A4-983A-7F44270F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8DA7A-011B-4EE0-AF18-15357897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C4C57-AA64-4315-B64F-69180D01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D0910-EBAD-4789-9BBF-11FB0ABD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E761-E3CC-41BE-AA09-DA22BF90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5245-9E59-4A62-9986-A82FCE26A9D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E7E9-2FA2-4FF7-8483-0332D1D43B95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2A30-93A3-4CE8-A711-A080DAFD389B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23A8-22DD-4027-ACD3-1D39E564E7F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8824-7C83-4FB7-9EDE-FF57DE1C000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DE70-1315-49AD-B00C-62D788FE8A7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D3B2-9EFA-4098-91CF-8BF0337D0E1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2XsaK3pWyII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91440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3241080"/>
            <a:ext cx="80773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Documents and Settings\aspencer\Local Settings\Temporary Internet Files\Content.IE5\PPSHIWYG\MP900426612[1]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685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Special Education Teach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" descr=""/>
          <p:cNvPicPr/>
          <p:nvPr/>
        </p:nvPicPr>
        <p:blipFill>
          <a:blip r:embed="rId1"/>
          <a:stretch/>
        </p:blipFill>
        <p:spPr>
          <a:xfrm>
            <a:off x="5334120" y="22320"/>
            <a:ext cx="3782880" cy="3666960"/>
          </a:xfrm>
          <a:prstGeom prst="rect">
            <a:avLst/>
          </a:prstGeom>
          <a:ln w="0">
            <a:noFill/>
          </a:ln>
        </p:spPr>
      </p:pic>
      <p:pic>
        <p:nvPicPr>
          <p:cNvPr id="331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resentative from District (administrat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st Interpreter (psychometris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Professions of related services (OT, PT, SLP, nutritionist, consult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stering The Ma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3" descr="C:\Documents and Settings\aspencer\Local Settings\Temporary Internet Files\Content.IE5\P6J8AG6K\MC900099486[1].wmf"/>
          <p:cNvPicPr/>
          <p:nvPr/>
        </p:nvPicPr>
        <p:blipFill>
          <a:blip r:embed="rId2"/>
          <a:stretch/>
        </p:blipFill>
        <p:spPr>
          <a:xfrm>
            <a:off x="914400" y="2819520"/>
            <a:ext cx="7010280" cy="362268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609480" y="6553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5235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academic setting or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ows child to mo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urately show wha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 kn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the playing field, not giving child advant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: Books on tape, Oral Tests, Calculators, More Time on Tests, Dic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1" descr=""/>
          <p:cNvPicPr/>
          <p:nvPr/>
        </p:nvPicPr>
        <p:blipFill>
          <a:blip r:embed="rId2"/>
          <a:stretch/>
        </p:blipFill>
        <p:spPr>
          <a:xfrm>
            <a:off x="5943600" y="2890800"/>
            <a:ext cx="32004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6840" y="1774800"/>
            <a:ext cx="6172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work, making i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t from the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 other childr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IDEA, is done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Extend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ndards, written b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AAA (Alabama Alternative Assessme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1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800520" cy="41817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"/>
          <p:cNvSpPr/>
          <p:nvPr/>
        </p:nvSpPr>
        <p:spPr>
          <a:xfrm>
            <a:off x="466560" y="62197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bama Extended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er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a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41212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396252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774800"/>
            <a:ext cx="4343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fically Designed instruction, at no cost to parents, to meet the unique needs of a student with a disability, including instruction conducted in the classroom, in the home, in hospitals, and institutions, and in other setting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5" descr="C:\Documents and Settings\aspencer\Local Settings\Temporary Internet Files\Content.IE5\P6J8AG6K\MP900432711[1]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e-refer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sponse to Interven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fe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nstructional Planning and Place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Content Placeholder 3" descr=""/>
          <p:cNvPicPr/>
          <p:nvPr/>
        </p:nvPicPr>
        <p:blipFill>
          <a:blip r:embed="rId2"/>
          <a:stretch/>
        </p:blipFill>
        <p:spPr>
          <a:xfrm>
            <a:off x="-152280" y="3048120"/>
            <a:ext cx="4532040" cy="3200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3"/>
          <a:stretch/>
        </p:blipFill>
        <p:spPr>
          <a:xfrm>
            <a:off x="4302000" y="304812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0" y="17748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893880" y="1676520"/>
            <a:ext cx="6899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ual Guide to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livery of customized services and instr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on between parents and profession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EP must be developed within 30 days of evalu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’s present level of academic achie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surable Annual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ort Student Pro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Services Nee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ition for 16 or ol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5" descr="C:\Documents and Settings\aspencer\Local Settings\Temporary Internet Files\Content.IE5\XKMHQ9CZ\MP900049992[1].jpg"/>
          <p:cNvPicPr/>
          <p:nvPr/>
        </p:nvPicPr>
        <p:blipFill>
          <a:blip r:embed="rId2"/>
          <a:stretch/>
        </p:blipFill>
        <p:spPr>
          <a:xfrm>
            <a:off x="617220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ent (the wh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do what (the behavi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what level (the criterio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der what conditions (the condition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what length of time (the time fram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 the end of the school year, Jessica will be able to complete 20 long-division problems in 10 minutes with 90%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the maximum extent appropriate students with disabilities are educated with students without disabilities, and special cla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4" descr="C:\Documents and Settings\aspencer\Local Settings\Temporary Internet Files\Content.IE5\XKMHQ9CZ\MC900310846[1].wmf"/>
          <p:cNvPicPr/>
          <p:nvPr/>
        </p:nvPicPr>
        <p:blipFill>
          <a:blip r:embed="rId2"/>
          <a:stretch/>
        </p:blipFill>
        <p:spPr>
          <a:xfrm>
            <a:off x="4572000" y="1676520"/>
            <a:ext cx="51814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2:28:30Z</dcterms:created>
  <dc:creator>aspencer</dc:creator>
  <dc:description/>
  <dc:language>en-US</dc:language>
  <cp:lastModifiedBy>Spencer, Amelia G.</cp:lastModifiedBy>
  <dcterms:modified xsi:type="dcterms:W3CDTF">2017-08-25T15:53:25Z</dcterms:modified>
  <cp:revision>32</cp:revision>
  <dc:subject/>
  <dc:title>Special Education Process &amp; IEP</dc:title>
</cp:coreProperties>
</file>