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AA3-0F66-486F-B229-5CFF28C4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E08-F09A-4A45-8B88-74B691DD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86C-F213-40AD-8AF9-49C1C505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F1E-96E6-460A-A06B-42113DD1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2818-2C98-436A-910E-774D30D4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D370-669E-4E27-8A1B-9C13763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71DC-A7C4-4CCB-8D62-331338D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21F4-059C-4382-BD39-363F0F38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433B-115E-4E46-8057-0BFB6AD8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ADBE-088B-4CCC-AB25-CA857B81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6E5C-4125-4BEA-BBA2-1528096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87C-73F7-49B5-9682-725949DC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03CA-8716-4C19-9586-B6B7856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FA67-59A3-4A9C-A920-66A8E321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3561-FF4B-416E-9FC6-5AFD5D3F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B851-6AFB-454A-9243-C86A0F23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3F78-CADD-490B-8418-669B25CE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F708-F4E9-4085-A03D-D2267AFD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C352-CA6F-4A4F-8A39-0FA7221B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C670-C696-42F6-B427-1E5C43D8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FA7A-F032-42EF-BD71-4817486F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865AD-8313-4221-B450-4D0967C1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DBC-3F0D-4CB3-B314-B0AB1333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9677-E6FF-4A0F-8365-0B448C7F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472B-CAAE-4510-9C52-DE24469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0AC2B-A72C-4767-A1F4-87F33E8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217B-A540-4A72-BA9E-CF63DA29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9A05-D236-4909-B445-0732358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AB91-636B-463F-8192-7E255200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B671-B6D1-4C6A-ABED-FAB1D32D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EEF7-171A-4765-A187-5013AB4D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75D6-9858-4894-8CA6-6AFF58E2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2337-C4C7-4F70-856C-FCAD7C0B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DFF-3DBA-4277-81B9-0B46DDE3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B2C3-F5BF-4192-B146-02924F16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67F3-2E5A-4835-A79E-6307C0C6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8EAFE-D2C5-493D-AE89-8F81DE6D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98B0-A499-44B0-BB34-044D3F4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FFF6-C591-4F99-83C5-0776376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565F5-0D47-4F09-BE71-8BE0AEE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C98A4-1C33-4C30-9395-C6FE2539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DE67-A0E2-498C-A82E-8897A7BB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A6985-D7DF-4025-A8DD-12D9E252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74620-A372-457F-A5FD-FC50470E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2F3-215F-4424-BAF5-7A35B934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FC62-2BDC-40F7-945D-13EEC6DB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37C20-FE8B-4DD0-BC9D-5289DC47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18C4-F91C-4EAF-94E3-89B6BB6C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FA7D-D216-44B5-8DD5-39D0CE07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90C1-E498-49B1-A4A1-AC7D056F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3414E-3B8B-4864-9BB8-167C48E4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8DCE-3468-42A8-A25D-8EBC51D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CC09E-93AA-41FB-B067-75377BB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5934-0951-4494-B971-0C6E7868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8E68-1CDE-4F97-94FB-7DD0C726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22C-189B-4CBA-BCB6-0B669AD0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39B8-7CF0-4A3D-8742-5AE39083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CF0C9-F1D4-49C9-A48F-83D7BDF2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023BD-4D2B-4074-90D3-42FFEE78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2002-672E-4B0A-BD79-75F6826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29B3-B196-43DB-B5EE-DAAB1513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3D8F3-83F8-415D-B62C-D8A76766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B565-D6E8-4C2D-A4EB-8C567B8D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4B86F-BC90-426D-87B7-651A6FC3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649C3-3A4F-4610-9844-83BF396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DC6F6-8BBE-4D4F-B8A9-4AD47011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03D-F51E-4BAC-801F-BFAC197E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F222F-D016-4E38-853D-0D03D71A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B6F4-06E8-411B-B6BD-8842CC5E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EAC43-1E59-40C6-961D-1EAAD864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41DF1-8120-4DEF-B5D1-CE1E66F4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0051-ACE5-4DF0-B93E-1F97746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6CC1-2151-47EC-943E-761EFABC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CA1A-CF38-4817-8811-224FE5C8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3B307-8277-41C4-9804-866BBBA1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3DF54-A1C0-42E0-A25F-6EF6E37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7E2E-3417-4D63-B340-5351C10A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4A7-35B7-49BE-8130-108EF89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CEA18-50FC-41B4-AD68-6ADEBC87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1F2C5-E650-4D9E-8ABA-C9ACD90F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E9057-ECEB-4E90-BFB9-29B3A7BC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2C61-6244-4970-9E93-6C666795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DD07A-6389-46D7-A3C4-721C40E8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5E4-2B80-4C7A-9495-2F47299F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2739-1EBA-48CC-8A3E-B615C87A9E7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940A-8D0E-4EEC-98D9-2FF50A16CD5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4D27-0C63-4AC3-8A12-90F2B45CA70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CDB7-C5F8-4FC1-8043-96BAE816A4E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7C28-1121-4F1E-89C5-8B456C630B0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8BD1-2904-4245-A029-5E32D04E2BE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C05-29E1-4F0E-BC87-7E15A917266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2"/>
          <a:stretch/>
        </p:blipFill>
        <p:spPr>
          <a:xfrm>
            <a:off x="2259000" y="1673280"/>
            <a:ext cx="4626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8-02-15T18:34:36Z</dcterms:modified>
  <cp:revision>35</cp:revision>
  <dc:subject/>
  <dc:title>Special Education Process &amp; IEP</dc:title>
</cp:coreProperties>
</file>