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6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4.png" ContentType="image/png"/>
  <Override PartName="/ppt/media/image27.png" ContentType="image/png"/>
  <Override PartName="/ppt/media/image24.wmf" ContentType="image/x-wmf"/>
  <Override PartName="/ppt/media/image23.png" ContentType="image/pn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jpeg" ContentType="image/jpeg"/>
  <Override PartName="/ppt/media/image14.png" ContentType="image/png"/>
  <Override PartName="/ppt/media/image25.png" ContentType="image/png"/>
  <Override PartName="/ppt/media/image2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C325-99C7-4E77-95BD-70D2B422A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4A7F-0A1B-4D17-A1DE-E7C12B6A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17A9-F494-4D97-AF69-60309A3D0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DA3B-734C-427F-AD0B-436961CC8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5F83-9255-4C8A-BFB0-73597374E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E7E5-FC00-47D3-9B36-15E6E091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A8FC-C01D-45BA-8063-B20276DE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5BD4-B273-424E-A736-BA84366C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DF81-C695-4765-BA35-A4460A6C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1B63-A8CB-49E7-80EF-363064B3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D52A-5915-49C2-BA5F-6852BD50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F319-0FB0-4F35-8352-CF85E4B2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C99B-32A4-46FF-8C33-7E19ECCE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AC95-5198-4BF4-9F92-E0E87175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83B0-8138-423A-BFDE-D20207C4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4937-271B-464D-B1EA-2D1417327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7707-2643-4EFD-9250-AF2FF037C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F0AD4-92BE-4DC6-8086-781A4CDA2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3D1E2-0245-40AB-8A3F-ED694CC1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A7ED4-46AA-42BB-9E73-5874960E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E7C5D-D600-4E98-BD1A-BAFF2A9E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C9A7E-5065-4AA6-8B8C-D3C146FF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923E-92B7-4B0E-BFDD-153412A7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7DD5E-D48B-4565-A758-B4A1FC30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3C992-CCFC-41F1-BF6A-164468FD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78EA6-70CF-417D-B7C4-BCCFEC79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8A2C4-9522-481B-8D49-0D297B86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C8F79-D651-41EE-AC54-3217B994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73135-CB39-48F7-A779-ED6FFFB53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7EB3E-1063-478F-8675-7309AD237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FAD5B-4ED2-461D-8D7F-4E01CDEE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6E44B-EA3A-4A69-856D-D70AB951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CDC6C-A0E2-43B9-BF22-09A50B52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F364-B096-463A-8DBF-B004DB26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94B6F-47A0-45E6-BBFA-4541068E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BFB8A-7357-41C2-93CE-B3FE56BB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435AB-EF57-42C5-A77D-FD072A5D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76D51-848C-40C3-BD66-EC16968C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32013-E997-4139-A1E0-39170147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9628B-5D69-4EC3-9941-9E924587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E4900-D042-48C8-BC45-7FB348C2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D9714-87C5-4669-A866-2B016424A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BEDD2-9544-427F-8296-6D2BA94A8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1D082-D148-4651-811F-881BBA2DB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860C-D163-40F3-9400-C63BB857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34C68-268E-4C67-8269-B3243E13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16CAE-96E2-4F0A-A100-B22D29BD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BF596-A8DE-43A6-860F-69137A35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1C094-4FB5-41C9-A2DF-1EA1EDA1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ED260-9E72-4111-8D4F-09AFD80A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90A7C-F94B-482C-AC6D-91DD3173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0F494-289A-43BD-B0F9-E91BFCE1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A847D-239A-43AE-A530-F89F972D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7A47F-AECA-45DB-85CB-175D1985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87E21-9F31-47ED-BAD8-BC7763378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3830-34D5-4D3D-8F5B-621B847C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7467D-74D8-428D-A670-EF2A8EABA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89B3D-B72A-4086-A6EB-0B7EA7DC3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CFD0F-45CC-4CF7-96E0-8E16089A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88F52-F3C7-46A2-A672-19ADEBAA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B6151-EC6A-458B-AF77-67F7A422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2EE58-D911-41C9-8F28-0C997EB1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0FF88-37F0-4D8B-AD9F-A4AFE2E8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76DAB-A9AC-4039-BBD3-2B79FC5B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847EC-C502-4AFF-BEEF-4600E8F8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8614A-1576-416E-94AD-66087723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9A05-AB69-4EA3-A4F6-53309CA5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C75D4-E456-47E0-8627-8EB7CCCA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114BE-D29E-42B1-9441-641DAB3BE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0DEBB-BAAE-4178-A419-65C46B64E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8191C-AACB-4E02-A0FC-45B74356E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1B194-72F1-469B-926A-20F4B3AA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D3AC2-13B6-4AA5-AB3C-E062A644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49A08-C485-464D-89F2-FF17CCDD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D512C-A201-4D66-8F3D-868F5638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AD706-11F0-469C-9D70-62FD2770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81C90-61B4-4D37-9A43-2A0E376D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D735-C6B4-48C8-9515-6C25FB2F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68876-1BA7-45D3-9345-F1DD3BB0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916A8-85CE-456A-B53B-E4A7802C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9E9BB-48A6-4B99-8495-045D8335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2C8C1-AA90-47A7-BDB2-5D3A338D7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15BA8-C0E6-4ECB-83AE-9EE83CB00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9163-19D3-4E73-B459-BD77CFAF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516C-A9B7-4278-91C7-EAD344CE1A6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AD9C-7699-465C-B058-B664D49CDFA6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4291-8BE0-4D5A-8AA1-E826F985CCC9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0100-2696-429A-B00A-4990F54B497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F574-A92B-4B14-9C1D-358BB5CB204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77E4-59BD-4B3F-9B7D-4D7E90E3AF9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38D7-6D47-47DD-BA20-D5B07A91182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s://www.youtube.com/watch?v=2XsaK3pWyII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9040" y="914400"/>
            <a:ext cx="3882960" cy="41148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3241080"/>
            <a:ext cx="807732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Picture 4" descr="C:\Documents and Settings\aspencer\Local Settings\Temporary Internet Files\Content.IE5\PPSHIWYG\MP900426612[1].jpg"/>
          <p:cNvPicPr/>
          <p:nvPr/>
        </p:nvPicPr>
        <p:blipFill>
          <a:blip r:embed="rId2"/>
          <a:stretch/>
        </p:blipFill>
        <p:spPr>
          <a:xfrm>
            <a:off x="4583160" y="0"/>
            <a:ext cx="456084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TextBox 2"/>
          <p:cNvSpPr/>
          <p:nvPr/>
        </p:nvSpPr>
        <p:spPr>
          <a:xfrm>
            <a:off x="685800" y="60958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68bba"/>
                </a:solidFill>
                <a:uFillTx/>
                <a:latin typeface="Arial"/>
                <a:hlinkClick r:id="rId3"/>
              </a:rPr>
              <a:t>Special Education Teacher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774800"/>
            <a:ext cx="403848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the maximum extent appropriate students with disabilities are educated with students without disabilities, and special class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Picture 4" descr="C:\Documents and Settings\aspencer\Local Settings\Temporary Internet Files\Content.IE5\XKMHQ9CZ\MC900310846[1].wmf"/>
          <p:cNvPicPr/>
          <p:nvPr/>
        </p:nvPicPr>
        <p:blipFill>
          <a:blip r:embed="rId2"/>
          <a:stretch/>
        </p:blipFill>
        <p:spPr>
          <a:xfrm>
            <a:off x="4572000" y="1676520"/>
            <a:ext cx="518148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" descr=""/>
          <p:cNvPicPr/>
          <p:nvPr/>
        </p:nvPicPr>
        <p:blipFill>
          <a:blip r:embed="rId1"/>
          <a:stretch/>
        </p:blipFill>
        <p:spPr>
          <a:xfrm>
            <a:off x="5334120" y="22320"/>
            <a:ext cx="3782880" cy="3666960"/>
          </a:xfrm>
          <a:prstGeom prst="rect">
            <a:avLst/>
          </a:prstGeom>
          <a:ln w="0">
            <a:noFill/>
          </a:ln>
        </p:spPr>
      </p:pic>
      <p:pic>
        <p:nvPicPr>
          <p:cNvPr id="333" name="Title 1" descr=""/>
          <p:cNvPicPr/>
          <p:nvPr/>
        </p:nvPicPr>
        <p:blipFill>
          <a:blip r:embed="rId2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2819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r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eneral Education Teac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cial Education Teac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presentative from District (administrato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est Interpreter (psychometris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ther Professions of related services (OT, PT, SLP, nutritionist, consultan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cial Education Form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stering The Maz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Picture 3" descr="C:\Documents and Settings\aspencer\Local Settings\Temporary Internet Files\Content.IE5\P6J8AG6K\MC900099486[1].wmf"/>
          <p:cNvPicPr/>
          <p:nvPr/>
        </p:nvPicPr>
        <p:blipFill>
          <a:blip r:embed="rId2"/>
          <a:stretch/>
        </p:blipFill>
        <p:spPr>
          <a:xfrm>
            <a:off x="914400" y="2819520"/>
            <a:ext cx="7010280" cy="3622680"/>
          </a:xfrm>
          <a:prstGeom prst="rect">
            <a:avLst/>
          </a:prstGeom>
          <a:ln w="0">
            <a:noFill/>
          </a:ln>
        </p:spPr>
      </p:pic>
      <p:sp>
        <p:nvSpPr>
          <p:cNvPr id="338" name="TextBox 2"/>
          <p:cNvSpPr/>
          <p:nvPr/>
        </p:nvSpPr>
        <p:spPr>
          <a:xfrm>
            <a:off x="609480" y="6553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1523520"/>
            <a:ext cx="5867280" cy="4876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ters the academic setting or environ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lows child to mor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curately show wha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e/she know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evels the playing field, not giving child advantag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: Books on tape, Oral Tests, Calculators, More Time on Tests, Dict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Picture 1" descr=""/>
          <p:cNvPicPr/>
          <p:nvPr/>
        </p:nvPicPr>
        <p:blipFill>
          <a:blip r:embed="rId2"/>
          <a:stretch/>
        </p:blipFill>
        <p:spPr>
          <a:xfrm>
            <a:off x="5943600" y="2890800"/>
            <a:ext cx="32004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456840" y="1774800"/>
            <a:ext cx="61722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ters the work, making i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ifferent from the wor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f other childre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th IDEA, is done b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oosing Extended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andards, written by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at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oosing AAA (Alabama Alternative Assessmen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Picture 1" descr=""/>
          <p:cNvPicPr/>
          <p:nvPr/>
        </p:nvPicPr>
        <p:blipFill>
          <a:blip r:embed="rId2"/>
          <a:stretch/>
        </p:blipFill>
        <p:spPr>
          <a:xfrm>
            <a:off x="5486400" y="2438280"/>
            <a:ext cx="3800520" cy="4181760"/>
          </a:xfrm>
          <a:prstGeom prst="rect">
            <a:avLst/>
          </a:prstGeom>
          <a:ln w="0">
            <a:noFill/>
          </a:ln>
        </p:spPr>
      </p:pic>
      <p:sp>
        <p:nvSpPr>
          <p:cNvPr id="345" name="TextBox 1"/>
          <p:cNvSpPr/>
          <p:nvPr/>
        </p:nvSpPr>
        <p:spPr>
          <a:xfrm>
            <a:off x="466560" y="6219720"/>
            <a:ext cx="47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bama Extended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terindividual Differe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traindividual Differe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ssess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412128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3962520" cy="12492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-360" y="1774800"/>
            <a:ext cx="43434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pecifically Designed instruction, at no cost to parents, to meet the unique needs of a student with a disability, including instruction conducted in the classroom, in the home, in hospitals, and institutions, and in other settings.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2" name="Picture 5" descr="C:\Documents and Settings\aspencer\Local Settings\Temporary Internet Files\Content.IE5\P6J8AG6K\MP900432711[1].jpg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14" name="Content Placeholder 3" descr=""/>
          <p:cNvPicPr/>
          <p:nvPr/>
        </p:nvPicPr>
        <p:blipFill>
          <a:blip r:embed="rId2"/>
          <a:stretch/>
        </p:blipFill>
        <p:spPr>
          <a:xfrm>
            <a:off x="2259000" y="1673280"/>
            <a:ext cx="46260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re-referra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sponse to Intervention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fera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Assess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Instructional Planning and Place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7" name="Content Placeholder 3" descr=""/>
          <p:cNvPicPr/>
          <p:nvPr/>
        </p:nvPicPr>
        <p:blipFill>
          <a:blip r:embed="rId2"/>
          <a:stretch/>
        </p:blipFill>
        <p:spPr>
          <a:xfrm>
            <a:off x="-152280" y="3048120"/>
            <a:ext cx="4532040" cy="32004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"/>
          <p:cNvPicPr/>
          <p:nvPr/>
        </p:nvPicPr>
        <p:blipFill>
          <a:blip r:embed="rId3"/>
          <a:stretch/>
        </p:blipFill>
        <p:spPr>
          <a:xfrm>
            <a:off x="4302000" y="3048120"/>
            <a:ext cx="4876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0" y="1774800"/>
            <a:ext cx="8686800" cy="5083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2"/>
          <a:stretch/>
        </p:blipFill>
        <p:spPr>
          <a:xfrm>
            <a:off x="893880" y="1676520"/>
            <a:ext cx="689904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nual Guide to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livery of customized services and instru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llaboration between parents and profession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EP must be developed within 30 days of evaluatio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6840" y="1774800"/>
            <a:ext cx="62485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udent’s present level of academic achieve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easurable Annual go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port Student Progres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ist Services Need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commoda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ransition for 16 or old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5" descr="C:\Documents and Settings\aspencer\Local Settings\Temporary Internet Files\Content.IE5\XKMHQ9CZ\MP900049992[1].jpg"/>
          <p:cNvPicPr/>
          <p:nvPr/>
        </p:nvPicPr>
        <p:blipFill>
          <a:blip r:embed="rId2"/>
          <a:stretch/>
        </p:blipFill>
        <p:spPr>
          <a:xfrm>
            <a:off x="6172200" y="1447920"/>
            <a:ext cx="2971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udent (the who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ll do what (the behavio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what level (the criterion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nder what conditions (the conditions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 what length of time (the time frame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y the end of the school year, Jessica will be able to complete 20 long-division problems in 10 minutes with 90% accurac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22:28:30Z</dcterms:created>
  <dc:creator>aspencer</dc:creator>
  <dc:description/>
  <dc:language>en-US</dc:language>
  <cp:lastModifiedBy>Spencer, Amelia G.</cp:lastModifiedBy>
  <dcterms:modified xsi:type="dcterms:W3CDTF">2018-02-15T18:34:36Z</dcterms:modified>
  <cp:revision>35</cp:revision>
  <dc:subject/>
  <dc:title>Special Education Process &amp; IEP</dc:title>
</cp:coreProperties>
</file>