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4.png" ContentType="image/png"/>
  <Override PartName="/ppt/media/image27.png" ContentType="image/png"/>
  <Override PartName="/ppt/media/image24.wmf" ContentType="image/x-wmf"/>
  <Override PartName="/ppt/media/image23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2FF-9C67-4ABD-AE33-EFAD8602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321-CF6D-495E-AFE2-06274019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0B2-77D1-437C-8F27-89CF2168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346B-D659-4A7B-8BDE-441EC4A6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5BDF-4185-41DB-88B3-1B6D2DB5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9C7B-60EA-4C26-9D78-DD8885A0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812C-569F-4645-8B24-D9E1EC52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480C-D66C-49CE-859B-15BDB718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ED6B-1E61-475B-98AE-AC3EF6E0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0921-07D2-42B0-85C2-3A23505F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147A-557A-4EA1-890D-D12DD8E8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F0F8-A658-44E3-901C-E122DB2A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A6DE-9E12-41BF-9E6C-FB55A907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0B7E-76FC-4C52-AEDE-A228C4B1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C67E-9AC6-4B9F-9068-8534D80A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7A9B-4B0D-4678-A3BF-BC5841E2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EBD5-D4C3-4DEB-A723-E9134494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683C5-2641-48BB-B203-AFD3A282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F7B5F-E6AB-4FDC-95C7-E6C38199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58EA1-69F5-4164-BF50-DCB28067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439B8-64CA-4B87-A714-206DC61E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2012B-E78C-4568-97F6-84D1207C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8B86-2BBA-4326-9AB0-B5AC0419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A1692-706C-46D1-BC04-E0DD344B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67DC7-6E3F-4AB9-A687-F7FF9B7A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CC74-2DFE-4AC5-9F2A-0F463D33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693DB-C44F-4B8E-B7E1-2076F598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DC0F4-6CAA-49F7-985E-796E6C4A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7DB71-3CE7-4B5B-99A1-A4AE3876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91F01-E31E-413B-B85C-772F4AB3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BD6CA-4488-472D-BA9B-65B5D40C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35A36-AA41-4039-860A-8039DB17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9FE9E-7FE5-45B7-9421-80B2199F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0465-EE17-413F-8F78-F3F7D058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45993-3051-478A-A5FF-36F0A05D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7CF54-278A-428C-9415-590811AF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7FBBB-6E39-4EEA-A67F-564E7C00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B6F1C-B243-4CE7-BC89-73587D0D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32D59-4542-4FBB-A0B8-0FBD5A04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BC7B4-B386-4702-9965-DE445C5A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01089-4FEC-4D9F-9F19-00974CA7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312B5-ABF9-4E08-939A-C7DC7885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D8167-35EA-4992-BA20-2A66B5AE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20C49-2E05-4175-B8DB-04D4EDE7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44F-B0CD-4F7D-B2B2-B1F16DC9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AC0E8-91DB-481A-BC26-C53622B1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B985E-1B08-479A-9A1A-6E2FF0D1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5AAF8-FA90-4165-9F33-9E90A871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E0912-CEE9-4113-8AB4-022AE309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D7147-4C8D-4860-A954-08478CB7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7352E-C0B9-4238-87E1-0641DA4A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2B7F6-D175-4972-B560-C15884E5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0ECAB-33A2-4D1D-92F7-7639F035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F46D3-C79B-4AE9-B938-1F478C98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E21E9-D8D1-46D1-9F36-922ACFC2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A380-AAB4-423C-A6CF-67841A67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D371C-C222-41F4-A5C1-11187BE4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467F4-1EE5-42D8-A0C5-FE828F55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DA710-542B-479E-B05A-70E7B5B0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DFFCD-C317-45F4-86E3-95A61687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1FD79-4558-4E01-8BBD-5F2118C6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34F00-92A5-4963-B3E6-71DEC5CB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666D3-9FA5-4CB7-A677-8E76BE31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4E137-0C10-4B2C-8191-5310BD9A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1F0EE-65EC-47F2-9B63-4B1FF49D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DAD38-3AF9-4160-A717-17E47F74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9290-DF2F-4863-B683-9E1995BD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A04AE-3E48-4818-A60F-86A845EF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733A2-DBE7-4FC1-B54E-82B243A5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E62CA-F16B-44DA-848C-14E51B96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B3C4A-8C7B-464A-AFCE-131469CC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DE62B-5870-4DF8-89BD-E78BBD8E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DDC44-434A-4BF8-B8F8-C97CAD73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1DA34-CF1C-4DED-980C-129A399E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E3A67-5C6F-4554-8EF2-A9C86FE0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D55B9-8242-45F1-A987-70F79F0F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9C5B2-E20E-4E09-83C5-EC6B6AB2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CD69-6E79-4749-9402-46BDED5B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CBD2A-66E7-4107-B2DD-04A31CD1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9D5F3-58E2-468B-83BB-1F916C73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9A053-6566-4696-936B-C8FB0E00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68BD3-5460-4FD5-B33E-D2C96F3F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E17C4-B02A-4621-8215-3CDE33A0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07F9-DAFB-4D5E-8830-8BB9DBF4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45F7-749A-42B2-AA41-B82BF7680C1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80A3-F0A6-4BA1-AC52-27A5E1253382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F445-902A-460C-A235-A0A8AE25692E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818A-8946-4D46-AAE1-FF6997FBD29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E598-ACF8-4959-A341-284430E41F1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6A98-1B9A-4A5F-AFEB-B11BA33A1D1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A60C-2823-427E-8D41-C2BA38151C6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3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4" name="Content Placeholder 3" descr=""/>
          <p:cNvPicPr/>
          <p:nvPr/>
        </p:nvPicPr>
        <p:blipFill>
          <a:blip r:embed="rId2"/>
          <a:stretch/>
        </p:blipFill>
        <p:spPr>
          <a:xfrm>
            <a:off x="2259000" y="1673280"/>
            <a:ext cx="46260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18-02-15T18:34:36Z</dcterms:modified>
  <cp:revision>35</cp:revision>
  <dc:subject/>
  <dc:title>Special Education Process &amp; IEP</dc:title>
</cp:coreProperties>
</file>