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7.jpeg" ContentType="image/jpeg"/>
  <Override PartName="/ppt/media/image18.png" ContentType="image/png"/>
  <Override PartName="/ppt/media/image28.jpeg" ContentType="image/jpeg"/>
  <Override PartName="/ppt/media/image6.png" ContentType="image/png"/>
  <Override PartName="/ppt/media/image5.jpeg" ContentType="image/jpeg"/>
  <Override PartName="/ppt/media/image20.wmf" ContentType="image/x-wmf"/>
  <Override PartName="/ppt/media/image26.jpeg" ContentType="image/jpeg"/>
  <Override PartName="/ppt/media/image4.png" ContentType="image/png"/>
  <Override PartName="/ppt/media/image27.png" ContentType="image/png"/>
  <Override PartName="/ppt/media/image24.wmf" ContentType="image/x-wmf"/>
  <Override PartName="/ppt/media/image23.png" ContentType="image/png"/>
  <Override PartName="/ppt/media/image1.jpeg" ContentType="image/jpe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7.jpeg" ContentType="image/jpeg"/>
  <Override PartName="/ppt/media/image14.png" ContentType="image/png"/>
  <Override PartName="/ppt/media/image25.png" ContentType="image/png"/>
  <Override PartName="/ppt/media/image2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3F51-924E-4166-B601-F0BB0D802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9993-7DB1-43A2-AE7F-41C70D28E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7259-2066-49AF-B471-250031934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9640-5CD4-45B7-936D-280767C88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75CD1-4E18-4493-8FF0-869C909BB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BA82F-1065-44A1-BE45-77A398F18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09085-879B-41CC-8948-1CF016AC9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8A49A-290B-4704-9134-6F6ECCCC2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2D128-9A17-4B7B-8DED-C65DFD1BF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F99C7-C8B7-4F0F-99E6-57FECEDAF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BFBAB-A39B-4CC8-99DF-C613FAEF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A1E3-35B5-4911-81CB-D73B1F3CA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302B7-DC30-4F57-99BD-977508F0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7659A-9D6E-477C-B652-5EE1CE6A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8425C-E1CF-458A-B30E-435451DE3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14A08-52F1-4592-9A26-7E4B46AD3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EB16C-0437-4BC3-9785-ACBA108F5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54C45-FB93-45AD-B750-C4F20136D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A1AA2-7605-42D2-97C1-FA49517CB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CFB71-078D-4C9D-9F7F-DF91021D2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734C0-8004-466B-9C15-71252E7C1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32AF0-4BBC-4B45-99E2-21AD88A4E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BB03-1FBA-4790-AA0E-413DDB9E3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CC430-C01A-4BC2-8F85-0FE2FABC1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0D6C4-9158-43EE-8ED5-4894168E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4E0F0-ED3C-4CFD-8718-07388691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6273E-6DDA-49F3-9DF5-FC5F0A8F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40B36-D808-4DEB-B4F9-46C74233A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787E8-9722-4557-AFEF-EA55D77C9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A5C81-16A2-4855-91DF-B9FBD18E7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FE898-A115-4B50-BBDC-A2B148329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98A1D-39F2-46D1-9568-03B6289C3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BAE7D-9506-434C-AF5F-010C81B23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B23A-EDE4-484B-ABCB-EFBF7A756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8D0C1-7D60-411B-8A8E-FA2FA5755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DA99C-A03D-42C6-A510-70108A145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39F25-4287-474B-8357-4D45897D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07685-2807-46CD-94F9-CA9309DF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57135-C9AB-4860-9004-F29161E5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17AFC-ED91-4649-8EB3-B34DD011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F53D2-F79B-4745-BC3B-0AB07464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D53C0-A11C-4B19-A543-8E638F20C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2159A-8365-473E-BB6E-C817200C6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8D6ED-45C0-40F7-AFF0-9E39D39C9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4B05-BA67-4DA4-852C-ED04B7C15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9AF99-578F-4FEB-89DB-BF6EC3CC1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3D5F9-9A43-4683-AB92-9514FD7E1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259EC-BD32-41F6-9C6A-77278CBDB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3C443-7A74-4691-A7DE-CF17AC7A8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63958-9E8D-442E-BD6E-69AFC00C1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ED046-493D-4B98-B4DF-07ACD5E0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8B3EF-F38C-4A03-BADA-6DC18972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D70A2-9F92-4CAD-9E38-396F79D2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B76BA-9EC0-4519-89E9-5873A74C8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38CA3-0ADC-4886-B9AB-E3871579F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FDDA-1A1D-4566-A9A2-AAB5849FB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4630B-E7F8-4172-96E4-424ADA177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77710-BAE1-4298-8450-F916EA577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1A9F5-7476-4A48-9D1A-9E4096B6B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701DF-71E3-45BD-8A98-14C344B2C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5DF4EE-44E3-4292-B53D-32B3B6C5C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C94ACC-A358-4F91-8D60-6924476F9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59D02-B5E8-4B38-85F7-373628C0C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F9C30-79E6-4EFA-B4B0-8900998D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35F59-554D-44EE-ABA6-BB3CFD9A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0D2B6-1653-4FF4-9B67-544B3F53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1044-2828-4C52-9128-BE0D7A64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D3304-3D3E-4F2A-B8F7-2FFEE954A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ACE0F-BDE4-4BDA-99AF-D588BF61C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0815E-62E7-44C7-A074-C331AD7B9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95D562-9DFD-42C2-B5A0-4F7B82A63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1F6ED-8949-49FB-93AF-5AD7E1160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A0045B-A59D-4D5C-BE63-DCCF36186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9C10E-79B3-4CF0-A752-E61CA0E08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768BA2-C714-475B-A925-B351BBE84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7D3A0A-DA9E-4F39-BCD9-0F6E6D04D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48C3F-5B20-4FCE-A575-57159534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B540-103E-435B-80C5-F1A6E4E5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AA0A10-05CE-48B9-8B9A-5E83391F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0E0BD-1414-48BB-BD66-C95E1079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E9894-9020-4CE3-8756-FA1FCB49A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56650F-02B3-4538-90CA-149EAAECA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1857B-B5B1-4A3B-A3E3-AA67C0330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E380-ECCB-43B9-987D-C5628EF8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4F06D-2CB4-486B-BE06-8F6166D1CEAD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91BB2-A85C-4DFF-9893-8E766DCE1568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1C1A5-4B31-4DF8-B659-E610F2791D9D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417DC-8685-4E94-8CD4-D8F95618DDD3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FE69F-766C-478F-8EE4-C78A609CC724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87133-9A5D-4982-A3E2-04B4239CA628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C6BFF-EC8E-4AE5-AE71-99043837B4D1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hyperlink" Target="https://www.youtube.com/watch?v=2XsaK3pWyII" TargetMode="External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689040" y="914400"/>
            <a:ext cx="3882960" cy="411480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3241080"/>
            <a:ext cx="807732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05" name="Picture 4" descr="C:\Documents and Settings\aspencer\Local Settings\Temporary Internet Files\Content.IE5\PPSHIWYG\MP900426612[1].jpg"/>
          <p:cNvPicPr/>
          <p:nvPr/>
        </p:nvPicPr>
        <p:blipFill>
          <a:blip r:embed="rId2"/>
          <a:stretch/>
        </p:blipFill>
        <p:spPr>
          <a:xfrm>
            <a:off x="4583160" y="0"/>
            <a:ext cx="4560840" cy="6858000"/>
          </a:xfrm>
          <a:prstGeom prst="rect">
            <a:avLst/>
          </a:prstGeom>
          <a:ln w="0">
            <a:noFill/>
          </a:ln>
        </p:spPr>
      </p:pic>
      <p:sp>
        <p:nvSpPr>
          <p:cNvPr id="306" name="TextBox 2"/>
          <p:cNvSpPr/>
          <p:nvPr/>
        </p:nvSpPr>
        <p:spPr>
          <a:xfrm>
            <a:off x="685800" y="60958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168bba"/>
                </a:solidFill>
                <a:uFillTx/>
                <a:latin typeface="Arial"/>
                <a:hlinkClick r:id="rId3"/>
              </a:rPr>
              <a:t>Special Education Teacher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457200" y="1774800"/>
            <a:ext cx="403848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o the maximum extent appropriate students with disabilities are educated with students without disabilities, and special class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1" name="Picture 4" descr="C:\Documents and Settings\aspencer\Local Settings\Temporary Internet Files\Content.IE5\XKMHQ9CZ\MC900310846[1].wmf"/>
          <p:cNvPicPr/>
          <p:nvPr/>
        </p:nvPicPr>
        <p:blipFill>
          <a:blip r:embed="rId2"/>
          <a:stretch/>
        </p:blipFill>
        <p:spPr>
          <a:xfrm>
            <a:off x="4572000" y="1676520"/>
            <a:ext cx="5181480" cy="44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1" descr=""/>
          <p:cNvPicPr/>
          <p:nvPr/>
        </p:nvPicPr>
        <p:blipFill>
          <a:blip r:embed="rId1"/>
          <a:stretch/>
        </p:blipFill>
        <p:spPr>
          <a:xfrm>
            <a:off x="5334120" y="22320"/>
            <a:ext cx="3782880" cy="3666960"/>
          </a:xfrm>
          <a:prstGeom prst="rect">
            <a:avLst/>
          </a:prstGeom>
          <a:ln w="0">
            <a:noFill/>
          </a:ln>
        </p:spPr>
      </p:pic>
      <p:pic>
        <p:nvPicPr>
          <p:cNvPr id="333" name="Title 1" descr=""/>
          <p:cNvPicPr/>
          <p:nvPr/>
        </p:nvPicPr>
        <p:blipFill>
          <a:blip r:embed="rId2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457200" y="28195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1000"/>
          </a:bodyPr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ar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eneral Education Teach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pecial Education Teach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epresentative from District (administrator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est Interpreter (psychometrist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ther Professions of related services (OT, PT, SLP, nutritionist, consultant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pecial Education Form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astering The Maz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7" name="Picture 3" descr="C:\Documents and Settings\aspencer\Local Settings\Temporary Internet Files\Content.IE5\P6J8AG6K\MC900099486[1].wmf"/>
          <p:cNvPicPr/>
          <p:nvPr/>
        </p:nvPicPr>
        <p:blipFill>
          <a:blip r:embed="rId2"/>
          <a:stretch/>
        </p:blipFill>
        <p:spPr>
          <a:xfrm>
            <a:off x="914400" y="2819520"/>
            <a:ext cx="7010280" cy="3622680"/>
          </a:xfrm>
          <a:prstGeom prst="rect">
            <a:avLst/>
          </a:prstGeom>
          <a:ln w="0">
            <a:noFill/>
          </a:ln>
        </p:spPr>
      </p:pic>
      <p:sp>
        <p:nvSpPr>
          <p:cNvPr id="338" name="TextBox 2"/>
          <p:cNvSpPr/>
          <p:nvPr/>
        </p:nvSpPr>
        <p:spPr>
          <a:xfrm>
            <a:off x="609480" y="6553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 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 txBox="1"/>
          <p:nvPr/>
        </p:nvSpPr>
        <p:spPr>
          <a:xfrm>
            <a:off x="457200" y="1523520"/>
            <a:ext cx="5867280" cy="4876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ters the academic setting or environ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lows child to more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ccurately show what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e/she know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evels the playing field, not giving child advantag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x: Books on tape, Oral Tests, Calculators, More Time on Tests, Dicta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1" name="Picture 1" descr=""/>
          <p:cNvPicPr/>
          <p:nvPr/>
        </p:nvPicPr>
        <p:blipFill>
          <a:blip r:embed="rId2"/>
          <a:stretch/>
        </p:blipFill>
        <p:spPr>
          <a:xfrm>
            <a:off x="5943600" y="2890800"/>
            <a:ext cx="320040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456840" y="1774800"/>
            <a:ext cx="61722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ters the work, making it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ifferent from the work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f other childre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ith IDEA, is done b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hoosing Extended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tandards, written by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stat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hoosing AAA (Alabama Alternative Assessment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4" name="Picture 1" descr=""/>
          <p:cNvPicPr/>
          <p:nvPr/>
        </p:nvPicPr>
        <p:blipFill>
          <a:blip r:embed="rId2"/>
          <a:stretch/>
        </p:blipFill>
        <p:spPr>
          <a:xfrm>
            <a:off x="5486400" y="2438280"/>
            <a:ext cx="3800520" cy="4181760"/>
          </a:xfrm>
          <a:prstGeom prst="rect">
            <a:avLst/>
          </a:prstGeom>
          <a:ln w="0">
            <a:noFill/>
          </a:ln>
        </p:spPr>
      </p:pic>
      <p:sp>
        <p:nvSpPr>
          <p:cNvPr id="345" name="TextBox 1"/>
          <p:cNvSpPr/>
          <p:nvPr/>
        </p:nvSpPr>
        <p:spPr>
          <a:xfrm>
            <a:off x="466560" y="6219720"/>
            <a:ext cx="472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bama Extended Stand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5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terindividual Differenc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5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traindividual Differenc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5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ssess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9" name="Picture 3" descr=""/>
          <p:cNvPicPr/>
          <p:nvPr/>
        </p:nvPicPr>
        <p:blipFill>
          <a:blip r:embed="rId2"/>
          <a:stretch/>
        </p:blipFill>
        <p:spPr>
          <a:xfrm>
            <a:off x="5486400" y="1905120"/>
            <a:ext cx="4121280" cy="40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3962520" cy="12492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-360" y="1774800"/>
            <a:ext cx="43434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4000"/>
          </a:bodyPr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pecifically Designed instruction, at no cost to parents, to meet the unique needs of a student with a disability, including instruction conducted in the classroom, in the home, in hospitals, and institutions, and in other settings.”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2" name="Picture 5" descr="C:\Documents and Settings\aspencer\Local Settings\Temporary Internet Files\Content.IE5\P6J8AG6K\MP900432711[1].jpg"/>
          <p:cNvPicPr/>
          <p:nvPr/>
        </p:nvPicPr>
        <p:blipFill>
          <a:blip r:embed="rId2"/>
          <a:stretch/>
        </p:blipFill>
        <p:spPr>
          <a:xfrm>
            <a:off x="434340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14" name="Content Placeholder 3" descr=""/>
          <p:cNvPicPr/>
          <p:nvPr/>
        </p:nvPicPr>
        <p:blipFill>
          <a:blip r:embed="rId2"/>
          <a:stretch/>
        </p:blipFill>
        <p:spPr>
          <a:xfrm>
            <a:off x="2259000" y="1673280"/>
            <a:ext cx="46260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Pre-referral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Response to Intervention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Referal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Assessment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Instructional Planning and Placement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7" name="Content Placeholder 3" descr=""/>
          <p:cNvPicPr/>
          <p:nvPr/>
        </p:nvPicPr>
        <p:blipFill>
          <a:blip r:embed="rId2"/>
          <a:stretch/>
        </p:blipFill>
        <p:spPr>
          <a:xfrm>
            <a:off x="-152280" y="3048120"/>
            <a:ext cx="4532040" cy="32004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2" descr=""/>
          <p:cNvPicPr/>
          <p:nvPr/>
        </p:nvPicPr>
        <p:blipFill>
          <a:blip r:embed="rId3"/>
          <a:stretch/>
        </p:blipFill>
        <p:spPr>
          <a:xfrm>
            <a:off x="4302000" y="3048120"/>
            <a:ext cx="48769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0" y="1774800"/>
            <a:ext cx="8686800" cy="5083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2"/>
          <a:stretch/>
        </p:blipFill>
        <p:spPr>
          <a:xfrm>
            <a:off x="893880" y="1676520"/>
            <a:ext cx="689904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nnual Guide to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elivery of customized services and instruc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llaboration between parents and professional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EP must be developed within 30 days of evaluation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6840" y="1774800"/>
            <a:ext cx="624852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tudent’s present level of academic achieve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easurable Annual goal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eport Student Progres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ist Services Neede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R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ccommodatio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ransition for 16 or old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6" name="Picture 5" descr="C:\Documents and Settings\aspencer\Local Settings\Temporary Internet Files\Content.IE5\XKMHQ9CZ\MP900049992[1].jpg"/>
          <p:cNvPicPr/>
          <p:nvPr/>
        </p:nvPicPr>
        <p:blipFill>
          <a:blip r:embed="rId2"/>
          <a:stretch/>
        </p:blipFill>
        <p:spPr>
          <a:xfrm>
            <a:off x="6172200" y="1447920"/>
            <a:ext cx="2971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student (the who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ill do what (the behavior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o what level (the criterion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Under what conditions (the conditions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 what length of time (the time frame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By the end of the school year, Jessica will be able to complete 20 long-division problems in 10 minutes with 90% accuracy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22:28:30Z</dcterms:created>
  <dc:creator>aspencer</dc:creator>
  <dc:description/>
  <dc:language>en-US</dc:language>
  <cp:lastModifiedBy>Spencer, Amelia G.</cp:lastModifiedBy>
  <dcterms:modified xsi:type="dcterms:W3CDTF">2018-02-15T18:34:36Z</dcterms:modified>
  <cp:revision>35</cp:revision>
  <dc:subject/>
  <dc:title>Special Education Process &amp; IEP</dc:title>
</cp:coreProperties>
</file>