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6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4.png" ContentType="image/png"/>
  <Override PartName="/ppt/media/image27.png" ContentType="image/png"/>
  <Override PartName="/ppt/media/image24.wmf" ContentType="image/x-wmf"/>
  <Override PartName="/ppt/media/image23.png" ContentType="image/pn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jpeg" ContentType="image/jpeg"/>
  <Override PartName="/ppt/media/image14.png" ContentType="image/png"/>
  <Override PartName="/ppt/media/image25.png" ContentType="image/png"/>
  <Override PartName="/ppt/media/image2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6AAC-DD95-4705-B0AC-19CC531D9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8553-5539-4E66-80A6-FF4B3DFA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534A-4C27-4714-82FA-9B488FEA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7D84-1A0C-419D-A1A7-9A301D76B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192C-8DD6-4396-9419-0EE6757DF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C740-0B2F-4B0D-BAC4-6249DDE7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5E3B-6671-4C0F-BB5C-005D6979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60A6-AF73-400F-9A8B-3FF2DA01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915E-1890-44AB-9519-A0053F22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695B-69BF-422F-B86A-3F03BCF0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354B-0321-4675-AA61-5A3F28BD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18E0-F5E7-494F-8B55-2619796E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2A78-DABC-462E-B26F-471424ED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C3CF-EF9C-4723-A074-F7054A78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A560-97F8-44DD-83DC-D488843E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B3AF-BCC7-4AC2-B027-A2D1BFE38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C6E6-5928-4794-BE39-0E6B1A8BB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5A5C5-7D01-4E54-8FAB-7DF0FD6F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02F92-0492-4C2B-9361-BA550233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E75D9-8283-4703-8C82-A0D84FBC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8CC1D-C703-4A21-B36C-469A442C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EB01A-CA08-4011-B097-BC7B3736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60E6-A53B-476F-93C8-CD740463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46053-E3C1-40F8-8375-BB8EEE87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BCFCC-AC88-4C94-BECE-CA8E5CFC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8C20C-0C3E-4DB6-AA30-714EEF80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E8AA9-7B0F-4F63-B83A-7D554112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8DBEE-802F-40CE-BD1F-1DDD5A17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3BF14-B49B-41E2-9212-1092593F3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E4A71-0C89-4EA2-8797-3D9C9EA18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09389-8F38-4705-BEDA-645E14BA7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881AE-0FA4-42AB-876C-E69A6379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83E6E-19FE-4E97-9FF5-B9B8D6DE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E4A5-256F-4723-ACBA-9AC12815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0D769-5249-476D-ACAB-45FB26EA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00F73-A451-44E1-A493-4D3868BC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EEFED-F9E8-4AB8-8BBC-B32C0691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D346B-B60E-4D23-A33E-EA62DDA7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ED8C7-77AF-45BA-A6B5-E5BAB3BE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3D09F-ED5F-4B17-B8A1-D7798A54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D681D-3016-4D8F-B5D0-5144C932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244E1-CD16-4C37-BE41-CAB8700B5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07436-5804-40EB-B04B-366AB0C66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A9F76-1E47-42DF-A13E-D80360D2D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B38A-8CC9-460D-90CF-6D298A4D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FAB7E-D0EF-462C-A74B-7AFF0F23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6E6D3-9619-4DD2-8A79-72E76938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87BF0-B266-4495-B2F4-DCF2162F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C9A4B-58C1-40FF-9263-2EC391F8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DA669-87FD-4DB8-B89D-108D9920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C0D9A-37AB-4EE1-BE88-EF1AB9AD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2F6B8-8645-4ADE-804A-94795F74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3F26F-9A0E-4273-A80D-A3BFF166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FFC71-DE43-40BD-B73F-1A0F4905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BCA3E-3D1F-480D-AE99-A3E47AE91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E280-2CF0-445A-AFA4-67057B34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6E03D-881D-4923-8CCE-1E1FDD1DF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5B310-469E-4636-983C-524011206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E0810-ED61-485B-8081-F20F7CF0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3D84D-25B5-49C6-8642-1467A026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A7052-C57A-4804-AE89-8545CFF4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8BB96-B710-44FB-A013-E1765982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73E19-9B77-47DA-93C2-80D99532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ACD42-59D5-4F35-A6C8-07C8FFCA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E990E-58D3-4DA6-BFB5-6A4F8D55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4EAC0-2EB1-4B6D-AEA2-3F4CCD72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6B22-65CE-491D-98EA-C4726943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1196D-44B6-4B05-8E58-374C3A71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C7735-5C26-4F79-9A00-268F45120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BA778-0535-42CB-A790-5410EEC36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643D1-12CF-4F9B-A7A7-E5582EBF4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A4E9F-A13A-4617-97F2-79623294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FA4FA-F75D-4B67-928D-2F2EF2C3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0C700-E978-4425-B464-8C2E3C17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6D8C4-507D-4D46-B77D-99D77DEE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A27FB-621D-44D7-A76B-7B028F66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51456-6686-4551-9692-B29A5B8B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B9D6-90DA-49AC-BBE6-24931FC7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354A0-2AB7-40DA-B82B-EA88D797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AC1B3-E463-4E32-944B-600FF342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805AE-C9B8-46DE-A77B-7AFDEF0F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58718-E2C1-4BBD-913A-62ED11A6F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6958E-6A2B-4D29-833F-D6C8DE383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2257-D1D1-4E16-AB9F-36E81E5F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720B-DF68-4314-9D19-AB123DE8901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3C11-5553-4816-A287-637A563446C9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DB6C-FB72-455D-9E62-593C655DEC13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95EA-4F43-492A-943A-503F00ED0BB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0F60-3D25-4F3C-BD48-4F1777A58B6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4986-6867-4E4B-BE67-3551F091710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ECBF-6C2E-4770-A3E8-CFD5C9E4A0E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s://www.youtube.com/watch?v=2XsaK3pWyII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9040" y="914400"/>
            <a:ext cx="3882960" cy="41148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3241080"/>
            <a:ext cx="807732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Picture 4" descr="C:\Documents and Settings\aspencer\Local Settings\Temporary Internet Files\Content.IE5\PPSHIWYG\MP900426612[1].jpg"/>
          <p:cNvPicPr/>
          <p:nvPr/>
        </p:nvPicPr>
        <p:blipFill>
          <a:blip r:embed="rId2"/>
          <a:stretch/>
        </p:blipFill>
        <p:spPr>
          <a:xfrm>
            <a:off x="4583160" y="0"/>
            <a:ext cx="456084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TextBox 2"/>
          <p:cNvSpPr/>
          <p:nvPr/>
        </p:nvSpPr>
        <p:spPr>
          <a:xfrm>
            <a:off x="685800" y="60958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68bba"/>
                </a:solidFill>
                <a:uFillTx/>
                <a:latin typeface="Arial"/>
                <a:hlinkClick r:id="rId3"/>
              </a:rPr>
              <a:t>Special Education Teacher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774800"/>
            <a:ext cx="403848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the maximum extent appropriate students with disabilities are educated with students without disabilities, and special class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Picture 4" descr="C:\Documents and Settings\aspencer\Local Settings\Temporary Internet Files\Content.IE5\XKMHQ9CZ\MC900310846[1].wmf"/>
          <p:cNvPicPr/>
          <p:nvPr/>
        </p:nvPicPr>
        <p:blipFill>
          <a:blip r:embed="rId2"/>
          <a:stretch/>
        </p:blipFill>
        <p:spPr>
          <a:xfrm>
            <a:off x="4572000" y="1676520"/>
            <a:ext cx="518148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" descr=""/>
          <p:cNvPicPr/>
          <p:nvPr/>
        </p:nvPicPr>
        <p:blipFill>
          <a:blip r:embed="rId1"/>
          <a:stretch/>
        </p:blipFill>
        <p:spPr>
          <a:xfrm>
            <a:off x="5334120" y="22320"/>
            <a:ext cx="3782880" cy="3666960"/>
          </a:xfrm>
          <a:prstGeom prst="rect">
            <a:avLst/>
          </a:prstGeom>
          <a:ln w="0">
            <a:noFill/>
          </a:ln>
        </p:spPr>
      </p:pic>
      <p:pic>
        <p:nvPicPr>
          <p:cNvPr id="333" name="Title 1" descr=""/>
          <p:cNvPicPr/>
          <p:nvPr/>
        </p:nvPicPr>
        <p:blipFill>
          <a:blip r:embed="rId2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r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eneral Education Teac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cial Education Teac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resentative from District (administrato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st Interpreter (psychometris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ther Professions of related services (OT, PT, SLP, nutritionist, consultan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cial Education Form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stering The Maz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Picture 3" descr="C:\Documents and Settings\aspencer\Local Settings\Temporary Internet Files\Content.IE5\P6J8AG6K\MC900099486[1].wmf"/>
          <p:cNvPicPr/>
          <p:nvPr/>
        </p:nvPicPr>
        <p:blipFill>
          <a:blip r:embed="rId2"/>
          <a:stretch/>
        </p:blipFill>
        <p:spPr>
          <a:xfrm>
            <a:off x="914400" y="2819520"/>
            <a:ext cx="7010280" cy="3622680"/>
          </a:xfrm>
          <a:prstGeom prst="rect">
            <a:avLst/>
          </a:prstGeom>
          <a:ln w="0">
            <a:noFill/>
          </a:ln>
        </p:spPr>
      </p:pic>
      <p:sp>
        <p:nvSpPr>
          <p:cNvPr id="338" name="TextBox 2"/>
          <p:cNvSpPr/>
          <p:nvPr/>
        </p:nvSpPr>
        <p:spPr>
          <a:xfrm>
            <a:off x="609480" y="6553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1523520"/>
            <a:ext cx="5867280" cy="4876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ters the academic setting or environ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lows child to mor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curately show wha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e/she know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vels the playing field, not giving child advantag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: Books on tape, Oral Tests, Calculators, More Time on Tests, Dict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Picture 1" descr=""/>
          <p:cNvPicPr/>
          <p:nvPr/>
        </p:nvPicPr>
        <p:blipFill>
          <a:blip r:embed="rId2"/>
          <a:stretch/>
        </p:blipFill>
        <p:spPr>
          <a:xfrm>
            <a:off x="5943600" y="2890800"/>
            <a:ext cx="32004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456840" y="1774800"/>
            <a:ext cx="61722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ters the work, making i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ifferent from the wor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f other childre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th IDEA, is done b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oosing Extended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andards, written by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at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oosing AAA (Alabama Alternative Assessmen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Picture 1" descr=""/>
          <p:cNvPicPr/>
          <p:nvPr/>
        </p:nvPicPr>
        <p:blipFill>
          <a:blip r:embed="rId2"/>
          <a:stretch/>
        </p:blipFill>
        <p:spPr>
          <a:xfrm>
            <a:off x="5486400" y="2438280"/>
            <a:ext cx="3800520" cy="4181760"/>
          </a:xfrm>
          <a:prstGeom prst="rect">
            <a:avLst/>
          </a:prstGeom>
          <a:ln w="0">
            <a:noFill/>
          </a:ln>
        </p:spPr>
      </p:pic>
      <p:sp>
        <p:nvSpPr>
          <p:cNvPr id="345" name="TextBox 1"/>
          <p:cNvSpPr/>
          <p:nvPr/>
        </p:nvSpPr>
        <p:spPr>
          <a:xfrm>
            <a:off x="466560" y="6219720"/>
            <a:ext cx="47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bama Extended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erindividual Differ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raindividual Differ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ssess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412128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3962520" cy="12492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-360" y="1774800"/>
            <a:ext cx="43434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pecifically Designed instruction, at no cost to parents, to meet the unique needs of a student with a disability, including instruction conducted in the classroom, in the home, in hospitals, and institutions, and in other settings.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2" name="Picture 5" descr="C:\Documents and Settings\aspencer\Local Settings\Temporary Internet Files\Content.IE5\P6J8AG6K\MP900432711[1].jpg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14" name="Content Placeholder 3" descr=""/>
          <p:cNvPicPr/>
          <p:nvPr/>
        </p:nvPicPr>
        <p:blipFill>
          <a:blip r:embed="rId2"/>
          <a:stretch/>
        </p:blipFill>
        <p:spPr>
          <a:xfrm>
            <a:off x="2259000" y="1673280"/>
            <a:ext cx="46260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re-referra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sponse to Intervention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fera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Instructional Planning and Place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7" name="Content Placeholder 3" descr=""/>
          <p:cNvPicPr/>
          <p:nvPr/>
        </p:nvPicPr>
        <p:blipFill>
          <a:blip r:embed="rId2"/>
          <a:stretch/>
        </p:blipFill>
        <p:spPr>
          <a:xfrm>
            <a:off x="-152280" y="3048120"/>
            <a:ext cx="4532040" cy="32004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"/>
          <p:cNvPicPr/>
          <p:nvPr/>
        </p:nvPicPr>
        <p:blipFill>
          <a:blip r:embed="rId3"/>
          <a:stretch/>
        </p:blipFill>
        <p:spPr>
          <a:xfrm>
            <a:off x="4302000" y="3048120"/>
            <a:ext cx="4876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0" y="1774800"/>
            <a:ext cx="8686800" cy="5083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893880" y="1676520"/>
            <a:ext cx="689904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nual Guide to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livery of customized services and instru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llaboration between parents and profession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EP must be developed within 30 days of evaluatio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6840" y="1774800"/>
            <a:ext cx="62485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udent’s present level of academic achieve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asurable Annual go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ort Student Progre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ist Services Need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commoda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ransition for 16 or old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5" descr="C:\Documents and Settings\aspencer\Local Settings\Temporary Internet Files\Content.IE5\XKMHQ9CZ\MP900049992[1].jpg"/>
          <p:cNvPicPr/>
          <p:nvPr/>
        </p:nvPicPr>
        <p:blipFill>
          <a:blip r:embed="rId2"/>
          <a:stretch/>
        </p:blipFill>
        <p:spPr>
          <a:xfrm>
            <a:off x="6172200" y="1447920"/>
            <a:ext cx="2971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udent (the who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ll do what (the behavio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what level (the criterion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nder what conditions (the condition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 what length of time (the time frame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y the end of the school year, Jessica will be able to complete 20 long-division problems in 10 minutes with 90% accurac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22:28:30Z</dcterms:created>
  <dc:creator>aspencer</dc:creator>
  <dc:description/>
  <dc:language>en-US</dc:language>
  <cp:lastModifiedBy>Spencer, Amelia G.</cp:lastModifiedBy>
  <dcterms:modified xsi:type="dcterms:W3CDTF">2018-02-15T18:34:36Z</dcterms:modified>
  <cp:revision>35</cp:revision>
  <dc:subject/>
  <dc:title>Special Education Process &amp; IEP</dc:title>
</cp:coreProperties>
</file>