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E1A7-0D67-4935-8873-1CDA48789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8F87-ED46-42EA-9B8F-66D4DC1B2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3252-A299-44D6-9FFF-29274F7F2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DF9A-537E-4A3D-A9BF-61CDE04BD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C7A6-C467-43DE-9EE4-9062AF33F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19BE-F9A4-48FF-88F7-9FA4783E1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01E6-466E-4DB3-9AB7-883C9E30F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CD88-8A7E-4204-943B-21E5AEA4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A1CB-3CE9-409F-87BE-CE4418092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84AF-F66C-4A86-8DC0-31066CCE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957F-BAA2-44F8-8004-FE4EC957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0C6F-120C-432C-9744-DD95AE80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6CB3-662B-4892-8384-DB799644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2D3E-52BC-488E-AD10-4C046D6EF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C7DD-97CF-4481-9C92-62E99F92C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9CAD-43FF-45E4-ACA1-6DEACE3E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CCE6-F54E-4E85-B965-19F847ACF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BFBB-8C7F-4730-B33B-837CED09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EC65-7FA5-4559-A4BE-C24A97C5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5FF5-16CA-4965-B31E-6A021C17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858B-BD30-4FB7-8E9D-5B4550EA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4ACE-9D10-411E-BCF3-52785471F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DFA3-AFB1-4972-A88F-4A7C13A48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6B5F-4190-49DC-B4F9-51A606AFE5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714EE-AC9E-467A-A142-B009A7C9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61FFF-F634-4666-BD09-A3820566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08605-8509-433C-9862-BAB1E829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528B9-FEB1-4A15-9CD5-32BEFE67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BBF7A-6F14-40DD-85EC-44651AA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BED2C-1A88-4E77-8606-4E95F30C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6792C-29D7-478B-A764-E4B1B170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FE401-0F62-47F2-B072-88BAEEE5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EAAAB-EF73-4A83-9FFB-6D0A63AF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E6FB3-6785-472D-8162-42902058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ACD3-68E2-4972-A4C1-2EF8A0FF5A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6ADE2-632E-49A6-8823-01C4A8BC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249A1-E8D4-4C80-8B45-2C0C8FEF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E338A-1AC8-4BAE-8F70-ABEBB7F3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EBA00-A411-4D0D-9D6F-645A0A38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267B0-1655-494D-9E08-68276AFD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26014-2345-4D75-BF1B-987134A2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DC332-7B7F-4ECC-8CC6-8DDE8179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F4CC0-EFD2-4F5F-BE60-6283D98C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B54CA-5E13-4E50-BF4C-7AFE9437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656E8-F2BB-42CE-9B52-EE4A9F96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8491-4C17-46C3-83C1-52C351BB0B4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19761-2507-44DB-A870-B6FFD492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F9CD65-8025-4DE9-A324-D9516067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D8CB6C-F59D-4C19-952F-BCC34BBD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C3D31F-4F95-401A-BB31-766A28DE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3612AB-29AD-43A0-A3BF-56EEB2B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9051AC-04D0-422D-8DCC-418CEC4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D8A322-84F6-4FDB-8C02-DBD95303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FE222A-CB69-4455-8255-F65283E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88915D-3E2B-44D7-8ECB-D41619BA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A4F06B-D95E-439A-AFDB-D768CE4E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58507-FF55-4B62-AC50-116A6651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085FA2-DE1E-48FB-BC7D-156DDD0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AED0C9-B2A0-4155-9F67-10154E7A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C1CF44-58C1-4A9E-8DBC-B55C03ED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1E26A-01C6-4203-80C2-ADC16154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4FC56-2E5F-4637-BF1A-694F942E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6AC14-2054-4154-8E0E-DE6BD4B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CB93D-7ED0-42C8-B686-9A71D4CD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D9497-239B-40F2-B708-7C0166FB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2F32E-5A95-465F-8A4F-C69A75D8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716BC-9E04-425D-95D2-287DAF45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D1B10-30C8-4060-AB5F-73A221F9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93DF5-3E2B-4C14-A127-0A3F05EF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20F1B-3E32-4835-AC03-59DDA62A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39BA4-3EC4-4715-98B3-DCCF350A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F640C-B3B7-4E6A-98E5-EEDA3005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6B497-E522-4E84-8188-866692C3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F1866F-2B57-4B52-B44A-6EA89D7B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92A98B-E053-479A-9790-98B21CEE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FB079E-38CE-465C-928E-010983E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81BAD6-E1A3-452A-8C59-5021443D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1900A4-155B-4BDA-948E-52428ADC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35B7B-07B1-4854-92AE-776138A3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D3169B-95BB-488C-85E8-84D84537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AD0D81-B4F4-4582-A7D9-6BB1AB22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D47372-88C4-4729-AA73-5B9EAE12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0B4653-2748-42C3-99FE-425525C6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4EAA9C-CC13-4EBA-8CC9-1DFB7205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0D8B0A-7903-4B0B-93BF-53A8FCEB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671E07-4F4B-41C6-B6EB-A41BE708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1AEAF-58A1-4342-96C8-C85F5BED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E7C28-67FC-44D8-B46D-3C1CCBC9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6C42A-782C-430A-8C7E-5E059C31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5D15E-F055-4EF8-B3FA-C552838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A8CE-74F9-46A6-AAB6-A99EB3D3F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14703-D283-404D-83A2-EBEAE33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E7B1B-B9A2-43B1-9076-D66A24F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DA291-A981-4296-893F-F66113C1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ABB29-90E8-4277-812F-9EB9786A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D54BA-28CB-4697-B7D2-AE420F0B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2A159-2F20-4070-8EEF-AB37BB16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B1732-CA8E-43E5-93C7-3634A8FF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9B7C7-D515-4835-AEED-14C13DB5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9F1A7-15A0-4804-88B4-3300FB55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87537A-261A-4223-9E1F-72104001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7EEF-00D2-46D4-8206-2FAC6A4822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8F4E4-F1BE-4D9F-AEA7-34CB50CE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AAD34-39FD-4B5C-8CDF-B9866952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55041-92F6-4761-ADB2-79120E58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B420E3-8636-41A4-A49D-36B9CA9B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73EEE-2761-44B8-B165-233291A2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A8A41-7AA0-462A-9DF1-68C3431B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1FB87-C0B8-4665-B636-C43C9A87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FBFF-9978-4D28-A9BA-3FDC3112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0DBE-6592-4E30-BDF7-6EA4A477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2B8A-CCC4-4D6A-9E12-8949C00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5583-E4A1-433F-9BB0-082B2DD67E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42EE-B86B-4938-80BC-AA70F00C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2A32-E324-4781-8036-1072BB82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ADAF-89E4-4563-8C0A-F9DE54A1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1255-8A0D-49B9-8320-E664974F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8346-7CAE-49D8-8293-5F73C0A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A95FD-E14A-4E47-988B-A073B0D2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A171-1A4C-4A05-9996-DC2A6ADB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6743-4C14-4E11-8EF1-E31A2CA8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9A25-C6D4-4960-AEA4-F197B2CF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2DF29F-EBFA-4B39-953B-D685A65C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D3A0-DDD5-4F84-B50B-D14F4C49B7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7EAD57-6728-46B6-8E78-1A419097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9A5F8E-FDFE-468B-BFB4-FCB1BEC2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F3C94C-7252-4109-AA78-D43D922C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0BA6CC-96EE-4D7B-BC0E-DEA55C5F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EFA0A-E682-4BFA-88BE-8E1FDAAB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0E88D-A3CB-4030-A9E0-9989AAC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4F1909-D583-4BE6-B437-7A17475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36A4DB-13B6-4084-9E8A-247CDDFF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E14AD4-82F2-493E-8C26-AF2BC90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C22C0-C1FF-4D9E-A7BE-A851CD6A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8D3A-7ABA-4A71-B44C-243E135543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6791AB-4526-4A3F-8696-72B6E636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71AB6-B4C5-49AF-9F87-99619920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DBDA8-692D-49E6-A29D-CC6407F6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610D8C-0F88-4B5A-A404-34E6CFC4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9A7C5-CE35-4292-84A9-5E690A82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052F0A-EE51-4466-A5C7-92350015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16931B-99D7-4174-A4E3-2DE9B4CE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81F555-878D-445A-B1FA-39D124C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84471-BDFC-4530-8BA8-ACBE13BE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07E69-9C3E-453B-B063-8B1FFAED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8E60-9074-4A05-9816-F513A61131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706766-E55E-44B7-85D1-AB889A35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93F502-8515-4790-B5C7-8F00558E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911656-1218-4A60-ACBD-99E6A8DE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693006-3276-480C-A8E2-A59F10CC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23F4AC-9868-4D3D-A93E-FA0AE8BF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9C92EF-129E-4C28-9EAA-F6B5331C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663361-5B2B-4065-9118-B638851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1EEAC7-90D4-483F-8D3F-AC102875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1EABC8-A0D8-4EA2-8C1D-71B784F3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48E059-7293-44F7-8866-9067D329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E579-916C-4548-B641-A382EB5BB39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CB4DEE-1A94-4DD5-A6BA-62F4DBD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B29722-AB28-41DF-9F2F-1ECE7FF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75141-E95E-4753-980A-9E57AE82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5DD17A-E898-4E61-8D63-1EE283D1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919A9C-DA71-444B-AB58-50AFDCB9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97E722-4B07-4296-B039-2F452B30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2BD0F5-8504-4686-8AEC-AE7A733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754A16-C8DC-4EF3-9FDA-11C39865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87F9F-3D7D-4AA0-B118-7E57CF55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7FABE6-4076-45DA-A38A-F6BC9839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7AA9-9F5E-46CA-B860-AD4EFE3516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0D7FC4-653D-4C3A-A1AD-631DF92F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FFF6C5-4077-47DF-8F81-AD00A056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7C79E-807B-4A25-954C-3576136B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093A02-8104-4225-B7C0-B998C58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5803ED-3A80-4E9C-BC46-A64D29F0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F1C46F-326D-4825-AA4B-DD2CD930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39CD4E-DF21-4B85-950C-0E7DD60B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C6957-C9F5-4505-A470-3F0AE18E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E670C-7838-4E2B-AB4D-13C1EE8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729BA-45A4-478B-8FA2-BFA0E266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7B87-5358-48B1-9610-59568F4370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57BF-8BFE-492C-93D6-6BB0EC7C6D8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D89-D5FB-45F2-B5F5-A5AB2E118B8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6614-D897-43B3-84B0-543A5FDEC28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111-396F-4E7C-B866-2314D95A3F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A0C-C0C6-4145-94AC-6CFB1561896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4818-4E0A-45B8-80D9-9160B5D45E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84B7-41CA-484E-82A2-B6F05EEDE9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C0D1-907A-40E2-8A8D-560341487EB9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C8A2-FC45-473D-822E-103F9D9EE476}" type="slidenum">
              <a:rPr b="1" lang="en-US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EB98-873B-43EB-8EFD-1BA182EAD06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5D4F-A401-45A1-8750-088694087A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44CD-E4C2-4EE0-BE72-CFFCBC6ED2A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CEAB-D430-44F8-88CE-66F0C0F6E69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BA8D-296B-43B6-BEBD-9166A5CBFF7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4CB5-F05B-4924-BBE4-F1105AEEAC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99B-3111-4140-AAA7-671CC8F55E0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025D-51DC-46C7-AFE7-AFE9810B8F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D40D-F8B6-4D75-B57B-52DE7FB6898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57EF-4E36-4637-BA50-6D2DC01E09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96C8-6025-49F8-81EF-A604DD42CED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3626-E6CE-44EA-BEFD-EA19EA1E0446}" type="slidenum">
              <a:rPr b="1" lang="en-US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9403-351A-4C40-8477-CB708D7563B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9BE8-1244-4F65-8867-A8467ECFD9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roducing Environmental Science and Sustain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152280" y="60516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20560" y="1600200"/>
            <a:ext cx="831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vements in highly developed nations are changing de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iny house mov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ouses of typically &lt;1,000sq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raven_9e_fig_01_05_2.jpg"/>
          <p:cNvPicPr/>
          <p:nvPr/>
        </p:nvPicPr>
        <p:blipFill>
          <a:blip r:embed="rId1"/>
          <a:stretch/>
        </p:blipFill>
        <p:spPr>
          <a:xfrm>
            <a:off x="5938920" y="2367000"/>
            <a:ext cx="2554200" cy="3557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raven_9e_fig_01_05_1.jpg"/>
          <p:cNvPicPr/>
          <p:nvPr/>
        </p:nvPicPr>
        <p:blipFill>
          <a:blip r:embed="rId2"/>
          <a:stretch/>
        </p:blipFill>
        <p:spPr>
          <a:xfrm>
            <a:off x="1046160" y="3716280"/>
            <a:ext cx="3855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ypes of Natural Resourc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12" name="Picture 5" descr="Z:\NewMedia\Ebook-Novella\Wiley\JIRA\bcs2712\Raven9e\Work\Ch01\images\raven_9e_fig_01_06.jpg"/>
          <p:cNvPicPr/>
          <p:nvPr/>
        </p:nvPicPr>
        <p:blipFill>
          <a:blip r:embed="rId1"/>
          <a:stretch/>
        </p:blipFill>
        <p:spPr>
          <a:xfrm>
            <a:off x="480960" y="2036880"/>
            <a:ext cx="818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uman use of materials and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eople in HDCs are big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Unsustainable 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Occurs when the level of demand on a country’s resources damages or depletes the resource enough to reduce the quality of life for future gen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used by overpopulation and/or over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The average amount of land, water and ocean required to provide that person with all the resources they con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5025960" y="1600200"/>
          <a:ext cx="3281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1600200"/>
                    <a:ext cx="3281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304920" y="3429000"/>
          <a:ext cx="8458200" cy="2579760"/>
        </p:xfrm>
        <a:graphic>
          <a:graphicData uri="http://schemas.openxmlformats.org/drawingml/2006/table">
            <a:tbl>
              <a:tblPr/>
              <a:tblGrid>
                <a:gridCol w="6172200"/>
                <a:gridCol w="2286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Earth’s Productive Land and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1.4 billion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Amount Each Person is Allotted (divide Productive Land &amp; Water by Human Pop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.8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Current Global Ecological Footprint of each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2.7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s have an ecological overshoo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Z:\NewMedia\Ebook-Novella\Wiley\JIRA\bcs2712\Raven9e\Work\Ch01\images\raven_9e_fig_01_07.jpg"/>
          <p:cNvPicPr/>
          <p:nvPr/>
        </p:nvPicPr>
        <p:blipFill>
          <a:blip r:embed="rId1"/>
          <a:stretch/>
        </p:blipFill>
        <p:spPr>
          <a:xfrm>
            <a:off x="1779480" y="2438280"/>
            <a:ext cx="55850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 Comparis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24" name="Picture 5" descr="Z:\NewMedia\Ebook-Novella\Wiley\JIRA\bcs2712\Raven9e\Work\Ch01\images\raven_9e_fig_01_08_1.jpg"/>
          <p:cNvPicPr/>
          <p:nvPr/>
        </p:nvPicPr>
        <p:blipFill>
          <a:blip r:embed="rId1"/>
          <a:stretch/>
        </p:blipFill>
        <p:spPr>
          <a:xfrm>
            <a:off x="236520" y="2585880"/>
            <a:ext cx="4322880" cy="3084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Z:\NewMedia\Ebook-Novella\Wiley\JIRA\bcs2712\Raven9e\Work\Ch01\images\raven_9e_fig_01_08_2.jpg"/>
          <p:cNvPicPr/>
          <p:nvPr/>
        </p:nvPicPr>
        <p:blipFill>
          <a:blip r:embed="rId2"/>
          <a:stretch/>
        </p:blipFill>
        <p:spPr>
          <a:xfrm>
            <a:off x="4745160" y="2598840"/>
            <a:ext cx="41511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IPAT Model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easures 3 factors that affect environmental impact (I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960480" y="2590920"/>
            <a:ext cx="7223040" cy="4010760"/>
            <a:chOff x="960480" y="2590920"/>
            <a:chExt cx="7223040" cy="4010760"/>
          </a:xfrm>
        </p:grpSpPr>
        <p:grpSp>
          <p:nvGrpSpPr>
            <p:cNvPr id="629" name="Group 5"/>
            <p:cNvGrpSpPr/>
            <p:nvPr/>
          </p:nvGrpSpPr>
          <p:grpSpPr>
            <a:xfrm>
              <a:off x="2057400" y="3809880"/>
              <a:ext cx="6126120" cy="1191240"/>
              <a:chOff x="2057400" y="3809880"/>
              <a:chExt cx="6126120" cy="1191240"/>
            </a:xfrm>
          </p:grpSpPr>
          <p:sp>
            <p:nvSpPr>
              <p:cNvPr id="630" name="Text Box 6"/>
              <p:cNvSpPr/>
              <p:nvPr/>
            </p:nvSpPr>
            <p:spPr>
              <a:xfrm>
                <a:off x="2057400" y="3809880"/>
                <a:ext cx="6126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a3d6"/>
                    </a:solidFill>
                    <a:latin typeface="Arial"/>
                  </a:rPr>
                  <a:t>I = P   A    T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7"/>
              <p:cNvGrpSpPr/>
              <p:nvPr/>
            </p:nvGrpSpPr>
            <p:grpSpPr>
              <a:xfrm>
                <a:off x="4204800" y="4267080"/>
                <a:ext cx="383040" cy="365040"/>
                <a:chOff x="4204800" y="4267080"/>
                <a:chExt cx="383040" cy="365040"/>
              </a:xfrm>
            </p:grpSpPr>
            <p:sp>
              <p:nvSpPr>
                <p:cNvPr id="632" name="Line 8"/>
                <p:cNvSpPr/>
                <p:nvPr/>
              </p:nvSpPr>
              <p:spPr>
                <a:xfrm>
                  <a:off x="4206960" y="42670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9"/>
                <p:cNvSpPr/>
                <p:nvPr/>
              </p:nvSpPr>
              <p:spPr>
                <a:xfrm flipH="1">
                  <a:off x="4204800" y="42670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10"/>
              <p:cNvGrpSpPr/>
              <p:nvPr/>
            </p:nvGrpSpPr>
            <p:grpSpPr>
              <a:xfrm>
                <a:off x="5698800" y="4252680"/>
                <a:ext cx="383040" cy="365040"/>
                <a:chOff x="5698800" y="4252680"/>
                <a:chExt cx="383040" cy="365040"/>
              </a:xfrm>
            </p:grpSpPr>
            <p:sp>
              <p:nvSpPr>
                <p:cNvPr id="635" name="Line 11"/>
                <p:cNvSpPr/>
                <p:nvPr/>
              </p:nvSpPr>
              <p:spPr>
                <a:xfrm>
                  <a:off x="5700960" y="42526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"/>
                <p:cNvSpPr/>
                <p:nvPr/>
              </p:nvSpPr>
              <p:spPr>
                <a:xfrm flipH="1">
                  <a:off x="5698800" y="42526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13"/>
            <p:cNvGrpSpPr/>
            <p:nvPr/>
          </p:nvGrpSpPr>
          <p:grpSpPr>
            <a:xfrm>
              <a:off x="960480" y="2590920"/>
              <a:ext cx="2682720" cy="1417680"/>
              <a:chOff x="960480" y="2590920"/>
              <a:chExt cx="2682720" cy="1417680"/>
            </a:xfrm>
          </p:grpSpPr>
          <p:sp>
            <p:nvSpPr>
              <p:cNvPr id="638" name="Text Box 14"/>
              <p:cNvSpPr/>
              <p:nvPr/>
            </p:nvSpPr>
            <p:spPr>
              <a:xfrm>
                <a:off x="960480" y="259092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Impac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>
                <a:off x="2239920" y="353556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2789280" y="4937040"/>
              <a:ext cx="1874880" cy="1374120"/>
              <a:chOff x="2789280" y="4937040"/>
              <a:chExt cx="1874880" cy="1374120"/>
            </a:xfrm>
          </p:grpSpPr>
          <p:sp>
            <p:nvSpPr>
              <p:cNvPr id="641" name="Text Box 17"/>
              <p:cNvSpPr/>
              <p:nvPr/>
            </p:nvSpPr>
            <p:spPr>
              <a:xfrm>
                <a:off x="2789280" y="5364000"/>
                <a:ext cx="1874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umber of peop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3706920" y="493704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3868920" y="2622600"/>
              <a:ext cx="2682720" cy="1417680"/>
              <a:chOff x="3868920" y="2622600"/>
              <a:chExt cx="2682720" cy="1417680"/>
            </a:xfrm>
          </p:grpSpPr>
          <p:sp>
            <p:nvSpPr>
              <p:cNvPr id="644" name="Text Box 20"/>
              <p:cNvSpPr/>
              <p:nvPr/>
            </p:nvSpPr>
            <p:spPr>
              <a:xfrm>
                <a:off x="3868920" y="262260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ffluence per pers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>
                <a:off x="5148360" y="356724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5416560" y="4807080"/>
              <a:ext cx="2743200" cy="1794600"/>
              <a:chOff x="5416560" y="4807080"/>
              <a:chExt cx="2743200" cy="1794600"/>
            </a:xfrm>
          </p:grpSpPr>
          <p:sp>
            <p:nvSpPr>
              <p:cNvPr id="647" name="Text Box 23"/>
              <p:cNvSpPr/>
              <p:nvPr/>
            </p:nvSpPr>
            <p:spPr>
              <a:xfrm>
                <a:off x="5416560" y="5227920"/>
                <a:ext cx="27432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effect of technologi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 flipV="1">
                <a:off x="6724800" y="480708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uel efficient vehicl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630320" y="1600200"/>
            <a:ext cx="413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verage fuel econom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2.1 mpg (198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0.4 mpg (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SUV popula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Fuel efficient vehicles can lower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fficient dr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:\NewMedia\Ebook-Novella\Wiley\JIRA\bcs2712\Raven9e\Work\Ch01\images\raven_9e_fig_01_09.jpg"/>
          <p:cNvPicPr/>
          <p:nvPr/>
        </p:nvPicPr>
        <p:blipFill>
          <a:blip r:embed="rId1"/>
          <a:stretch/>
        </p:blipFill>
        <p:spPr>
          <a:xfrm>
            <a:off x="371520" y="2185920"/>
            <a:ext cx="41749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53" name="Picture 4" descr="Z:\NewMedia\Ebook-Novella\Wiley\JIRA\bcs2712\Raven9e\Work\Ch01\images\raven_9e_fig_01_10.jpg"/>
          <p:cNvPicPr/>
          <p:nvPr/>
        </p:nvPicPr>
        <p:blipFill>
          <a:blip r:embed="rId1"/>
          <a:stretch/>
        </p:blipFill>
        <p:spPr>
          <a:xfrm>
            <a:off x="1087560" y="1654200"/>
            <a:ext cx="69688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 ability to meet current human need for natural resources without compromising the needs of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304920" y="28954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quires understanding</a:t>
            </a: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e effects of our actions on the ear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at earth’s resources are not infin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6" descr="Z:\NewMedia\Ebook-Novella\Wiley\JIRA\bcs2712\Raven9e\Work\Ch01\images\raven_9e_fig_01_11.jpg"/>
          <p:cNvPicPr/>
          <p:nvPr/>
        </p:nvPicPr>
        <p:blipFill>
          <a:blip r:embed="rId1"/>
          <a:stretch/>
        </p:blipFill>
        <p:spPr>
          <a:xfrm>
            <a:off x="4138560" y="2941560"/>
            <a:ext cx="46958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Overview of Chapter 1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 Impacts on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pulation, Resources and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ustain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ddressing Environmental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Tragedy of the Commons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Hardin (1915–2003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olving environmental problems is result of struggle betwee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hort term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ng term environmental stability and societal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mmon pool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used common pastureland in medieval Europe to illustrate the strugg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rav8_fig_01_12.jpg"/>
          <p:cNvPicPr/>
          <p:nvPr/>
        </p:nvPicPr>
        <p:blipFill>
          <a:blip r:embed="rId1"/>
          <a:srcRect l="0" t="0" r="0" b="4238"/>
          <a:stretch/>
        </p:blipFill>
        <p:spPr>
          <a:xfrm>
            <a:off x="3614760" y="2622600"/>
            <a:ext cx="4713120" cy="37116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6b86"/>
                </a:solidFill>
                <a:latin typeface="Arial"/>
              </a:rPr>
              <a:t>Sustainable Development- Systems Concept</a:t>
            </a:r>
            <a:endParaRPr b="0" lang="en-US" sz="4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nomic development that meets the needs of the present generation without compromising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n interdisciplinary study of human relationship with other organisms and the ear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46b86"/>
                </a:solidFill>
                <a:uFillTx/>
                <a:latin typeface="Arial"/>
              </a:rPr>
              <a:t>Ec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em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4800600" y="2971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c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Dem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oli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arth System and 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set of components that interact and function as a w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lobal Ear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limate, atmosphere, land, coastal zones,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system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natural system consisting of a community of organisms and its physical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Nega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counteracts (reverses) the change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raven_9e_fig_01_13_1.jpg"/>
          <p:cNvPicPr/>
          <p:nvPr/>
        </p:nvPicPr>
        <p:blipFill>
          <a:blip r:embed="rId1"/>
          <a:stretch/>
        </p:blipFill>
        <p:spPr>
          <a:xfrm>
            <a:off x="4802040" y="1890720"/>
            <a:ext cx="26863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809720"/>
            <a:ext cx="4035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si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intensifies the chang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polar and glacial ice melt, color change leading to more rapid mel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5" descr="Z:\NewMedia\Ebook-Novella\Wiley\JIRA\bcs2712\Raven9e\Work\Ch01\images\raven_9e_fig_01_13_2.jpg"/>
          <p:cNvPicPr/>
          <p:nvPr/>
        </p:nvPicPr>
        <p:blipFill>
          <a:blip r:embed="rId1"/>
          <a:stretch/>
        </p:blipFill>
        <p:spPr>
          <a:xfrm>
            <a:off x="5499000" y="1784520"/>
            <a:ext cx="21495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75" name="Picture 4" descr="Z:\NewMedia\Ebook-Novella\Wiley\JIRA\bcs2712\Raven9e\Work\Ch01\images\raven_9e_fig_01_14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4660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46b86"/>
                </a:solidFill>
                <a:latin typeface="Arial"/>
              </a:rPr>
              <a:t>Controls and Variables in Experiment</a:t>
            </a:r>
            <a:endParaRPr b="0" lang="en-US" sz="3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factor that influences a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may be altered in an experiment to determine its effect on the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is not al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llows for comparison between the tests of when we alter the variable and when we do not alter th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knowledge and theor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12720" y="1714680"/>
            <a:ext cx="80964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Integrated explanation supported by large body of observations and experiments, and evaluated by peer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implifies, clarifies, and predicts new relationships within the natural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bsolute truth is not possible in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Knowledge evolves as new evidence is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ood as a Lens for Environmental Stud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36040" y="1700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hicken sandwich requires wheat, chicken, other ingredients, energy to manufacture and transport to table, energy to treat generated wastes and packag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536400" y="3714840"/>
            <a:ext cx="4572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Our choices matter and affect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What do you think about when you make your food choic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raven_9e_figun_01_p001.jpg"/>
          <p:cNvPicPr/>
          <p:nvPr/>
        </p:nvPicPr>
        <p:blipFill>
          <a:blip r:embed="rId1"/>
          <a:stretch/>
        </p:blipFill>
        <p:spPr>
          <a:xfrm>
            <a:off x="5219640" y="3538440"/>
            <a:ext cx="3328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he Environment (Earth)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ife has existed on earth for 3.8 billion y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arth well suited for lif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Water over ¾ of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abitable temperature, moderat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tmosphere provides oxygen and carbon di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il with essential minerals f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Z:\NewMedia\Ebook-Novella\Wiley\JIRA\bcs2712\Raven9e\Work\Ch01\images\raven_9e_fig_01_02.jpg"/>
          <p:cNvPicPr/>
          <p:nvPr/>
        </p:nvPicPr>
        <p:blipFill>
          <a:blip r:embed="rId1"/>
          <a:stretch/>
        </p:blipFill>
        <p:spPr>
          <a:xfrm>
            <a:off x="4668840" y="1946160"/>
            <a:ext cx="4276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Human Impacts on Environment- Population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3565080"/>
            <a:ext cx="414684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Estimates of 8-11 billion by end of 21</a:t>
            </a:r>
            <a:r>
              <a:rPr b="0" lang="en-US" sz="2500" spc="-1" strike="noStrike" baseline="30000">
                <a:solidFill>
                  <a:srgbClr val="646b86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 centu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We are the most significant agent of environment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80880" y="1600200"/>
            <a:ext cx="835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Modern humans appeared ~100,000 years ago in Africa and quickly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Now, human population is  ~7.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840" indent="-1717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Growing exponenti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Z:\NewMedia\Ebook-Novella\Wiley\JIRA\bcs2712\Raven9e\Work\Ch01\images\raven_9e_fig_01_03.jpg"/>
          <p:cNvPicPr/>
          <p:nvPr/>
        </p:nvPicPr>
        <p:blipFill>
          <a:blip r:embed="rId1"/>
          <a:stretch/>
        </p:blipFill>
        <p:spPr>
          <a:xfrm>
            <a:off x="4621320" y="3041640"/>
            <a:ext cx="39798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251240" y="1782360"/>
            <a:ext cx="466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re than 1 in 4 people live in extreme </a:t>
            </a:r>
            <a:r>
              <a:rPr b="0" lang="en-US" sz="2900" spc="-1" strike="noStrike" u="sng">
                <a:solidFill>
                  <a:srgbClr val="646b86"/>
                </a:solidFill>
                <a:uFillTx/>
                <a:latin typeface="Arial"/>
              </a:rPr>
              <a:t>poverty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nnot meet basic need for food, clothing, shelter,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Difficult to meet population needs without exploiting earth’s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Z:\NewMedia\Ebook-Novella\Wiley\JIRA\bcs2712\Raven9e\Work\Ch01\images\raven_9e_fig_01_04.jpg"/>
          <p:cNvPicPr/>
          <p:nvPr/>
        </p:nvPicPr>
        <p:blipFill>
          <a:blip r:embed="rId1"/>
          <a:stretch/>
        </p:blipFill>
        <p:spPr>
          <a:xfrm>
            <a:off x="1100160" y="1859040"/>
            <a:ext cx="27669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untries were differentiated based on weal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ighly Developed Countries (H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omplex industrialized bases, low population growth, high per capita in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US, Canad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ess  Developed Countries (L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w level of industrialization, very high fertility rate, high infant mortality rate, low per capita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Bangladesh, Mali, Ethio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2720" y="2000160"/>
            <a:ext cx="81532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ising income disparity in many countr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arge gap between wealthy and poor citiz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Differential access to electricity, cars, modern medic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China, India, Brazil,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ssential resources for individual survival are sma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Rapidly increasing population can quickly overwhelm or deplete, especially lo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source consumption can far outweigh needs of surviv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ffluent nations use larger portions and can exhaust resources glob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2:33:37Z</dcterms:created>
  <dc:creator>ejohnson</dc:creator>
  <dc:description/>
  <dc:language>en-US</dc:language>
  <cp:lastModifiedBy>Parker, Rebekah Pine</cp:lastModifiedBy>
  <dcterms:modified xsi:type="dcterms:W3CDTF">2017-06-13T14:43:11Z</dcterms:modified>
  <cp:revision>123</cp:revision>
  <dc:subject/>
  <dc:title>Slide 1</dc:title>
</cp:coreProperties>
</file>