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5D26-6123-4AED-B53D-F37577511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4867-DFFE-46F6-A487-0316411E7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9144-0EAF-4064-A315-BE4DFB71B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605E-CA10-42BD-B2AE-2B3E5900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E20F-3682-4C50-A6B9-358E875D4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F64-CEF4-4384-ABF1-37942FA3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773A-CEB0-48F8-803D-B855BB4F0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6D32-57F7-40E8-8F8D-3EEB06FE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CA8-A8B3-4330-8238-2C23B28A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77AF-BDE8-44BF-BD37-11361C233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F403-47A4-4B55-B049-0958A03A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97CD-9648-48B6-8837-5A464DC35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BD8B-134D-4217-BFA7-0E90D7868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F57D-07F1-4C3C-A829-7B9E5637A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2587-9C16-447E-B377-8D0B6FA5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50E5-90B0-4060-8CF9-13F6A47AA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4744-C681-4BCD-8B75-5B81A1CB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55D2-949F-4FA3-828D-6AC85A8BB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647D-A5CF-4F69-AC4D-F15EEF29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2E7-7E45-46F1-A6DE-AC63F2C4C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84D4-0F08-44A1-9612-2FC28B81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7014-73B0-425B-A111-643EC7D9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8B89-7700-451C-AE5B-E6554E496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D518A-AB3F-427D-928F-36902146A3D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9A455-98E7-4BDE-95EB-BCCF92AE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39BCCC-C6DD-4CAC-927C-AF41FD2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FB2FF-5337-4643-974C-8EEFB834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3D45F-8077-4875-B69D-EB36804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4E204A-BE05-454D-BE72-64B9C8F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F459F-2D67-4679-87B3-08F628A9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51D32-AB16-4BD4-895E-1C0BD907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3FEBD-4C83-4414-B7BC-722D305C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43ABE-BAF8-4F3C-BDA4-D8BF3B52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B57F5-2E6C-4F6D-9896-55D79737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AB5B-FDD5-4481-911E-D89F3D5444B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814CB-4A6F-407E-BDA3-2A69DAB9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5E240-7945-43D1-BD3E-27AD1810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58AAD-A993-4622-BB65-BFCC232C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B71D6-C70B-47F3-8041-4A3A0D96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B7402-AA96-4AB3-B59C-C612749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71E80-E415-4D52-930E-2E3340FF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FBC83-A959-42A7-97A0-B9903C73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5AED1-D609-463F-8549-EF14D413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F099F-25B3-4498-9513-A5BA787D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1BDFE-36FF-41F0-A658-E6C89AB3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D371-B529-48CB-A35E-A80BAE4F2F4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5ACA1-EC8F-404D-BA9E-E62B37ED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8EB682-FDD5-4167-8D88-3646A590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8B2456-5BE3-413D-BF1F-CCB320C0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921A51-B46E-4339-BE2A-7B31B7BC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F26533-631C-40A7-B8B4-33F2C848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14A373-2463-4435-9DB0-A775DA37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7B367B-29E5-45C8-9A08-168A5BCA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F1FD24-BCF6-4756-87F2-955B0DFD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1F46E6-4227-443A-A22E-4293DC5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90898B-9DD7-47A0-93B1-6D2E368D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ED9F3-4F05-4C05-B431-6FCEEC50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6F41A6-CF87-46F8-A691-4BD7D97B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558825-537B-4500-AB15-837F076B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C1D1BF-7A48-4F25-BAEB-E95EAF45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B681F-6B57-43C2-8D0E-6CE66678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986F2-8500-4097-B998-DF1B2DFC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0C864B-A494-41B9-9E11-B6772398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7E7E91-B769-43FD-8D6A-B1AFC85F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1B45E-0817-4920-B709-C02490BE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609D8-CF23-4AE2-AF90-14302B55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C6D08-063E-464B-A0CD-F07D882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EFCA6-57E5-4967-A83A-59CA1267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CE8AB9-A955-41A9-A0EB-A11D38D5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897D83-79D3-466E-AE63-3BEF684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18D7B-6BC6-49FC-B55A-C27E0173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49061-1331-444C-AD86-D1EC3A41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307D06-C91C-4DCE-9547-3BE86666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FEAC60-D1A7-43D9-BEE6-B043E565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1D8977-249F-4194-BE3E-FD678C11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079D2C-CD0C-43AA-A462-AB195C7A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E2D488-4E57-441F-B890-0F7F27D1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6C376B-69CF-413D-A336-F7BBBD2F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15B1D-02C9-44F7-B029-C9915DBB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32CEAC-0DDD-41AC-8088-18C45789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347572-C865-4B23-974A-BBDC11BE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0AB800-3008-46C2-B82F-C543DDC3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7883FA-0CCA-4577-8B1C-C7654308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BC1997-B5E8-4C9E-92CB-412577B9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56E3A3-9C9D-430F-9BA3-B27F4E89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5D50A9-2AC4-4AAF-9579-98B480932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27F2B-7EE0-450D-8DB2-98809F19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E60CE-07B2-45C3-927F-8CBD7873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3F02B-21A4-43FD-BF6C-32599705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8F715-E552-406F-A29C-F91F452E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906F0-1B2D-4EEC-9075-5377762B5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EBB2F-19B3-47BC-BDD1-15471DD1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03246-5B48-495C-B1D6-9090257A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B3AEB-331A-4F22-B861-46664EC5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E03ED-AA70-433A-B43B-930A9132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824EF-E86F-499D-9176-CAB02506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C09683-9A64-4F56-AAB3-D568E5D0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37E782-215F-4D9D-85FD-3CD907DC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BAF21-84C8-47CF-8296-91F89CA2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9F69E-D186-4D0D-ACF8-0F71D5C8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08C4D7-5446-4BC7-B85C-E65428CC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6B39-AE08-42CF-88D5-77E038000A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6F586-C543-4602-B599-1E14F4CA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770C2-A63A-4143-9FC3-B7ECD03A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56809-4969-44EA-8275-A0C7AB46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FB4C42-4059-4521-9027-6A141824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0153EF-E815-498E-833D-68CDE34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0B82B-FBC3-4807-BD2E-5F196ECD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96F3B-B495-4786-BCAD-2B13E750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4F203-0F74-4711-AF75-BEAB1878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AE7E-D0E6-454C-8969-6920CB06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04328-76F2-49CB-ABA0-71E56BDD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A474-A80F-436D-94AE-A6DACA2833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92F4-74A9-4C5E-9DAF-5315D55E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3502-01B7-4A9C-9F86-5E43C977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C1978-40E0-4AEA-B34B-B1A04041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CBE4-7B9B-4259-AC56-F0DC9E0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4FCA-A54B-4916-88D5-DBEB51CA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53BB-26C9-4505-B689-EA2976B0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D7840-B1B2-46DF-868F-806CDC87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22B1-456A-4979-95F2-46E78BE6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0FA7-BA49-43CF-A8D5-F6C63946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47382B-8D16-420D-862E-46F7D020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2A7D-7640-4436-9E1C-31D2ED2B709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D3BC28-7B51-422A-ACD0-E96C8D4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3AF315-CFF1-4364-AF46-87890CC2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CE06DB-2BA6-436C-9CD8-F2746A2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D33B34-D662-4F67-B9B3-903DFA50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456032-43FC-4B5D-852C-E51F3A8D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2A906C-B50E-4D40-9A5A-3783442B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A6746C-7C8C-4DBE-8E54-E9DD7345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194902-F991-4014-B2F2-AED7D8DB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914B1A-9F46-433C-AD8B-9257F36E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F7639A-B283-4EF4-B08A-F595048A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DD40-6E79-489A-B3F1-DF601A71979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85A24A-A0E0-421A-A8BE-22D541CD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37756C-C673-4FE5-AD42-FB0CD87B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95778F-FD65-4B2B-9478-ACD0F9CE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D17DC0-4ABD-4506-9C08-CD81FD4D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99694A-05B0-4A94-950A-9E99F64E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F9B741-4E7C-4EFA-81E1-4D789E0C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75F9B-8AEA-4C7B-9A3A-169DDD9A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E4FB24-69AC-478F-B5F8-594F836C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B2ED43-693F-4D99-8472-6C1E7524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29E63E-3272-4685-8D51-45388F31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6904-4D1B-4702-B637-4DF7220CE42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8E8F64-CF71-4B1A-92DE-358201FA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AE37A-5540-4252-B9AA-BCA99B03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969D83-BF53-4307-B00C-5DBBD31C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1E008C-4238-4398-808B-2DB286D1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6A375F-F78F-412D-B945-CDA39D85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1869E4-4A8D-4938-9BEE-C4FD2B94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B655CE-37B2-4329-AC18-1EC14AB5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CCCB33-2DE2-4880-8789-CDF70076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01114C-BB07-409F-9A48-CACF99C9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47ED7D-677F-4385-8962-9A5ECDAA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F962-D61C-4F37-B5CB-2C96A901E88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A1C917-DE46-436E-986B-701F67FB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D5E935-7C3F-449E-95E2-3DF2E244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A52C7-5FE5-4AB9-AEA9-BD7DA27C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C3F6CA-F626-463C-8698-A5A05DEB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7A8718-5B77-48BA-B3EA-F9C86AE8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9800D7-5224-4D04-9B84-B11E1BB9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B27AC6-163F-4859-9728-CE8642FE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3D7047-527C-4B38-86A8-80F81924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FF1F25-EB43-463A-9266-37DE8534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F1F451-EDF0-4B75-8EDA-87CF3134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C7BC-3D9D-4BA7-BCA1-28352D870A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A85A75-AA03-4575-892F-FFA4EA40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4EE46E-22E7-4825-8C8B-DE0C07C1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F7447B-52AF-4337-9463-69A4525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BFA5AB-3DEA-448C-A42F-E4941AD0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8078F8-58CC-4554-B273-BF4B2D0B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4A98F3-53E5-49D8-992E-65510358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0F721-0693-4E18-9DEC-032C035A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1026D-1018-439E-8AD6-EBB547A4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E6F9D-60E4-49DD-B38C-B78091CA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4BD0C-B040-4F57-A514-19F122E2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172E-E0BF-4533-A4DA-DC2B727B1C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A0C6-7524-40C5-8013-66FB2C4BB9B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8D38-3780-4434-8023-1894564C43EB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5DB-2469-4C00-92E0-7C29BA0E492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4746-5930-426A-B9D5-4D7D52FEB3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1A0D-D593-4398-B5C9-9DD586BE3F2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66A2-0C78-4EB8-92FE-1AC102D548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97FA-D2C7-43E4-8C1F-915F6CC06F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E68D-4F8F-4DD6-B1F0-ED238D513AFA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A456-A3FA-4610-8C5F-1194773991AA}" type="slidenum">
              <a:rPr b="1" lang="en-US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666C-6713-4CDA-90CF-472A519FE76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68EA-05D5-4E87-A725-B4180137FB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D4B7-7CF6-42C1-B8B5-50D3CC48EC8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6168-68C1-4A50-9B7E-2F7FEF742AB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4391-DA0D-46CC-B7D8-E481C9FE558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33CB-4385-48B7-BCA2-65BC167B6F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8A1-9FE1-405A-87B2-63F0515F33E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9815-9F16-4072-8714-5712D60D85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355C-7CDA-43AA-B733-5B7A4F1C044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9BA1-4873-4694-924F-6187CC5F20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E3EA-1C0D-4BCF-B956-C895C3C42E9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1636-CDE1-4D26-9EA9-49EFABB7F714}" type="slidenum">
              <a:rPr b="1" lang="en-US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866B-B657-4F3A-9436-B87CC1FA46C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38EF-9CDA-4D1B-9B59-7A4901D725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roducing Environmental Science and Sustain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152280" y="60516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20560" y="1600200"/>
            <a:ext cx="831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vements in highly developed nations are changing de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iny house mov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ouses of typically &lt;1,000sq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raven_9e_fig_01_05_2.jpg"/>
          <p:cNvPicPr/>
          <p:nvPr/>
        </p:nvPicPr>
        <p:blipFill>
          <a:blip r:embed="rId1"/>
          <a:stretch/>
        </p:blipFill>
        <p:spPr>
          <a:xfrm>
            <a:off x="5938920" y="2367000"/>
            <a:ext cx="2554200" cy="3557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raven_9e_fig_01_05_1.jpg"/>
          <p:cNvPicPr/>
          <p:nvPr/>
        </p:nvPicPr>
        <p:blipFill>
          <a:blip r:embed="rId2"/>
          <a:stretch/>
        </p:blipFill>
        <p:spPr>
          <a:xfrm>
            <a:off x="1046160" y="3716280"/>
            <a:ext cx="3855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ypes of Natural Resourc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12" name="Picture 5" descr="Z:\NewMedia\Ebook-Novella\Wiley\JIRA\bcs2712\Raven9e\Work\Ch01\images\raven_9e_fig_01_06.jpg"/>
          <p:cNvPicPr/>
          <p:nvPr/>
        </p:nvPicPr>
        <p:blipFill>
          <a:blip r:embed="rId1"/>
          <a:stretch/>
        </p:blipFill>
        <p:spPr>
          <a:xfrm>
            <a:off x="480960" y="2036880"/>
            <a:ext cx="818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uman use of materials and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eople in HDCs are big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Unsustainable 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Occurs when the level of demand on a country’s resources damages or depletes the resource enough to reduce the quality of life for future gen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used by overpopulation and/or over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The average amount of land, water and ocean required to provide that person with all the resources they con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5025960" y="1600200"/>
          <a:ext cx="3281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1600200"/>
                    <a:ext cx="3281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304920" y="3429000"/>
          <a:ext cx="8458200" cy="2579760"/>
        </p:xfrm>
        <a:graphic>
          <a:graphicData uri="http://schemas.openxmlformats.org/drawingml/2006/table">
            <a:tbl>
              <a:tblPr/>
              <a:tblGrid>
                <a:gridCol w="6172200"/>
                <a:gridCol w="2286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Earth’s Productive Land and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1.4 billion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Amount Each Person is Allotted (divide Productive Land &amp; Water by Human Pop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.8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Current Global Ecological Footprint of each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2.7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s have an ecological overshoo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Z:\NewMedia\Ebook-Novella\Wiley\JIRA\bcs2712\Raven9e\Work\Ch01\images\raven_9e_fig_01_07.jpg"/>
          <p:cNvPicPr/>
          <p:nvPr/>
        </p:nvPicPr>
        <p:blipFill>
          <a:blip r:embed="rId1"/>
          <a:stretch/>
        </p:blipFill>
        <p:spPr>
          <a:xfrm>
            <a:off x="1779480" y="2438280"/>
            <a:ext cx="55850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 Comparis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24" name="Picture 5" descr="Z:\NewMedia\Ebook-Novella\Wiley\JIRA\bcs2712\Raven9e\Work\Ch01\images\raven_9e_fig_01_08_1.jpg"/>
          <p:cNvPicPr/>
          <p:nvPr/>
        </p:nvPicPr>
        <p:blipFill>
          <a:blip r:embed="rId1"/>
          <a:stretch/>
        </p:blipFill>
        <p:spPr>
          <a:xfrm>
            <a:off x="236520" y="2585880"/>
            <a:ext cx="4322880" cy="3084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Z:\NewMedia\Ebook-Novella\Wiley\JIRA\bcs2712\Raven9e\Work\Ch01\images\raven_9e_fig_01_08_2.jpg"/>
          <p:cNvPicPr/>
          <p:nvPr/>
        </p:nvPicPr>
        <p:blipFill>
          <a:blip r:embed="rId2"/>
          <a:stretch/>
        </p:blipFill>
        <p:spPr>
          <a:xfrm>
            <a:off x="4745160" y="2598840"/>
            <a:ext cx="41511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IPAT Model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easures 3 factors that affect environmental impact (I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960480" y="2590920"/>
            <a:ext cx="7223040" cy="4010760"/>
            <a:chOff x="960480" y="2590920"/>
            <a:chExt cx="7223040" cy="4010760"/>
          </a:xfrm>
        </p:grpSpPr>
        <p:grpSp>
          <p:nvGrpSpPr>
            <p:cNvPr id="629" name="Group 5"/>
            <p:cNvGrpSpPr/>
            <p:nvPr/>
          </p:nvGrpSpPr>
          <p:grpSpPr>
            <a:xfrm>
              <a:off x="2057400" y="3809880"/>
              <a:ext cx="6126120" cy="1191240"/>
              <a:chOff x="2057400" y="3809880"/>
              <a:chExt cx="6126120" cy="1191240"/>
            </a:xfrm>
          </p:grpSpPr>
          <p:sp>
            <p:nvSpPr>
              <p:cNvPr id="630" name="Text Box 6"/>
              <p:cNvSpPr/>
              <p:nvPr/>
            </p:nvSpPr>
            <p:spPr>
              <a:xfrm>
                <a:off x="2057400" y="3809880"/>
                <a:ext cx="6126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a3d6"/>
                    </a:solidFill>
                    <a:latin typeface="Arial"/>
                  </a:rPr>
                  <a:t>I = P   A    T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7"/>
              <p:cNvGrpSpPr/>
              <p:nvPr/>
            </p:nvGrpSpPr>
            <p:grpSpPr>
              <a:xfrm>
                <a:off x="4204800" y="4267080"/>
                <a:ext cx="383040" cy="365040"/>
                <a:chOff x="4204800" y="4267080"/>
                <a:chExt cx="383040" cy="365040"/>
              </a:xfrm>
            </p:grpSpPr>
            <p:sp>
              <p:nvSpPr>
                <p:cNvPr id="632" name="Line 8"/>
                <p:cNvSpPr/>
                <p:nvPr/>
              </p:nvSpPr>
              <p:spPr>
                <a:xfrm>
                  <a:off x="4206960" y="42670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9"/>
                <p:cNvSpPr/>
                <p:nvPr/>
              </p:nvSpPr>
              <p:spPr>
                <a:xfrm flipH="1">
                  <a:off x="4204800" y="42670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10"/>
              <p:cNvGrpSpPr/>
              <p:nvPr/>
            </p:nvGrpSpPr>
            <p:grpSpPr>
              <a:xfrm>
                <a:off x="5698800" y="4252680"/>
                <a:ext cx="383040" cy="365040"/>
                <a:chOff x="5698800" y="4252680"/>
                <a:chExt cx="383040" cy="365040"/>
              </a:xfrm>
            </p:grpSpPr>
            <p:sp>
              <p:nvSpPr>
                <p:cNvPr id="635" name="Line 11"/>
                <p:cNvSpPr/>
                <p:nvPr/>
              </p:nvSpPr>
              <p:spPr>
                <a:xfrm>
                  <a:off x="5700960" y="42526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"/>
                <p:cNvSpPr/>
                <p:nvPr/>
              </p:nvSpPr>
              <p:spPr>
                <a:xfrm flipH="1">
                  <a:off x="5698800" y="42526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13"/>
            <p:cNvGrpSpPr/>
            <p:nvPr/>
          </p:nvGrpSpPr>
          <p:grpSpPr>
            <a:xfrm>
              <a:off x="960480" y="2590920"/>
              <a:ext cx="2682720" cy="1417680"/>
              <a:chOff x="960480" y="2590920"/>
              <a:chExt cx="2682720" cy="1417680"/>
            </a:xfrm>
          </p:grpSpPr>
          <p:sp>
            <p:nvSpPr>
              <p:cNvPr id="638" name="Text Box 14"/>
              <p:cNvSpPr/>
              <p:nvPr/>
            </p:nvSpPr>
            <p:spPr>
              <a:xfrm>
                <a:off x="960480" y="259092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Impac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>
                <a:off x="2239920" y="353556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2789280" y="4937040"/>
              <a:ext cx="1874880" cy="1374120"/>
              <a:chOff x="2789280" y="4937040"/>
              <a:chExt cx="1874880" cy="1374120"/>
            </a:xfrm>
          </p:grpSpPr>
          <p:sp>
            <p:nvSpPr>
              <p:cNvPr id="641" name="Text Box 17"/>
              <p:cNvSpPr/>
              <p:nvPr/>
            </p:nvSpPr>
            <p:spPr>
              <a:xfrm>
                <a:off x="2789280" y="5364000"/>
                <a:ext cx="1874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umber of peop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3706920" y="493704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3868920" y="2622600"/>
              <a:ext cx="2682720" cy="1417680"/>
              <a:chOff x="3868920" y="2622600"/>
              <a:chExt cx="2682720" cy="1417680"/>
            </a:xfrm>
          </p:grpSpPr>
          <p:sp>
            <p:nvSpPr>
              <p:cNvPr id="644" name="Text Box 20"/>
              <p:cNvSpPr/>
              <p:nvPr/>
            </p:nvSpPr>
            <p:spPr>
              <a:xfrm>
                <a:off x="3868920" y="262260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ffluence per pers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>
                <a:off x="5148360" y="356724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5416560" y="4807080"/>
              <a:ext cx="2743200" cy="1794600"/>
              <a:chOff x="5416560" y="4807080"/>
              <a:chExt cx="2743200" cy="1794600"/>
            </a:xfrm>
          </p:grpSpPr>
          <p:sp>
            <p:nvSpPr>
              <p:cNvPr id="647" name="Text Box 23"/>
              <p:cNvSpPr/>
              <p:nvPr/>
            </p:nvSpPr>
            <p:spPr>
              <a:xfrm>
                <a:off x="5416560" y="5227920"/>
                <a:ext cx="27432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effect of technologi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 flipV="1">
                <a:off x="6724800" y="480708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uel efficient vehicl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630320" y="1600200"/>
            <a:ext cx="413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verage fuel econom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2.1 mpg (198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0.4 mpg (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SUV popula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Fuel efficient vehicles can lower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fficient dr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:\NewMedia\Ebook-Novella\Wiley\JIRA\bcs2712\Raven9e\Work\Ch01\images\raven_9e_fig_01_09.jpg"/>
          <p:cNvPicPr/>
          <p:nvPr/>
        </p:nvPicPr>
        <p:blipFill>
          <a:blip r:embed="rId1"/>
          <a:stretch/>
        </p:blipFill>
        <p:spPr>
          <a:xfrm>
            <a:off x="371520" y="2185920"/>
            <a:ext cx="41749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53" name="Picture 4" descr="Z:\NewMedia\Ebook-Novella\Wiley\JIRA\bcs2712\Raven9e\Work\Ch01\images\raven_9e_fig_01_10.jpg"/>
          <p:cNvPicPr/>
          <p:nvPr/>
        </p:nvPicPr>
        <p:blipFill>
          <a:blip r:embed="rId1"/>
          <a:stretch/>
        </p:blipFill>
        <p:spPr>
          <a:xfrm>
            <a:off x="1087560" y="1654200"/>
            <a:ext cx="69688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 ability to meet current human need for natural resources without compromising the needs of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304920" y="28954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quires understanding</a:t>
            </a: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e effects of our actions on the ear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at earth’s resources are not infin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6" descr="Z:\NewMedia\Ebook-Novella\Wiley\JIRA\bcs2712\Raven9e\Work\Ch01\images\raven_9e_fig_01_11.jpg"/>
          <p:cNvPicPr/>
          <p:nvPr/>
        </p:nvPicPr>
        <p:blipFill>
          <a:blip r:embed="rId1"/>
          <a:stretch/>
        </p:blipFill>
        <p:spPr>
          <a:xfrm>
            <a:off x="4138560" y="2941560"/>
            <a:ext cx="46958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Overview of Chapter 1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 Impacts on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pulation, Resources and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ustain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ddressing Environmental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Tragedy of the Commons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Hardin (1915–2003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olving environmental problems is result of struggle betwee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hort term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ng term environmental stability and societal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mmon pool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used common pastureland in medieval Europe to illustrate the strugg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rav8_fig_01_12.jpg"/>
          <p:cNvPicPr/>
          <p:nvPr/>
        </p:nvPicPr>
        <p:blipFill>
          <a:blip r:embed="rId1"/>
          <a:srcRect l="0" t="0" r="0" b="4238"/>
          <a:stretch/>
        </p:blipFill>
        <p:spPr>
          <a:xfrm>
            <a:off x="3614760" y="2622600"/>
            <a:ext cx="4713120" cy="37116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6b86"/>
                </a:solidFill>
                <a:latin typeface="Arial"/>
              </a:rPr>
              <a:t>Sustainable Development- Systems Concept</a:t>
            </a:r>
            <a:endParaRPr b="0" lang="en-US" sz="4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nomic development that meets the needs of the present generation without compromising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n interdisciplinary study of human relationship with other organisms and the ear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46b86"/>
                </a:solidFill>
                <a:uFillTx/>
                <a:latin typeface="Arial"/>
              </a:rPr>
              <a:t>Ec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em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4800600" y="2971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c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Dem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oli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arth System and 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set of components that interact and function as a w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lobal Ear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limate, atmosphere, land, coastal zones,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system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natural system consisting of a community of organisms and its physical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Nega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counteracts (reverses) the change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raven_9e_fig_01_13_1.jpg"/>
          <p:cNvPicPr/>
          <p:nvPr/>
        </p:nvPicPr>
        <p:blipFill>
          <a:blip r:embed="rId1"/>
          <a:stretch/>
        </p:blipFill>
        <p:spPr>
          <a:xfrm>
            <a:off x="4802040" y="1890720"/>
            <a:ext cx="26863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809720"/>
            <a:ext cx="4035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si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intensifies the chang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polar and glacial ice melt, color change leading to more rapid mel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5" descr="Z:\NewMedia\Ebook-Novella\Wiley\JIRA\bcs2712\Raven9e\Work\Ch01\images\raven_9e_fig_01_13_2.jpg"/>
          <p:cNvPicPr/>
          <p:nvPr/>
        </p:nvPicPr>
        <p:blipFill>
          <a:blip r:embed="rId1"/>
          <a:stretch/>
        </p:blipFill>
        <p:spPr>
          <a:xfrm>
            <a:off x="5499000" y="1784520"/>
            <a:ext cx="21495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75" name="Picture 4" descr="Z:\NewMedia\Ebook-Novella\Wiley\JIRA\bcs2712\Raven9e\Work\Ch01\images\raven_9e_fig_01_14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4660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46b86"/>
                </a:solidFill>
                <a:latin typeface="Arial"/>
              </a:rPr>
              <a:t>Controls and Variables in Experiment</a:t>
            </a:r>
            <a:endParaRPr b="0" lang="en-US" sz="3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factor that influences a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may be altered in an experiment to determine its effect on the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is not al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llows for comparison between the tests of when we alter the variable and when we do not alter th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knowledge and theor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12720" y="1714680"/>
            <a:ext cx="80964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Integrated explanation supported by large body of observations and experiments, and evaluated by peer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implifies, clarifies, and predicts new relationships within the natural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bsolute truth is not possible in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Knowledge evolves as new evidence is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ood as a Lens for Environmental Stud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36040" y="1700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hicken sandwich requires wheat, chicken, other ingredients, energy to manufacture and transport to table, energy to treat generated wastes and packag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536400" y="3714840"/>
            <a:ext cx="4572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Our choices matter and affect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What do you think about when you make your food choic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raven_9e_figun_01_p001.jpg"/>
          <p:cNvPicPr/>
          <p:nvPr/>
        </p:nvPicPr>
        <p:blipFill>
          <a:blip r:embed="rId1"/>
          <a:stretch/>
        </p:blipFill>
        <p:spPr>
          <a:xfrm>
            <a:off x="5219640" y="3538440"/>
            <a:ext cx="3328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he Environment (Earth)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ife has existed on earth for 3.8 billion y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arth well suited for lif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Water over ¾ of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abitable temperature, moderat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tmosphere provides oxygen and carbon di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il with essential minerals f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Z:\NewMedia\Ebook-Novella\Wiley\JIRA\bcs2712\Raven9e\Work\Ch01\images\raven_9e_fig_01_02.jpg"/>
          <p:cNvPicPr/>
          <p:nvPr/>
        </p:nvPicPr>
        <p:blipFill>
          <a:blip r:embed="rId1"/>
          <a:stretch/>
        </p:blipFill>
        <p:spPr>
          <a:xfrm>
            <a:off x="4668840" y="1946160"/>
            <a:ext cx="4276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Human Impacts on Environment- Population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3565080"/>
            <a:ext cx="414684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Estimates of 8-11 billion by end of 21</a:t>
            </a:r>
            <a:r>
              <a:rPr b="0" lang="en-US" sz="2500" spc="-1" strike="noStrike" baseline="30000">
                <a:solidFill>
                  <a:srgbClr val="646b86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 centu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We are the most significant agent of environment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80880" y="1600200"/>
            <a:ext cx="835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Modern humans appeared ~100,000 years ago in Africa and quickly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Now, human population is  ~7.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840" indent="-1717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Growing exponenti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Z:\NewMedia\Ebook-Novella\Wiley\JIRA\bcs2712\Raven9e\Work\Ch01\images\raven_9e_fig_01_03.jpg"/>
          <p:cNvPicPr/>
          <p:nvPr/>
        </p:nvPicPr>
        <p:blipFill>
          <a:blip r:embed="rId1"/>
          <a:stretch/>
        </p:blipFill>
        <p:spPr>
          <a:xfrm>
            <a:off x="4621320" y="3041640"/>
            <a:ext cx="39798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251240" y="1782360"/>
            <a:ext cx="466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re than 1 in 4 people live in extreme </a:t>
            </a:r>
            <a:r>
              <a:rPr b="0" lang="en-US" sz="2900" spc="-1" strike="noStrike" u="sng">
                <a:solidFill>
                  <a:srgbClr val="646b86"/>
                </a:solidFill>
                <a:uFillTx/>
                <a:latin typeface="Arial"/>
              </a:rPr>
              <a:t>poverty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nnot meet basic need for food, clothing, shelter,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Difficult to meet population needs without exploiting earth’s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Z:\NewMedia\Ebook-Novella\Wiley\JIRA\bcs2712\Raven9e\Work\Ch01\images\raven_9e_fig_01_04.jpg"/>
          <p:cNvPicPr/>
          <p:nvPr/>
        </p:nvPicPr>
        <p:blipFill>
          <a:blip r:embed="rId1"/>
          <a:stretch/>
        </p:blipFill>
        <p:spPr>
          <a:xfrm>
            <a:off x="1100160" y="1859040"/>
            <a:ext cx="27669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untries were differentiated based on weal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ighly Developed Countries (H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omplex industrialized bases, low population growth, high per capita in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US, Canad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ess  Developed Countries (L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w level of industrialization, very high fertility rate, high infant mortality rate, low per capita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Bangladesh, Mali, Ethio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2720" y="2000160"/>
            <a:ext cx="81532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ising income disparity in many countr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arge gap between wealthy and poor citiz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Differential access to electricity, cars, modern medic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China, India, Brazil,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ssential resources for individual survival are sma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Rapidly increasing population can quickly overwhelm or deplete, especially lo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source consumption can far outweigh needs of surviv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ffluent nations use larger portions and can exhaust resources glob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2:33:37Z</dcterms:created>
  <dc:creator>ejohnson</dc:creator>
  <dc:description/>
  <dc:language>en-US</dc:language>
  <cp:lastModifiedBy>Parker, Rebekah Pine</cp:lastModifiedBy>
  <dcterms:modified xsi:type="dcterms:W3CDTF">2017-06-13T14:43:11Z</dcterms:modified>
  <cp:revision>123</cp:revision>
  <dc:subject/>
  <dc:title>Slide 1</dc:title>
</cp:coreProperties>
</file>