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8A28-B16F-4603-B371-D21AC3F0E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CF9C-0C14-45E3-B71D-07383445C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19D6-19EE-4CDF-AC95-6E2BFFDCE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EA8D-FD65-414C-B8B4-8D836E78A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8350-2052-48B7-9F90-5F9CDC3E2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CA90-663C-42E4-8D5B-D62563A24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433F-ECA9-487B-BB5D-90EEC607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7712-2062-4283-B49B-28795455D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896B-71F8-4277-B80C-8CCCC8FF7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927E-BDF6-4A2D-9FAA-319C090A2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396E-95F0-4C02-857C-0145FC964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80C2-7576-4BA7-8BF8-869039630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1943-E61D-46CF-8E8F-C241D490F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F52D-7041-40CE-807A-2E7F336AF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6F48-4C25-4789-B456-07E43A210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4203-2577-4CB1-BB77-C6D61F114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D76F-6000-4491-95A7-C4796D7EC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68FF-CF75-420F-8490-E8AE48BCF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7761-7BFA-4B59-97B6-BDDB4CF81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3B1F-F9C5-491F-8D4C-BDFB992ED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8066-47EE-476F-9D3C-564E443B4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A5C0-A0EA-4C13-865E-1B33DFC69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DC17-16DF-457C-870B-67F9AC31E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123A-4B78-4A11-9A3C-64458B22B6C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6B070-19C3-4236-AB09-1ECC4B78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5D311-49E9-47BC-8DAB-3AF54EA7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C8025-7767-4DC3-A35B-1D973EAF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2A06D-720D-4032-B190-BC0EFDBD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012B02-E306-4E31-949F-BBEE8183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54E16-9B47-4175-8C8E-64283F9A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EDB9C-068A-49B6-811C-942CB524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88D3C-E911-4F7B-8CC1-D2BC4350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58E78-F9D9-44D1-8B59-1ECDEE3A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FFC5B-7BA6-4A9D-8837-E632F2AA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1917-7033-4821-BC33-3F3FFDD4733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E072E-85D5-4C94-AE8F-A9308E7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E7AF1-45A8-434F-A2E4-3E3ADE96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ABB4E-900E-41DE-ADDB-28418CFD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755DD-AF4B-4CFC-B9AE-08D0BAE6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9A325-5405-45FA-B1DF-7A6064CA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1A48C-4B8D-4E2F-B206-2568D317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348AC-388C-4CBA-8EBB-818A62E3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64AC8-3B07-4B07-A858-ADBE8B6A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260E9-A23D-4A87-AA0A-8E61C8E6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68954-EC79-4EB0-88F3-599D5D4A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0071-9743-4741-B542-C35177CDCC1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2120F-05F3-4B54-9C10-1CD92A88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3A713B-62D5-40AE-A01B-99964478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5422ED-F4AF-4B41-B85A-8E24C679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DB806C-B96E-4970-B98F-595321FC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AD5128-F8B2-414C-B6A7-17ABBDBB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4A7D97-13A0-459A-B3D8-EE683627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0AC77B-1615-4BB2-B428-FDB91785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F7D8D7-95D2-46EE-9D4A-D763BD11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3F1D1A-CA3C-4473-86C4-6521C80A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D1A5F2-3F75-4BC7-AD97-8A4F389C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2ADC9-2E6C-4448-B798-B8FCA6A1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6FAC08-76E8-4C01-A72B-4D7EB2AD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04D533-63E5-4CCA-AE26-A4F57538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8302EF-7799-4E26-9CB7-4705B85B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1AB49E-F662-41B6-A676-AF67AAA4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96E1A-26CB-47A9-ACD8-D06A2BFB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AC980-068B-485C-9E97-A3337BEE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3100F-CA84-4CD1-A05B-49593B07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F8E3B7-1E9E-4939-B863-8D126634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914CC-CED9-4DC0-9D25-6B8EC39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8ACF9-C374-4AA3-A5C5-96C462BB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2592C-7215-44AD-B87B-2A7227EA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3B730-6C31-433D-B0DD-7FC9C9F0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2D98C-38B9-45E9-9DCE-CCCE0081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5141A-AABF-48D9-8EE9-63C030C4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7E593-B145-4CD4-8985-44EBF172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740E5-8785-485C-87F3-BA52B934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7647D7-BDBC-4882-8579-EBAEB2C5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B714A25-E603-46E6-BCC9-6A020DE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6DF8AC-E78B-48B0-9F05-D90BD498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A79EBE-0D68-471A-9B6E-5DE01906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11DBDC-4E27-4255-B7D0-D6004977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7E31D-F00A-4DAB-88F3-2ACD83D5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173AB9-F2A3-40E4-884C-82FF3D69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34DA22-F330-4712-A05C-DE4148B6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68E2C9-06DF-4008-A1F4-BE8A6735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4CFD0F-3609-4147-9FA5-CD57B0FC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58D474-5E90-4ED0-9E58-9FF16CB6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B844FA-9460-420B-8421-94F33914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F78E1B-46AE-403B-9954-B229395F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1573D-F077-4EB6-A59A-08F9661E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C0442-AC30-4D1E-8C6D-1C9D095D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4A4DB-E21C-42FA-BEDB-FECAC545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AC5FE-B10B-49B5-B0D7-5F79478D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E666-0331-422C-A6C8-BF19C7691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6F66A-A809-4794-A8E4-7D69C222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C539A-D2F8-4BE7-9812-E64D92EE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02379-CC01-4E9D-9BE6-2DE0296B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2CA86-6E99-42F2-9D43-8A6A9E9A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57DBA-6E24-46A2-ABE5-546B1EDC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0B846-6C32-4D32-ACE0-5B897D73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A475C-CD7A-4204-A04C-42F169F7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9852A-1AE9-4600-AE5C-FC5D7729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E62DF7-7E41-4B94-AEC3-60DD82A8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BA271F-EA1B-4707-9FCE-B291A11B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6E67-2885-4C8E-AA8B-5D5283F428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7F022-79B1-4CA2-8548-B62B304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D7568-CB59-4CB8-9E9D-65A7D7CF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BDC225-34DA-4C71-9C6E-A672CE3C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3536C2-67B2-429B-B724-F335A33D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686DD6-F3FA-4894-B203-08FAC9F6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BB2AB-EFBC-494C-8E14-0936C805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E048F-066A-467E-AD74-A829E5B8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17C4-8E7D-46EB-80EA-A0A1FADD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7EE9-0C85-4EDF-85CD-8079B8DC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15AD-FE47-454B-B74A-35E6B2BF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8D0B-29E3-4EAE-B368-D6CEB5C96E7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162F-CC28-42DF-B832-ABF4BC9A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2A0D-90AF-4BB8-96FE-363C9641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66159-1EE8-432F-845B-2A8FD37E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7B5BC-1D75-4A50-AD3E-8046A6E9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4D8B-BE2B-4005-827B-81DB7BF5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432EB-C718-4561-8FD3-258E6257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1170F-43C4-4B80-A928-CCB713D0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92951-80AF-400B-B661-89D5B90F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3453-659C-4D0B-B78F-84CA0D7B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2AC1BD-31D8-49FC-90B8-767BA74C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839F-DA1D-453D-973A-3E5FF615741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88DAC-72C9-4CC5-B4E9-CE656B7B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18B1B0-9518-452A-8D1F-DBE89998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BF86A2-4549-40A9-A123-C76D78D5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C5110C-8544-4130-ABB2-47773E4F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BF1A62-CBB6-4349-ADCB-13E7B593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C104E1-DFA3-46A6-86D7-B334E480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543B00-C67F-4FC8-BE53-ADF3C53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15356B-6F83-4F86-BE3F-AA3B660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90F869-2D34-48A0-A03A-EA002907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0CAC98-68DD-4420-BB2A-4C004ED2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66B6-5486-4C1F-AB8C-78EAFE1C68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95F0B3-3FF2-4B1B-BFE3-2B3779F0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FD6C76-B828-4E83-97A3-76B0EC4A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C49EB0-59D8-4BEE-A864-4779532E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1B1426-B702-45AC-BA8A-534B1420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0E9227-9BD5-472D-A2AB-A2C7B76B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31B26E-1774-4B46-BA01-3199854E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2C271-1BFB-41A2-949B-245924FB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323B1C-59A1-4DE6-ABBB-859E536E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3AAEC3-2ED2-4355-B4AB-6469994D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39A47F-F70E-4C8B-B8CD-53A89CD9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EFE0-D126-4D96-B3AB-4FBD9AF3847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0DAD7F-1C94-443E-A85B-4FAB5A10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EB4FD7-BCE9-4A75-A992-54A2BA96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6C709-7862-42E6-9F4F-8AFB87AB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FAAF46-4801-46F0-9F1B-C8F8C008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0EF56B-95E5-4C5E-94F2-218B114A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A6EF46-B8CF-45A0-8469-C362C804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01E507-8711-407F-A6FC-ABAB49A9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EFB11F-7BD1-4E30-94F0-ABF8E78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524F89-5112-4194-B39B-F6DB2C3B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6A8369-EEED-4059-9317-5BE2765F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F64A-1AD3-4935-882F-7CE4D83D18D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648F88-5BFD-4D8E-AB17-14AAE9AF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D5A784-9496-4349-9E9A-58B1C79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472F16-7DDA-4D7F-8B56-D09E0BB0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7C777-311F-4551-80D1-DC68E6E3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B0B576-AF54-4783-BCCE-25EE2265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623FDB-9308-465C-A16F-F3360418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AADF1C-BA84-4B09-B57C-33AD5B34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385377-7468-45E1-A2DB-DBE67D95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035E5A-8F47-41E4-9DFF-5101F49E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90084C-1782-4E25-96C2-DACE0E49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2E3A-5D52-43D3-8CEA-EFCA62B79BA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5AA788-BCA0-460F-BD0E-EDB06C4C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AA4A2D-DCF7-4E25-A9E4-FEDB0354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B2E4C3-1551-463B-9B73-3B87380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DB988A-E041-4A95-8801-C57BA326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DAC542-E408-41E8-9623-772E9E8F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4ACF82-7965-4C7B-B3F6-38EE2D83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ABBBFE-FDD7-4980-8747-172F5541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A6D92-2D81-4284-A853-0E9508C5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53ED2D-50FB-4841-8281-37C83EA7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72EDA-3B7F-443C-AE43-DC902D40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C1A6-79E3-43A1-AAEC-B0976E02C7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2A68-2C09-49C0-BF28-E5B86AEAE6A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FCAC-5106-4EC9-AF01-2CBD7E1807B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7656-7361-4856-B56B-A85D744D785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6DD7-08D9-45CE-8A8A-C123AC123D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3E7F-9795-4917-8857-DA7103F81F2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8AC5-E3B1-4DD9-9478-34982E1C68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7142-F75A-4A2C-960C-D03C933B84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0790-07E3-4BBD-9B6B-864E95BBE83D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5d1d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0DBB-5FFB-4CB9-A308-D55442269DF4}" type="slidenum">
              <a:rPr b="1" lang="en-US" sz="1400" spc="-1" strike="noStrike">
                <a:solidFill>
                  <a:srgbClr val="c5d1d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3A38-CEAA-4319-949B-11EE27AA987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C641-D6E9-49AA-B4B4-64A2A3AB02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47FE-C3FB-479A-9F9C-C647EBA4879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7FA1-3379-477A-BF6F-3A5FCC1FA48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3EE2-E00F-4827-89ED-0BA4F17BC58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5A51-68F0-4E4B-A1B6-E254976A82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D655-E369-45EF-8A44-67E0F4A5CB5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7D44-0EC0-4537-AC42-2F01AAD1B4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3AF7-A756-4252-B426-5DBBC64341A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EFFE-6EE3-486F-82C6-3D2D7C19AE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4ECB-2EFA-44BE-9D1E-A8CE2F8AFF7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46b8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7872-52A4-4753-BF9C-777BA66540F8}" type="slidenum">
              <a:rPr b="1" lang="en-US" sz="1400" spc="-1" strike="noStrike">
                <a:solidFill>
                  <a:srgbClr val="646b8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c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791320" y="6537240"/>
            <a:ext cx="32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46b86"/>
                </a:solidFill>
                <a:latin typeface="Arial"/>
              </a:rPr>
              <a:t>© 2015 John Wiley &amp; Son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C9A1-15DC-4774-BAE1-082318A63A3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5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8AE5-A4D5-4030-9CA0-CEDE5567061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roducing Environmental Science and Sustain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itle 1"/>
          <p:cNvSpPr/>
          <p:nvPr/>
        </p:nvSpPr>
        <p:spPr>
          <a:xfrm>
            <a:off x="152280" y="60516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520560" y="1600200"/>
            <a:ext cx="831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vements in highly developed nations are changing dem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iny house mov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ouses of typically &lt;1,000sq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raven_9e_fig_01_05_2.jpg"/>
          <p:cNvPicPr/>
          <p:nvPr/>
        </p:nvPicPr>
        <p:blipFill>
          <a:blip r:embed="rId1"/>
          <a:stretch/>
        </p:blipFill>
        <p:spPr>
          <a:xfrm>
            <a:off x="5938920" y="2367000"/>
            <a:ext cx="2554200" cy="3557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raven_9e_fig_01_05_1.jpg"/>
          <p:cNvPicPr/>
          <p:nvPr/>
        </p:nvPicPr>
        <p:blipFill>
          <a:blip r:embed="rId2"/>
          <a:stretch/>
        </p:blipFill>
        <p:spPr>
          <a:xfrm>
            <a:off x="1046160" y="3716280"/>
            <a:ext cx="3855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ypes of Natural Resourc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12" name="Picture 5" descr="Z:\NewMedia\Ebook-Novella\Wiley\JIRA\bcs2712\Raven9e\Work\Ch01\images\raven_9e_fig_01_06.jpg"/>
          <p:cNvPicPr/>
          <p:nvPr/>
        </p:nvPicPr>
        <p:blipFill>
          <a:blip r:embed="rId1"/>
          <a:stretch/>
        </p:blipFill>
        <p:spPr>
          <a:xfrm>
            <a:off x="480960" y="2036880"/>
            <a:ext cx="8182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uman use of materials and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eople in HDCs are big consu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720" indent="-31572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Unsustainable Consump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Occurs when the level of demand on a country’s resources damages or depletes the resource enough to reduce the quality of life for future gen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7000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used by overpopulation and/or overconsu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The average amount of land, water and ocean required to provide that person with all the resources they con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5025960" y="1600200"/>
          <a:ext cx="328140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5960" y="1600200"/>
                    <a:ext cx="328140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304920" y="3429000"/>
          <a:ext cx="8458200" cy="2579760"/>
        </p:xfrm>
        <a:graphic>
          <a:graphicData uri="http://schemas.openxmlformats.org/drawingml/2006/table">
            <a:tbl>
              <a:tblPr/>
              <a:tblGrid>
                <a:gridCol w="6172200"/>
                <a:gridCol w="2286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Earth’s Productive Land and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1.4 billion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Amount Each Person is Allotted (divide Productive Land &amp; Water by Human Pop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1.8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Current Global Ecological Footprint of each per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46b86"/>
                          </a:solidFill>
                          <a:latin typeface="Tahoma"/>
                          <a:ea typeface="Arial"/>
                        </a:rPr>
                        <a:t>2.7 hect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3d6"/>
                      </a:solidFill>
                    </a:lnL>
                    <a:lnR w="5760">
                      <a:solidFill>
                        <a:srgbClr val="00a3d6"/>
                      </a:solidFill>
                    </a:lnR>
                    <a:lnT w="5760">
                      <a:solidFill>
                        <a:srgbClr val="00a3d6"/>
                      </a:solidFill>
                    </a:lnT>
                    <a:lnB w="5760">
                      <a:solidFill>
                        <a:srgbClr val="00a3d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s have an ecological overshoo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5" descr="Z:\NewMedia\Ebook-Novella\Wiley\JIRA\bcs2712\Raven9e\Work\Ch01\images\raven_9e_fig_01_07.jpg"/>
          <p:cNvPicPr/>
          <p:nvPr/>
        </p:nvPicPr>
        <p:blipFill>
          <a:blip r:embed="rId1"/>
          <a:stretch/>
        </p:blipFill>
        <p:spPr>
          <a:xfrm>
            <a:off x="1779480" y="2438280"/>
            <a:ext cx="55850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cological Footprint Comparis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24" name="Picture 5" descr="Z:\NewMedia\Ebook-Novella\Wiley\JIRA\bcs2712\Raven9e\Work\Ch01\images\raven_9e_fig_01_08_1.jpg"/>
          <p:cNvPicPr/>
          <p:nvPr/>
        </p:nvPicPr>
        <p:blipFill>
          <a:blip r:embed="rId1"/>
          <a:stretch/>
        </p:blipFill>
        <p:spPr>
          <a:xfrm>
            <a:off x="236520" y="2585880"/>
            <a:ext cx="4322880" cy="30848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Z:\NewMedia\Ebook-Novella\Wiley\JIRA\bcs2712\Raven9e\Work\Ch01\images\raven_9e_fig_01_08_2.jpg"/>
          <p:cNvPicPr/>
          <p:nvPr/>
        </p:nvPicPr>
        <p:blipFill>
          <a:blip r:embed="rId2"/>
          <a:stretch/>
        </p:blipFill>
        <p:spPr>
          <a:xfrm>
            <a:off x="4745160" y="2598840"/>
            <a:ext cx="41511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IPAT Model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easures 3 factors that affect environmental impact (I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960480" y="2590920"/>
            <a:ext cx="7223040" cy="4010760"/>
            <a:chOff x="960480" y="2590920"/>
            <a:chExt cx="7223040" cy="4010760"/>
          </a:xfrm>
        </p:grpSpPr>
        <p:grpSp>
          <p:nvGrpSpPr>
            <p:cNvPr id="629" name="Group 5"/>
            <p:cNvGrpSpPr/>
            <p:nvPr/>
          </p:nvGrpSpPr>
          <p:grpSpPr>
            <a:xfrm>
              <a:off x="2057400" y="3809880"/>
              <a:ext cx="6126120" cy="1191240"/>
              <a:chOff x="2057400" y="3809880"/>
              <a:chExt cx="6126120" cy="1191240"/>
            </a:xfrm>
          </p:grpSpPr>
          <p:sp>
            <p:nvSpPr>
              <p:cNvPr id="630" name="Text Box 6"/>
              <p:cNvSpPr/>
              <p:nvPr/>
            </p:nvSpPr>
            <p:spPr>
              <a:xfrm>
                <a:off x="2057400" y="3809880"/>
                <a:ext cx="6126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-1" strike="noStrike">
                    <a:solidFill>
                      <a:srgbClr val="00a3d6"/>
                    </a:solidFill>
                    <a:latin typeface="Arial"/>
                  </a:rPr>
                  <a:t>I = P   A    T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" name="Group 7"/>
              <p:cNvGrpSpPr/>
              <p:nvPr/>
            </p:nvGrpSpPr>
            <p:grpSpPr>
              <a:xfrm>
                <a:off x="4204800" y="4267080"/>
                <a:ext cx="383040" cy="365040"/>
                <a:chOff x="4204800" y="4267080"/>
                <a:chExt cx="383040" cy="365040"/>
              </a:xfrm>
            </p:grpSpPr>
            <p:sp>
              <p:nvSpPr>
                <p:cNvPr id="632" name="Line 8"/>
                <p:cNvSpPr/>
                <p:nvPr/>
              </p:nvSpPr>
              <p:spPr>
                <a:xfrm>
                  <a:off x="4206960" y="42670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9"/>
                <p:cNvSpPr/>
                <p:nvPr/>
              </p:nvSpPr>
              <p:spPr>
                <a:xfrm flipH="1">
                  <a:off x="4204800" y="42670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Group 10"/>
              <p:cNvGrpSpPr/>
              <p:nvPr/>
            </p:nvGrpSpPr>
            <p:grpSpPr>
              <a:xfrm>
                <a:off x="5698800" y="4252680"/>
                <a:ext cx="383040" cy="365040"/>
                <a:chOff x="5698800" y="4252680"/>
                <a:chExt cx="383040" cy="365040"/>
              </a:xfrm>
            </p:grpSpPr>
            <p:sp>
              <p:nvSpPr>
                <p:cNvPr id="635" name="Line 11"/>
                <p:cNvSpPr/>
                <p:nvPr/>
              </p:nvSpPr>
              <p:spPr>
                <a:xfrm>
                  <a:off x="5700960" y="4252680"/>
                  <a:ext cx="38088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"/>
                <p:cNvSpPr/>
                <p:nvPr/>
              </p:nvSpPr>
              <p:spPr>
                <a:xfrm flipH="1">
                  <a:off x="5698800" y="4252680"/>
                  <a:ext cx="381240" cy="365040"/>
                </a:xfrm>
                <a:prstGeom prst="line">
                  <a:avLst/>
                </a:prstGeom>
                <a:ln w="57240">
                  <a:solidFill>
                    <a:srgbClr val="00a3d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7" name="Group 13"/>
            <p:cNvGrpSpPr/>
            <p:nvPr/>
          </p:nvGrpSpPr>
          <p:grpSpPr>
            <a:xfrm>
              <a:off x="960480" y="2590920"/>
              <a:ext cx="2682720" cy="1417680"/>
              <a:chOff x="960480" y="2590920"/>
              <a:chExt cx="2682720" cy="1417680"/>
            </a:xfrm>
          </p:grpSpPr>
          <p:sp>
            <p:nvSpPr>
              <p:cNvPr id="638" name="Text Box 14"/>
              <p:cNvSpPr/>
              <p:nvPr/>
            </p:nvSpPr>
            <p:spPr>
              <a:xfrm>
                <a:off x="960480" y="259092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Impac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>
                <a:off x="2239920" y="353556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6"/>
            <p:cNvGrpSpPr/>
            <p:nvPr/>
          </p:nvGrpSpPr>
          <p:grpSpPr>
            <a:xfrm>
              <a:off x="2789280" y="4937040"/>
              <a:ext cx="1874880" cy="1374120"/>
              <a:chOff x="2789280" y="4937040"/>
              <a:chExt cx="1874880" cy="1374120"/>
            </a:xfrm>
          </p:grpSpPr>
          <p:sp>
            <p:nvSpPr>
              <p:cNvPr id="641" name="Text Box 17"/>
              <p:cNvSpPr/>
              <p:nvPr/>
            </p:nvSpPr>
            <p:spPr>
              <a:xfrm>
                <a:off x="2789280" y="5364000"/>
                <a:ext cx="1874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umber of peop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3706920" y="493704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19"/>
            <p:cNvGrpSpPr/>
            <p:nvPr/>
          </p:nvGrpSpPr>
          <p:grpSpPr>
            <a:xfrm>
              <a:off x="3868920" y="2622600"/>
              <a:ext cx="2682720" cy="1417680"/>
              <a:chOff x="3868920" y="2622600"/>
              <a:chExt cx="2682720" cy="1417680"/>
            </a:xfrm>
          </p:grpSpPr>
          <p:sp>
            <p:nvSpPr>
              <p:cNvPr id="644" name="Text Box 20"/>
              <p:cNvSpPr/>
              <p:nvPr/>
            </p:nvSpPr>
            <p:spPr>
              <a:xfrm>
                <a:off x="3868920" y="2622600"/>
                <a:ext cx="2682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ffluence per pers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>
                <a:off x="5148360" y="3567240"/>
                <a:ext cx="0" cy="47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22"/>
            <p:cNvGrpSpPr/>
            <p:nvPr/>
          </p:nvGrpSpPr>
          <p:grpSpPr>
            <a:xfrm>
              <a:off x="5416560" y="4807080"/>
              <a:ext cx="2743200" cy="1794600"/>
              <a:chOff x="5416560" y="4807080"/>
              <a:chExt cx="2743200" cy="1794600"/>
            </a:xfrm>
          </p:grpSpPr>
          <p:sp>
            <p:nvSpPr>
              <p:cNvPr id="647" name="Text Box 23"/>
              <p:cNvSpPr/>
              <p:nvPr/>
            </p:nvSpPr>
            <p:spPr>
              <a:xfrm>
                <a:off x="5416560" y="5227920"/>
                <a:ext cx="27432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nvironmental effect of technologi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 flipV="1">
                <a:off x="6724800" y="4807080"/>
                <a:ext cx="0" cy="549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uel efficient vehicle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630320" y="1600200"/>
            <a:ext cx="4135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verage fuel economy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2.1 mpg (198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20.4 mpg (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SUV popula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Fuel efficient vehicles can lower 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fficient dr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:\NewMedia\Ebook-Novella\Wiley\JIRA\bcs2712\Raven9e\Work\Ch01\images\raven_9e_fig_01_09.jpg"/>
          <p:cNvPicPr/>
          <p:nvPr/>
        </p:nvPicPr>
        <p:blipFill>
          <a:blip r:embed="rId1"/>
          <a:stretch/>
        </p:blipFill>
        <p:spPr>
          <a:xfrm>
            <a:off x="371520" y="2185920"/>
            <a:ext cx="41749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53" name="Picture 4" descr="Z:\NewMedia\Ebook-Novella\Wiley\JIRA\bcs2712\Raven9e\Work\Ch01\images\raven_9e_fig_01_10.jpg"/>
          <p:cNvPicPr/>
          <p:nvPr/>
        </p:nvPicPr>
        <p:blipFill>
          <a:blip r:embed="rId1"/>
          <a:stretch/>
        </p:blipFill>
        <p:spPr>
          <a:xfrm>
            <a:off x="1087560" y="1654200"/>
            <a:ext cx="69688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ustainabilit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 ability to meet current human need for natural resources without compromising the needs of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304920" y="289548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quires understanding</a:t>
            </a:r>
            <a:r>
              <a:rPr b="0" lang="en-US" sz="3200" spc="-1" strike="noStrike">
                <a:solidFill>
                  <a:srgbClr val="646b8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e effects of our actions on the ear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15800" indent="-17712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That earth’s resources are not infini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07000" indent="-20700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6" descr="Z:\NewMedia\Ebook-Novella\Wiley\JIRA\bcs2712\Raven9e\Work\Ch01\images\raven_9e_fig_01_11.jpg"/>
          <p:cNvPicPr/>
          <p:nvPr/>
        </p:nvPicPr>
        <p:blipFill>
          <a:blip r:embed="rId1"/>
          <a:stretch/>
        </p:blipFill>
        <p:spPr>
          <a:xfrm>
            <a:off x="4138560" y="2941560"/>
            <a:ext cx="469584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Overview of Chapter 1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uman Impacts on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pulation, Resources and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ustain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ddressing Environmental Probl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Tragedy of the Commons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Hardin (1915–2003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olving environmental problems is result of struggle betwee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hort term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ng term environmental stability and societal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mmon pool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arrett used common pastureland in medieval Europe to illustrate the strugg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rav8_fig_01_12.jpg"/>
          <p:cNvPicPr/>
          <p:nvPr/>
        </p:nvPicPr>
        <p:blipFill>
          <a:blip r:embed="rId1"/>
          <a:srcRect l="0" t="0" r="0" b="4238"/>
          <a:stretch/>
        </p:blipFill>
        <p:spPr>
          <a:xfrm>
            <a:off x="3614760" y="2622600"/>
            <a:ext cx="4713120" cy="371160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46b86"/>
                </a:solidFill>
                <a:latin typeface="Arial"/>
              </a:rPr>
              <a:t>Sustainable Development- Systems Concept</a:t>
            </a:r>
            <a:endParaRPr b="0" lang="en-US" sz="4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nomic development that meets the needs of the present generation without compromising future gener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n interdisciplinary study of human relationship with other organisms and the ear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46b86"/>
                </a:solidFill>
                <a:uFillTx/>
                <a:latin typeface="Arial"/>
              </a:rPr>
              <a:t>Ec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emi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Ge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4800600" y="2971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c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Demograp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Poli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Earth System and Environmental Scienc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Sys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set of components that interact and function as a wh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Global Earth Sy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limate, atmosphere, land, coastal zones, oc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cosystem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natural system consisting of a community of organisms and its physical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12720" y="152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Nega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counteracts (reverses) the changed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" descr="raven_9e_fig_01_13_1.jpg"/>
          <p:cNvPicPr/>
          <p:nvPr/>
        </p:nvPicPr>
        <p:blipFill>
          <a:blip r:embed="rId1"/>
          <a:stretch/>
        </p:blipFill>
        <p:spPr>
          <a:xfrm>
            <a:off x="4802040" y="1890720"/>
            <a:ext cx="26863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eedbacks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809720"/>
            <a:ext cx="4035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Positive feed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hange triggers a response that intensifies the changing con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3184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polar and glacial ice melt, color change leading to more rapid mel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5" descr="Z:\NewMedia\Ebook-Novella\Wiley\JIRA\bcs2712\Raven9e\Work\Ch01\images\raven_9e_fig_01_13_2.jpg"/>
          <p:cNvPicPr/>
          <p:nvPr/>
        </p:nvPicPr>
        <p:blipFill>
          <a:blip r:embed="rId1"/>
          <a:stretch/>
        </p:blipFill>
        <p:spPr>
          <a:xfrm>
            <a:off x="5499000" y="1784520"/>
            <a:ext cx="21495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Method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675" name="Picture 4" descr="Z:\NewMedia\Ebook-Novella\Wiley\JIRA\bcs2712\Raven9e\Work\Ch01\images\raven_9e_fig_01_14.jpg"/>
          <p:cNvPicPr/>
          <p:nvPr/>
        </p:nvPicPr>
        <p:blipFill>
          <a:blip r:embed="rId1"/>
          <a:stretch/>
        </p:blipFill>
        <p:spPr>
          <a:xfrm>
            <a:off x="2000160" y="1643040"/>
            <a:ext cx="474660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46b86"/>
                </a:solidFill>
                <a:latin typeface="Arial"/>
              </a:rPr>
              <a:t>Controls and Variables in Experiment</a:t>
            </a:r>
            <a:endParaRPr b="0" lang="en-US" sz="38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Variab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 factor that influences a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may be altered in an experiment to determine its effect on the out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The variable is not alt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llows for comparison between the tests of when we alter the variable and when we do not alter the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Scientific knowledge and theor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12720" y="1714680"/>
            <a:ext cx="8096400" cy="41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Theo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Integrated explanation supported by large body of observations and experiments, and evaluated by peer re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implifies, clarifies, and predicts new relationships within the natural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Absolute truth is not possible in sci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Knowledge evolves as new evidence is f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Food as a Lens for Environmental Study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536040" y="170028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hicken sandwich requires wheat, chicken, other ingredients, energy to manufacture and transport to table, energy to treat generated wastes and packaging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536400" y="3714840"/>
            <a:ext cx="457200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Our choices matter and affect the environ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  <a:ea typeface="ＭＳ Ｐゴシック"/>
              </a:rPr>
              <a:t>What do you think about when you make your food choice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raven_9e_figun_01_p001.jpg"/>
          <p:cNvPicPr/>
          <p:nvPr/>
        </p:nvPicPr>
        <p:blipFill>
          <a:blip r:embed="rId1"/>
          <a:stretch/>
        </p:blipFill>
        <p:spPr>
          <a:xfrm>
            <a:off x="5219640" y="3538440"/>
            <a:ext cx="33289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The Environment (Earth)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419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ife has existed on earth for 3.8 billion y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arth well suited for lif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Water over ¾ of pl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Habitable temperature, moderat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tmosphere provides oxygen and carbon diox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Soil with essential minerals f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Z:\NewMedia\Ebook-Novella\Wiley\JIRA\bcs2712\Raven9e\Work\Ch01\images\raven_9e_fig_01_02.jpg"/>
          <p:cNvPicPr/>
          <p:nvPr/>
        </p:nvPicPr>
        <p:blipFill>
          <a:blip r:embed="rId1"/>
          <a:stretch/>
        </p:blipFill>
        <p:spPr>
          <a:xfrm>
            <a:off x="4668840" y="1946160"/>
            <a:ext cx="42768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b86"/>
                </a:solidFill>
                <a:latin typeface="Arial"/>
              </a:rPr>
              <a:t>Human Impacts on Environment- Population</a:t>
            </a:r>
            <a:endParaRPr b="0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3565080"/>
            <a:ext cx="414684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Estimates of 8-11 billion by end of 21</a:t>
            </a:r>
            <a:r>
              <a:rPr b="0" lang="en-US" sz="2500" spc="-1" strike="noStrike" baseline="30000">
                <a:solidFill>
                  <a:srgbClr val="646b86"/>
                </a:solidFill>
                <a:latin typeface="Arial"/>
              </a:rPr>
              <a:t>st</a:t>
            </a: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 centu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We are the most significant agent of environment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80880" y="1600200"/>
            <a:ext cx="835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Modern humans appeared ~100,000 years ago in Africa and quickly exp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b86"/>
                </a:solidFill>
                <a:latin typeface="Arial"/>
              </a:rPr>
              <a:t>Now, human population is  ~7.1 b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2840" indent="-1717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b86"/>
                </a:solidFill>
                <a:latin typeface="Arial"/>
              </a:rPr>
              <a:t>Growing exponential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Z:\NewMedia\Ebook-Novella\Wiley\JIRA\bcs2712\Raven9e\Work\Ch01\images\raven_9e_fig_01_03.jpg"/>
          <p:cNvPicPr/>
          <p:nvPr/>
        </p:nvPicPr>
        <p:blipFill>
          <a:blip r:embed="rId1"/>
          <a:stretch/>
        </p:blipFill>
        <p:spPr>
          <a:xfrm>
            <a:off x="4621320" y="3041640"/>
            <a:ext cx="39798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251240" y="1782360"/>
            <a:ext cx="466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More than 1 in 4 people live in extreme </a:t>
            </a:r>
            <a:r>
              <a:rPr b="0" lang="en-US" sz="2900" spc="-1" strike="noStrike" u="sng">
                <a:solidFill>
                  <a:srgbClr val="646b86"/>
                </a:solidFill>
                <a:uFillTx/>
                <a:latin typeface="Arial"/>
              </a:rPr>
              <a:t>poverty</a:t>
            </a: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annot meet basic need for food, clothing, shelter,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Difficult to meet population needs without exploiting earth’s resour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5" descr="Z:\NewMedia\Ebook-Novella\Wiley\JIRA\bcs2712\Raven9e\Work\Ch01\images\raven_9e_fig_01_04.jpg"/>
          <p:cNvPicPr/>
          <p:nvPr/>
        </p:nvPicPr>
        <p:blipFill>
          <a:blip r:embed="rId1"/>
          <a:stretch/>
        </p:blipFill>
        <p:spPr>
          <a:xfrm>
            <a:off x="1100160" y="1859040"/>
            <a:ext cx="276696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Countries were differentiated based on wealt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Highly Developed Countries (H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Complex industrialized bases, low population growth, high per capita inco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US, Canada, Jap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480" indent="-31248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Less  Developed Countries (LDC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ow level of industrialization, very high fertility rate, high infant mortality rate, low per capita 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6760" indent="-26712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Bangladesh, Mali, Ethio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Gap Between Rich and Poor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12720" y="2000160"/>
            <a:ext cx="81532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ising income disparity in many countr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Large gap between wealthy and poor citiz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99"/>
              </a:spcBef>
              <a:buClr>
                <a:srgbClr val="ccb4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46b86"/>
                </a:solidFill>
                <a:latin typeface="Arial"/>
              </a:rPr>
              <a:t>Differential access to electricity, cars, modern medic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Ex: China, India, Brazil, Mex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46b86"/>
                </a:solidFill>
                <a:latin typeface="Arial"/>
              </a:rPr>
              <a:t>Population and Resource Use</a:t>
            </a:r>
            <a:endParaRPr b="0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Essential resources for individual survival are smal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Rapidly increasing population can quickly overwhelm or deplete, especially lo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b4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b86"/>
                </a:solidFill>
                <a:latin typeface="Arial"/>
              </a:rPr>
              <a:t>Resource consumption can far outweigh needs of surviv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d1634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Arial"/>
              </a:rPr>
              <a:t>Affluent nations use larger portions and can exhaust resources glob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22:33:37Z</dcterms:created>
  <dc:creator>ejohnson</dc:creator>
  <dc:description/>
  <dc:language>en-US</dc:language>
  <cp:lastModifiedBy>Parker, Rebekah Pine</cp:lastModifiedBy>
  <dcterms:modified xsi:type="dcterms:W3CDTF">2017-06-13T14:43:11Z</dcterms:modified>
  <cp:revision>123</cp:revision>
  <dc:subject/>
  <dc:title>Slide 1</dc:title>
</cp:coreProperties>
</file>