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7368-40AE-4D5C-9646-4E00929A3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98B3-9917-4791-9E6D-808D63F9B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11FB-D394-49DA-98CF-6AD4DB49C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F597-7BF1-4D22-9CFD-463853850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BEC3-8566-48A9-A3CF-B161DABC9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D2FC-5D0B-4398-B329-C696A5174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190-7C00-4969-B39E-C7CEF50A7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4F8D-E166-4763-807F-F291089B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A41B-6BB4-42E4-B998-AA94EF29E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E68E-B433-4BE0-9BA7-3806DA54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AAAF-6D47-4A3C-93F9-C55448139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04E4-72FE-471A-A2F0-DA1D7C20F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5CAA-6F98-47F5-890A-C1936452D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1B7D-5ED8-41E6-9DFB-BE64D4F3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2E44-CD03-42F7-A018-C05A71AB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709B-A808-41E8-B987-87E1D1C91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8265-547F-47CD-A57F-6E775EDD6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2B73-C61E-4FA5-A05D-2EA9EE5FF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3704-9B53-4B19-A958-E3C97646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5F00-6E55-416E-BD7C-AC042AC55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CAF9-8203-4B94-A7CB-D15DF9BCB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6456-9DB3-4B8C-B9AD-0CF16E172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C0AA-5A3F-4802-9058-71D54CF91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AE9A-B6BB-4F87-8A93-6CDD6B7E1D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B148D-69B6-4C60-839B-4D9B29B1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DB25A-DCFC-4FBF-A8B2-C36E506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CF707-1199-45AB-B63E-8007921A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C8EC4-60A7-4568-A113-DFB6C16F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65307-2810-4223-8162-69A24AD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2AC94-3488-4BE6-8803-800B73FD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D107C-39E0-4EA4-8DE3-4C8286AD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1F794-9ACB-4DF9-9E42-3AFCBC7A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A128C-BC7E-444C-AB8A-E1ECFAEC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028E4-EE2C-4FB7-A50E-C1CBC0E7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321A-6605-4ADA-B2A7-4275ED1473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F556E-15B1-4DDF-984F-F86C0DC6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15000-5E62-46C0-A558-C6E2AA84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3DA11-0541-4CE7-BC36-B89A2E18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4D4B6-875B-4684-B723-60479851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78839-6670-4B24-A914-E062C482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A93CD-D960-40A7-BD65-A96EF183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0CC5D-11E0-434B-AB0D-2C6DED0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077E0-54C3-4375-A799-5ABC98D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3BBC6-F2DC-4E13-8CB2-577A0697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AA623-8E61-49CC-A037-9DB4CEBE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6228-ED0F-47D6-996A-A6387217225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15E95-D059-480C-AC99-E8602374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79F126-895D-442E-9D4B-75681D84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4DEFD2-0E05-4F12-8087-2D092408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A98991-5F3B-4832-8CCD-4E7824F6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D8F106-4F2F-4E64-B662-80DD49D0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A30E3F-55D7-43C9-BE09-B4A80291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D7547A-02AC-4374-AC7A-2A035591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997A99-03DE-4A9A-A206-4EA81194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FC4DDB-C398-4A33-B412-2160F6C4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B35D80-608B-4403-91FE-4252B649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18897-B242-48F2-8212-2E6D7FA6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E40F96-AB7C-44C9-A0FA-871BF23F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CA8E60-60D7-438C-A24B-A64BB3CC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C5F095-FA30-4F57-B405-22B3C9BE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7E2CF-8DDD-4D48-870E-C0053741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AE2F5-9437-42B7-9124-AE78AAA4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FD893-1924-4635-9A1F-FA361D2B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65FE7-F25E-4102-BAEB-341E08F9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4B5A2-98F0-4B6E-A170-952AB815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67A26-725E-4718-98EA-48B68BF2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64313-F730-48EE-936B-3D55D31A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98DD3-A963-4BFD-86E9-14331BF7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20F45-8A1D-45EC-88A5-D3E9EDBD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1C725-6391-4D9F-B2BD-B529FCC9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FDA12-EEC1-4471-8CF7-AF586118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6B7F9-1D4A-4587-8999-22D06FAB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F11AE-E03C-4027-80E8-D48D4885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0F259C-76F1-44E7-8876-5C9D160A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EB5BF2-43AF-455C-BA16-F4236DAE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6A28F0-5EF9-48F8-B3B3-A63CA59B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09F0A2-B6D2-4E7C-89A0-117E5009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C588C4-82D7-4AC1-9943-5DD22171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51A22-ABD5-4756-8F91-C159F8D2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431640-0C82-44DB-95F6-9D898814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C51153-CC11-40A2-808D-366230A3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2DE224-FBFF-4CF6-8DF3-B1BEE8C4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5A1229-A053-4A7C-A4CC-76A27DCB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9751A4-2D7E-4F53-A8CD-35A4FF39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A7D752-7DDA-4F63-AF24-CE6B0AF6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5B99B1-C47C-4886-A2DC-992F8AD6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E9498-1744-41C5-8473-340CC58C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8A865-3D55-412C-AFBD-BEFE704D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C553D-D428-4A1A-8509-180FB0CD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0121B-8A62-43A2-A402-2662E18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9B1B-6924-4072-9617-5869544C6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E6C7A-9F61-4235-9295-9234B4E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77581-45B2-4570-9FE9-F7D2A083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334E0-0928-407E-952E-6778CF88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9F1FE-4C54-41E5-946D-F57A9F9C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C9DD5-69CE-4110-A5AA-CA7710EA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0F6ED-E1EA-449A-BDFA-2200B75A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586A4-88E8-4BA6-BE7D-87E4DCD3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A88177-94AE-4B42-A0F8-E5F77789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754B9-0A2A-4472-AF10-BE687B44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0E862-4331-45CF-9D7A-BAE39903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E687-1EE6-4423-85CC-3A548F8026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B3BB27-EF69-40D1-995B-1B2187C3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812B4-B065-4907-B3C4-E49C7C2D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3A2A3-24CE-438A-980B-A2F194D1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1B6078-4A65-47CD-97B4-6284A58B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0E29B-AB91-4F9D-BB65-22D806CA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1748F-496F-4136-A82C-8B6A2AD2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833EFB-3169-48FE-957A-1DFB6F18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45F2-38D7-490E-8771-558777C2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5733-0115-43CB-BB4C-9529D81B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4E09-0B3F-4059-9C43-43918BAB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54FA-86B3-4C55-8B09-6954E713A3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B52F4-DC72-4031-9537-FC0704C7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A9B3-8957-47EC-A443-7CD375D8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8325-768E-449C-A7DF-CD664CCC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49A8-149F-4A22-94A5-2FBAC738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E992-10E7-4141-9FE5-593A1D97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D5C0-A6F5-40C5-819C-F05744F1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281D-A910-4801-87E0-CD32EA95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B73A-1990-4550-A7E4-A60539A7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4851-9365-4DF9-B35F-E40CC215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B9A4E4-381A-4471-ACA5-1C30D2C6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708A-CB3B-4C87-B40D-BDC4E5B9D1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759DCA-13C5-41A0-A6B1-06E61C5C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436674-E411-4C4D-BED9-69A10FA0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45FD0-7F68-490A-B9A5-5D5721F0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769131-F379-451C-938F-BFF0C68D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251ACC-7412-43F1-92D3-20F23223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52A275-FC56-466F-B8E0-21C7836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DDCB96-2A17-4142-A075-BEBD820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D38FEE-E019-44C2-8545-04B93EB7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91EB5-7FBA-4E43-BA43-9BFBC15E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83C551-5BF3-4638-A9D9-0EB96979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45F4-AFAF-4A7A-933D-D8D1860028F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AEC50D-CB9C-4AE7-B383-F47C318C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7B2E4-4E0F-4E81-8038-E0BD9A4A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34463F-93C2-47DF-9092-AAED7516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5A9D25-2BFC-4BDF-BDD5-95163FD9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33CFB5-410E-4549-B979-A22EE47F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9BF93C-B2CE-43E3-A611-99A36226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FC83B0-D8EE-458B-BB2A-7C89832A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627EE2-9143-4D3D-8D77-9C7B8371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7C464C-F313-451E-B8D5-7FC6BBE4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4CD2F1-D9E4-4A27-A1E6-EFB3255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E5CF-4EF8-4D8A-AB7D-00600B8191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278EB3-5B85-4353-944B-DFD0CDE1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6701C2-5761-4D36-93D9-964ABE39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2632CE-B4AC-4CD4-837F-D9E4811E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A7E47E-121B-4713-8A78-C77DD13F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5217C4-1A04-45CC-A3D8-08F45677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7D731F-3B45-41DE-9703-49087562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559488-5AC3-40A8-A20B-6CCE4E9F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45B81B-B0FB-49F7-B45F-2207FDF3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991178-88E5-4464-AB23-07F75BE5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3C2EED-6561-4743-BCBF-049E49BC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FC4E-FAF1-4E5E-BD87-4461B341305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8EA9B4-3596-4E39-ADA5-00F7D60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E8E842-8EE2-4D87-944E-05A390B6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5471F6-C0F5-478F-BC8E-EE371319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ED7C8A-87F8-4097-B325-BBC1808E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427334-AE37-4AB8-B78C-9ED7BC85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5445AF-46B2-43B0-9E1D-B673BD69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EA6929-679F-45E3-9EAD-690467FC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DDF6B2-2362-4619-A6BF-9FD6FAF1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0FD327-F328-4D6B-8C71-4D8417B0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E945C3-71BB-40FA-A91D-968F315D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8D14-0191-4339-A0B7-1B7882CB2A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6F77A1-8B3F-4A85-A103-A7AEC397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6F18CB-8E9B-4FE8-B8C7-5FE1A316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6A9749-FCA7-407D-9B81-DC6A7FAA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F7BDD2-A43E-4C50-94F6-AC21AE6A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35E9F3-3E62-455A-9128-DC437C44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FDD628-2AC5-4465-AA7C-F262EE8D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7D4738-8825-4911-BD74-1B15FA77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C5C52-7FAC-49B2-8552-A66D44CF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B4479-1625-42C7-9806-59C6DD60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66259-E6AB-49C4-B38C-1A332351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615C-F512-4DE6-8D5B-89626BBB06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32CF-98C6-4B27-9C53-4C24AE84B09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B2C5-8B79-4AAD-B97B-A56B8C9A33A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E39F-D9A6-4BED-80BF-74B883D083A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A146-AD77-4413-B3E1-A92055C817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82B1-AB2C-4E4C-A3D1-60F163535A2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DBA4-FFC9-483F-8B28-23DC652F42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6A39-F12B-4931-A4A2-926BC021EA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9D57-A71B-4CB2-9FD1-34F7BAE67778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CC47-E51F-47D7-ABB1-1FDEC8F3FE07}" type="slidenum">
              <a:rPr b="1" lang="en-US" sz="14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AA60-869D-4117-8DA0-41FDBD79E57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954F-691D-4DD5-BCE6-30F14EF3C6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0701-1DDE-434E-8CBE-2377E61BB20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6096-1EF1-441D-ADAD-A918DF40A39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4557-AB0B-4773-864E-020242073C4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4BBE-F7BE-4C53-8A07-F91495C058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8177-EE63-4F56-AD7E-22C8816CD23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9B5D-BB54-45FE-A047-D96B834957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8EFF-52AB-4B52-BF9C-5C3C812ED75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8C2B-128D-4E51-82C3-4906DDD16E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5AB8-13A9-465C-8A4E-9EB18F9F315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1D27-52E4-4B90-A6C3-62549280812B}" type="slidenum">
              <a:rPr b="1" lang="en-US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6EA7-0DCE-4681-A0CA-2BDC1F861DB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AC1A-EE42-489E-A034-49EA1E9C99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roducing Environmental Science and Sustain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tle 1"/>
          <p:cNvSpPr/>
          <p:nvPr/>
        </p:nvSpPr>
        <p:spPr>
          <a:xfrm>
            <a:off x="152280" y="60516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20560" y="1600200"/>
            <a:ext cx="831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vements in highly developed nations are changing dem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iny house mov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ouses of typically &lt;1,000sq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raven_9e_fig_01_05_2.jpg"/>
          <p:cNvPicPr/>
          <p:nvPr/>
        </p:nvPicPr>
        <p:blipFill>
          <a:blip r:embed="rId1"/>
          <a:stretch/>
        </p:blipFill>
        <p:spPr>
          <a:xfrm>
            <a:off x="5938920" y="2367000"/>
            <a:ext cx="2554200" cy="3557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raven_9e_fig_01_05_1.jpg"/>
          <p:cNvPicPr/>
          <p:nvPr/>
        </p:nvPicPr>
        <p:blipFill>
          <a:blip r:embed="rId2"/>
          <a:stretch/>
        </p:blipFill>
        <p:spPr>
          <a:xfrm>
            <a:off x="1046160" y="3716280"/>
            <a:ext cx="3855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ypes of Natural Resourc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12" name="Picture 5" descr="Z:\NewMedia\Ebook-Novella\Wiley\JIRA\bcs2712\Raven9e\Work\Ch01\images\raven_9e_fig_01_06.jpg"/>
          <p:cNvPicPr/>
          <p:nvPr/>
        </p:nvPicPr>
        <p:blipFill>
          <a:blip r:embed="rId1"/>
          <a:stretch/>
        </p:blipFill>
        <p:spPr>
          <a:xfrm>
            <a:off x="480960" y="2036880"/>
            <a:ext cx="818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uman use of materials and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eople in HDCs are big consu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Unsustainable 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Occurs when the level of demand on a country’s resources damages or depletes the resource enough to reduce the quality of life for future gen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used by overpopulation and/or overconsu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The average amount of land, water and ocean required to provide that person with all the resources they con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5025960" y="1600200"/>
          <a:ext cx="3281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1600200"/>
                    <a:ext cx="3281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304920" y="3429000"/>
          <a:ext cx="8458200" cy="2579760"/>
        </p:xfrm>
        <a:graphic>
          <a:graphicData uri="http://schemas.openxmlformats.org/drawingml/2006/table">
            <a:tbl>
              <a:tblPr/>
              <a:tblGrid>
                <a:gridCol w="6172200"/>
                <a:gridCol w="2286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Earth’s Productive Land and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1.4 billion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Amount Each Person is Allotted (divide Productive Land &amp; Water by Human Pop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.8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Current Global Ecological Footprint of each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2.7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s have an ecological overshoo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Z:\NewMedia\Ebook-Novella\Wiley\JIRA\bcs2712\Raven9e\Work\Ch01\images\raven_9e_fig_01_07.jpg"/>
          <p:cNvPicPr/>
          <p:nvPr/>
        </p:nvPicPr>
        <p:blipFill>
          <a:blip r:embed="rId1"/>
          <a:stretch/>
        </p:blipFill>
        <p:spPr>
          <a:xfrm>
            <a:off x="1779480" y="2438280"/>
            <a:ext cx="55850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 Comparis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24" name="Picture 5" descr="Z:\NewMedia\Ebook-Novella\Wiley\JIRA\bcs2712\Raven9e\Work\Ch01\images\raven_9e_fig_01_08_1.jpg"/>
          <p:cNvPicPr/>
          <p:nvPr/>
        </p:nvPicPr>
        <p:blipFill>
          <a:blip r:embed="rId1"/>
          <a:stretch/>
        </p:blipFill>
        <p:spPr>
          <a:xfrm>
            <a:off x="236520" y="2585880"/>
            <a:ext cx="4322880" cy="3084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Z:\NewMedia\Ebook-Novella\Wiley\JIRA\bcs2712\Raven9e\Work\Ch01\images\raven_9e_fig_01_08_2.jpg"/>
          <p:cNvPicPr/>
          <p:nvPr/>
        </p:nvPicPr>
        <p:blipFill>
          <a:blip r:embed="rId2"/>
          <a:stretch/>
        </p:blipFill>
        <p:spPr>
          <a:xfrm>
            <a:off x="4745160" y="2598840"/>
            <a:ext cx="41511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IPAT Model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easures 3 factors that affect environmental impact (I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960480" y="2590920"/>
            <a:ext cx="7223040" cy="4010760"/>
            <a:chOff x="960480" y="2590920"/>
            <a:chExt cx="7223040" cy="4010760"/>
          </a:xfrm>
        </p:grpSpPr>
        <p:grpSp>
          <p:nvGrpSpPr>
            <p:cNvPr id="629" name="Group 5"/>
            <p:cNvGrpSpPr/>
            <p:nvPr/>
          </p:nvGrpSpPr>
          <p:grpSpPr>
            <a:xfrm>
              <a:off x="2057400" y="3809880"/>
              <a:ext cx="6126120" cy="1191240"/>
              <a:chOff x="2057400" y="3809880"/>
              <a:chExt cx="6126120" cy="1191240"/>
            </a:xfrm>
          </p:grpSpPr>
          <p:sp>
            <p:nvSpPr>
              <p:cNvPr id="630" name="Text Box 6"/>
              <p:cNvSpPr/>
              <p:nvPr/>
            </p:nvSpPr>
            <p:spPr>
              <a:xfrm>
                <a:off x="2057400" y="3809880"/>
                <a:ext cx="6126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a3d6"/>
                    </a:solidFill>
                    <a:latin typeface="Arial"/>
                  </a:rPr>
                  <a:t>I = P   A    T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Group 7"/>
              <p:cNvGrpSpPr/>
              <p:nvPr/>
            </p:nvGrpSpPr>
            <p:grpSpPr>
              <a:xfrm>
                <a:off x="4204800" y="4267080"/>
                <a:ext cx="383040" cy="365040"/>
                <a:chOff x="4204800" y="4267080"/>
                <a:chExt cx="383040" cy="365040"/>
              </a:xfrm>
            </p:grpSpPr>
            <p:sp>
              <p:nvSpPr>
                <p:cNvPr id="632" name="Line 8"/>
                <p:cNvSpPr/>
                <p:nvPr/>
              </p:nvSpPr>
              <p:spPr>
                <a:xfrm>
                  <a:off x="4206960" y="42670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9"/>
                <p:cNvSpPr/>
                <p:nvPr/>
              </p:nvSpPr>
              <p:spPr>
                <a:xfrm flipH="1">
                  <a:off x="4204800" y="42670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10"/>
              <p:cNvGrpSpPr/>
              <p:nvPr/>
            </p:nvGrpSpPr>
            <p:grpSpPr>
              <a:xfrm>
                <a:off x="5698800" y="4252680"/>
                <a:ext cx="383040" cy="365040"/>
                <a:chOff x="5698800" y="4252680"/>
                <a:chExt cx="383040" cy="365040"/>
              </a:xfrm>
            </p:grpSpPr>
            <p:sp>
              <p:nvSpPr>
                <p:cNvPr id="635" name="Line 11"/>
                <p:cNvSpPr/>
                <p:nvPr/>
              </p:nvSpPr>
              <p:spPr>
                <a:xfrm>
                  <a:off x="5700960" y="42526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"/>
                <p:cNvSpPr/>
                <p:nvPr/>
              </p:nvSpPr>
              <p:spPr>
                <a:xfrm flipH="1">
                  <a:off x="5698800" y="42526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13"/>
            <p:cNvGrpSpPr/>
            <p:nvPr/>
          </p:nvGrpSpPr>
          <p:grpSpPr>
            <a:xfrm>
              <a:off x="960480" y="2590920"/>
              <a:ext cx="2682720" cy="1417680"/>
              <a:chOff x="960480" y="2590920"/>
              <a:chExt cx="2682720" cy="1417680"/>
            </a:xfrm>
          </p:grpSpPr>
          <p:sp>
            <p:nvSpPr>
              <p:cNvPr id="638" name="Text Box 14"/>
              <p:cNvSpPr/>
              <p:nvPr/>
            </p:nvSpPr>
            <p:spPr>
              <a:xfrm>
                <a:off x="960480" y="259092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Impac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>
                <a:off x="2239920" y="353556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6"/>
            <p:cNvGrpSpPr/>
            <p:nvPr/>
          </p:nvGrpSpPr>
          <p:grpSpPr>
            <a:xfrm>
              <a:off x="2789280" y="4937040"/>
              <a:ext cx="1874880" cy="1374120"/>
              <a:chOff x="2789280" y="4937040"/>
              <a:chExt cx="1874880" cy="1374120"/>
            </a:xfrm>
          </p:grpSpPr>
          <p:sp>
            <p:nvSpPr>
              <p:cNvPr id="641" name="Text Box 17"/>
              <p:cNvSpPr/>
              <p:nvPr/>
            </p:nvSpPr>
            <p:spPr>
              <a:xfrm>
                <a:off x="2789280" y="5364000"/>
                <a:ext cx="1874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umber of peop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3706920" y="493704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19"/>
            <p:cNvGrpSpPr/>
            <p:nvPr/>
          </p:nvGrpSpPr>
          <p:grpSpPr>
            <a:xfrm>
              <a:off x="3868920" y="2622600"/>
              <a:ext cx="2682720" cy="1417680"/>
              <a:chOff x="3868920" y="2622600"/>
              <a:chExt cx="2682720" cy="1417680"/>
            </a:xfrm>
          </p:grpSpPr>
          <p:sp>
            <p:nvSpPr>
              <p:cNvPr id="644" name="Text Box 20"/>
              <p:cNvSpPr/>
              <p:nvPr/>
            </p:nvSpPr>
            <p:spPr>
              <a:xfrm>
                <a:off x="3868920" y="262260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ffluence per pers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>
                <a:off x="5148360" y="356724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22"/>
            <p:cNvGrpSpPr/>
            <p:nvPr/>
          </p:nvGrpSpPr>
          <p:grpSpPr>
            <a:xfrm>
              <a:off x="5416560" y="4807080"/>
              <a:ext cx="2743200" cy="1794600"/>
              <a:chOff x="5416560" y="4807080"/>
              <a:chExt cx="2743200" cy="1794600"/>
            </a:xfrm>
          </p:grpSpPr>
          <p:sp>
            <p:nvSpPr>
              <p:cNvPr id="647" name="Text Box 23"/>
              <p:cNvSpPr/>
              <p:nvPr/>
            </p:nvSpPr>
            <p:spPr>
              <a:xfrm>
                <a:off x="5416560" y="5227920"/>
                <a:ext cx="27432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effect of technologi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 flipV="1">
                <a:off x="6724800" y="480708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uel efficient vehicl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630320" y="1600200"/>
            <a:ext cx="4135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verage fuel economy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2.1 mpg (198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0.4 mpg (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SUV popula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Fuel efficient vehicles can lower 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fficient dr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:\NewMedia\Ebook-Novella\Wiley\JIRA\bcs2712\Raven9e\Work\Ch01\images\raven_9e_fig_01_09.jpg"/>
          <p:cNvPicPr/>
          <p:nvPr/>
        </p:nvPicPr>
        <p:blipFill>
          <a:blip r:embed="rId1"/>
          <a:stretch/>
        </p:blipFill>
        <p:spPr>
          <a:xfrm>
            <a:off x="371520" y="2185920"/>
            <a:ext cx="41749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53" name="Picture 4" descr="Z:\NewMedia\Ebook-Novella\Wiley\JIRA\bcs2712\Raven9e\Work\Ch01\images\raven_9e_fig_01_10.jpg"/>
          <p:cNvPicPr/>
          <p:nvPr/>
        </p:nvPicPr>
        <p:blipFill>
          <a:blip r:embed="rId1"/>
          <a:stretch/>
        </p:blipFill>
        <p:spPr>
          <a:xfrm>
            <a:off x="1087560" y="1654200"/>
            <a:ext cx="69688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 ability to meet current human need for natural resources without compromising the needs of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304920" y="289548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quires understanding</a:t>
            </a: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e effects of our actions on the ear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at earth’s resources are not infin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6" descr="Z:\NewMedia\Ebook-Novella\Wiley\JIRA\bcs2712\Raven9e\Work\Ch01\images\raven_9e_fig_01_11.jpg"/>
          <p:cNvPicPr/>
          <p:nvPr/>
        </p:nvPicPr>
        <p:blipFill>
          <a:blip r:embed="rId1"/>
          <a:stretch/>
        </p:blipFill>
        <p:spPr>
          <a:xfrm>
            <a:off x="4138560" y="2941560"/>
            <a:ext cx="46958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Overview of Chapter 1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 Impacts on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pulation, Resources and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ustain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ddressing Environmental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Tragedy of the Commons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Hardin (1915–2003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olving environmental problems is result of struggle betwee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hort term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ng term environmental stability and societal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mmon pool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used common pastureland in medieval Europe to illustrate the strugg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rav8_fig_01_12.jpg"/>
          <p:cNvPicPr/>
          <p:nvPr/>
        </p:nvPicPr>
        <p:blipFill>
          <a:blip r:embed="rId1"/>
          <a:srcRect l="0" t="0" r="0" b="4238"/>
          <a:stretch/>
        </p:blipFill>
        <p:spPr>
          <a:xfrm>
            <a:off x="3614760" y="2622600"/>
            <a:ext cx="4713120" cy="37116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6b86"/>
                </a:solidFill>
                <a:latin typeface="Arial"/>
              </a:rPr>
              <a:t>Sustainable Development- Systems Concept</a:t>
            </a:r>
            <a:endParaRPr b="0" lang="en-US" sz="4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nomic development that meets the needs of the present generation without compromising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n interdisciplinary study of human relationship with other organisms and the ear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46b86"/>
                </a:solidFill>
                <a:uFillTx/>
                <a:latin typeface="Arial"/>
              </a:rPr>
              <a:t>Ec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em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4800600" y="2971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c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Dem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oli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arth System and 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set of components that interact and function as a w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lobal Earth Sy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limate, atmosphere, land, coastal zones,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system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natural system consisting of a community of organisms and its physical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Nega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counteracts (reverses) the changed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" descr="raven_9e_fig_01_13_1.jpg"/>
          <p:cNvPicPr/>
          <p:nvPr/>
        </p:nvPicPr>
        <p:blipFill>
          <a:blip r:embed="rId1"/>
          <a:stretch/>
        </p:blipFill>
        <p:spPr>
          <a:xfrm>
            <a:off x="4802040" y="1890720"/>
            <a:ext cx="26863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809720"/>
            <a:ext cx="4035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si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intensifies the changing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polar and glacial ice melt, color change leading to more rapid mel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5" descr="Z:\NewMedia\Ebook-Novella\Wiley\JIRA\bcs2712\Raven9e\Work\Ch01\images\raven_9e_fig_01_13_2.jpg"/>
          <p:cNvPicPr/>
          <p:nvPr/>
        </p:nvPicPr>
        <p:blipFill>
          <a:blip r:embed="rId1"/>
          <a:stretch/>
        </p:blipFill>
        <p:spPr>
          <a:xfrm>
            <a:off x="5499000" y="1784520"/>
            <a:ext cx="21495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75" name="Picture 4" descr="Z:\NewMedia\Ebook-Novella\Wiley\JIRA\bcs2712\Raven9e\Work\Ch01\images\raven_9e_fig_01_14.jpg"/>
          <p:cNvPicPr/>
          <p:nvPr/>
        </p:nvPicPr>
        <p:blipFill>
          <a:blip r:embed="rId1"/>
          <a:stretch/>
        </p:blipFill>
        <p:spPr>
          <a:xfrm>
            <a:off x="2000160" y="1643040"/>
            <a:ext cx="474660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46b86"/>
                </a:solidFill>
                <a:latin typeface="Arial"/>
              </a:rPr>
              <a:t>Controls and Variables in Experiment</a:t>
            </a:r>
            <a:endParaRPr b="0" lang="en-US" sz="38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Vari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factor that influences a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may be altered in an experiment to determine its effect on the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is not al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llows for comparison between the tests of when we alter the variable and when we do not alter the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knowledge and theor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12720" y="1714680"/>
            <a:ext cx="80964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Integrated explanation supported by large body of observations and experiments, and evaluated by peer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implifies, clarifies, and predicts new relationships within the natural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bsolute truth is not possible in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Knowledge evolves as new evidence is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ood as a Lens for Environmental Stud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36040" y="170028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hicken sandwich requires wheat, chicken, other ingredients, energy to manufacture and transport to table, energy to treat generated wastes and packag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536400" y="3714840"/>
            <a:ext cx="4572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Our choices matter and affect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What do you think about when you make your food choice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raven_9e_figun_01_p001.jpg"/>
          <p:cNvPicPr/>
          <p:nvPr/>
        </p:nvPicPr>
        <p:blipFill>
          <a:blip r:embed="rId1"/>
          <a:stretch/>
        </p:blipFill>
        <p:spPr>
          <a:xfrm>
            <a:off x="5219640" y="3538440"/>
            <a:ext cx="33289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he Environment (Earth)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ife has existed on earth for 3.8 billion y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arth well suited for lif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Water over ¾ of pl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abitable temperature, moderat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tmosphere provides oxygen and carbon di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il with essential minerals f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Z:\NewMedia\Ebook-Novella\Wiley\JIRA\bcs2712\Raven9e\Work\Ch01\images\raven_9e_fig_01_02.jpg"/>
          <p:cNvPicPr/>
          <p:nvPr/>
        </p:nvPicPr>
        <p:blipFill>
          <a:blip r:embed="rId1"/>
          <a:stretch/>
        </p:blipFill>
        <p:spPr>
          <a:xfrm>
            <a:off x="4668840" y="1946160"/>
            <a:ext cx="42768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Human Impacts on Environment- Population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3565080"/>
            <a:ext cx="414684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Estimates of 8-11 billion by end of 21</a:t>
            </a:r>
            <a:r>
              <a:rPr b="0" lang="en-US" sz="2500" spc="-1" strike="noStrike" baseline="30000">
                <a:solidFill>
                  <a:srgbClr val="646b86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 centu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We are the most significant agent of environment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80880" y="1600200"/>
            <a:ext cx="835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Modern humans appeared ~100,000 years ago in Africa and quickly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Now, human population is  ~7.1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2840" indent="-1717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Growing exponenti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Z:\NewMedia\Ebook-Novella\Wiley\JIRA\bcs2712\Raven9e\Work\Ch01\images\raven_9e_fig_01_03.jpg"/>
          <p:cNvPicPr/>
          <p:nvPr/>
        </p:nvPicPr>
        <p:blipFill>
          <a:blip r:embed="rId1"/>
          <a:stretch/>
        </p:blipFill>
        <p:spPr>
          <a:xfrm>
            <a:off x="4621320" y="3041640"/>
            <a:ext cx="39798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251240" y="1782360"/>
            <a:ext cx="466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re than 1 in 4 people live in extreme </a:t>
            </a:r>
            <a:r>
              <a:rPr b="0" lang="en-US" sz="2900" spc="-1" strike="noStrike" u="sng">
                <a:solidFill>
                  <a:srgbClr val="646b86"/>
                </a:solidFill>
                <a:uFillTx/>
                <a:latin typeface="Arial"/>
              </a:rPr>
              <a:t>poverty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nnot meet basic need for food, clothing, shelter,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Difficult to meet population needs without exploiting earth’s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5" descr="Z:\NewMedia\Ebook-Novella\Wiley\JIRA\bcs2712\Raven9e\Work\Ch01\images\raven_9e_fig_01_04.jpg"/>
          <p:cNvPicPr/>
          <p:nvPr/>
        </p:nvPicPr>
        <p:blipFill>
          <a:blip r:embed="rId1"/>
          <a:stretch/>
        </p:blipFill>
        <p:spPr>
          <a:xfrm>
            <a:off x="1100160" y="1859040"/>
            <a:ext cx="27669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untries were differentiated based on weal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ighly Developed Countries (H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omplex industrialized bases, low population growth, high per capita in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US, Canada,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ess  Developed Countries (L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w level of industrialization, very high fertility rate, high infant mortality rate, low per capita 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Bangladesh, Mali, Ethio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2720" y="2000160"/>
            <a:ext cx="81532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ising income disparity in many countr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arge gap between wealthy and poor citiz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Differential access to electricity, cars, modern medic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China, India, Brazil,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ssential resources for individual survival are sma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Rapidly increasing population can quickly overwhelm or deplete, especially lo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source consumption can far outweigh needs of surviv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ffluent nations use larger portions and can exhaust resources glob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2:33:37Z</dcterms:created>
  <dc:creator>ejohnson</dc:creator>
  <dc:description/>
  <dc:language>en-US</dc:language>
  <cp:lastModifiedBy>Parker, Rebekah Pine</cp:lastModifiedBy>
  <dcterms:modified xsi:type="dcterms:W3CDTF">2017-06-13T14:43:11Z</dcterms:modified>
  <cp:revision>123</cp:revision>
  <dc:subject/>
  <dc:title>Slide 1</dc:title>
</cp:coreProperties>
</file>