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92CD-C580-479C-AC3B-7DE0A5B39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A139-3F24-4144-8318-C664CA7F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46B-27B0-4B02-9A0E-64EFA722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8EA-E3B6-45C1-822F-3232AB3D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A138-0ADD-4153-83D3-B0A57C17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9B72-A256-406B-AE63-730A25CA4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591B-5FF3-4DCA-960E-EBBB4968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4DA3-4F2E-4969-9462-595D74DF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EA77-A130-43B2-A584-451A8306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59A2-550E-4C9F-9DC5-B50594C2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A742-564D-44DE-B16B-492B8510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8BF5-E874-4579-94C6-66BDA99CA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BF39-AA86-43E5-9E97-0E4943A4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BA6-EF61-4289-9C28-A7B9469B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6BC3-DE80-45E4-8C39-F3822B74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151A-212A-4953-BA0C-52147D77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8713-8F27-49D4-8207-0CF2FC998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73B2-2913-4536-8D2A-E9F917266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65B5-01C6-479B-9FE6-7A26E6C88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79DF-0960-49D2-B506-AD5900B84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13C5-0CBB-495B-BA0C-8174634CD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9F5C-7B51-43AD-A5F1-B58EEB1F2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635B-44E2-4A11-AF55-77452CB78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794F-8C12-4F2F-8893-1CC5EFAF9C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EC8BE-CCAE-4A7A-BFD6-52B77EA0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8E0C1-F36F-45FA-A144-51E3F20B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8F13B-BC52-4AB7-9BC9-F19CEDDF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42B0F-02C2-4290-8370-1738756A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81688-0F38-479E-AF6B-12D9F3E5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B8D47-6140-40ED-BEDA-0172862E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83D85-FB96-4BC5-802E-959FD484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CF3F5-52ED-494C-8498-4F81F4E7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849B5-29C7-40A2-89CB-99318708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59218-084F-4EB3-B394-333D9713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3E90-11A1-46D1-B8D8-EC29584C61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79DC5-95CF-4D51-9F63-51FD1DAE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63B45-557C-4668-B8A6-B5F0D7B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4BE64-BDB8-4DFF-B364-475B9F1C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8C924-0920-42F8-A1BB-BE9318AA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3453A-5A03-4914-B8C3-A1233409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68606-81EE-46F4-849A-9E098A2F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B1311-61A1-4EFC-BB1A-18F25C21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FDB00-1DCB-447F-9318-288158DA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481CC-E6D6-409D-97D3-19D45585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3EF16-CA96-443F-AB00-1B3B451F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C65C-483B-4B9F-B777-3AF5599FC89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88A9B-D950-4750-9C57-6F677950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1F8E44-D5B3-4559-8CE8-DCC0F28C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443974-F8D4-4288-B007-297C72B6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793683-4720-4BF4-9DCD-F24106EE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145940-6D4F-4261-B590-BA2F4DD6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F90BB4-DA79-4F10-8E5D-F190BA68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4B4205-6756-4896-8EC5-F678E19F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FACBC1-FBE2-4D1F-BB74-8CA7362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03386C-BD17-4BC3-8750-DEAACA0E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337EFB-33D5-4CA0-B39E-BD1BC98C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FA934-62E4-4A57-A4B8-9DFF7584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3886D6-E476-4B92-8E81-A8055A70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41C1CD-543E-41EA-87CB-29853DBA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88E773-BA1E-4C0A-A73C-0B058BBD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CD114-4A17-454D-9AED-D476D38B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807C7-FD9D-4E8F-88C6-0FF0D97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5A870-A7E5-4619-923D-2E68056C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ED910-9018-441F-83B1-131A1D71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4A1E6-5942-4E16-A34D-2256CB2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8B968-E7B2-4312-80E1-FD8BADD8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F324E-5DF5-4696-B0E5-65206F2B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74D3C-1CBE-49B5-B07B-A095563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B617E-4F57-492D-BDDD-BCA89023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F3E2F-A7D3-478D-9E6B-15DDD1F5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7E43C-0EBF-4107-AEB5-C161F3B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E5598-6A38-4453-842D-C7C964FC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A992E-095B-4EC0-8814-A193B9E1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A785C2-1E48-49EC-AA1F-20E66BAE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7706D2-4083-4CB2-900E-C5AC0CB1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CF4237-7F36-4274-B9CE-BE725091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B0F7EF-1468-4247-9A09-5B582017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6EBAB6-6FEE-4FB9-B8DA-DF720907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4C8D2-AF96-4277-979A-2B217F49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6272CF-2D02-4D26-9528-073E95CD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AB1001-B84C-4466-B8ED-3CDE986D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3BD412-D43A-4FEE-97DD-3161DA18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2FBF8C-9BE5-4B98-B826-846C8668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918FB7-39A9-4358-8BDC-92AAF1E8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3DAC93-F8D3-4F6A-B2D1-5796AEB5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EE5AA4-1566-4084-9559-F8D30BE1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E0F7F-E868-469D-AC2E-45D7C64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20C3E-C8CB-4EFD-B22E-D38E200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92F11-1445-48B8-93E4-29FE150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A0CAA-CB8D-474B-99D2-0000921D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7643-7B76-4584-8E89-021C8C374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AC669-BC77-49EE-B73D-EB50BA0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FDE6E-8A07-4E61-B7DC-99A7A04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4446C-0403-48C1-8207-00CEB677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4741E-C73F-44E6-A607-B6FC3D25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71F2E-8997-40EB-BA44-3E3388F2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6494F-CDBB-488B-AA97-DF0AE3EE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2C41A-0E79-42FF-BA79-A209FA1C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5CCCB-B21A-47B8-BF38-260163BB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4FF9C6-A169-467D-A208-FB89CE2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7147D-4DAB-4534-A85D-2E72E62D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E694-BA12-4F62-BD7D-3C64D198B2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BC154-107E-427E-AFF2-012986AE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96843-A8A6-427C-A051-4440677A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2EAE9-5CD5-451B-B8E6-FB235761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75D3A-2A08-4139-939C-1C057772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C0D6A2-F139-4D4F-83C3-61D13EC3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99F91-4AF9-485F-A7E3-1154516F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CB4AB-6195-4838-9828-98A175C7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CE7F-8DF0-4CDF-9102-23B2B0B6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A980-F89E-412B-B795-43D09326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8B6D-E824-4E83-9E97-691CDAFE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4120-3893-4BE5-9EE7-C48784EABF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25A9-9F1D-4B07-825C-DF7FA82B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54B5-E724-4F6B-BD86-29534530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CB75-5079-419B-85B0-F71FC83B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D50F-9106-4589-A888-4B51824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DEBD7-F4E9-42DC-9287-F4E67B8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5A3E-0B01-41C8-AF1C-58848AB3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0C9F-D20A-488E-B9E9-16F70EFC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D217-CEE6-4945-AE7C-A0BE4BAC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31F3-7153-444E-9911-997A371E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925404-809C-4BE5-BB4C-1F9C3F3E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5F13-0459-4ED4-8ED0-26FC5ECFEA8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77B66-6502-4AB1-89D2-B74F206E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CDBBA-A7BE-414F-96B7-59414A32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BE9D32-16E7-45C2-A109-994A33FE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C7C892-08D5-4CC8-B6C6-7097EBDE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30392E-3C34-4DBB-A2EF-C521E26C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51FA1-A528-434B-A9E0-E2E9F4A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F6889B-3674-4BFD-99C8-C8A0BE03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6CA9A4-4952-4164-A658-3AFF1354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8C2F26-C05F-4D20-9A6E-5881447D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D31618-E302-4691-86FB-873C768A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B518-F749-4BA7-A9B1-66F59464AD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6D1AF3-1476-459E-A4C8-ABA46966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DB3F7-D481-4EB2-8F33-A661C86E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25A0B8-D25C-4503-BB28-416730C7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A8C639-1AA6-4A79-842B-DFC85F8B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DA473-97EF-4F1D-B835-F57B27F4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584FF-DF25-4327-931A-752F3E17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29EBDC-3645-48F2-990C-BC9FF848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4DE3C-C207-48E4-AFDB-93967AF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9320B5-1663-4938-9927-3F9B8B01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2D30A1-D0AF-4341-8AE2-66C64280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8169-2442-4980-B6B2-11F6607F9C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F037EC-C6B0-4743-A36C-5D172B9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42C6D1-1470-4098-8F93-995360FC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A64E50-0293-40CC-AA80-08C01889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376B00-42BC-4C64-8C6F-E9172DFE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3E7D24-71C8-4BC6-BD06-14502CA8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5A7C9C-57C3-4AF0-BAEC-90F01EBA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161290-60BA-4BBC-BC7E-3A9E1361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BFBBB5-26B6-4BBC-86A9-2B91C953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158AC-4372-4CDE-BF3D-F74AF188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726030-8FBE-4B54-A4C9-88E09631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84F9-F43A-4EE4-ABFD-CA85219BE5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2C8782-A1A8-4BC9-8580-65251AB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9AA062-3608-4F58-AB22-42985404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E0BEB-D741-468E-A526-0BE9D17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FD41B6-4AB2-490C-A3FD-235CDEA9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BC0D52-2D28-4157-8CAD-828D1807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CEB836-F5C4-466B-A49B-3EC9B6D4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6C26AE-9028-4FA1-BB92-130A3845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3DA5ED-BA8D-40D5-B47A-C2FFD528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06FD29-4890-454F-8665-CF6C8D1B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38B651-9181-4E51-A4F4-8862EE80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99FC-1B1D-410D-9EF1-4908483591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1DE243-EB1A-4BE1-A8FD-B02FC8BC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22F13B-16F4-4D33-861A-80055C8B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60DE0-C2CD-430C-A13D-E334368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35D381-4888-48E4-8162-3C2E04A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B4A0F9-C277-4A4E-877F-EF739C02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A0BF65-5AED-41D8-BFBC-5718DE65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6AA9C1-2F35-46BF-804D-4C4B9E94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CABA2-BC55-4A27-AE77-BC199781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25436-EA7B-41DF-95D9-DE8B85A9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D9C23-DF62-4BC3-B05E-2FACC8BA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EF8-1064-410D-B97E-4B4AD7DDDA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6DA9-476E-4240-93B3-101EC087F0F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9B3-F50A-4911-BC99-0220EC73E92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93DF-6BDF-42BB-B48A-1DEAFB28E84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E7E7-BAFB-499B-AB1A-418B6FFF65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7A0B-56FF-49FE-9DA4-D0B1DB54BEB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8C60-AE04-4532-9958-7886D23130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F828-C15B-4DCB-99E6-DEF2D9A0B1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567A-CA0F-4C8A-AF5F-60A07FFADA90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6F82-10BF-4BF6-8055-3ECB9D715FB1}" type="slidenum">
              <a:rPr b="1" lang="en-US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5200-C16D-490E-8C39-F3D2D53BAD7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A1A8-1813-474D-86DA-7BAFE0AA6E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AE2-5096-44EE-B6FC-C9D1EBF8A2C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91DA-70D0-4EAA-ADAE-87089F011F9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6A51-7C55-48C4-B8E5-8EF00112DC1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630-0374-407B-B26C-517D531F40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6058-1133-4E8A-A7AD-0DA42713499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F407-938F-42CA-B7E6-818566D7A6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3E4A-AA86-4E3F-8C12-612ABFF6CBE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FE4F-90A4-4F72-A177-BBCE5483D2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6C7A-6A8A-4500-8AD8-A2C256C37E8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F544-5394-4A52-B50D-D6119C826A3E}" type="slidenum">
              <a:rPr b="1" lang="en-US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0669-1102-4D67-B576-AB8BBC78AAB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A807-DCFF-4E25-AED4-F71AA45D33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roducing Environmental Science and Sustain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152280" y="60516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20560" y="1600200"/>
            <a:ext cx="831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vements in highly developed nations are changing de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iny house mov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ouses of typically &lt;1,000sq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raven_9e_fig_01_05_2.jpg"/>
          <p:cNvPicPr/>
          <p:nvPr/>
        </p:nvPicPr>
        <p:blipFill>
          <a:blip r:embed="rId1"/>
          <a:stretch/>
        </p:blipFill>
        <p:spPr>
          <a:xfrm>
            <a:off x="5938920" y="2367000"/>
            <a:ext cx="2554200" cy="3557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raven_9e_fig_01_05_1.jpg"/>
          <p:cNvPicPr/>
          <p:nvPr/>
        </p:nvPicPr>
        <p:blipFill>
          <a:blip r:embed="rId2"/>
          <a:stretch/>
        </p:blipFill>
        <p:spPr>
          <a:xfrm>
            <a:off x="1046160" y="3716280"/>
            <a:ext cx="3855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ypes of Natural Resourc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12" name="Picture 5" descr="Z:\NewMedia\Ebook-Novella\Wiley\JIRA\bcs2712\Raven9e\Work\Ch01\images\raven_9e_fig_01_06.jpg"/>
          <p:cNvPicPr/>
          <p:nvPr/>
        </p:nvPicPr>
        <p:blipFill>
          <a:blip r:embed="rId1"/>
          <a:stretch/>
        </p:blipFill>
        <p:spPr>
          <a:xfrm>
            <a:off x="480960" y="2036880"/>
            <a:ext cx="818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uman use of materials and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eople in HDCs are big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Unsustainable 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Occurs when the level of demand on a country’s resources damages or depletes the resource enough to reduce the quality of life for future gen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used by overpopulation and/or over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The average amount of land, water and ocean required to provide that person with all the resources they con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5025960" y="1600200"/>
          <a:ext cx="3281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1600200"/>
                    <a:ext cx="3281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304920" y="3429000"/>
          <a:ext cx="8458200" cy="2579760"/>
        </p:xfrm>
        <a:graphic>
          <a:graphicData uri="http://schemas.openxmlformats.org/drawingml/2006/table">
            <a:tbl>
              <a:tblPr/>
              <a:tblGrid>
                <a:gridCol w="6172200"/>
                <a:gridCol w="2286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Earth’s Productive Land and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1.4 billion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Amount Each Person is Allotted (divide Productive Land &amp; Water by Human Pop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.8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Current Global Ecological Footprint of each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2.7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s have an ecological overshoo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Z:\NewMedia\Ebook-Novella\Wiley\JIRA\bcs2712\Raven9e\Work\Ch01\images\raven_9e_fig_01_07.jpg"/>
          <p:cNvPicPr/>
          <p:nvPr/>
        </p:nvPicPr>
        <p:blipFill>
          <a:blip r:embed="rId1"/>
          <a:stretch/>
        </p:blipFill>
        <p:spPr>
          <a:xfrm>
            <a:off x="1779480" y="2438280"/>
            <a:ext cx="55850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 Comparis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24" name="Picture 5" descr="Z:\NewMedia\Ebook-Novella\Wiley\JIRA\bcs2712\Raven9e\Work\Ch01\images\raven_9e_fig_01_08_1.jpg"/>
          <p:cNvPicPr/>
          <p:nvPr/>
        </p:nvPicPr>
        <p:blipFill>
          <a:blip r:embed="rId1"/>
          <a:stretch/>
        </p:blipFill>
        <p:spPr>
          <a:xfrm>
            <a:off x="236520" y="2585880"/>
            <a:ext cx="4322880" cy="3084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Z:\NewMedia\Ebook-Novella\Wiley\JIRA\bcs2712\Raven9e\Work\Ch01\images\raven_9e_fig_01_08_2.jpg"/>
          <p:cNvPicPr/>
          <p:nvPr/>
        </p:nvPicPr>
        <p:blipFill>
          <a:blip r:embed="rId2"/>
          <a:stretch/>
        </p:blipFill>
        <p:spPr>
          <a:xfrm>
            <a:off x="4745160" y="2598840"/>
            <a:ext cx="41511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IPAT Model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easures 3 factors that affect environmental impact (I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960480" y="2590920"/>
            <a:ext cx="7223040" cy="4010760"/>
            <a:chOff x="960480" y="2590920"/>
            <a:chExt cx="7223040" cy="4010760"/>
          </a:xfrm>
        </p:grpSpPr>
        <p:grpSp>
          <p:nvGrpSpPr>
            <p:cNvPr id="629" name="Group 5"/>
            <p:cNvGrpSpPr/>
            <p:nvPr/>
          </p:nvGrpSpPr>
          <p:grpSpPr>
            <a:xfrm>
              <a:off x="2057400" y="3809880"/>
              <a:ext cx="6126120" cy="1191240"/>
              <a:chOff x="2057400" y="3809880"/>
              <a:chExt cx="6126120" cy="1191240"/>
            </a:xfrm>
          </p:grpSpPr>
          <p:sp>
            <p:nvSpPr>
              <p:cNvPr id="630" name="Text Box 6"/>
              <p:cNvSpPr/>
              <p:nvPr/>
            </p:nvSpPr>
            <p:spPr>
              <a:xfrm>
                <a:off x="2057400" y="3809880"/>
                <a:ext cx="6126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a3d6"/>
                    </a:solidFill>
                    <a:latin typeface="Arial"/>
                  </a:rPr>
                  <a:t>I = P   A    T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7"/>
              <p:cNvGrpSpPr/>
              <p:nvPr/>
            </p:nvGrpSpPr>
            <p:grpSpPr>
              <a:xfrm>
                <a:off x="4204800" y="4267080"/>
                <a:ext cx="383040" cy="365040"/>
                <a:chOff x="4204800" y="4267080"/>
                <a:chExt cx="383040" cy="365040"/>
              </a:xfrm>
            </p:grpSpPr>
            <p:sp>
              <p:nvSpPr>
                <p:cNvPr id="632" name="Line 8"/>
                <p:cNvSpPr/>
                <p:nvPr/>
              </p:nvSpPr>
              <p:spPr>
                <a:xfrm>
                  <a:off x="4206960" y="42670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9"/>
                <p:cNvSpPr/>
                <p:nvPr/>
              </p:nvSpPr>
              <p:spPr>
                <a:xfrm flipH="1">
                  <a:off x="4204800" y="42670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10"/>
              <p:cNvGrpSpPr/>
              <p:nvPr/>
            </p:nvGrpSpPr>
            <p:grpSpPr>
              <a:xfrm>
                <a:off x="5698800" y="4252680"/>
                <a:ext cx="383040" cy="365040"/>
                <a:chOff x="5698800" y="4252680"/>
                <a:chExt cx="383040" cy="365040"/>
              </a:xfrm>
            </p:grpSpPr>
            <p:sp>
              <p:nvSpPr>
                <p:cNvPr id="635" name="Line 11"/>
                <p:cNvSpPr/>
                <p:nvPr/>
              </p:nvSpPr>
              <p:spPr>
                <a:xfrm>
                  <a:off x="5700960" y="42526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"/>
                <p:cNvSpPr/>
                <p:nvPr/>
              </p:nvSpPr>
              <p:spPr>
                <a:xfrm flipH="1">
                  <a:off x="5698800" y="42526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13"/>
            <p:cNvGrpSpPr/>
            <p:nvPr/>
          </p:nvGrpSpPr>
          <p:grpSpPr>
            <a:xfrm>
              <a:off x="960480" y="2590920"/>
              <a:ext cx="2682720" cy="1417680"/>
              <a:chOff x="960480" y="2590920"/>
              <a:chExt cx="2682720" cy="1417680"/>
            </a:xfrm>
          </p:grpSpPr>
          <p:sp>
            <p:nvSpPr>
              <p:cNvPr id="638" name="Text Box 14"/>
              <p:cNvSpPr/>
              <p:nvPr/>
            </p:nvSpPr>
            <p:spPr>
              <a:xfrm>
                <a:off x="960480" y="259092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Impac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>
                <a:off x="2239920" y="353556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2789280" y="4937040"/>
              <a:ext cx="1874880" cy="1374120"/>
              <a:chOff x="2789280" y="4937040"/>
              <a:chExt cx="1874880" cy="1374120"/>
            </a:xfrm>
          </p:grpSpPr>
          <p:sp>
            <p:nvSpPr>
              <p:cNvPr id="641" name="Text Box 17"/>
              <p:cNvSpPr/>
              <p:nvPr/>
            </p:nvSpPr>
            <p:spPr>
              <a:xfrm>
                <a:off x="2789280" y="5364000"/>
                <a:ext cx="1874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umber of peop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3706920" y="493704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3868920" y="2622600"/>
              <a:ext cx="2682720" cy="1417680"/>
              <a:chOff x="3868920" y="2622600"/>
              <a:chExt cx="2682720" cy="1417680"/>
            </a:xfrm>
          </p:grpSpPr>
          <p:sp>
            <p:nvSpPr>
              <p:cNvPr id="644" name="Text Box 20"/>
              <p:cNvSpPr/>
              <p:nvPr/>
            </p:nvSpPr>
            <p:spPr>
              <a:xfrm>
                <a:off x="3868920" y="262260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ffluence per pers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>
                <a:off x="5148360" y="356724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5416560" y="4807080"/>
              <a:ext cx="2743200" cy="1794600"/>
              <a:chOff x="5416560" y="4807080"/>
              <a:chExt cx="2743200" cy="1794600"/>
            </a:xfrm>
          </p:grpSpPr>
          <p:sp>
            <p:nvSpPr>
              <p:cNvPr id="647" name="Text Box 23"/>
              <p:cNvSpPr/>
              <p:nvPr/>
            </p:nvSpPr>
            <p:spPr>
              <a:xfrm>
                <a:off x="5416560" y="5227920"/>
                <a:ext cx="27432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effect of technologi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 flipV="1">
                <a:off x="6724800" y="480708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uel efficient vehicl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630320" y="1600200"/>
            <a:ext cx="413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verage fuel econom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2.1 mpg (198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0.4 mpg (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SUV popula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Fuel efficient vehicles can lower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fficient dr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:\NewMedia\Ebook-Novella\Wiley\JIRA\bcs2712\Raven9e\Work\Ch01\images\raven_9e_fig_01_09.jpg"/>
          <p:cNvPicPr/>
          <p:nvPr/>
        </p:nvPicPr>
        <p:blipFill>
          <a:blip r:embed="rId1"/>
          <a:stretch/>
        </p:blipFill>
        <p:spPr>
          <a:xfrm>
            <a:off x="371520" y="2185920"/>
            <a:ext cx="41749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53" name="Picture 4" descr="Z:\NewMedia\Ebook-Novella\Wiley\JIRA\bcs2712\Raven9e\Work\Ch01\images\raven_9e_fig_01_10.jpg"/>
          <p:cNvPicPr/>
          <p:nvPr/>
        </p:nvPicPr>
        <p:blipFill>
          <a:blip r:embed="rId1"/>
          <a:stretch/>
        </p:blipFill>
        <p:spPr>
          <a:xfrm>
            <a:off x="1087560" y="1654200"/>
            <a:ext cx="69688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 ability to meet current human need for natural resources without compromising the needs of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304920" y="28954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quires understanding</a:t>
            </a: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e effects of our actions on the ear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at earth’s resources are not infin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6" descr="Z:\NewMedia\Ebook-Novella\Wiley\JIRA\bcs2712\Raven9e\Work\Ch01\images\raven_9e_fig_01_11.jpg"/>
          <p:cNvPicPr/>
          <p:nvPr/>
        </p:nvPicPr>
        <p:blipFill>
          <a:blip r:embed="rId1"/>
          <a:stretch/>
        </p:blipFill>
        <p:spPr>
          <a:xfrm>
            <a:off x="4138560" y="2941560"/>
            <a:ext cx="46958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Overview of Chapter 1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 Impacts on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pulation, Resources and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ustain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ddressing Environmental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Tragedy of the Commons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Hardin (1915–2003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olving environmental problems is result of struggle betwee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hort term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ng term environmental stability and societal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mmon pool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used common pastureland in medieval Europe to illustrate the strugg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rav8_fig_01_12.jpg"/>
          <p:cNvPicPr/>
          <p:nvPr/>
        </p:nvPicPr>
        <p:blipFill>
          <a:blip r:embed="rId1"/>
          <a:srcRect l="0" t="0" r="0" b="4238"/>
          <a:stretch/>
        </p:blipFill>
        <p:spPr>
          <a:xfrm>
            <a:off x="3614760" y="2622600"/>
            <a:ext cx="4713120" cy="37116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6b86"/>
                </a:solidFill>
                <a:latin typeface="Arial"/>
              </a:rPr>
              <a:t>Sustainable Development- Systems Concept</a:t>
            </a:r>
            <a:endParaRPr b="0" lang="en-US" sz="4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nomic development that meets the needs of the present generation without compromising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n interdisciplinary study of human relationship with other organisms and the ear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46b86"/>
                </a:solidFill>
                <a:uFillTx/>
                <a:latin typeface="Arial"/>
              </a:rPr>
              <a:t>Ec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em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4800600" y="2971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c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Dem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oli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arth System and 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set of components that interact and function as a w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lobal Ear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limate, atmosphere, land, coastal zones,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system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natural system consisting of a community of organisms and its physical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Nega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counteracts (reverses) the change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raven_9e_fig_01_13_1.jpg"/>
          <p:cNvPicPr/>
          <p:nvPr/>
        </p:nvPicPr>
        <p:blipFill>
          <a:blip r:embed="rId1"/>
          <a:stretch/>
        </p:blipFill>
        <p:spPr>
          <a:xfrm>
            <a:off x="4802040" y="1890720"/>
            <a:ext cx="26863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809720"/>
            <a:ext cx="4035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si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intensifies the chang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polar and glacial ice melt, color change leading to more rapid mel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5" descr="Z:\NewMedia\Ebook-Novella\Wiley\JIRA\bcs2712\Raven9e\Work\Ch01\images\raven_9e_fig_01_13_2.jpg"/>
          <p:cNvPicPr/>
          <p:nvPr/>
        </p:nvPicPr>
        <p:blipFill>
          <a:blip r:embed="rId1"/>
          <a:stretch/>
        </p:blipFill>
        <p:spPr>
          <a:xfrm>
            <a:off x="5499000" y="1784520"/>
            <a:ext cx="21495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75" name="Picture 4" descr="Z:\NewMedia\Ebook-Novella\Wiley\JIRA\bcs2712\Raven9e\Work\Ch01\images\raven_9e_fig_01_14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4660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46b86"/>
                </a:solidFill>
                <a:latin typeface="Arial"/>
              </a:rPr>
              <a:t>Controls and Variables in Experiment</a:t>
            </a:r>
            <a:endParaRPr b="0" lang="en-US" sz="3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factor that influences a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may be altered in an experiment to determine its effect on the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is not al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llows for comparison between the tests of when we alter the variable and when we do not alter th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knowledge and theor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12720" y="1714680"/>
            <a:ext cx="80964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Integrated explanation supported by large body of observations and experiments, and evaluated by peer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implifies, clarifies, and predicts new relationships within the natural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bsolute truth is not possible in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Knowledge evolves as new evidence is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ood as a Lens for Environmental Stud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36040" y="1700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hicken sandwich requires wheat, chicken, other ingredients, energy to manufacture and transport to table, energy to treat generated wastes and packag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536400" y="3714840"/>
            <a:ext cx="4572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Our choices matter and affect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What do you think about when you make your food choic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raven_9e_figun_01_p001.jpg"/>
          <p:cNvPicPr/>
          <p:nvPr/>
        </p:nvPicPr>
        <p:blipFill>
          <a:blip r:embed="rId1"/>
          <a:stretch/>
        </p:blipFill>
        <p:spPr>
          <a:xfrm>
            <a:off x="5219640" y="3538440"/>
            <a:ext cx="3328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he Environment (Earth)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ife has existed on earth for 3.8 billion y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arth well suited for lif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Water over ¾ of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abitable temperature, moderat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tmosphere provides oxygen and carbon di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il with essential minerals f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Z:\NewMedia\Ebook-Novella\Wiley\JIRA\bcs2712\Raven9e\Work\Ch01\images\raven_9e_fig_01_02.jpg"/>
          <p:cNvPicPr/>
          <p:nvPr/>
        </p:nvPicPr>
        <p:blipFill>
          <a:blip r:embed="rId1"/>
          <a:stretch/>
        </p:blipFill>
        <p:spPr>
          <a:xfrm>
            <a:off x="4668840" y="1946160"/>
            <a:ext cx="4276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Human Impacts on Environment- Population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3565080"/>
            <a:ext cx="414684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Estimates of 8-11 billion by end of 21</a:t>
            </a:r>
            <a:r>
              <a:rPr b="0" lang="en-US" sz="2500" spc="-1" strike="noStrike" baseline="30000">
                <a:solidFill>
                  <a:srgbClr val="646b86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 centu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We are the most significant agent of environment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80880" y="1600200"/>
            <a:ext cx="835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Modern humans appeared ~100,000 years ago in Africa and quickly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Now, human population is  ~7.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840" indent="-1717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Growing exponenti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Z:\NewMedia\Ebook-Novella\Wiley\JIRA\bcs2712\Raven9e\Work\Ch01\images\raven_9e_fig_01_03.jpg"/>
          <p:cNvPicPr/>
          <p:nvPr/>
        </p:nvPicPr>
        <p:blipFill>
          <a:blip r:embed="rId1"/>
          <a:stretch/>
        </p:blipFill>
        <p:spPr>
          <a:xfrm>
            <a:off x="4621320" y="3041640"/>
            <a:ext cx="39798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251240" y="1782360"/>
            <a:ext cx="466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re than 1 in 4 people live in extreme </a:t>
            </a:r>
            <a:r>
              <a:rPr b="0" lang="en-US" sz="2900" spc="-1" strike="noStrike" u="sng">
                <a:solidFill>
                  <a:srgbClr val="646b86"/>
                </a:solidFill>
                <a:uFillTx/>
                <a:latin typeface="Arial"/>
              </a:rPr>
              <a:t>poverty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nnot meet basic need for food, clothing, shelter,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Difficult to meet population needs without exploiting earth’s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Z:\NewMedia\Ebook-Novella\Wiley\JIRA\bcs2712\Raven9e\Work\Ch01\images\raven_9e_fig_01_04.jpg"/>
          <p:cNvPicPr/>
          <p:nvPr/>
        </p:nvPicPr>
        <p:blipFill>
          <a:blip r:embed="rId1"/>
          <a:stretch/>
        </p:blipFill>
        <p:spPr>
          <a:xfrm>
            <a:off x="1100160" y="1859040"/>
            <a:ext cx="27669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untries were differentiated based on weal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ighly Developed Countries (H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omplex industrialized bases, low population growth, high per capita in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US, Canad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ess  Developed Countries (L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w level of industrialization, very high fertility rate, high infant mortality rate, low per capita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Bangladesh, Mali, Ethio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2720" y="2000160"/>
            <a:ext cx="81532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ising income disparity in many countr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arge gap between wealthy and poor citiz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Differential access to electricity, cars, modern medic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China, India, Brazil,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ssential resources for individual survival are sma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Rapidly increasing population can quickly overwhelm or deplete, especially lo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source consumption can far outweigh needs of surviv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ffluent nations use larger portions and can exhaust resources glob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2:33:37Z</dcterms:created>
  <dc:creator>ejohnson</dc:creator>
  <dc:description/>
  <dc:language>en-US</dc:language>
  <cp:lastModifiedBy>Parker, Rebekah Pine</cp:lastModifiedBy>
  <dcterms:modified xsi:type="dcterms:W3CDTF">2017-06-13T14:43:11Z</dcterms:modified>
  <cp:revision>123</cp:revision>
  <dc:subject/>
  <dc:title>Slide 1</dc:title>
</cp:coreProperties>
</file>