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30A0-F7B1-42D5-AE79-9D5625664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8394-DC7C-4B56-8D00-C37A2AA05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D82F-3D34-48C5-BB65-AA5F2ADDB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2FAA-222C-4BE9-899B-DC4D3749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E9B4-D647-4166-A337-CF8A5E90C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B89C-3E9F-40C4-A5D9-AB7420993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C477-F8F0-44B6-99DB-F67D3647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CCE5-0F02-4E8C-8848-9F01CA043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1CB6-D140-4593-9532-9DABCBD7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29E-51E4-4EE5-A54A-7A0880151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9761-006A-4371-A6DB-050ACD83B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FBA1-063F-48A4-BDFB-D710BF5E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1D45-EBB7-4B59-BFA9-66965F05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597D-2990-439A-B4EC-BEF4C34E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42F0-F8BB-4A05-B978-E4A5F9E49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871A-0911-4F58-8CE0-3B194D3D4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D758-AE79-4BD9-9C7B-BE439B3CE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D973-1F21-4012-BA97-1466D1B5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1D5F-5CE9-40AB-A51B-E8B37B392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1242-A520-4834-9B64-77C5F0B5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3637-3960-4F72-B808-ABD9B6231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117-B7F2-47B9-BCDF-C77246986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E428-7F5B-404C-B764-52B19AB86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8965-F4A9-4CF0-8B18-7FDCD03B4C5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9DF8F-E381-47F5-8D5D-B68D3966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A4AE2-E1E3-4588-A6AC-3AA44005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78DF5-57D1-45A4-8076-A58C7159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4D704-32F6-4AAB-AE7C-FC89AD03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EF1E9-E09A-42F6-9A65-A066B441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49164-DD85-4043-B409-B4A2F199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D7302-AF2A-4D2C-B694-A6526B43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56649-6806-4DCB-9E5F-EC425936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0C07A-D98E-439C-86EE-B8E2415E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E41BF-A8E9-44A0-9953-250F1CBC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A362-8559-4624-9AC9-885E2EBADDB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2207C-3FF6-408A-8B5F-35001D8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1C49D-C844-4EC2-864F-863A92F6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79751-8C4A-47A7-85CD-B1486093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88196-AF98-4D0C-8ADF-CA8617FF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CAD8F-618A-43BC-B66D-D21D7DED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47BD2-4F67-457D-98D3-76380AC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88106-FBB8-494E-8BC4-E09C8B81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D8FF8-E182-4F2F-812D-EA4658E5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6E890-07A9-4379-86E7-3AF963A5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D917B-8EE6-42BF-B42E-5B3FE3F4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9376-4C8D-4481-A0EE-F04DF590A6B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6ED34-4EE0-4986-84DE-18F62CA1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A35378-922A-4C75-9FCC-287D22C4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8D9D8A-6F3B-4A31-A55F-E0117A86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F6739F-35DF-4161-BE04-CADAD749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D7207D-EA7C-4AA9-BBC3-A39713FC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F70288-A2D6-465B-8B3E-9212D175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347B57-BCDE-4618-896A-221A06D6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20C829-4AC8-4565-BF58-F25963AC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5A8C97-446D-47CC-A12E-E23D006D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70497E-B804-47FA-970C-5DF8F99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66B5C-023C-4DD3-AF12-729CFBF4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307039-2ED4-49EC-9994-5E0EB5D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C81DEB-69AB-4164-AFCC-2F5A2E82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53CCDA-F12E-42AA-9E19-4A6566E9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93AAE-0788-4A57-A105-DCBDFA97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C59B6-328A-4BCF-958A-C18EF468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1849E-BD42-44DE-B202-4AE44412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E58EF-BB44-4117-A856-21A325CD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F4A76-59E7-4C6A-AA20-50218DC0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6AE87-5934-4BA3-956C-810E4C39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A3B50-155A-4CC1-9E7C-26130CEE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84206-BF35-44AA-ADD0-CFBEBD27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E8BE1-846D-4D0B-96AF-65085F49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DEF89-9FFE-4A09-965D-6056788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2994F-AF99-436B-A4E6-AEAE12DD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A90C5-3759-4F02-A95B-A0E4FEB1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2A787-E863-4808-A0FD-5709E69E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761BAA-F799-427E-930A-56E992B1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863D40-82DD-4F4A-94BF-A010D9E2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1A67DF-E2E3-4A7B-B734-E6562D2F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939121-295B-48E8-9E26-3C0C508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8750C0-B822-40A7-8EE7-B4C04EC2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EC426-C9B6-4139-93FA-C8372DC0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A46B47-1B0A-4606-91ED-A801C50A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6663C8-B555-464B-ABEC-BE20004D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9ACCD9-EE9A-4C69-9BBB-A6E68206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5F8EB6-41BD-4FAE-9F82-3AD32FAC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696F23-5BD0-439B-8ECE-E24795AB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5585C0-05DA-4808-982D-6DE1A706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EA07FA-14F5-4DB0-A739-F5E4C65F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D5581-DD5D-47EE-B03B-5B6E4588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9280A-58A8-43C8-A016-6FF214BB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9F435-0925-4D34-947F-62E50BD1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AFAAE-302C-44EF-8449-859FBC8B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F573-8ECD-43F5-9756-0148122D7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F5E1D-7294-444D-A91E-D789E89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443D2-02FA-4C7F-A615-F1051FA9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AB936-BD97-4D19-8641-FFFBB334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B8A62-7BD6-4DE4-831C-C34CD42F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07DFC-C2D1-4758-95F5-1E818666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41C98-5906-4BED-BC41-9DFE1FE4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3FEA2-227A-4EE1-98E1-BB0610BF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CEE1DD-4A2E-41EA-9A90-60AD729D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4D13E3-D375-4091-9450-ABCC1567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A86816-D83B-40F9-AFD1-8BD8D5C6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43A4-C23A-4723-8CCA-6C15F2EB51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CAA56-60B5-4AE0-B5AD-B5558493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268E8-EEE6-4F34-8A6F-D83551B9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B6145D-EA5E-4FC7-95F4-F54DBB3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3FD82-0AA2-4460-88F0-F47F99B1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79EE8-958A-44D7-A146-DA7DBB89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8573D-8301-4266-9787-510E92ED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DEA9B0-12A2-4E93-81B6-645937D5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621B-11D0-494B-AF7D-90D048B7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84AF-BC63-46E2-9201-DD2E9D5C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5789-2DE2-4535-8693-8C18834C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7689-5D0D-4618-8A34-DA2ED41DCD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3D95-329E-4D39-BB21-E2DF9C4B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B64CC-8BF3-4EBF-879A-01D8589D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EADB-0DF9-4BA4-B36C-4237C969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D09E-2CBF-487A-8C2F-510C068D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47FEC-64FF-480E-B5B4-E1B5BC86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6B34A-B5B6-48BB-AA9D-77905696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442C-CB08-4CDE-AF83-CCFE80B2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F1C2-3510-4D11-9225-594CA43B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33ED-B8CC-4D81-91F6-3A6793F5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05CDAD-4CBD-43F8-8141-B37C1B5C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B951-279C-4FE9-83D2-77FAD3F776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DDBCB2-ED46-4059-964B-5820E615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6D4593-649E-4A87-B66D-DEF8AED4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BD74F-72D4-4CEF-BEBC-E6CB8542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551C8A-5E5F-4130-813A-92A80291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9CE3D7-6E8A-41A8-81A9-C1D01691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9AA21D-D95C-4642-A797-E624E1F1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DE84A2-F2D3-459C-A7D4-E46343E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F7BB15-AD97-4C1F-8772-BFE964DB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03BD9D-AE41-4A54-92BE-34CFCB2E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B27106-179F-44B7-A0CF-C68A8652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33F7-16A0-4871-A4BF-8CB43D8DAB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234F99-B46E-4F36-81EB-92A68272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1F911F-7983-484B-AF34-3EF65F8E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D3F0AF-0AA6-432A-847A-1700C6AD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9D7E7-9F20-4D53-BF73-8201494E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129FA2-24BF-4D4A-81D3-0DB01037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A4C65E-7C44-4680-A27F-78E8EA16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92C91E-6D0D-48D1-83A6-3B21551F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F9F6FD-2B4D-4F54-A129-3E04F67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F05E80-E254-4C6F-BB72-6C72CB98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F3710-5EE5-46DD-B73D-9992D5C4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3E27-BA67-4EA6-BC48-0F3953A12D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295E56-DD3E-4CA2-89AF-B51A14AA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9A5A1C-1785-44AD-B6D3-B536485C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5168C7-E057-4C43-ADB6-884A9F48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E0596F-3D2E-499D-9C7A-52DFB343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326EEE-A6A4-4F21-9509-1EEE7464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BB80E0-A02C-40EF-B733-82D608BA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5BD2A5-DD47-43DF-8107-4F09E06C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A4983E-DF6A-4881-A8CE-1BB6EC46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607F0B-3378-4CA3-A8E5-3713FEB9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9E0F68-0CE2-47E3-B895-9D155D37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5F45-018F-4707-B7F6-D0C4B55B55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652F43-A8D4-4AA3-8F05-25C81EC4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A17EB2-A8B4-4BE0-A85D-3A8A7BC8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21C128-26A9-4CDA-A38B-0C1EBE54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FF1165-3C8B-4705-BB0E-7B50CC6C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C42F1D-AC0E-494D-96F6-9A4BF962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E36FD9-429E-4960-BCCD-6001D975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835AAD-FDE0-4EB5-B190-72642B57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F46288-5B97-403C-9A09-3328EEE6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3FB0D7-E03D-4A5F-B084-45D32AB8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2981B4-9652-4DD2-B7B3-C701BA5D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44BC-3689-432F-96FC-BE74BF8710F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37A64C-44DD-41CE-84B1-5B834834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F79573-581D-4B7E-BE67-99B389C8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5AAEF0-B2FF-4809-B347-DC048BAF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E0CFE5-AAC4-4CFD-9437-ED44BFE0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C441CC-400F-4507-9022-64A7D593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98A410-1865-46CE-8AE2-11E8C6F8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6D7B62-B049-48F8-8BE6-C435B7B7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E7200-5ECF-427D-B47B-EAD19C7D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5219A-4130-4CFA-A52D-275B5EDB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2D724-EF9E-4AE5-9289-859068A8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01AE-2A8A-4E33-A9E9-7EB268EB37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C74C-E89F-4179-9AC1-F80AF223CD3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4174-8247-4CFC-862D-D5C40F83498E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92CA-BB6C-4F54-B754-9BCFD2BDBEE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F5F2-A818-4F9C-B79D-5D2530E9E3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4958-0B9A-4711-89C2-AAA044EE150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24C3-7F82-4F2B-B61A-381EB0C861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8CFE-D909-4934-A0E7-571787C538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B78E-FF09-4559-95E8-8CF960313CDC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C254-B5DE-4A29-B7F3-0CF60FC63B18}" type="slidenum">
              <a:rPr b="1" lang="en-US" sz="14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7DF8-BB93-4D9D-A4FA-6149EB4FB3C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42E8-82F3-43D5-863B-CDACDCCAC3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6F03-7055-447E-B30D-28DD3D97695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34B4-2666-4837-81CF-1160910EBEF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C1AE-92E5-451B-9520-3157C33B594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DAA2-35CF-44B6-B08D-C61D968730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A16A-3059-4059-BE68-55C7A45D6BA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D9FA-3FF4-4B2A-9D86-29541DF054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721B-B1C4-46FC-8724-49BCCEA8823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0BA1-40FF-4CB7-9C73-32E2B35E10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8F0E-EF91-4BD9-824E-89B0F16EA43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D489-33B3-414C-A227-516EA315B184}" type="slidenum">
              <a:rPr b="1" lang="en-US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4781-F7CB-47D6-856C-AFA4CED8404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E2F6-7050-47C6-A0FD-31ED31A4F2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roducing Environmental Science and Sustain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tle 1"/>
          <p:cNvSpPr/>
          <p:nvPr/>
        </p:nvSpPr>
        <p:spPr>
          <a:xfrm>
            <a:off x="152280" y="60516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20560" y="1600200"/>
            <a:ext cx="831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vements in highly developed nations are changing dem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iny house mov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ouses of typically &lt;1,000sq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raven_9e_fig_01_05_2.jpg"/>
          <p:cNvPicPr/>
          <p:nvPr/>
        </p:nvPicPr>
        <p:blipFill>
          <a:blip r:embed="rId1"/>
          <a:stretch/>
        </p:blipFill>
        <p:spPr>
          <a:xfrm>
            <a:off x="5938920" y="2367000"/>
            <a:ext cx="2554200" cy="3557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raven_9e_fig_01_05_1.jpg"/>
          <p:cNvPicPr/>
          <p:nvPr/>
        </p:nvPicPr>
        <p:blipFill>
          <a:blip r:embed="rId2"/>
          <a:stretch/>
        </p:blipFill>
        <p:spPr>
          <a:xfrm>
            <a:off x="1046160" y="3716280"/>
            <a:ext cx="3855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ypes of Natural Resourc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12" name="Picture 5" descr="Z:\NewMedia\Ebook-Novella\Wiley\JIRA\bcs2712\Raven9e\Work\Ch01\images\raven_9e_fig_01_06.jpg"/>
          <p:cNvPicPr/>
          <p:nvPr/>
        </p:nvPicPr>
        <p:blipFill>
          <a:blip r:embed="rId1"/>
          <a:stretch/>
        </p:blipFill>
        <p:spPr>
          <a:xfrm>
            <a:off x="480960" y="2036880"/>
            <a:ext cx="818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uman use of materials and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eople in HDCs are big consu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Unsustainable 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Occurs when the level of demand on a country’s resources damages or depletes the resource enough to reduce the quality of life for future gen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used by overpopulation and/or overconsu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The average amount of land, water and ocean required to provide that person with all the resources they con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5025960" y="1600200"/>
          <a:ext cx="3281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1600200"/>
                    <a:ext cx="3281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304920" y="3429000"/>
          <a:ext cx="8458200" cy="2579760"/>
        </p:xfrm>
        <a:graphic>
          <a:graphicData uri="http://schemas.openxmlformats.org/drawingml/2006/table">
            <a:tbl>
              <a:tblPr/>
              <a:tblGrid>
                <a:gridCol w="6172200"/>
                <a:gridCol w="2286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Earth’s Productive Land and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1.4 billion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Amount Each Person is Allotted (divide Productive Land &amp; Water by Human Pop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.8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Current Global Ecological Footprint of each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2.7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s have an ecological overshoo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Z:\NewMedia\Ebook-Novella\Wiley\JIRA\bcs2712\Raven9e\Work\Ch01\images\raven_9e_fig_01_07.jpg"/>
          <p:cNvPicPr/>
          <p:nvPr/>
        </p:nvPicPr>
        <p:blipFill>
          <a:blip r:embed="rId1"/>
          <a:stretch/>
        </p:blipFill>
        <p:spPr>
          <a:xfrm>
            <a:off x="1779480" y="2438280"/>
            <a:ext cx="55850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 Comparis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24" name="Picture 5" descr="Z:\NewMedia\Ebook-Novella\Wiley\JIRA\bcs2712\Raven9e\Work\Ch01\images\raven_9e_fig_01_08_1.jpg"/>
          <p:cNvPicPr/>
          <p:nvPr/>
        </p:nvPicPr>
        <p:blipFill>
          <a:blip r:embed="rId1"/>
          <a:stretch/>
        </p:blipFill>
        <p:spPr>
          <a:xfrm>
            <a:off x="236520" y="2585880"/>
            <a:ext cx="4322880" cy="3084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Z:\NewMedia\Ebook-Novella\Wiley\JIRA\bcs2712\Raven9e\Work\Ch01\images\raven_9e_fig_01_08_2.jpg"/>
          <p:cNvPicPr/>
          <p:nvPr/>
        </p:nvPicPr>
        <p:blipFill>
          <a:blip r:embed="rId2"/>
          <a:stretch/>
        </p:blipFill>
        <p:spPr>
          <a:xfrm>
            <a:off x="4745160" y="2598840"/>
            <a:ext cx="41511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IPAT Model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easures 3 factors that affect environmental impact (I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960480" y="2590920"/>
            <a:ext cx="7223040" cy="4010760"/>
            <a:chOff x="960480" y="2590920"/>
            <a:chExt cx="7223040" cy="4010760"/>
          </a:xfrm>
        </p:grpSpPr>
        <p:grpSp>
          <p:nvGrpSpPr>
            <p:cNvPr id="629" name="Group 5"/>
            <p:cNvGrpSpPr/>
            <p:nvPr/>
          </p:nvGrpSpPr>
          <p:grpSpPr>
            <a:xfrm>
              <a:off x="2057400" y="3809880"/>
              <a:ext cx="6126120" cy="1191240"/>
              <a:chOff x="2057400" y="3809880"/>
              <a:chExt cx="6126120" cy="1191240"/>
            </a:xfrm>
          </p:grpSpPr>
          <p:sp>
            <p:nvSpPr>
              <p:cNvPr id="630" name="Text Box 6"/>
              <p:cNvSpPr/>
              <p:nvPr/>
            </p:nvSpPr>
            <p:spPr>
              <a:xfrm>
                <a:off x="2057400" y="3809880"/>
                <a:ext cx="6126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a3d6"/>
                    </a:solidFill>
                    <a:latin typeface="Arial"/>
                  </a:rPr>
                  <a:t>I = P   A    T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Group 7"/>
              <p:cNvGrpSpPr/>
              <p:nvPr/>
            </p:nvGrpSpPr>
            <p:grpSpPr>
              <a:xfrm>
                <a:off x="4204800" y="4267080"/>
                <a:ext cx="383040" cy="365040"/>
                <a:chOff x="4204800" y="4267080"/>
                <a:chExt cx="383040" cy="365040"/>
              </a:xfrm>
            </p:grpSpPr>
            <p:sp>
              <p:nvSpPr>
                <p:cNvPr id="632" name="Line 8"/>
                <p:cNvSpPr/>
                <p:nvPr/>
              </p:nvSpPr>
              <p:spPr>
                <a:xfrm>
                  <a:off x="4206960" y="42670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9"/>
                <p:cNvSpPr/>
                <p:nvPr/>
              </p:nvSpPr>
              <p:spPr>
                <a:xfrm flipH="1">
                  <a:off x="4204800" y="42670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10"/>
              <p:cNvGrpSpPr/>
              <p:nvPr/>
            </p:nvGrpSpPr>
            <p:grpSpPr>
              <a:xfrm>
                <a:off x="5698800" y="4252680"/>
                <a:ext cx="383040" cy="365040"/>
                <a:chOff x="5698800" y="4252680"/>
                <a:chExt cx="383040" cy="365040"/>
              </a:xfrm>
            </p:grpSpPr>
            <p:sp>
              <p:nvSpPr>
                <p:cNvPr id="635" name="Line 11"/>
                <p:cNvSpPr/>
                <p:nvPr/>
              </p:nvSpPr>
              <p:spPr>
                <a:xfrm>
                  <a:off x="5700960" y="42526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"/>
                <p:cNvSpPr/>
                <p:nvPr/>
              </p:nvSpPr>
              <p:spPr>
                <a:xfrm flipH="1">
                  <a:off x="5698800" y="42526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13"/>
            <p:cNvGrpSpPr/>
            <p:nvPr/>
          </p:nvGrpSpPr>
          <p:grpSpPr>
            <a:xfrm>
              <a:off x="960480" y="2590920"/>
              <a:ext cx="2682720" cy="1417680"/>
              <a:chOff x="960480" y="2590920"/>
              <a:chExt cx="2682720" cy="1417680"/>
            </a:xfrm>
          </p:grpSpPr>
          <p:sp>
            <p:nvSpPr>
              <p:cNvPr id="638" name="Text Box 14"/>
              <p:cNvSpPr/>
              <p:nvPr/>
            </p:nvSpPr>
            <p:spPr>
              <a:xfrm>
                <a:off x="960480" y="259092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Impac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>
                <a:off x="2239920" y="353556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6"/>
            <p:cNvGrpSpPr/>
            <p:nvPr/>
          </p:nvGrpSpPr>
          <p:grpSpPr>
            <a:xfrm>
              <a:off x="2789280" y="4937040"/>
              <a:ext cx="1874880" cy="1374120"/>
              <a:chOff x="2789280" y="4937040"/>
              <a:chExt cx="1874880" cy="1374120"/>
            </a:xfrm>
          </p:grpSpPr>
          <p:sp>
            <p:nvSpPr>
              <p:cNvPr id="641" name="Text Box 17"/>
              <p:cNvSpPr/>
              <p:nvPr/>
            </p:nvSpPr>
            <p:spPr>
              <a:xfrm>
                <a:off x="2789280" y="5364000"/>
                <a:ext cx="1874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umber of peop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3706920" y="493704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19"/>
            <p:cNvGrpSpPr/>
            <p:nvPr/>
          </p:nvGrpSpPr>
          <p:grpSpPr>
            <a:xfrm>
              <a:off x="3868920" y="2622600"/>
              <a:ext cx="2682720" cy="1417680"/>
              <a:chOff x="3868920" y="2622600"/>
              <a:chExt cx="2682720" cy="1417680"/>
            </a:xfrm>
          </p:grpSpPr>
          <p:sp>
            <p:nvSpPr>
              <p:cNvPr id="644" name="Text Box 20"/>
              <p:cNvSpPr/>
              <p:nvPr/>
            </p:nvSpPr>
            <p:spPr>
              <a:xfrm>
                <a:off x="3868920" y="262260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ffluence per pers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>
                <a:off x="5148360" y="356724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22"/>
            <p:cNvGrpSpPr/>
            <p:nvPr/>
          </p:nvGrpSpPr>
          <p:grpSpPr>
            <a:xfrm>
              <a:off x="5416560" y="4807080"/>
              <a:ext cx="2743200" cy="1794600"/>
              <a:chOff x="5416560" y="4807080"/>
              <a:chExt cx="2743200" cy="1794600"/>
            </a:xfrm>
          </p:grpSpPr>
          <p:sp>
            <p:nvSpPr>
              <p:cNvPr id="647" name="Text Box 23"/>
              <p:cNvSpPr/>
              <p:nvPr/>
            </p:nvSpPr>
            <p:spPr>
              <a:xfrm>
                <a:off x="5416560" y="5227920"/>
                <a:ext cx="27432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effect of technologi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 flipV="1">
                <a:off x="6724800" y="480708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uel efficient vehicl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630320" y="1600200"/>
            <a:ext cx="4135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verage fuel economy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2.1 mpg (198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0.4 mpg (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SUV popula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Fuel efficient vehicles can lower 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fficient dr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:\NewMedia\Ebook-Novella\Wiley\JIRA\bcs2712\Raven9e\Work\Ch01\images\raven_9e_fig_01_09.jpg"/>
          <p:cNvPicPr/>
          <p:nvPr/>
        </p:nvPicPr>
        <p:blipFill>
          <a:blip r:embed="rId1"/>
          <a:stretch/>
        </p:blipFill>
        <p:spPr>
          <a:xfrm>
            <a:off x="371520" y="2185920"/>
            <a:ext cx="41749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53" name="Picture 4" descr="Z:\NewMedia\Ebook-Novella\Wiley\JIRA\bcs2712\Raven9e\Work\Ch01\images\raven_9e_fig_01_10.jpg"/>
          <p:cNvPicPr/>
          <p:nvPr/>
        </p:nvPicPr>
        <p:blipFill>
          <a:blip r:embed="rId1"/>
          <a:stretch/>
        </p:blipFill>
        <p:spPr>
          <a:xfrm>
            <a:off x="1087560" y="1654200"/>
            <a:ext cx="69688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 ability to meet current human need for natural resources without compromising the needs of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304920" y="289548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quires understanding</a:t>
            </a: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e effects of our actions on the ear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at earth’s resources are not infin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6" descr="Z:\NewMedia\Ebook-Novella\Wiley\JIRA\bcs2712\Raven9e\Work\Ch01\images\raven_9e_fig_01_11.jpg"/>
          <p:cNvPicPr/>
          <p:nvPr/>
        </p:nvPicPr>
        <p:blipFill>
          <a:blip r:embed="rId1"/>
          <a:stretch/>
        </p:blipFill>
        <p:spPr>
          <a:xfrm>
            <a:off x="4138560" y="2941560"/>
            <a:ext cx="46958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Overview of Chapter 1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 Impacts on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pulation, Resources and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ustain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ddressing Environmental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Tragedy of the Commons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Hardin (1915–2003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olving environmental problems is result of struggle betwee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hort term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ng term environmental stability and societal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mmon pool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used common pastureland in medieval Europe to illustrate the strugg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rav8_fig_01_12.jpg"/>
          <p:cNvPicPr/>
          <p:nvPr/>
        </p:nvPicPr>
        <p:blipFill>
          <a:blip r:embed="rId1"/>
          <a:srcRect l="0" t="0" r="0" b="4238"/>
          <a:stretch/>
        </p:blipFill>
        <p:spPr>
          <a:xfrm>
            <a:off x="3614760" y="2622600"/>
            <a:ext cx="4713120" cy="37116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6b86"/>
                </a:solidFill>
                <a:latin typeface="Arial"/>
              </a:rPr>
              <a:t>Sustainable Development- Systems Concept</a:t>
            </a:r>
            <a:endParaRPr b="0" lang="en-US" sz="4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nomic development that meets the needs of the present generation without compromising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n interdisciplinary study of human relationship with other organisms and the ear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46b86"/>
                </a:solidFill>
                <a:uFillTx/>
                <a:latin typeface="Arial"/>
              </a:rPr>
              <a:t>Ec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em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4800600" y="2971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c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Dem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oli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arth System and 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set of components that interact and function as a w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lobal Earth Sy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limate, atmosphere, land, coastal zones,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system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natural system consisting of a community of organisms and its physical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Nega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counteracts (reverses) the changed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" descr="raven_9e_fig_01_13_1.jpg"/>
          <p:cNvPicPr/>
          <p:nvPr/>
        </p:nvPicPr>
        <p:blipFill>
          <a:blip r:embed="rId1"/>
          <a:stretch/>
        </p:blipFill>
        <p:spPr>
          <a:xfrm>
            <a:off x="4802040" y="1890720"/>
            <a:ext cx="26863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809720"/>
            <a:ext cx="4035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si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intensifies the changing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polar and glacial ice melt, color change leading to more rapid mel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5" descr="Z:\NewMedia\Ebook-Novella\Wiley\JIRA\bcs2712\Raven9e\Work\Ch01\images\raven_9e_fig_01_13_2.jpg"/>
          <p:cNvPicPr/>
          <p:nvPr/>
        </p:nvPicPr>
        <p:blipFill>
          <a:blip r:embed="rId1"/>
          <a:stretch/>
        </p:blipFill>
        <p:spPr>
          <a:xfrm>
            <a:off x="5499000" y="1784520"/>
            <a:ext cx="21495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75" name="Picture 4" descr="Z:\NewMedia\Ebook-Novella\Wiley\JIRA\bcs2712\Raven9e\Work\Ch01\images\raven_9e_fig_01_14.jpg"/>
          <p:cNvPicPr/>
          <p:nvPr/>
        </p:nvPicPr>
        <p:blipFill>
          <a:blip r:embed="rId1"/>
          <a:stretch/>
        </p:blipFill>
        <p:spPr>
          <a:xfrm>
            <a:off x="2000160" y="1643040"/>
            <a:ext cx="474660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46b86"/>
                </a:solidFill>
                <a:latin typeface="Arial"/>
              </a:rPr>
              <a:t>Controls and Variables in Experiment</a:t>
            </a:r>
            <a:endParaRPr b="0" lang="en-US" sz="38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Vari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factor that influences a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may be altered in an experiment to determine its effect on the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is not al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llows for comparison between the tests of when we alter the variable and when we do not alter the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knowledge and theor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12720" y="1714680"/>
            <a:ext cx="80964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Integrated explanation supported by large body of observations and experiments, and evaluated by peer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implifies, clarifies, and predicts new relationships within the natural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bsolute truth is not possible in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Knowledge evolves as new evidence is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ood as a Lens for Environmental Stud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36040" y="170028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hicken sandwich requires wheat, chicken, other ingredients, energy to manufacture and transport to table, energy to treat generated wastes and packag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536400" y="3714840"/>
            <a:ext cx="4572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Our choices matter and affect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What do you think about when you make your food choice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raven_9e_figun_01_p001.jpg"/>
          <p:cNvPicPr/>
          <p:nvPr/>
        </p:nvPicPr>
        <p:blipFill>
          <a:blip r:embed="rId1"/>
          <a:stretch/>
        </p:blipFill>
        <p:spPr>
          <a:xfrm>
            <a:off x="5219640" y="3538440"/>
            <a:ext cx="33289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he Environment (Earth)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ife has existed on earth for 3.8 billion y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arth well suited for lif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Water over ¾ of pl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abitable temperature, moderat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tmosphere provides oxygen and carbon di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il with essential minerals f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Z:\NewMedia\Ebook-Novella\Wiley\JIRA\bcs2712\Raven9e\Work\Ch01\images\raven_9e_fig_01_02.jpg"/>
          <p:cNvPicPr/>
          <p:nvPr/>
        </p:nvPicPr>
        <p:blipFill>
          <a:blip r:embed="rId1"/>
          <a:stretch/>
        </p:blipFill>
        <p:spPr>
          <a:xfrm>
            <a:off x="4668840" y="1946160"/>
            <a:ext cx="42768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Human Impacts on Environment- Population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3565080"/>
            <a:ext cx="414684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Estimates of 8-11 billion by end of 21</a:t>
            </a:r>
            <a:r>
              <a:rPr b="0" lang="en-US" sz="2500" spc="-1" strike="noStrike" baseline="30000">
                <a:solidFill>
                  <a:srgbClr val="646b86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 centu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We are the most significant agent of environment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80880" y="1600200"/>
            <a:ext cx="835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Modern humans appeared ~100,000 years ago in Africa and quickly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Now, human population is  ~7.1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2840" indent="-1717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Growing exponenti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Z:\NewMedia\Ebook-Novella\Wiley\JIRA\bcs2712\Raven9e\Work\Ch01\images\raven_9e_fig_01_03.jpg"/>
          <p:cNvPicPr/>
          <p:nvPr/>
        </p:nvPicPr>
        <p:blipFill>
          <a:blip r:embed="rId1"/>
          <a:stretch/>
        </p:blipFill>
        <p:spPr>
          <a:xfrm>
            <a:off x="4621320" y="3041640"/>
            <a:ext cx="39798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251240" y="1782360"/>
            <a:ext cx="466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re than 1 in 4 people live in extreme </a:t>
            </a:r>
            <a:r>
              <a:rPr b="0" lang="en-US" sz="2900" spc="-1" strike="noStrike" u="sng">
                <a:solidFill>
                  <a:srgbClr val="646b86"/>
                </a:solidFill>
                <a:uFillTx/>
                <a:latin typeface="Arial"/>
              </a:rPr>
              <a:t>poverty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nnot meet basic need for food, clothing, shelter,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Difficult to meet population needs without exploiting earth’s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5" descr="Z:\NewMedia\Ebook-Novella\Wiley\JIRA\bcs2712\Raven9e\Work\Ch01\images\raven_9e_fig_01_04.jpg"/>
          <p:cNvPicPr/>
          <p:nvPr/>
        </p:nvPicPr>
        <p:blipFill>
          <a:blip r:embed="rId1"/>
          <a:stretch/>
        </p:blipFill>
        <p:spPr>
          <a:xfrm>
            <a:off x="1100160" y="1859040"/>
            <a:ext cx="27669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untries were differentiated based on weal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ighly Developed Countries (H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omplex industrialized bases, low population growth, high per capita in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US, Canada,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ess  Developed Countries (L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w level of industrialization, very high fertility rate, high infant mortality rate, low per capita 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Bangladesh, Mali, Ethio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2720" y="2000160"/>
            <a:ext cx="81532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ising income disparity in many countr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arge gap between wealthy and poor citiz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Differential access to electricity, cars, modern medic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China, India, Brazil,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ssential resources for individual survival are sma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Rapidly increasing population can quickly overwhelm or deplete, especially lo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source consumption can far outweigh needs of surviv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ffluent nations use larger portions and can exhaust resources glob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2:33:37Z</dcterms:created>
  <dc:creator>ejohnson</dc:creator>
  <dc:description/>
  <dc:language>en-US</dc:language>
  <cp:lastModifiedBy>Parker, Rebekah Pine</cp:lastModifiedBy>
  <dcterms:modified xsi:type="dcterms:W3CDTF">2017-06-13T14:43:11Z</dcterms:modified>
  <cp:revision>123</cp:revision>
  <dc:subject/>
  <dc:title>Slide 1</dc:title>
</cp:coreProperties>
</file>