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986-91E3-4D26-836D-D5194EF0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6F7-63D1-430D-9C93-1D2B894C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BD6-4BB7-41B8-B29F-63E0C478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153-3608-4BB9-98CB-E9AFFFCF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A0B9-C137-433B-8A55-2EBBF5B6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02C5-16EB-47CE-8915-2227CEF8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748B-6D12-4DF4-8717-5C491510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1FCA-07A8-4800-97C9-4CB1EA44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91C8-252B-41C2-9D7D-052BD626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A183-8B56-4573-80AA-0AC694FC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6048-609A-495A-AF38-DBE6F994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C3D6-A789-4F92-BC19-41BF6297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C364-AC37-43B3-9BD1-611F0CB2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A7C7-AB17-40B7-B700-E41E94C6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13A2-048D-47CA-94DE-81B3753D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8DEB-F108-42BE-999B-CF5659BD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87BC-44BC-44D0-8057-67B89B71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1F0-2E42-418A-9ABB-65383B0C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278-74FE-46BC-A375-09C42B64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344-A6F8-455D-9043-0F550D50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761-6C7B-4413-AE94-3D4F518A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E86-D4A1-4664-BDEE-17CBDDB3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892A-0865-4A69-88B8-355BB112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40B-DF5F-4039-80F6-30BDCAB6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A96C-D6EE-4912-B126-DA34948F6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32B3-70AA-41AF-8106-198D84F005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Tabular and Graphical Methods</a:t>
            </a:r>
            <a:br>
              <a:rPr sz="4600"/>
            </a:br>
            <a:br>
              <a:rPr sz="4600"/>
            </a:b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Sometimes, a picture really is worth a thousand words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Bar Chart of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histogra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stogram is similar to a bar chart, except that the width of each bar is also used to represent a range of data. Notice in the next slide how both the width and the height provide inform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example, the width of each bar is 10 points. Reading from the top of a bar over to the scale on the vertical axis tells us how many scores are in a particular ran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stogram of Grade Distrib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ink about the shape of a distribution of dat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histogram on the preceding slide is symmetric or bell-shaped.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This is known as a normal distributi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ever, skewness occurs when there is a lack of symmetry in a distribution. This occurs when one tail is longer than the oth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next two slides give illustrations of what a positive and negative skewed distribution of grades might look lik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itive Skewed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gative Skewed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of thinking about the shape of a distribution by looking at a histogram, we generally refer to data that is under a curve.</a:t>
            </a:r>
            <a:br>
              <a:rPr sz="2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is an example of a bell-shaped curve, which is perfectly symmetrical and normally distribu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80988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ok at the curve below. It is not symmetrical (not normal) because it is skewed. But is it a positive or negative skew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Content Placeholder 5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327672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students will mistakenly say that the previous curve is a negative skew, because most of the observations are “bunched up” on the left side, which is the negative direction on the number line.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ever, that curve is actually an illustration of a positive skew. 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kewness occurs when one tail (e.g. one side) of the distribution is longer than the other. In that picture the right tail is longer, which is in the positive direction. 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id another way, we know the skew is positive because the tail of the distribution trails off (e.g. gets longer) in the positive direction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low is an example of a negative skewed curve. Note that the tail trails off in the negative dire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Content Placeholder 5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6576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is a frequency distrib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thod of presentation that indicates how often certain observations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often used to present qualitative, rather than quantitative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tributions that are skewed are not normally distributed. However, distributions may also not be normal because they are kurtotic. This occurs when the data are “peaked” like the distribution below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Content Placeholder 3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0292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e a frequency distribution for the following dataset of test scores. First, you should convert each score to a letter grade using the “normal” scales (A=90-100; B=80-89,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8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Your frequency distribution 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What is a relative frequency distribution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provides even more useful information by indicating the proportion (fraction) of the total observations that are in each categ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t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12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2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3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2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1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pie ch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gmented circle whose segments portray the relative frequencies of the categories of some qualitative var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t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bar ch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isual representation of a frequency distribution where the frequencies are represented by bars, the length of which are proportional to the values that are to be depi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5-30T19:42:51Z</dcterms:modified>
  <cp:revision>136</cp:revision>
  <dc:subject/>
  <dc:title>Chapter 1: Organizational Behavior and Management</dc:title>
</cp:coreProperties>
</file>