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079-AF25-4671-8FE3-FF1E2F0D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F740-40A1-45A0-A45B-6A517DB1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652-B902-4382-BCF6-D891564B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A15-03B2-448C-8BAE-1FF74618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B6DB-E45C-44DD-A7A1-A25D2627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6F9A-B46C-491B-9A47-0A041A00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6A89-D97B-430F-B873-B583147E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A82D-D71F-4751-91B9-4FC2E898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BD6C-A265-4249-B233-DA8617A3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B858-36C4-416B-B565-6D2232D5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1AA0-A746-4D38-A24F-05176441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538-29A2-47E9-951D-6468E553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901A-D4A1-44C1-B8CF-93BDAF7F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6AD2-1FD5-41C8-ACB0-4276635E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DFCB-FC7C-40D0-BFBF-B34440A8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5D9C-84F7-4B9F-839F-89644831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08A6-1611-4BC0-8A65-44C6BCB7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BA9-0A24-4B46-BEC4-8E7229F7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F88-A32C-416D-9D09-847DB4E2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A40-F033-4F70-9C85-F51FDBFA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004-007A-4FCA-A85D-4E92C890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183-600D-44D9-B4EE-E92D1041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643-15DC-4DF6-8303-75E35052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C719-5586-4D40-AF0D-E3337894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75FB-D275-406E-9AC8-2E194D553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9ED1-3B31-43E9-AD02-4008E21032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Tabular and Graphical Methods</a:t>
            </a:r>
            <a:br>
              <a:rPr sz="4600"/>
            </a:br>
            <a:br>
              <a:rPr sz="4600"/>
            </a:b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Sometimes, a picture really is worth a thousand words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Bar Chart of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histogra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stogram is similar to a bar chart, except that the width of each bar is also used to represent a range of data. Notice in the next slide how both the width and the height provide inform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example, the width of each bar is 10 points. Reading from the top of a bar over to the scale on the vertical axis tells us how many scores are in a particular ran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stogram of Grade Distrib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ink about the shape of a distribution of dat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histogram on the preceding slide is symmetric or bell-shaped.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This is known as a normal distributi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ever, skewness occurs when there is a lack of symmetry in a distribution. This occurs when one tail is longer than the oth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next two slides give illustrations of what a positive and negative skewed distribution of grades might look lik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itive Skewed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gative Skewed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of thinking about the shape of a distribution by looking at a histogram, we generally refer to data that is under a curve.</a:t>
            </a:r>
            <a:br>
              <a:rPr sz="2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is an example of a bell-shaped curve, which is perfectly symmetrical and normally distribu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80988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ok at the curve below. It is not symmetrical (not normal) because it is skewed. But is it a positive or negative skew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Content Placeholder 5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327672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students will mistakenly say that the previous curve is a negative skew, because most of the observations are “bunched up” on the left side, which is the negative direction on the number line.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ever, that curve is actually an illustration of a positive skew. 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kewness occurs when one tail (e.g. one side) of the distribution is longer than the other. In that picture the right tail is longer, which is in the positive direction. 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id another way, we know the skew is positive because the tail of the distribution trails off (e.g. gets longer) in the positive direction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low is an example of a negative skewed curve. Note that the tail trails off in the negative dire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Content Placeholder 5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6576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is a frequency distrib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thod of presentation that indicates how often certain observations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often used to present qualitative, rather than quantitative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tributions that are skewed are not normally distributed. However, distributions may also not be normal because they are kurtotic. This occurs when the data are “peaked” like the distribution below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Content Placeholder 3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0292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e a frequency distribution for the following dataset of test scores. First, you should convert each score to a letter grade using the “normal” scales (A=90-100; B=80-89,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8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Your frequency distribution 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What is a relative frequency distribution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provides even more useful information by indicating the proportion (fraction) of the total observations that are in each categ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t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12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2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3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2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1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pie ch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gmented circle whose segments portray the relative frequencies of the categories of some qualitative var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t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bar ch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isual representation of a frequency distribution where the frequencies are represented by bars, the length of which are proportional to the values that are to be depi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5-30T19:42:51Z</dcterms:modified>
  <cp:revision>136</cp:revision>
  <dc:subject/>
  <dc:title>Chapter 1: Organizational Behavior and Management</dc:title>
</cp:coreProperties>
</file>