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53E-8BBA-42F2-A6D1-2285C96D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32A-1504-499F-9743-E8303B54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669-7356-4A71-A66E-ACAE3E3E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E73-3F4D-46BC-99C3-7EAA3AD0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F719-7190-4875-8D48-26941D51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114F-B1B6-4689-BB12-7480D1CA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FF88-3659-4D20-8BCF-818DEB56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73A3-2269-44CB-80AC-F6A6A813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28B7-6F43-4FCB-8F3F-148ACA63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7479-BC9C-44AD-980E-52F03CE6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F5BB-0CC5-41E7-987D-78959478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CED0-1C4A-4265-982A-B33792C8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2DA6-1D0C-4D14-85A0-25BA3120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E2E8-BACA-42B8-994D-6B5779CA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BC8D-1FCF-4C96-9048-CAA26CDB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AC01-EACB-4511-85C7-474C0464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F975-9293-4EDF-9464-510D2132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4F4-CF70-4A45-A91F-AF2C4CE5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59C-F52C-4BC6-98E9-9090EB6C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8A4-4B33-4F10-87D5-33CB02F8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5CC-8C5D-45A0-A675-55080F07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959-CB17-4FAA-AB5C-43DF337E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C13-4CDD-405E-A3B8-36C82FBC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E3D-9B1F-4D45-A634-E43EBDD5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0A41-2FBC-41C4-B931-128FE8F18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21CD-E038-4E1E-B81D-C14F7551F9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Tabular and Graphical Methods</a:t>
            </a:r>
            <a:br>
              <a:rPr sz="4600"/>
            </a:br>
            <a:br>
              <a:rPr sz="4600"/>
            </a:b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Sometimes, a picture really is worth a thousand words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Bar Chart of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histogra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stogram is similar to a bar chart, except that the width of each bar is also used to represent a range of data. Notice in the next slide how both the width and the height provide inform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example, the width of each bar is 10 points. Reading from the top of a bar over to the scale on the vertical axis tells us how many scores are in a particular ran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stogram of Grade Distrib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ink about the shape of a distribution of dat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histogram on the preceding slide is symmetric or bell-shaped.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This is known as a normal distributi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ever, skewness occurs when there is a lack of symmetry in a distribution. This occurs when one tail is longer than the oth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next two slides give illustrations of what a positive and negative skewed distribution of grades might look lik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itive Skewed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gative Skewed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of thinking about the shape of a distribution by looking at a histogram, we generally refer to data that is under a curve.</a:t>
            </a:r>
            <a:br>
              <a:rPr sz="2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is an example of a bell-shaped curve, which is perfectly symmetrical and normally distribu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80988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ok at the curve below. It is not symmetrical (not normal) because it is skewed. But is it a positive or negative skew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Content Placeholder 5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327672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students will mistakenly say that the previous curve is a negative skew, because most of the observations are “bunched up” on the left side, which is the negative direction on the number line.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ever, that curve is actually an illustration of a positive skew. 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kewness occurs when one tail (e.g. one side) of the distribution is longer than the other. In that picture the right tail is longer, which is in the positive direction. 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id another way, we know the skew is positive because the tail of the distribution trails off (e.g. gets longer) in the positive direction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low is an example of a negative skewed curve. Note that the tail trails off in the negative dire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Content Placeholder 5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6576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is a frequency distrib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thod of presentation that indicates how often certain observations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often used to present qualitative, rather than quantitative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tributions that are skewed are not normally distributed. However, distributions may also not be normal because they are kurtotic. This occurs when the data are “peaked” like the distribution below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Content Placeholder 3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0292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e a frequency distribution for the following dataset of test scores. First, you should convert each score to a letter grade using the “normal” scales (A=90-100; B=80-89,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8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Your frequency distribution 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What is a relative frequency distribution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provides even more useful information by indicating the proportion (fraction) of the total observations that are in each categ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t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12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2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3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2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1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pie ch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gmented circle whose segments portray the relative frequencies of the categories of some qualitative var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t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bar ch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isual representation of a frequency distribution where the frequencies are represented by bars, the length of which are proportional to the values that are to be depi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5-30T19:42:51Z</dcterms:modified>
  <cp:revision>136</cp:revision>
  <dc:subject/>
  <dc:title>Chapter 1: Organizational Behavior and Management</dc:title>
</cp:coreProperties>
</file>