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5E8F-1E09-4C13-8103-AF954AF10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9C16-AAA3-458F-9D4C-4FDC9FB865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A0653-1DF5-46E9-BAB6-57E526C92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D18DA-5501-40F4-BFBB-C7818F2C8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AA881-3CC2-4528-98EB-2700DE2AF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F6677-AA4D-481D-B149-BF2C7902F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0A8A9-CC87-4EA4-ADF5-61B05D153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5E65C-D497-4D5D-B246-57EE910A6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03C45-F69B-4211-B68F-2BA4B4951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1FFA9-C7B2-4B27-8C9F-5E61DD981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97AA5-D554-49C7-9E4A-AC74DA758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BDBB7-0CFE-44DD-A43C-04EAFFEA9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D3C12-DDDB-449D-9BC0-218AE0E23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5347C-3227-4C9B-A04B-FDF3FE090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D0F11-1E72-47BE-8384-E382D40A5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77720-C06D-456C-8FA6-F4BCDEC95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CDC52-EDCE-4DB1-912B-A8481A762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849B4-D7E2-429D-843D-B24E501A9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1C206-8D0A-4B99-B15D-F0F0C5F8D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96512-3598-4B64-B913-6228AE466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F465C-9226-4500-AE76-5E0DA689B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6EB3B-461F-4F03-A2CF-35C74D2D7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71CC2-C6B8-4819-9C5D-C86FCED43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D3B18-8960-42DD-BBAD-ECC9357F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E89A-9E7A-48F9-9BD6-47307F2CB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8C43B-BDD6-47DF-84CB-F32B22638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0AE0-36D4-4F40-914E-ECC888520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9127-32FD-4113-8A61-8161D38D7D0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Types of Scales</a:t>
            </a:r>
            <a:endParaRPr b="0" lang="en-US" sz="4000" spc="-1" strike="noStrike">
              <a:solidFill>
                <a:srgbClr val="ffffff"/>
              </a:solidFill>
              <a:latin typeface="Arial"/>
            </a:endParaRPr>
          </a:p>
        </p:txBody>
      </p:sp>
      <p:sp>
        <p:nvSpPr>
          <p:cNvPr id="186" name=""/>
          <p:cNvSpPr txBox="1"/>
          <p:nvPr/>
        </p:nvSpPr>
        <p:spPr>
          <a:xfrm>
            <a:off x="228600" y="1295280"/>
            <a:ext cx="8763120" cy="48355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ple categorical </a:t>
            </a:r>
            <a:r>
              <a:rPr b="0" lang="en-US" sz="3000" spc="-1" strike="noStrike">
                <a:solidFill>
                  <a:srgbClr val="ffffff"/>
                </a:solidFill>
                <a:latin typeface="Arial"/>
              </a:rPr>
              <a:t>scale (yes/no; male/female; grade in school; religion).</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mantic differential </a:t>
            </a:r>
            <a:r>
              <a:rPr b="0" lang="en-US" sz="3000" spc="-1" strike="noStrike">
                <a:solidFill>
                  <a:srgbClr val="ffffff"/>
                </a:solidFill>
                <a:latin typeface="Arial"/>
              </a:rPr>
              <a:t>(offers a choice between opposite pairs of words, such as fast/slow; large/small).</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possible, use continuous variables in measurement and in general, you should not categorize a continuous variable (e.g. income level or GPA should not be placed in categories such as ranges).</a:t>
            </a:r>
            <a:endParaRPr b="0" lang="en-US" sz="3000" spc="-1" strike="noStrike">
              <a:solidFill>
                <a:srgbClr val="ffffff"/>
              </a:solidFill>
              <a:latin typeface="Arial"/>
            </a:endParaRPr>
          </a:p>
          <a:p>
            <a:pPr marL="339480" indent="-3394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88" name=""/>
          <p:cNvSpPr txBox="1"/>
          <p:nvPr/>
        </p:nvSpPr>
        <p:spPr>
          <a:xfrm>
            <a:off x="457200" y="1218960"/>
            <a:ext cx="8229600" cy="491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dimensional</a:t>
            </a:r>
            <a:r>
              <a:rPr b="0" lang="en-US" sz="2800" spc="-1" strike="noStrike">
                <a:solidFill>
                  <a:srgbClr val="ffffff"/>
                </a:solidFill>
                <a:latin typeface="Arial"/>
              </a:rPr>
              <a:t> scales are used when the property being measured has only one attribu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dimensional</a:t>
            </a:r>
            <a:r>
              <a:rPr b="0" lang="en-US" sz="2800" spc="-1" strike="noStrike">
                <a:solidFill>
                  <a:srgbClr val="ffffff"/>
                </a:solidFill>
                <a:latin typeface="Arial"/>
              </a:rPr>
              <a:t> scales are used when the property being measured is best understood or described as having more than one attribut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imensional and multidimensional scales will be discussed in greater detail in a later chapter.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d choice </a:t>
            </a:r>
            <a:r>
              <a:rPr b="0" lang="en-US" sz="2800" spc="-1" strike="noStrike">
                <a:solidFill>
                  <a:srgbClr val="ffffff"/>
                </a:solidFill>
                <a:latin typeface="Arial"/>
              </a:rPr>
              <a:t>scales eliminate the “neutral” choice and force respondents to give an opinion. </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90" name=""/>
          <p:cNvSpPr txBox="1"/>
          <p:nvPr/>
        </p:nvSpPr>
        <p:spPr>
          <a:xfrm>
            <a:off x="304920" y="1371600"/>
            <a:ext cx="8534160" cy="47592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scale points:</a:t>
            </a:r>
            <a:endParaRPr b="0" lang="en-US" sz="32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constructs may require fewer points (e.g. 3 points).</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complex constructs may require more points to capture their full meaning (e.g. 5 or mor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points increases, so does reliability.</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d number of points also may extract more varianc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measure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in research consists of assigning numbers to empirical events, objects, properties or activities according to a set of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 Constructs and Variables</a:t>
            </a:r>
            <a:endParaRPr b="0" lang="en-US" sz="3600" spc="-1" strike="noStrike">
              <a:solidFill>
                <a:srgbClr val="ffffff"/>
              </a:solidFill>
              <a:latin typeface="Arial"/>
            </a:endParaRPr>
          </a:p>
        </p:txBody>
      </p:sp>
      <p:sp>
        <p:nvSpPr>
          <p:cNvPr id="173" name=""/>
          <p:cNvSpPr txBox="1"/>
          <p:nvPr/>
        </p:nvSpPr>
        <p:spPr>
          <a:xfrm>
            <a:off x="457200" y="1295280"/>
            <a:ext cx="8229600" cy="483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and constructs are used at the theoretical level.</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 are used at the empirical level and thus they must be operationalized, which is the process by which they will be measured (how we assign them a number).</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measurement of concepts is straight forward. We can all usually agree on an acceptable operationaliz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s on the other hand present a measurement problem (that we will address later).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 of Measurement Scales</a:t>
            </a:r>
            <a:endParaRPr b="0" lang="en-US" sz="4400" spc="-1" strike="noStrike">
              <a:solidFill>
                <a:srgbClr val="ffffff"/>
              </a:solidFill>
              <a:latin typeface="Arial"/>
            </a:endParaRPr>
          </a:p>
        </p:txBody>
      </p:sp>
      <p:sp>
        <p:nvSpPr>
          <p:cNvPr id="175" name=""/>
          <p:cNvSpPr txBox="1"/>
          <p:nvPr/>
        </p:nvSpPr>
        <p:spPr>
          <a:xfrm>
            <a:off x="457200" y="1523520"/>
            <a:ext cx="822960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classifications, such as male or fe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l (classification and order but no distance, such as small, medium and larg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classification, order and distance but no natural zero, such as 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classification, order, distance and natural zero, such as net inc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7" name=""/>
          <p:cNvSpPr txBox="1"/>
          <p:nvPr/>
        </p:nvSpPr>
        <p:spPr>
          <a:xfrm>
            <a:off x="457200" y="914400"/>
            <a:ext cx="8229600" cy="541008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ity</a:t>
            </a:r>
            <a:r>
              <a:rPr b="0" lang="en-US" sz="2000" spc="-1" strike="noStrike">
                <a:solidFill>
                  <a:srgbClr val="ffffff"/>
                </a:solidFill>
                <a:latin typeface="Arial"/>
              </a:rPr>
              <a:t> seeks to answer the question, “</a:t>
            </a:r>
            <a:r>
              <a:rPr b="0" i="1" lang="en-US" sz="2000" spc="-1" strike="noStrike">
                <a:solidFill>
                  <a:srgbClr val="ffffff"/>
                </a:solidFill>
                <a:latin typeface="Arial"/>
              </a:rPr>
              <a:t>are we measuring what we think we’re measuring</a:t>
            </a:r>
            <a:r>
              <a:rPr b="0" lang="en-US" sz="2000" spc="-1" strike="noStrike">
                <a:solidFill>
                  <a:srgbClr val="ffffff"/>
                </a:solidFill>
                <a:latin typeface="Arial"/>
              </a:rPr>
              <a:t>?” In other words is the way in which we measured our variable actually measuring the corresponding concept or construct, or is it measuring something els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 validity </a:t>
            </a:r>
            <a:r>
              <a:rPr b="0" lang="en-US" sz="2000" spc="-1" strike="noStrike">
                <a:solidFill>
                  <a:srgbClr val="ffffff"/>
                </a:solidFill>
                <a:latin typeface="Arial"/>
              </a:rPr>
              <a:t>is the correspondence between a theoretical definition (of the construct) and the operational procedures used in measurement. In other words, does there appear to be a “match” between how we defined the construct and how it was operationalized or measured?</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riminant validity </a:t>
            </a:r>
            <a:r>
              <a:rPr b="0" lang="en-US" sz="2000" spc="-1" strike="noStrike">
                <a:solidFill>
                  <a:srgbClr val="ffffff"/>
                </a:solidFill>
                <a:latin typeface="Arial"/>
              </a:rPr>
              <a:t>is the extent to which a measure is different, or distinguishable from, similar or related measures. For example, if we have two separate constructs such as “trust in management” and “faith in management.” Are we certain that when we measure these two constructs that we are actually measuring different things given that they appear so simil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a:t>
            </a:r>
            <a:r>
              <a:rPr b="0" lang="en-US" sz="3200" spc="-1" strike="noStrike">
                <a:solidFill>
                  <a:srgbClr val="ffffff"/>
                </a:solidFill>
                <a:latin typeface="Arial"/>
              </a:rPr>
              <a:t> is consistency in repeated trials. Reliable measures are robust, meaning that they work well at different times under different condi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a later chapter we will learn how to provide evidence of both validity and reliability. For now, you just need to know what these attributes ar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this YouTube video that explains reliability and validity. It goes into a little more detail than what you need to know, but it also provides good insights.</a:t>
            </a:r>
            <a:endParaRPr b="0" lang="en-US" sz="2800" spc="-1" strike="noStrike">
              <a:solidFill>
                <a:srgbClr val="ffffff"/>
              </a:solidFill>
              <a:latin typeface="Arial"/>
            </a:endParaRPr>
          </a:p>
        </p:txBody>
      </p:sp>
      <p:pic>
        <p:nvPicPr>
          <p:cNvPr id="181" name="9ltvDNAsO-I?rel=0" descr=""/>
          <p:cNvPicPr/>
          <p:nvPr/>
        </p:nvPicPr>
        <p:blipFill>
          <a:blip r:embed="rId1"/>
          <a:stretch/>
        </p:blipFill>
        <p:spPr>
          <a:xfrm>
            <a:off x="1905120" y="2209680"/>
            <a:ext cx="5333760" cy="30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 Scal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sc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e is a measuring instru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ocial sciences, scales are often used when we must measure latent variables, such as attitu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scale used in survey research is agreement or disagreement, often called Likert-type sc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3-17T16:21:03Z</dcterms:modified>
  <cp:revision>164</cp:revision>
  <dc:subject/>
  <dc:title>Chapter 1: Organizational Behavior and Management</dc:title>
</cp:coreProperties>
</file>