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697-5B6B-4272-86E4-6E51A3EA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360-463E-45EC-A1BB-487094B6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08C-85EE-4DA7-978D-799A7FDA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DFF-D900-4362-9DBA-3BFA5E00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06BB-F681-4951-B1F1-1114C1B8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BA82-A87E-4ED7-BA07-394F8137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737-C4A0-45AA-BEFD-B9C95FF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8ED1-24A0-4FB3-8F74-3DD8672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D6C6-D111-4DCF-A824-BD8A6675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4F2A-0287-45F6-A240-B0E46F08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E865-EE12-406C-913A-E595B05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7D4-F289-41D2-B6D7-7A71872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A3EB-B096-414F-9AA4-5C88D50E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E998-C174-4630-B560-F1134F2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666E-7159-484D-A03E-B09E6C2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A20A-3B8F-4A2A-8B79-501240F8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D8D6-FABF-406E-B6A4-FE2D918F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1C6-C9F7-4AB4-9981-BE53622C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B9C-4086-4839-BF61-588E167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F06-44D0-485A-90D4-0A48505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6B1-A776-4FA8-8ADA-B94AD6C5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EB9-9970-4F96-B665-127A59B8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5E3-D37E-4B00-A501-37E5237D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B9D-14E3-4411-B76A-74E738E2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3FAD-A7B8-4BD6-86C6-2903EB9E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90E-41CF-48C4-B9FF-45154C08F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venience sam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6-28T16:30:51Z</dcterms:modified>
  <cp:revision>162</cp:revision>
  <dc:subject/>
  <dc:title>Chapter 1: Organizational Behavior and Management</dc:title>
</cp:coreProperties>
</file>