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7738-68B9-4368-B1E3-3B56CBC95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92E9-B627-43D5-A759-E4E796BC17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Gene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I discusses the roles, skills and practices of a company’s human resource management (HRM)  function, implications of the economy, the makeup of the labor force, and ethics for company sustainability. It discusses how HRM affects a company’s balanced scorecard, what companies should do to compete in the global marketplace, how technology such as social networking is influencing HRM and what HRM practices support high-performance work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8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nies are finding that to survive they must compete in international markets as well as fend off foreign corporations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tempts to gain ground in the United States,  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evelop global markets and prepare employees for global assign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business must be prepared to deal with the global economy. This is made easier by technolo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ffshor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s to the exporting of jobs from developed countries to less developed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nshor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fers to exporting jobs to rural parts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2514-E7DE-4A87-848A-1BA723B9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393-C08F-47AD-8AE8-652AC7F9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ED849D-D134-4BC8-8235-C8B979BB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16336-0E52-490E-B4EA-260D434A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88B73-6627-4903-9362-4C91BDA0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36926-46E6-432E-B376-9B83F38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AE826B-5DA3-4C78-93D6-696FBE5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744A7F-1C5B-442B-A496-05CA81C5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F5ABA-7152-4F05-814D-0F903658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FDE7B-AAF7-4C0C-96B1-143A3FA2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81F68-E4DA-4B71-B1F0-78ED349C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71472-2F82-4B83-B9B6-0A9E8201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D2CF-00F2-4007-98A8-687EB9BA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448FDC-89FF-42B8-A20B-FD2DDA83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4C75D-BED3-431F-BCB5-C1D457DB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5C516-679E-440A-84A6-CE62D78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16D4A1-9549-4038-8EA7-5E40FA98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DE7F51-DE64-40F9-9E8A-F2DF5ED9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C97708-ACF3-4648-80BA-FFC6AA6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28D421-9F09-4535-A16E-7C1FC093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A5448-C12A-4E68-8D4C-7E4220C7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0D24DF-6065-4D0F-9874-358A4E17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C43FB-3DFF-4BA1-86B6-0AB82B60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546-BE20-4ED3-AD31-E40C4DB1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7A7021-01C4-45AD-BAF3-68BB7010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28824-B2C6-4D67-8518-6C3CB72A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513244-B9FF-4A16-A409-E25C2BF6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594FF-902B-427A-A00D-308BAB22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E6CF40-546E-4ADD-B64C-383ED748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7EB311-8082-469F-B0E4-8C0211D3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664FB4-04A9-4424-B52F-CD56F0F0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15AFB-8ECB-406A-98E1-AD0DAC45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FE909-EA0C-45A3-B16B-27C888E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7DE931-CA1E-4191-B56F-64368CE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19E7F-7035-4BC3-9453-24844BEC8D0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D4949F-A188-4DF7-859C-7998ED95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CF17B-5493-4EB7-9D8F-E4197F10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FE2B0-BCF8-4371-BB10-DB1867A6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40C7D9-811C-47BC-B146-C6DCB6FF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0875ED-8FEF-41AE-8E34-3BC3D8F5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6D0994-63FB-4E5D-A85E-0FDE0FAE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2234C9-FA96-4ABE-B4BE-D2246468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6FFE7B-38F9-430E-BDEE-7CD17B36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58589A-10DA-46F5-9007-991A3EEA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827153-C8B9-4C82-BC8E-5589CDB3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009CA-1F3C-4B6F-9EA0-B72ED615834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3C4767-BD3C-4776-9481-6F14400A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FE5E69-F733-4128-93E2-5D6D832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525F60-0528-4FB5-9780-0DDECD7F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987D3A-E1BF-4692-B91C-41683D24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F61C43-47A7-45DC-AA68-64B6333B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1D90D4-66C5-47E9-8828-D028344D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1F8AF0-9B83-408C-B76C-C79CC88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45D40F-ABC7-48E4-BA5B-637F1EFC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A7804C-3C92-4B6C-84AB-7F582F99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81F35A-CD2E-45F5-BDB8-E820804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2FBCA-5577-4545-B0F9-2E52D216465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358007-4446-4E44-ADC2-57E806E6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3632F3-A00F-456D-8080-8713B879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A6BD84-8D4B-4166-BC53-489A8A4E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37C16E-E5AA-43F0-8C27-E6DC441D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03717A-08D7-40A3-B049-BD2A185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05F2A3-B58B-4091-A122-6A788DE9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78573B-F115-42E0-8DC5-33895946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007D7F-5FA2-4FD3-BE44-02A2A572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2AB447A-4DE7-4F7E-90E5-C3E2AC14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261DC5-9178-41C7-9FCE-7BB3739F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385BF-0470-41D8-B451-BF8EBAE5CE5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27E91D-DF83-46BE-B57F-B683459A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2274C5-D8E9-4FA7-B474-433F0EDC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81DD4D-A398-428E-B585-67560910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C93281-256F-43F5-A4E6-174AC86C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7782A2-64CE-4A71-8CAB-53DC64F6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E834F2-2B90-41E4-AA6A-4CE3411D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379FCA-4D0B-4258-89DF-39F656DD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11AC42-1C99-4EEA-8452-7BDB9610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3DAC5E-8CCF-4B7D-9392-6F42E2BB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4C026-64A8-4BDA-A350-9B02ED6CEA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68663-3C4C-4C7C-9735-1870EE9FE2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99CC1-EAB6-4DB6-9123-A51313E6F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3F6D-D882-4677-B76B-2904D0AB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E572C-11E9-4013-A890-870E497630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45409-45E8-4A34-A1A6-14CA4B7E9F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AE683-A078-4A2F-8079-7B04366A88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745C3-5ADB-4C8F-8E9E-F8BA3E0FD3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D0BD4-2B36-45D8-9D1C-AE65B26D74F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A7B-F16F-419A-9225-FC38668E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7EF-3BF7-409B-B9C6-FC6717DA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1A092-63F0-4969-9489-039591B3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EF2-7173-4860-90D0-4B56ABDE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3A999-08CC-4070-AA1E-D7D5A332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BDC54-BDD7-493B-AFE3-1BAC2C0E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3F2AB-67FB-4FD4-AFEA-3C7F1768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6E7F0-27BB-4989-A70E-F94D91F1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C2810-BE6E-4EBE-A31C-669D60E3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4FC6FC-1C1C-473C-9989-CB2A0D8B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4F52E-76DE-4A52-A848-C97F798F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0EC67-8D04-495F-ABBE-00A2D7FE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033EF-8E3E-4CA1-8AE8-EB74FF0C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D3F38-1039-4408-A6B6-CBA74757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73C-0B28-4E89-8257-863F9386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E188E-BE1E-4D48-B6EF-30E59F77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43A0D-59FE-4837-9A5A-B46E8593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E1AAF-2EF3-4CD2-AE5C-186E5122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E4563-AF7E-4402-9C97-8F1484EE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05C2EF-4484-4539-8E3E-FF36DE7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7C3E5-8306-48A4-BB4F-3B5A0659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09873-505D-4E82-B654-FDD72A6D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5BC70-8085-4D13-A16F-B8B41B8D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1767EA-4CD0-4BCA-874A-2E99C0A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AFAE3-EA53-476F-B7C9-D29362D9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969-A8E6-4AC8-92BC-D81C835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C2669-8FCC-4F73-9F31-85AE80C4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EEED5-FA84-49DE-BD60-1E6C3673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0AD79-F019-4D59-8883-EFB1F12B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B28A9-EBD4-4085-AF0C-E394AC2C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43049A-83A4-4DCB-92F5-CA6CAE42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805B9-2C92-42E9-B6D0-9A58D1E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02710-942C-40C5-9C6D-CD45BC46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F8E50-3D77-42D5-AE72-10960037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FE387-46F7-4EDC-B54E-A3BC9BE7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7F470-3C88-4BCD-BAAF-7F14E980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211-6371-40C3-B2F3-1FC5BC5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81F3C-E3F1-4952-B3C2-965BB8C7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33E96-F339-4152-B06F-0A904B7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7CEE2-85B2-47BF-8AFE-250CE9F4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F623E-32F1-4CEB-90D4-8DF27FD9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10497-F80A-45E4-9B95-479C0E53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B4429-3C69-4B1D-B777-C6C4C4FB4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60B35-5FAD-41D2-8361-5AB27EA5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9B0B3-3370-4334-8AC1-6B2A444C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04C890-B5A5-4A03-A220-B28238EE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13EDC-B665-4DE8-B22B-297AC0ED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8E7-0575-4D51-B8F5-12DCC214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49000" y="108000"/>
            <a:ext cx="804204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F0C4C-6F03-42BB-9C6C-20A28283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E5F87-4B99-439E-82A6-B8763888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AD27E-E342-4CBD-972E-D15128B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DCB21-DB24-4036-8398-4DACC437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440548-46B7-4BFC-84D6-D8E2BEF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C2E5E6-79F2-4850-8066-0E09AA48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A485C-48DA-4FEC-A794-CB5B954C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1FC1F-6774-4634-BA21-57094EF9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EA843-F8C7-458D-A5D8-1F84F0F8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B85658-493C-4A5F-AC27-E72B8157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3DA3-20A6-4A18-BADE-0637F908E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2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3FFF-F302-4107-B7D7-D67E35CE81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5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9552-4E67-4D0A-8CD2-6751367C66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8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9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0569-4907-45A6-8A68-0AEC700530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0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1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2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6649-4A90-495E-A7EE-91995FB6F2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1F3E-CA6D-4661-B506-9AF11CE255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1CA1-CDE2-4FE6-BC18-7EE511DAE4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47" name="Oval 12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50" name="Oval 16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7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53" name="Oval 19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0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5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4520" y="0"/>
            <a:ext cx="609480" cy="6858000"/>
          </a:xfrm>
          <a:prstGeom prst="rect">
            <a:avLst/>
          </a:prstGeom>
          <a:solidFill>
            <a:srgbClr val="b5d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5"/>
          <p:cNvGrpSpPr/>
          <p:nvPr/>
        </p:nvGrpSpPr>
        <p:grpSpPr>
          <a:xfrm>
            <a:off x="152280" y="914400"/>
            <a:ext cx="990720" cy="990360"/>
            <a:chOff x="152280" y="914400"/>
            <a:chExt cx="990720" cy="990360"/>
          </a:xfrm>
        </p:grpSpPr>
        <p:sp>
          <p:nvSpPr>
            <p:cNvPr id="95" name="Oval 16"/>
            <p:cNvSpPr/>
            <p:nvPr/>
          </p:nvSpPr>
          <p:spPr>
            <a:xfrm>
              <a:off x="152280" y="914400"/>
              <a:ext cx="990720" cy="9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7"/>
            <p:cNvSpPr/>
            <p:nvPr/>
          </p:nvSpPr>
          <p:spPr>
            <a:xfrm>
              <a:off x="293760" y="1055520"/>
              <a:ext cx="708120" cy="7081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152280" y="2209680"/>
            <a:ext cx="838440" cy="838440"/>
            <a:chOff x="152280" y="2209680"/>
            <a:chExt cx="838440" cy="838440"/>
          </a:xfrm>
        </p:grpSpPr>
        <p:sp>
          <p:nvSpPr>
            <p:cNvPr id="98" name="Oval 19"/>
            <p:cNvSpPr/>
            <p:nvPr/>
          </p:nvSpPr>
          <p:spPr>
            <a:xfrm>
              <a:off x="152280" y="2209680"/>
              <a:ext cx="83844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0"/>
            <p:cNvSpPr/>
            <p:nvPr/>
          </p:nvSpPr>
          <p:spPr>
            <a:xfrm>
              <a:off x="271800" y="2328840"/>
              <a:ext cx="60156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33520" y="3048120"/>
            <a:ext cx="457200" cy="457200"/>
            <a:chOff x="533520" y="3048120"/>
            <a:chExt cx="457200" cy="457200"/>
          </a:xfrm>
        </p:grpSpPr>
        <p:sp>
          <p:nvSpPr>
            <p:cNvPr id="101" name="Oval 22"/>
            <p:cNvSpPr/>
            <p:nvPr/>
          </p:nvSpPr>
          <p:spPr>
            <a:xfrm>
              <a:off x="533520" y="30481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3"/>
            <p:cNvSpPr/>
            <p:nvPr/>
          </p:nvSpPr>
          <p:spPr>
            <a:xfrm>
              <a:off x="598680" y="31132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4"/>
          <p:cNvGrpSpPr/>
          <p:nvPr/>
        </p:nvGrpSpPr>
        <p:grpSpPr>
          <a:xfrm>
            <a:off x="7772400" y="6248520"/>
            <a:ext cx="457200" cy="457200"/>
            <a:chOff x="7772400" y="6248520"/>
            <a:chExt cx="457200" cy="457200"/>
          </a:xfrm>
        </p:grpSpPr>
        <p:sp>
          <p:nvSpPr>
            <p:cNvPr id="104" name="Oval 25"/>
            <p:cNvSpPr/>
            <p:nvPr/>
          </p:nvSpPr>
          <p:spPr>
            <a:xfrm>
              <a:off x="7772400" y="6248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6"/>
            <p:cNvSpPr/>
            <p:nvPr/>
          </p:nvSpPr>
          <p:spPr>
            <a:xfrm>
              <a:off x="7837560" y="6313680"/>
              <a:ext cx="326880" cy="3268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8305920" y="5638680"/>
            <a:ext cx="838080" cy="838440"/>
            <a:chOff x="8305920" y="5638680"/>
            <a:chExt cx="838080" cy="838440"/>
          </a:xfrm>
        </p:grpSpPr>
        <p:sp>
          <p:nvSpPr>
            <p:cNvPr id="107" name="Oval 28"/>
            <p:cNvSpPr/>
            <p:nvPr/>
          </p:nvSpPr>
          <p:spPr>
            <a:xfrm>
              <a:off x="8305920" y="5638680"/>
              <a:ext cx="838080" cy="83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9"/>
            <p:cNvSpPr/>
            <p:nvPr/>
          </p:nvSpPr>
          <p:spPr>
            <a:xfrm>
              <a:off x="8425440" y="5757840"/>
              <a:ext cx="601200" cy="6019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7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371C-1E69-41A3-A5C5-0F8123066D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9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0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1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1923-F26A-4A8F-B53C-9910B4060C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E5ED-445A-40E0-AB29-3BEA583C9F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16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17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02F-9971-4426-9492-C1705F46B3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7960" indent="-3279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44400" indent="-31608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2" marL="91008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3" marL="1187640" indent="-277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4" marL="1453320" indent="-2653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5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6" marL="1453320" indent="-26532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9"/>
          </p:nvPr>
        </p:nvSpPr>
        <p:spPr>
          <a:xfrm>
            <a:off x="264600" y="6275520"/>
            <a:ext cx="7355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cGraw-Hill/Irwin  ©2012 The McGraw-Hill Companies, All Rights Reser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0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39E-E66E-4DAD-BC8A-9C5F012208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9000" y="762120"/>
            <a:ext cx="80420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e73"/>
                </a:solidFill>
                <a:latin typeface="News Gothic MT"/>
                <a:ea typeface="Geneva"/>
              </a:rPr>
              <a:t>Chapter 1</a:t>
            </a:r>
            <a:endParaRPr b="1" lang="en-US" sz="44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ategic Management 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amp; Strategic Competitiveness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erfect  (pure)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m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ypes of Industry Structure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nopolistic Competitio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arge number of firm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eterogeneous product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ow to moderate cost to enter the industry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nceptualiz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549000" y="11430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verage (normal)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equal to the returns that an investor would expect on an investment of similar risk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Risk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n investor’s level of uncertainty about the gains or losses from a particular investm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Above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greater than normal (exceeded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Below normal returns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are less than normal (failed to meet expectations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Measur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ccounting measures (via ratio analysi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rket measure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bjective measures (stakeholders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urvival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The Need for a New Model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firms compete in lousy industries (many threats; intense rivalry; few opportunities)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SCP logic suggests these firms will perform poor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ever, some firms in lousy industries realize superior performance. Why?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Ricardian Economic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(Resource endowments)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nts (above normal returns) can be earned by changes that alter a resource’s valu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Returns to a strategy depend upon the cost of implementing that strateg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Penrose’s View of the Firm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49000" y="1218960"/>
            <a:ext cx="804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 firm is a bundle of resour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ed by an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800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What limits growth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51240" indent="-319680">
              <a:spcBef>
                <a:spcPts val="1199"/>
              </a:spcBef>
              <a:buClr>
                <a:srgbClr val="215d7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e creative capabilities of the entrepreneur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roductive resources are very broadly defined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31560" indent="-331560">
              <a:spcBef>
                <a:spcPts val="11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are assumed to be heterogeneou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108000"/>
            <a:ext cx="91440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News Gothic MT"/>
              </a:rPr>
              <a:t>What are some useful resource categories?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Physic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uman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Organizational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ore useful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angible and Intangible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03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The Resource-based Model of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News Gothic MT"/>
              </a:rPr>
              <a:t>Above Normal Returns</a:t>
            </a:r>
            <a:endParaRPr b="1" lang="en-US" sz="32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549000" y="1371240"/>
            <a:ext cx="80420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heterogeneous and immobil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ources are used to develop capabilities (capacity of a set of resources to perform a task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apabilities give rise to core competencies, which may be a source of competitive advantag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managers use these resources to formulate and implement strategies to achieve a competitive advantag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ategic Management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ic Management 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– 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e process of formulating and implementing strategies that are designed to achieve a competitive advantage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News Gothic MT"/>
              </a:rPr>
              <a:t>Strategy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– a pattern of resource deployments intended to improve or maintain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Understanding Firm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News Gothic MT"/>
              </a:rPr>
              <a:t>Firms that consistently underperform the market will experience a loss of support from investors and management will be forced to redeploy assets to more productive uses (Alchian &amp; Demsetz, 1972)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News Gothic MT"/>
              </a:rPr>
              <a:t>What does this mean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It means . . .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vestors are interested in the performance of a firm relative to others in the capital market.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irms that continue to perform poorly will be unable to attract investors and will not survive in the long ru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The preceding quote is based on efficient markets. </a:t>
            </a:r>
            <a:br>
              <a:rPr sz="3600"/>
            </a:b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is an efficient marke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549000" y="2514240"/>
            <a:ext cx="8042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An efficient market is one in which no single buyer or seller can systematically achieve superior performanc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News Gothic MT"/>
              </a:rPr>
              <a:t>What makes a market efficient?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Many buyers and many seller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Full information is publicly availabl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ndividuals are rational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  <a:ea typeface="Geneva"/>
              </a:rPr>
              <a:t>The I/O Model of Above Normal Returns 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3520" y="12193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Examines the effect of the external environment on a firm’s performanc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effects are greater than managerial effec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289080" indent="-28908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" charset="2"/>
              <a:buChar char="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our assumption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Industry structure imposes constraint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Firms are homogeneous with respect to resources and strategi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Resources are highly mobile (differences are short lived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  <a:ea typeface="Geneva"/>
              </a:rPr>
              <a:t>Managers are rational profit maximizer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25320" indent="-28872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Arial"/>
              <a:buChar char="•"/>
              <a:tabLst>
                <a:tab algn="l" pos="809640"/>
                <a:tab algn="l" pos="1619280"/>
                <a:tab algn="l" pos="2428920"/>
                <a:tab algn="l" pos="3238560"/>
                <a:tab algn="l" pos="4048200"/>
                <a:tab algn="l" pos="4857840"/>
                <a:tab algn="l" pos="5667480"/>
                <a:tab algn="l" pos="6477120"/>
                <a:tab algn="l" pos="7286760"/>
                <a:tab algn="l" pos="8096400"/>
                <a:tab algn="l" pos="8906040"/>
                <a:tab algn="l" pos="9715680"/>
                <a:tab algn="l" pos="1052496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8286840" y="6381720"/>
            <a:ext cx="819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610480" y="6537240"/>
            <a:ext cx="45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1-</a:t>
            </a:r>
            <a:fld id="{DCBBF355-2FEF-45E0-A0CF-45050B1A2D5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49000" y="108000"/>
            <a:ext cx="8042040" cy="11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CP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Structure, Conduct, Performance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Firm performance is determined by its industry structur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Research suggests that 20% of a firm’s profitability is attributed to its indust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us, managers should look for </a:t>
            </a:r>
            <a:r>
              <a:rPr b="1" i="1" lang="en-US" sz="2800" spc="-1" strike="noStrike">
                <a:solidFill>
                  <a:srgbClr val="00b050"/>
                </a:solidFill>
                <a:latin typeface="News Gothic MT"/>
              </a:rPr>
              <a:t>attractive industries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However, 36% of the variance in profitability is traced to a firm’s characteristics and ac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News Gothic MT"/>
              </a:rPr>
              <a:t>Competitive Outcomes</a:t>
            </a:r>
            <a:endParaRPr b="1" lang="en-US" sz="3600" spc="-1" strike="noStrike">
              <a:solidFill>
                <a:srgbClr val="ff0000"/>
              </a:solidFill>
              <a:latin typeface="News Gothic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49000" y="914400"/>
            <a:ext cx="80420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parity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there are no perceived differences among rival firm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mplements a strategy that creates superior value for customers relative to its riv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ustained competitive 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is a competitive advantage that is long lasting (competitors are unable to duplicate it, or find it too costly to do so)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6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Competitive disadvanta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– occurs when a firm in an industry does not have an advantage that its rivals do have. 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9:11:20Z</dcterms:created>
  <dc:creator>sara_hunter</dc:creator>
  <dc:description/>
  <dc:language>en-US</dc:language>
  <cp:lastModifiedBy>Morrow, Bert</cp:lastModifiedBy>
  <dcterms:modified xsi:type="dcterms:W3CDTF">2016-08-30T19:14:44Z</dcterms:modified>
  <cp:revision>330</cp:revision>
  <dc:subject/>
  <dc:title>Slide 1</dc:title>
</cp:coreProperties>
</file>