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1297-4132-4C52-970B-F59578BE0267}"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F8E9-3E5F-4D20-B6E0-6D78725D3DC7}"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2BB45-FED2-4095-8A4F-CFA04BAF4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1969F-3B76-4C7D-B649-2E00CB09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35CB446-6B75-4040-AE67-DC056EAEFFB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F9283D1-2D01-4785-BD49-FDF46C5D003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B95B49-211C-4787-A3F9-1D0889B0EB5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1F8FD1-D294-4863-A977-6DD0214AA63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6C8F40E-5489-4CB6-BCEB-03E4DF757A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68FE3A-66D0-4053-92B7-C4DB0F5729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321641-EA54-493B-9797-50526814180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C7810F0-F910-42E0-96B8-75CF55D9C3A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02628C4-C81A-4DB8-9934-3E9DBD8FEE0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D25FC3C-2AFC-403F-81C8-5BAC3319AA1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40CCD-CA47-4102-946A-C166A84A7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64DFB5-9885-4C3E-8483-0AD49D1450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C76603-D860-4292-906C-B611557E8AC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9686D6-B41C-4F55-AC34-419CC2576BF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0BDEEE0-B388-4A05-9F8B-6589652B5D8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040B14-230A-482A-8C31-71B211C84C0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017DF6-0980-4166-A04F-D9D107BAFD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0877E1-E5A9-40A7-893F-C8AF3C44AE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651B39-CE8F-4159-B696-5A98504BED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ED17C5-81BA-4253-B0AA-7E3E9E8483F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6D0A807-70D7-4F4C-884D-34F3D1911E7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E567F-7C45-4CBA-8FEC-990CDC0A6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378FC7C-A733-4657-9666-EACA70E719E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17681A5-0F6F-470A-9905-B1DA535C90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A7FEC6D-8894-4500-8DC8-693CA342AE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9756F29-F863-4F85-9C19-7810120631B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F8474BF-D6B8-47C5-A472-D114F4E3C5B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37C1D8A-37D9-472E-A6E7-9EAF2C5D4ED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23457A6-6787-4240-9434-8D9188BCCDD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B0D5EB-B07C-453C-877D-010C66D60B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E8064FF-24C9-47EB-916C-A5E604F166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CE5150-E2AE-470A-82DE-4795CB2C9F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1D7ADF-33B6-44D1-9882-3AC1DA4659F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7E46589-3630-4EDB-8409-1270545FFD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9570C35-5EF6-4121-A48D-F03F8BE4243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1A2748D-D869-4A27-8F05-99D2D38E223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2DC4B38-2D10-4294-9DAD-18EF76A3BB8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A758DD4-E38E-4F7C-9F3A-9C9B2FC3591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8001E86-FAD6-4D9E-8602-4ED9D8A1B98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EFAB1A-C2C4-4CCC-B440-2644B9FB87B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C49724E-BC54-4715-90FA-702D2C3C71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19C106-BD9F-4EBA-A0DE-F01F8F548DF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1CD00D-2520-4585-8A2F-7BC72C41D1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C2D18-5772-43BB-BA4A-3EA7ABA97CA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6F9E534-521D-45F2-A35F-7E413AF3558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DA46B1-5153-446B-8ED6-3F905159E1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60F6DF6-C7F3-48B2-8E06-D5A675D611F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031BBCB-F337-4790-9AFA-17C3899CDB8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C8AC3B0-AC60-4F32-9A4B-869F3D5350F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EE014E8-4696-4763-90DD-3C4F496C1F3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7FD9ADD-C275-496B-A220-2621AA625F6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95959A1-0CB4-481C-B1B7-37B8414482B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A3E1186-E1E3-49ED-9031-D75DC48DDA6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0EADF57-F50A-4839-9FE4-4E1887BB059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25B1C-1C45-4B84-8F94-96B38CEC7DC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875F771-9E79-45C8-B897-50FEEDED572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D36D9B3-F221-4FFE-BC63-F356D92650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49E4BEF-FFBB-48E6-B67C-48303B15409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A4AB41A-61C6-43B8-9F77-F40486194FF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52D5EF7-DA5E-4DE4-9F50-AE4789AF61B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F15B923-4BB7-4EB8-A98F-FC455350FBA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7769682-CD28-4B31-B26C-827245279C7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7968054-C433-44D8-AC25-D644D60E2D3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C79A510-09A1-48F7-AC26-2418E3E1063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99ADDEA-FEB4-42FC-9DA5-B0B38F8080D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A8551-6958-450E-854E-9F4C62FFF80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7A78B7F-336F-467A-86C0-BCBAC66F73C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5B65A03-7752-4070-A8FA-D60F88E71CE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933D599-6622-478B-BDD8-DD4D3ADDC83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0BCBE69-DCC8-4636-8A78-3D83E8D4F3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D2A24A1-A19C-4C02-8D8B-2C46EC81821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C7476B8-7784-44AF-9424-867928AA4EF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9051E6C-B0E8-4253-87A0-D76CE4E6A67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327C2CB-3117-40E4-AADD-7E6B4BFA5C2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1FE3FD0E-2CDF-4644-91D0-FD98A22684C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7AA39C-7744-4D7E-85E3-91B49F0F58B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B586A-0858-4C1E-9DC7-179DF992E78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E12D3-95A7-437D-A832-2D66E7ACA5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F603-7800-4415-A5B3-924609B90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E1F3BE-DF5C-4982-868B-1433EE79D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993FF-F38E-49AE-8C0B-0E46282758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57C6D6-3905-40C6-88A9-4B380D1491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C88419-5035-4BB0-B154-91F8E610A2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1AE4ED-9B0A-49EF-9CBF-F9CBA7A914D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47E2B-AE79-43C1-976D-45DA9A99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53EB-82EB-4E8D-8601-615D903DF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12EFA72-F5E3-41CD-8CCC-674D75618D6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967D6-4448-42AA-B9AE-063D3DC94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587264-CED0-4DAF-B22E-93E40ECF97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82DDFA-964A-413B-92E3-0BFBEECE52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132A5B-0088-496B-A448-0DD0862DB8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4379C5-BF9A-41E4-82A2-754FB43839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E9EDFCA-32BB-49F7-8C29-C4CA6851DF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B86162A-9DDF-41B7-8FF9-C62301878A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694626-0198-45E1-ACF3-D0F05C50B3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6E2064-5903-40F3-9BC7-D9AFAABEFB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CDC8D3-B2AD-4A12-AD8E-52871E4589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C6354C-51D7-4107-8E3B-8DD1898D7B0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CE2FD-A365-4B8F-8C07-855E6C6A0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0B4C0B-C54B-4C18-B5D1-7B098471A1A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8F7F170-9799-4101-8900-B5628616674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DE9D35-7222-4EB1-82B8-A3B5C5F00C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6629F0-8A7B-49A3-8094-4B85CDE0DA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56C279-D391-48A0-8181-FD0D0C1BEC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AD3873-74B9-40A4-8968-2DC9ED9FDCD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53FB13-A9E3-4F4F-A148-D069F7DC4B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3EDEA6-0F7F-44BF-89C3-BD9256124B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79361C-5863-427E-A751-8552ACEAAA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403D92-6CB6-417A-99A5-A02E2EE993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A9731-11C6-4C6E-8DD0-1A083D1C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E7884D-96BA-4845-B05B-B0EC914AF3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97C3B93-D059-4C58-9077-37A4768EABD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E3EE6C-866C-4C74-AAEB-29426037A8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D21B7B2-30E6-4C20-AE25-1787D0DF0D8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159F44-49C6-405A-AD6B-5894FC529CC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FD8233B-5842-4DF9-BD09-C220E14336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A90FB8-9BB2-45C1-910F-28C1DB0C50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45E177-A952-42D9-A7E8-5C199016BA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11D6AC-6033-4C97-9F35-1E301A4DCB2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9AABE3-41AC-46F6-97F4-1DDD5891BF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01D0A-3F9E-4B07-8021-C39DF7BD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6187F7-AD92-4700-B734-57364F53DF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5124D5-CD7D-4E6F-825D-B1E59FDC2B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B18BF6-6589-49FA-9F4A-307F98D389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3170707-9735-42C9-B6F6-2B3BA475952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2C32AE1-2140-44E9-884E-6806102F1C7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A745D19-D037-4F50-B770-5C243DC9578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5B135A6-ECB4-4A7E-B536-E97F9596A5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A2D171-BA41-4938-8D57-CDFFE996B35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B7F99C1-9283-491D-B71C-2E4604E446E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E3DB56-C804-43FA-8205-8D19D29CAE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B66AE-AF27-4DDA-A0D1-BE31D891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CFD251-1396-440E-A2CA-6EB338119F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1B91E0-6309-4B76-936D-B7B968DFE9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A9E313-4172-4E87-A4F1-CB5419563D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70EBD88-E389-4AAA-A441-C3057DFE76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2804069-2468-4CA1-8FEB-0F6188AA929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96046AF-32A8-40CF-B553-1939B0A10CA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9565A5A-AA74-4885-BAFC-D2FDCA5CDFE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2CEB1A9-8B10-4669-933A-9962A8E5D48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760EB4C-3826-4596-B913-F1E8D35A6C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33DB1E-DF5B-4DFA-9F7F-DE068E3DEA3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A5EB-B483-481C-AB52-8A570F6623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312E-B0D4-4517-B86C-E2FBE04643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88B7-2BD2-4778-B61A-2B8DC864B4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E5D3-3C41-4878-83CF-D933D39C974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883C-385D-4BA8-9EE2-BF1D96E8EE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A715-017D-4C99-BA8B-6F388A4A2F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21D6-1866-4154-8953-95373A30C8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0DC2-8AE7-4C2A-845D-45B0200E913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0269-D11C-49FB-90C1-14EAEF6C41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5501-055A-40EF-8FB4-C7427A31747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6503-9C5F-4299-B513-F50B322609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1D7B-2B66-439B-BDD6-7BA177E710A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DD1CBFE-E1F0-4D91-B930-5C0733659CE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F225DC6-5EDB-4B6F-8CC2-76EFBEC7847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8-30T19:42:43Z</dcterms:modified>
  <cp:revision>318</cp:revision>
  <dc:subject/>
  <dc:title>Slide 1</dc:title>
</cp:coreProperties>
</file>