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33A5-5618-4461-8403-73ADFD9D4B0B}" type="datetime">
              <a:rPr b="0" lang="en-US" sz="1200" spc="-1" strike="noStrike">
                <a:solidFill>
                  <a:srgbClr val="000000"/>
                </a:solidFill>
                <a:latin typeface="Times New Roman"/>
                <a:ea typeface="Geneva"/>
              </a:rPr>
              <a:t>07/30/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F2B8-76B1-456C-B05B-C951F973E408}"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07666-CF55-4C96-BF29-DE4C3816A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BC106-5AD6-4802-AFC4-8D1297E6C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C467C61-A7F7-416D-9BB2-6A9BB91BC9A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B1E8DA7-3598-42EC-A022-AF2AFE19A38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1779FB4-558C-4759-8CA5-905CB43000B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C20E372-AB4C-418F-8CA6-4C32479CCA8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9BBBF9E-14A1-47C8-81B1-4D9F228B0E4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2EAE9C2-891C-4ED0-BD19-7FD17E3BBB0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CC5D4BB-FC2F-4AC6-B3B1-4AE052C36D6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14ED16D-3D80-451A-BC2B-25F6D3D96FE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2ABBD99-6175-4180-9A90-A5673F274ED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E28741C-0547-4A39-9362-FFAEE207F0E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A85C5-30CF-4C4D-A23C-63339BAD1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19D8CB8-2784-4369-B365-D0F950E4E1D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00CC009-E0B9-450C-AF0B-013A6AF9434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23A4AD0-EE90-42FE-98F2-237B45EE91A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42E9275-50DD-43B3-AF4E-59959D83619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8697F2E-27F4-4D65-A6F9-398CA831655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2CA7C69-CB82-4D21-9286-CD6B3A841A2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9496AC1-4E50-4F47-9DBE-55022A0665E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ACFA7EB-2315-4A71-A229-47BDAA1CF0B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6C5835C-0FFB-4CF1-9A9E-2E692CC03F8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91C351F-99C4-4838-BEB8-809E14BAC0A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D8319-75DA-4CCF-92B8-5CED52C59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FD95BAA-A140-4BBF-9E2B-DB5FE7F67A2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647D22F-D42C-4E1D-9F29-F54417201C4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63C56E6-A8BF-4CD3-A6D1-47031772D91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1958BE3-F05A-48FA-B299-35F324438DB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0501031-AA0F-43A3-9E41-E8B8B80E8A0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B6A5D46-0253-4CD7-AA49-92F8BEA72E8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BFB8569-CF78-457F-B01C-6F5E85FFE58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1910DEC-66B8-408E-B09B-A986AE3F478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67FA975-977B-4463-AA38-E5F23F1B66B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811EC2E-9963-4654-9053-1015CF99859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D88C8C-A727-44FA-BFCB-49FC6BD3F27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7DB926A-81B0-4CFF-BFB0-981F6054765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A6E5D78-8B73-4F2F-9CE8-72AAD66E94B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70ECCA8-D615-45B3-9143-F18AF782991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2F4E13B-EA37-4FEF-A32C-1CD5619490C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5FBA9CE-2F26-4F15-91A1-4722898A655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8E589B8-25B3-4BFC-82DA-AD89AFA1C6C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1CA8FE3-43C6-4BFA-8A74-81F95742C82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7F40EBC-44F3-417F-9C6F-6A872ABBC50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8585828-7D06-4B98-878F-8CB81BE09D2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A0450DA-FB45-4FF9-B203-C24768A02A6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80037C-3CAC-4655-B999-3028AC280D3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A912B11-AC57-48DA-B2FA-A0B4277B40E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84A7758-4F34-45E2-8896-42010A18563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D486B10-B9DD-4F64-A041-4D52A78010F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BC6450E-ADB7-425C-B080-047BDF445F1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60A2132-A41C-474A-9628-EE95BD6482B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006A3BA-7165-4634-AB96-B5D47B27CBD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7F61E86-C9EA-4A33-8369-BA80F182252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DDB959B-8675-43A8-9E53-EB58E0EA0B8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E79E24B-0006-47CA-8EE0-9A37140E12A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2584487-0A71-4C77-A31E-91AFF96D8AF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8D7A34-0C4D-4772-8674-DCDA582CBEC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5D9B74A-8B34-4D62-9DB7-166F1AC51EE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A1E1DDC-FD0E-4188-A911-1130CB09A0A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534EA9C-8298-432C-92AC-376C5F36B20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B143C23-4CFD-4EB3-A4D7-BA9F1BFE014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1DA8757-4897-4F4C-8C6F-3E45E55BD2E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6E7D281-C39E-4155-A393-DCDFE90A4F8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8A3269E-D000-4DE0-91A1-44C6F1E42C8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B7DD953E-EC0F-4D60-9D0C-4A37AA6F365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F0E5140-F362-4D99-BA67-6F54446DADD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45CB431-BF3E-4B67-8634-6157EB820AB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861FC5-2F25-43EF-A8DC-3FE5C55B730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EFE2BD1-BE84-403E-BC09-535985F72DC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AB2C7D4-B3D6-468D-B500-253612FDFAE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1386472-D939-453B-8C1F-2427E6E06EC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9D1E8D1-667A-4500-980F-D04E58E8AEC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E2EF453-9B3A-49A2-AB92-0A956E75304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B5FFB73-3B8D-4AE0-9D2E-F6A91E7E880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DDB263F-828D-4846-AD41-C3188A0B13D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96DEA083-FF06-491B-9A99-1DF3FA31E9FC}"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998F321-0BC7-478E-9178-1DC4A40AEC6C}"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1CB5DD-9503-4BDB-A43C-9404404DB51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68548C-8436-44A2-A1A5-3197DD7303D9}"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E53AEC-2116-4BDB-9F05-90318762A3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0F317-8E95-4BFE-B71E-C261E2DB4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DFDF4C-9505-4BFC-95BB-32F04631D1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89A326-3648-4C15-96E3-FF891C373F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2882AD-6967-427B-8368-7A337A790F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7258B5-B4B3-4697-8B70-941FBBC307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31F5EB-E8F4-4E02-8223-7973A3B97DE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C92E2-F3EB-4594-AC95-DCBEB15B7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2D460-B3B3-4301-B5D1-36BB3AC58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DF997C8-91FC-4E2D-9797-302B1154E5A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F0198-C035-4F84-9021-71F830309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1C6173-4B4E-424F-87E7-5D5D6BBD9EF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209B7F-8BC9-48D0-A8BB-14A37F6049F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08A5E8-E4EA-4717-A9D1-5EAB5BCCE45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022C147-1E2B-4B66-BCB5-D745D5E2B92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ABBC4E-28AB-439D-BE7C-DDADBE60E6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412B5E-4372-4819-AA13-0B9FE1AB73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DC799A-88B2-43F4-B016-51CA5BA392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75F57B-9B2B-4778-8CF1-92E2BAACB0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76C0791-85E9-44CE-8F29-3C12AB88C0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29DE539-AE6B-4C7F-82E6-B309562BD91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C594E-95E2-4C97-A20A-E2165FA39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2C948E1-E4D7-4824-BAB5-D175D6ABA72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5A0A96E-6FDA-484C-B533-F61D1B78AFC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900D2BA-AFFD-4645-B230-AFFF990211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0CF06F0-3863-4DD6-A49D-500F251BB8D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481ADF1-C13E-4F9C-B183-1D8E30537A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47AEAF2-E11E-428E-868E-07122BC43A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F42937E-15C1-4BFB-AACF-A2337203363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775545-F5C3-49C4-A9F7-E0CF746C70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9F28E8-3F9E-48FD-BD52-61CE6ABBCF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67FF8DA-BE21-4F52-9807-8B06517DC2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3FA28-2259-4B85-B633-1BB1FE95B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D71737E-A866-4D8B-A414-5F4E7E45A8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61BD1F4-83D3-4A7F-9FBD-D3A6F7C6E3A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D2FA802-DC03-4671-B1B3-006CC0A676A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1304D61-EC0D-41B4-AEC3-8CEADFAD193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9694E9D-92F2-4B1C-A9A5-A3C184045E3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20B635E-E97B-4C41-A7DC-9A646AD949C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16CEB08-41E5-4FD5-B7F1-7CB6D9BB738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3563E0B-0BD3-4D0C-AE56-16FF1166DC0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D4FC967-284B-4EAD-89BE-13AB008A7AF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95AC66C-965A-481B-A8F4-D4ED22301F3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28E26-73DC-437A-83BD-6EB0FD92D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0EA3E05-F3B3-4461-A2FB-ACBED411147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2994796-9E8A-458E-B5D8-25BCC1052B0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B7627BC-CA3E-4169-AD82-15A51EB840E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0150C4B-C2D6-485C-9084-7C1F4DD52A4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C782DDB-1549-4EAB-91B5-C7D8B766CB6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F221982-68D9-4C3C-9429-90E11935813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CA9830C-7F60-4CBF-BEA6-17EBECFA1C5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5AC2C82-430D-4A75-945F-6E1400DDA4A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EF44C2C-CCE5-4455-BB80-17E20894FA4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0A68C41-F65E-4982-B77F-8DC640DD1CC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69DA4-4D46-4E46-B39C-AA2A7B1AD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BE19AF6-A76B-443E-9EF1-E5D76C9B3A4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DC2E44A-FDFC-4981-9F51-E4FE7C7D76F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FC8C16D-5807-4320-97C8-1F0A92418A3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0736B11-A2DD-45DA-BD73-6CD8A7E7356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24A1E50-4A7E-4C51-8B9A-512B355A847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BB921F7-C725-41FE-B250-379F398E6E4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EA0E44B-40A0-4BBD-9B4E-23A2E5C4D87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9CC6669-191E-4AD2-AA06-C32250E93BE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47A73CA-5C58-4D2F-84AD-94219E57FFD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6AA541F-11AE-45ED-A341-9EF903F61CB5}"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FECF-9AC4-48AB-84A4-6DF08FDA48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DA16-C2E0-4113-861D-AE4E20F6221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63FF-F774-4968-AA4A-CD381E7A28D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2A6E-7CDF-4E2A-99F1-47FEDA13736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E14D-2663-4BC7-B768-1D2724AF8DA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4EB6-A15B-45BD-B2A1-B31547E48FA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D7FE-CBBD-46CA-9F7E-BFC425DC4FE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57857-B00B-4F4F-B149-BB7A2E99FA3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75F17-CA4C-443D-B3A5-DD6D033C4FD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9606-FEB7-4F4B-90C6-EB4A230568D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9EFD-0990-43D0-B3DD-03C7ECA97ED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57B9-E2FF-471F-AA1B-04E3348279A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e73"/>
                </a:solidFill>
                <a:latin typeface="News Gothic MT"/>
                <a:ea typeface="Geneva"/>
              </a:rPr>
              <a:t>Chapter 2 </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The External Environment:</a:t>
            </a:r>
            <a:endParaRPr b="0" lang="en-US" sz="3200" spc="-1" strike="noStrike">
              <a:solidFill>
                <a:srgbClr val="595959"/>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Opportunities, Threats, Industry Competition, and Competitor Analysi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nsity of Rivalry</a:t>
            </a:r>
            <a:endParaRPr b="1" lang="en-US" sz="3600" spc="-1" strike="noStrike">
              <a:solidFill>
                <a:srgbClr val="ff0000"/>
              </a:solidFill>
              <a:latin typeface="News Gothic MT"/>
            </a:endParaRPr>
          </a:p>
        </p:txBody>
      </p:sp>
      <p:sp>
        <p:nvSpPr>
          <p:cNvPr id="661" name=""/>
          <p:cNvSpPr txBox="1"/>
          <p:nvPr/>
        </p:nvSpPr>
        <p:spPr>
          <a:xfrm>
            <a:off x="549000" y="1599840"/>
            <a:ext cx="8042040" cy="4343400"/>
          </a:xfrm>
          <a:prstGeom prst="rect">
            <a:avLst/>
          </a:prstGeom>
          <a:noFill/>
          <a:ln w="0">
            <a:noFill/>
          </a:ln>
        </p:spPr>
        <p:txBody>
          <a:bodyPr anchor="t">
            <a:normAutofit/>
          </a:bodyPr>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balance of competitor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dustry growth rate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ack of product differentiation.</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 switching cost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stake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exit barri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Strategic Groups</a:t>
            </a:r>
            <a:endParaRPr b="1" lang="en-US" sz="3600" spc="-1" strike="noStrike">
              <a:solidFill>
                <a:srgbClr val="ff0000"/>
              </a:solidFill>
              <a:latin typeface="News Gothic MT"/>
            </a:endParaRPr>
          </a:p>
        </p:txBody>
      </p:sp>
      <p:sp>
        <p:nvSpPr>
          <p:cNvPr id="663" name="PlaceHolder 2"/>
          <p:cNvSpPr>
            <a:spLocks noGrp="1"/>
          </p:cNvSpPr>
          <p:nvPr>
            <p:ph/>
          </p:nvPr>
        </p:nvSpPr>
        <p:spPr>
          <a:xfrm>
            <a:off x="1218960" y="1752120"/>
            <a:ext cx="7467480" cy="4295880"/>
          </a:xfrm>
          <a:prstGeom prst="rect">
            <a:avLst/>
          </a:prstGeom>
          <a:noFill/>
          <a:ln w="0">
            <a:noFill/>
          </a:ln>
        </p:spPr>
        <p:txBody>
          <a:bodyPr anchor="t">
            <a:normAutofit/>
          </a:bodyPr>
          <a:p>
            <a:pPr marL="455760" indent="-455760">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set of firms that are similar among themselves but different from firms in other groups.</a:t>
            </a:r>
            <a:endParaRPr b="0" lang="en-US" sz="2800" spc="-1" strike="noStrike">
              <a:solidFill>
                <a:srgbClr val="595959"/>
              </a:solidFill>
              <a:latin typeface="News Gothic MT"/>
            </a:endParaRPr>
          </a:p>
          <a:p>
            <a:pPr marL="455760" indent="0">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64"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A0FDCCBA-B5EB-4F8E-ACDE-F9B07CADB0FC}"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663">
                                            <p:txEl>
                                              <p:pRg st="0" end="0"/>
                                            </p:txEl>
                                          </p:spTgt>
                                        </p:tgtEl>
                                        <p:attrNameLst>
                                          <p:attrName>style.visibility</p:attrName>
                                        </p:attrNameLst>
                                      </p:cBhvr>
                                      <p:to>
                                        <p:strVal val="visible"/>
                                      </p:to>
                                    </p:set>
                                    <p:animEffect filter="barn(inHorizontal)" transition="in">
                                      <p:cBhvr additive="repl">
                                        <p:cTn id="14" dur="500"/>
                                        <p:tgtEl>
                                          <p:spTgt spid="6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etitor Analysi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etitor intelligence refers to the information on rival firms that is gathered to better understand and anticipate the strategies, assumptions and capabilities of competitors</a:t>
            </a:r>
            <a:r>
              <a:rPr b="0" lang="en-US" sz="2800" spc="-1" strike="noStrike">
                <a:solidFill>
                  <a:srgbClr val="595959"/>
                </a:solidFill>
                <a:latin typeface="News Gothic MT"/>
              </a:rPr>
              <a: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lementors</a:t>
            </a:r>
            <a:endParaRPr b="1" lang="en-US" sz="3600" spc="-1" strike="noStrike">
              <a:solidFill>
                <a:srgbClr val="ff0000"/>
              </a:solidFill>
              <a:latin typeface="News Gothic MT"/>
            </a:endParaRPr>
          </a:p>
        </p:txBody>
      </p:sp>
      <p:sp>
        <p:nvSpPr>
          <p:cNvPr id="6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fers to the companies that sell complementary goods and services that may add value to the focal firm’s goods and servic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76680"/>
            <a:ext cx="8042040" cy="13366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The General Environment</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The general environment is composed of segments that are external to the firm and these segments influence </a:t>
            </a:r>
            <a:r>
              <a:rPr b="1" i="1" lang="en-US" sz="3200" spc="-1" strike="noStrike">
                <a:solidFill>
                  <a:srgbClr val="595959"/>
                </a:solidFill>
                <a:latin typeface="News Gothic MT"/>
                <a:ea typeface="Geneva"/>
              </a:rPr>
              <a:t>all </a:t>
            </a:r>
            <a:r>
              <a:rPr b="0" lang="en-US" sz="3200" spc="-1" strike="noStrike">
                <a:solidFill>
                  <a:srgbClr val="595959"/>
                </a:solidFill>
                <a:latin typeface="News Gothic MT"/>
                <a:ea typeface="Geneva"/>
              </a:rPr>
              <a:t>organizations. However, these segments may impact different organizations in different way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0A6F8863-86CE-41FB-A0AA-937F884B2603}"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Industry Environment</a:t>
            </a:r>
            <a:endParaRPr b="1" lang="en-US" sz="3600" spc="-1" strike="noStrike">
              <a:solidFill>
                <a:srgbClr val="ff0000"/>
              </a:solidFill>
              <a:latin typeface="News Gothic MT"/>
            </a:endParaRPr>
          </a:p>
        </p:txBody>
      </p:sp>
      <p:sp>
        <p:nvSpPr>
          <p:cNvPr id="64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industry environment refers to a set of factors that directly impact all firms within a particular industry. These factors will vary from one industry to the next.</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External Environmental Analysis</a:t>
            </a:r>
            <a:endParaRPr b="1" lang="en-US" sz="3600" spc="-1" strike="noStrike">
              <a:solidFill>
                <a:srgbClr val="ff0000"/>
              </a:solidFill>
              <a:latin typeface="News Gothic MT"/>
            </a:endParaRPr>
          </a:p>
        </p:txBody>
      </p:sp>
      <p:sp>
        <p:nvSpPr>
          <p:cNvPr id="64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Opportunities are conditions, that if properly exploited, should help the firm achieve strategic competitivenes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reats are conditions that may hinder or interfere with a firm’s efforts to achieve strategic competitivenes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08000"/>
            <a:ext cx="86868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egments in the General Environment</a:t>
            </a:r>
            <a:endParaRPr b="1" lang="en-US" sz="3600" spc="-1" strike="noStrike">
              <a:solidFill>
                <a:srgbClr val="ff0000"/>
              </a:solidFill>
              <a:latin typeface="News Gothic MT"/>
            </a:endParaRPr>
          </a:p>
        </p:txBody>
      </p:sp>
      <p:sp>
        <p:nvSpPr>
          <p:cNvPr id="65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emographic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c</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olitical/Leg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ociocultural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echnology</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lob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Five Industry Forces</a:t>
            </a:r>
            <a:endParaRPr b="1" lang="en-US" sz="3600" spc="-1" strike="noStrike">
              <a:solidFill>
                <a:srgbClr val="ff0000"/>
              </a:solidFill>
              <a:latin typeface="News Gothic MT"/>
            </a:endParaRPr>
          </a:p>
        </p:txBody>
      </p:sp>
      <p:sp>
        <p:nvSpPr>
          <p:cNvPr id="653"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reat of new entra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es of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differentiation</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apital requireme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ccess to distribution channel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st advantages other than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overnmental polic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Suppliers</a:t>
            </a:r>
            <a:endParaRPr b="1" lang="en-US" sz="3600" spc="-1" strike="noStrike">
              <a:solidFill>
                <a:srgbClr val="ff0000"/>
              </a:solidFill>
              <a:latin typeface="News Gothic MT"/>
            </a:endParaRPr>
          </a:p>
        </p:txBody>
      </p:sp>
      <p:sp>
        <p:nvSpPr>
          <p:cNvPr id="655" name=""/>
          <p:cNvSpPr txBox="1"/>
          <p:nvPr/>
        </p:nvSpPr>
        <p:spPr>
          <a:xfrm>
            <a:off x="549000" y="1599840"/>
            <a:ext cx="8042040" cy="4343400"/>
          </a:xfrm>
          <a:prstGeom prst="rect">
            <a:avLst/>
          </a:prstGeom>
          <a:noFill/>
          <a:ln w="0">
            <a:noFill/>
          </a:ln>
        </p:spPr>
        <p:txBody>
          <a:bodyPr anchor="t">
            <a:normAutofit fontScale="89000"/>
          </a:bodyPr>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vailability of substitute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industry to the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the suppliers’ goods to the industry succes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of vertical integration.</a:t>
            </a:r>
            <a:endParaRPr b="0" lang="en-US" sz="3200" spc="-1" strike="noStrike">
              <a:solidFill>
                <a:srgbClr val="595959"/>
              </a:solidFill>
              <a:latin typeface="News Gothic MT"/>
            </a:endParaRPr>
          </a:p>
          <a:p>
            <a:pPr marL="310680" indent="-31068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Buyers</a:t>
            </a:r>
            <a:endParaRPr b="1" lang="en-US" sz="3600" spc="-1" strike="noStrike">
              <a:solidFill>
                <a:srgbClr val="ff0000"/>
              </a:solidFill>
              <a:latin typeface="News Gothic MT"/>
            </a:endParaRPr>
          </a:p>
        </p:txBody>
      </p:sp>
      <p:sp>
        <p:nvSpPr>
          <p:cNvPr id="657" name=""/>
          <p:cNvSpPr txBox="1"/>
          <p:nvPr/>
        </p:nvSpPr>
        <p:spPr>
          <a:xfrm>
            <a:off x="549000" y="1447920"/>
            <a:ext cx="8042040" cy="4495680"/>
          </a:xfrm>
          <a:prstGeom prst="rect">
            <a:avLst/>
          </a:prstGeom>
          <a:noFill/>
          <a:ln w="0">
            <a:noFill/>
          </a:ln>
        </p:spPr>
        <p:txBody>
          <a:bodyPr anchor="t">
            <a:normAutofit/>
          </a:bodyPr>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buyer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Knowledge of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is not differentiated, thus substitutes are available.</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vertical integrati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reat of Substitutes</a:t>
            </a:r>
            <a:endParaRPr b="1" lang="en-US" sz="3600" spc="-1" strike="noStrike">
              <a:solidFill>
                <a:srgbClr val="ff0000"/>
              </a:solidFill>
              <a:latin typeface="News Gothic MT"/>
            </a:endParaRPr>
          </a:p>
        </p:txBody>
      </p:sp>
      <p:sp>
        <p:nvSpPr>
          <p:cNvPr id="65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 products meet the customers’ needs but do so in different way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y are different goods and services that perform the same or a similar purpose.</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08-30T19:42:43Z</dcterms:modified>
  <cp:revision>318</cp:revision>
  <dc:subject/>
  <dc:title>Slide 1</dc:title>
</cp:coreProperties>
</file>