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4A05-22AF-4982-922E-63994676A1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2C19-439E-4F4E-B3FE-C4430344EF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nies are finding that to survive they must compete in international markets as well as fend off foreign corporations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ttempts to gain ground in the United States,  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develop global markets and prepare employees for global assign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business must be prepared to deal with the global economy. This is made easier by techn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ffshor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s to the exporting of jobs from developed countries to less developed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nshor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fers to exporting jobs to rural parts of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8874-E99B-41D8-A9C3-E0E8DF7E1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2EA8-F37E-4BB8-A885-F5B04AE1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60914A-A155-4224-953C-CE745AA4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A72757-2D7D-45B1-BE7F-25E24C9E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5DF4A8-54F5-4DE0-A441-4F194487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C7A19C-9F15-43B5-B10D-8C5E68E0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C016E7-2D4D-4D3F-9615-035A46A2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D3AABE-FC4E-47C3-B2F9-3316E2C5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5BAE64-908D-406D-9F2E-6B6D3161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22F26D-1396-40A7-A726-B04A5A23D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226588-804A-4C03-A7A0-29D0A3F48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474907-C63C-4453-872C-9823B7EDE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7467-750B-4530-B396-0FC56483A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B1EC23-A6BC-41AF-ABD8-FC8483FB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68ED0D-A1EF-4183-8F3C-5259A5D8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248C3F-23C7-44E2-AA92-127DB3AD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2E8B63-E1CA-49F8-8F6F-6ECCB1F4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107A52-EE86-4081-B568-1E99DA5A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C44986-D350-49CA-B3AF-BA30470B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93311E-99B6-4473-9407-EA27A13E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9C6E4E-E15B-44DF-AF66-B50E3808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A13B13-BF77-442A-9638-3B768FEC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23FD60-8C9B-4E8D-881A-CE613A34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C042-D523-4EA0-97FC-831A31CA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9B749A-4068-4A79-9D86-EEBCCB9FA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860EB1-6CDE-4A44-9337-A54271121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46CCF6-1BB7-4AB1-9055-34E6A4A6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2CF1DF-40F8-4B97-BB81-35BB448D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F7195E-6486-4715-AA54-2EA9EEAA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A90DBE-5DB6-4DAC-8E56-07089646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C5C614-75FD-4893-8BBE-C47E3617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47C4A3-E454-468C-ADE4-54F3F49B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3D1148-157B-482E-86E0-A304B834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3197B8-882C-41C1-8CD9-478B3FE9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3463D-04AB-450D-8903-033851C9A64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9B0279-5D78-4B75-819E-858B1764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232FE3-BABF-4ACD-B2AF-44536CDBA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58AFB6-50F0-4767-B12C-0797E2FED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3CFFD2-7AC5-4AFE-B709-8E813B0F9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247AB0-583C-44F6-8F2D-58A4B594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7127F3-5B29-489D-A61B-155D0C5F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25372D-9073-47C1-BBE9-4631FB55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1844A0-FE3A-481E-8D67-4595FA4E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50B2A3-56CE-4D9D-BFEE-87E5293B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1BDBCD-96F6-4129-B255-DCA796A3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F24A1-2ED1-4487-B8DA-B29C259D56C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BAABA2-0E6D-46DB-919A-DCE5B1CA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0E0859-0D41-4C9A-B8DF-650DC170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70EA4E-CEBA-421C-8688-DF5306D2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17155D-C4CD-4658-B013-B904A1D9B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7C6598-62B2-49F4-9B8F-BA354FAE3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23C7FB2-785C-4B29-89C9-9C30CE766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B2F87C-F754-4C07-A413-CE6EB8DD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5EBF7C4-6C0A-4E0D-96D4-46193D64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54EC26-4651-4C72-908D-AE122444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67E83BB-3255-4093-B987-9F941E55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4A527-EACE-432E-AB28-ECCAA53E7E4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028A73-5A00-46C8-A4D8-ADDDE474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0BAE5B-CD63-409E-A618-82A8D96A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9752B1-42CA-4560-82B6-F074521A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95F021-0896-42FB-9258-70950323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B2D28A-23D3-4F64-BE9E-6EB272A0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A68A97-FF27-49B5-A79F-BCD34A6F1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DCCCF6E-BF6A-4054-BA64-42A4E9A30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D57556A-0C14-4D59-98A7-266847E92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D430CD1-C150-4C51-A159-E990DA59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6142C04-DE80-4A2B-BEE1-39A47799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87178-78D5-463D-96C6-17F768FF936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114103-30A8-4994-BE2C-20B40C63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562E802-9B4B-4437-B250-B19482E3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BA944BD-0DAC-4506-9023-D40CFDCE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3E3F116-3F6A-40A2-9A59-73189059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C2B3182-FC09-4B38-AF9E-C6A69CDB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2FDC662-E2E2-43D3-9FA7-811AF589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B81CC72-C6D9-4748-9CAD-3D98F051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E35F8B4-147A-4415-9F86-F651F7093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8142491-BF28-412C-86E3-F48A5EB66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1071F-D185-4AB3-8156-4E1FCD9539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20E3F-8279-4179-9A76-4D7D231EF4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86521-9631-42BF-BCB5-C3063CBE86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4104-BECF-49D9-8F12-6B76BCEE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AD482-8067-4718-A3A5-D3BB33CB9D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BBBB4-E980-4308-9691-708EA4DA60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B7B8C-71C7-46F7-8B88-99F599B80E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ACF66-C5D9-41C0-9CDA-6098D8F339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C3AB0-8552-4EFD-9982-3C3653CBE92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03D0-26E1-4898-AEB2-B5760FAF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E3C3-039E-4C1F-A658-58EA1292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2D9DE2-07DE-4787-ADA5-2EB1F8D2D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F93A-BA74-4CD2-996F-D2073432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B9164F-A963-43CB-8090-47112E2F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447A44-344A-462F-86A5-E6831ED0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32C478-9006-4860-8D1D-2D157A75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F96932-C1A1-4F1A-AEA9-5247C1F7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695705-3C48-45C9-B2D5-EE6A59AB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ED7E64-75E3-48D3-A552-E0574598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2FE96A-69AC-450B-B521-3DEA6703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8169ED-62EE-458F-A52B-D8A9CBCB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EA394F-A249-4C46-8CBC-B0EA2BAC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1E1DD1-35F0-42C1-9040-80A1198CC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6370-A1AC-4249-87FC-F946C87C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C8B48B-E878-4D2B-A08D-302ECE107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3775E7-D1AF-4BEF-A787-E34619E7A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93FB65-18D9-47E6-9308-B80C9FEC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5751C2-C28D-49DE-9BE8-3912A4F3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DFBD4E-79F0-41F6-AC33-2DDED012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B72755-5E25-4A0E-9BB9-DF271A92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DD54D3-A539-471A-806D-23C0C61F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337FE7-0DFD-4D0D-8B4F-AD53F7EA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6D7383-65F0-48BE-99B6-48488E54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57A28E-5567-4F69-B1C6-254C795F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BC86-81B1-4EA8-A332-26EA7CF2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93722B-D905-4FEE-AFED-0C56399E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706276-8FE6-4E79-BBCE-4181A1112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D36E9E-0664-43E7-A15D-1640CBF3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1F56EE-ECAF-4B72-AE43-5A8B7E999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156398-A5E7-434A-8153-B9D210F1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AAA5F9-BFE9-4E5D-9088-89ADE459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B605BA-139E-4EF4-A687-6D9DEE6B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03F0F1-9CE2-402A-8CF5-360D5098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F0890B-9205-4361-B746-20140107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6FF816-0C06-47F4-8D9C-88C8EE51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EB45-2136-4F28-84F1-0FB2495D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001C13-EAFF-4747-BBBE-B1FAF85F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C84321-9387-49BA-93C0-3D8B2103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7C6771-8C35-4121-B695-1B49E5B1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E32454-05BD-43F1-9028-DB6316D9F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41D428-1A4C-4058-A6FB-EE475DC3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1C61C0-5466-4B6E-B75D-ECD3905EB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FFD8D4-3558-40B8-8419-854A02DD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285F02-DF78-4379-B608-DB270567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CDC213-9246-4D53-8193-46AB2005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18FCDB-2603-4894-8E6A-1377D83B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75A8-0567-4241-8B2C-A2A0FB9C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6125EA-9B05-49FC-9212-6D6AD1D6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137860-1D82-4BEC-8FFA-CA5EC6A7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BF845A-45BE-46E7-99AF-43D566A0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9A46AD-54E0-4B0F-9B05-4BB6E2A0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D32C98-DFA0-4FA0-9C87-B91D8F79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679120-1D75-47BB-8B90-3125118D9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86C6CB-7F30-4E15-8BD6-37B8064E7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FE90B5-63BD-4BB3-8F28-0884B8F5F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3FA8FA-2C59-4109-96E5-2D873C1D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7271F2-BFB6-4768-8A96-FCC56090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F82C-AEA0-473A-95EA-FBFF258E73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F0A1-7007-4262-9B45-5175DF3412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F369-E6C7-447E-A8A0-3AD7469193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4CE9-932D-4BAF-A640-7DA580031A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7248-78DB-40B4-93E7-C7790E7A48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53EA-7397-4A0D-A232-DF787F7335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9393-A77B-4383-95A0-1A98890231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09C5-5731-4C2A-9C8C-A4D89AF7D1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E4D3-9941-466F-B1FC-AF4FB93685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2531-9F2C-45AA-A620-F7684C713E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8B9F-BD58-4016-9A7A-FA4DB57A7D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C9AD-E20A-4C47-A503-959AECA7F4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54e73"/>
                </a:solidFill>
                <a:latin typeface="News Gothic MT"/>
                <a:ea typeface="Geneva"/>
              </a:rPr>
              <a:t>Chapter 3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The Internal Organization: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54e73"/>
                </a:solidFill>
                <a:latin typeface="News Gothic MT"/>
                <a:ea typeface="Geneva"/>
              </a:rPr>
              <a:t>Resources, Capabilities, Core Competencies, and Competitive Advantag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3160" y="-7668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Firm Resourc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33160" y="1752480"/>
            <a:ext cx="830556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In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Capabilit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  <a:ea typeface="Geneva"/>
              </a:rPr>
              <a:t>Core Competenci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News Gothic MT"/>
                <a:ea typeface="Geneva"/>
              </a:rPr>
              <a:t>Creating value and competitive advantage!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06" name="Rectangle 6"/>
          <p:cNvSpPr/>
          <p:nvPr/>
        </p:nvSpPr>
        <p:spPr>
          <a:xfrm>
            <a:off x="8286840" y="6381720"/>
            <a:ext cx="819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0"/>
          <p:cNvSpPr/>
          <p:nvPr/>
        </p:nvSpPr>
        <p:spPr>
          <a:xfrm>
            <a:off x="8610480" y="653724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1-</a:t>
            </a:r>
            <a:fld id="{B0C05B2A-2D77-4B5B-8ABC-DD436AF70852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riteria for Sustained Competitive Advantage – VRIO Analysi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Valuabl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ar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ifficult or costly to imitate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Unique historical condition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ausally ambiguou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ocial complexit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Organizationa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Four Criteria, Competitive Advantage and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pic>
        <p:nvPicPr>
          <p:cNvPr id="611" name="Picture 4" descr=""/>
          <p:cNvPicPr/>
          <p:nvPr/>
        </p:nvPicPr>
        <p:blipFill>
          <a:blip r:embed="rId1"/>
          <a:srcRect l="0" t="8511" r="0" b="0"/>
          <a:stretch/>
        </p:blipFill>
        <p:spPr>
          <a:xfrm>
            <a:off x="533520" y="1600200"/>
            <a:ext cx="8076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Value Chain Analysi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ctivities that a firm engages in to produce a product or provide a servi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upport Function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activities a firm engages in to support the work being done to produce, sell, distribute and service the products being produced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nanc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RM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I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Outsourcing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urchasing an activity (value chain or support) from an external supplier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9-09-19T18:15:58Z</dcterms:modified>
  <cp:revision>316</cp:revision>
  <dc:subject/>
  <dc:title>Slide 1</dc:title>
</cp:coreProperties>
</file>