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8712-5A88-47A2-929A-59113E2661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CDE0-3E12-476B-8DE6-C84730013C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A10-075C-4E4B-8A4B-748190A0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AE68-A5A2-46EE-9099-33B1A950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6D5F05-8D90-4609-871F-60961C90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E2B5F6-2329-415D-8948-819B1005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0B974B-040B-435D-A71F-81D80092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C387F3-96D8-48DC-891D-56117A42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DD403D-73CC-4EFF-9052-3002E80B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0EB074-7B63-4F59-8F43-A086286F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1446AF-6CF2-4E41-92EA-530D7A1E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A08488-966A-4E75-9079-726E4C86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CFF186-C1B7-4172-9877-93F2C476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638BB1-0873-4E39-BD17-24D85C67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D98-37D8-42AA-8AB1-8422CF95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50A7FF-0F80-45F4-832C-B30B4920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21F2F6-8D3D-4E12-ABEC-53C487FD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6B6E8B-1A10-43F9-8067-5E978718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3B60D1-532B-44F8-B8EC-FA96EDD9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C7379C-170C-44C3-B1EF-1861ED62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0447A2-651B-4538-9647-1932664E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EF25DF-1497-4405-AB71-8389627B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06EE96-2F20-40A7-963C-1B63238F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33BBD2-ED0D-4939-B734-A857385A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57D855-495B-4CB2-8BA9-97359E7A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E08-EC94-4D50-9771-0B91847C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F8AFBE-3C37-48CD-B10A-B39BD26D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8ACAFE-0FDB-4A15-9EAD-617CBC43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1C279F-283B-462F-9857-A1455D3F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DB02D4-4110-4EF6-83EC-1934A61E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E60619-D5D8-4291-8961-069975F6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5DFF19-8BC7-40B4-801E-AD5E1F8F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0D786F-FD58-4685-A58F-6AB3FF63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40E7A4-0D04-4F94-B632-F008B494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C492BC-1687-4F54-A300-1B9CC3F0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493B74-CF66-429D-B73F-633EBD96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01023-83F6-4B41-8559-6CE9D507A98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4C14E9-0FBE-4E4C-8478-6CFD4347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764AF8-D5DA-462F-9A99-103AED1E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A68AF8-3EC3-4337-9EC0-E486145F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FAABBD-BC61-4A2C-B7FB-CA213890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156BF7-FCD4-403C-970C-90C21FDF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00C863-BEF6-4BE3-901E-6CA702FB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339A20-DEE0-400E-B9FD-0E2CD45E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00F323-DFA5-49D1-8D4C-0E658586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963383-BB85-4653-97C9-FB68C2AC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7323DC-DFEF-4071-8445-B3147AA1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10CED-A051-496B-8480-BA079E49CEA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48E596-2FAA-4478-BCB2-6F7001E4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A3F45C-26E0-4125-AEFD-AE2ECDED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989CBB-261F-4B9B-B7DB-2C91132B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8644F7-1FE1-48BE-8F9B-C32BB51A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EEBD15-66BD-4BCD-A385-8B793E57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085987-EFA8-4D07-B1ED-49637A05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F9F87B-2876-4670-8A3A-5A604FA2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5CFCD7-54C6-4B88-8186-3D113EA9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6BD4F5-EECB-4917-AEBD-FD0B23FB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4000D4-577B-45A3-87AB-9B2E32AD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A9397-C5D8-4C0A-8AC1-A6EC258E5AD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603936-2E62-4D6C-9C4B-CD470D55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08B6BB-FFB2-4358-A422-D8B95826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935E62-FD1E-4BE5-BC0E-8C5F7D99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C81236-91E0-4550-88F6-CAA3CD2A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AB9DAE-1ED5-4812-9B00-132B5114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D701A2-D774-4588-A36D-F4F3C768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19993C-C385-408D-9E20-8AF69068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51029A-12F0-47D1-9014-D5E4429D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940276-3014-4749-BB7E-5D608872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8BDBAF-BDAF-4490-B4AF-B5E682B4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7C05A-8885-4F4D-BB55-CDF43D65BC6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5EDF41-7578-4E18-8736-D4C31160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4D53FA-5B68-45A8-8D97-0D0704B0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2DE872-E424-4339-94EB-4535FA96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B9E3B7-8303-4F91-A8D1-A1B6878D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34E2CC-3F79-48DE-A330-3B5A6227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06C6FE-7F49-41BC-87E2-7CC0B5A0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2D9498-5734-4C9C-8B6C-D9E3AB3F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70A92C-F197-4317-8149-999D4C8F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82B140-4034-495C-93E1-D4181315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ADA35-8C4E-4113-B83A-05F176C151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94D91-C696-44D8-882B-0963149CFA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D9A29-30EF-4011-94D6-C654A25BB9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9A51-4284-4061-8BB0-A53C7055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7656F-C82B-42F6-B500-95EB38A6C3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6A47D-C3C4-4236-998F-24CCC055E2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4FA6A-7143-45C9-95A3-E1E3BC32CC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8E635-86D4-415C-80DA-DB1736ADE2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FF686-FFDF-4CE1-85A2-A0DA3A32E4D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2341-35F4-40F7-AA07-1C37A7CC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EB6B-80AD-4EC3-ABC9-BB3ED9B7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B97BF5-F38E-40FE-B0BC-8DC98B54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509-39A7-49F4-8D3B-FFDF0885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54E6C-CDC1-4D49-8F38-CB6098B3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13397-930E-403E-9F86-C719A395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CBA4E-972A-4679-8B53-5714F2E7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78B7D-5848-44E1-8B4A-E00699AA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A0F92-C06B-4227-A30A-5D864ECD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11354-5F1F-4978-B59E-E8A9D3E3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FAEBA-A89C-4FDA-909B-BE1C2965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1F378-9626-48DD-B3E0-EF32E81F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E2B73-57BE-437A-8943-7F08834A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38996-0278-4009-AA0A-67507B5E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C0B8-0A23-49B0-99E5-D86AC1C8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8EDD8-B97C-4615-B1D5-F3383188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186880-44DC-4966-B661-6A3F391D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350F67-7DE5-4C6E-9844-DB6662E8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3FBA58-03D3-450A-96D5-EDC2985F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1BA7E9-2EB9-453B-8374-384D7C08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1559C0-16E1-486F-B198-75946007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1BCF0A-7C7C-4697-9AA2-DFA0F25C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05EC06-DAEE-4B1B-9C68-C05D7E1C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CD42F5-7C34-410B-B278-DFBEC621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3BF7C2-CB5E-4529-9649-BE8B7872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0159-3CD5-498B-B90A-0948A403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6B24A4-C173-437B-A899-F5E84B0F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5376AD-61C9-4A9E-827F-5598BB42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DC89B1-2618-4592-8B9C-FDB28836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32078-676C-4E4A-A46A-014EDF07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345A3-EF65-450F-81EF-74462D97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3F6349-037D-41C1-A397-9665C0AC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69F062-56CC-4716-96BF-23360F4D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771EC4-D402-4C6A-B1DE-78A92904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71585D-B6FC-494A-A5F4-4E181372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F32FE-CB8E-45E9-BA14-7DD52C18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8481-8DDB-4EDD-9A67-9D5D18FD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25CF7B-AD02-40F7-BA25-0A2B5D62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554144-C598-4774-9B6A-1797F197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011FDB-CF62-4486-B5ED-FBA491C6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D1E0B7-E54D-49AE-A63D-F840C489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DE478A-2D15-4BBD-8D35-4461DAA7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25978B-9E23-4D40-9206-395E6C46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20D340-989E-4D3A-BD96-29CA6616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5BBD5F-D60C-4283-A3CA-62A4F69A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5BA366-102B-4B17-9643-14D3F730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5179B9-4255-4D1F-9BDE-E3DE4343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033-8E85-46EF-8630-AB65D728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0C8CC2-E867-461E-9B89-34BC4BD0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0A9903-731D-473B-934F-02A5F20A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95D9CE-9147-46CE-B02C-9BF5836E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76ACF-43AF-4801-A85B-283CE2E8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E6055D-7295-4DCB-8E6B-3994608A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65FEF3-4343-4289-B628-A0B3552F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FFE13B-D6FE-4AD4-8819-E8802C77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341C63-2EB4-45FA-83E3-2B512244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F67B1E-34B5-410B-BF0B-53855224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80B33E-E881-4435-8A20-7502C4B5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936C-5994-4A34-976B-B268883D09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72DD-10C5-4EE4-BD22-F2CE995FFF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5AF5-EF24-42EE-A2BE-E3C8DDB0B9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9215-B08B-4919-B991-E668242BEC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ADA4-4AF2-41C0-9FF4-FD05067BC8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B007-554A-4F84-A661-64393AC142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1A84-B57B-43D0-A36C-26FC495B02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18B6-BED6-4291-8273-8D432B5A95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44C2-580E-4613-9261-4D934B4703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1E2C-8ACB-431F-B8D4-F7E0DD78F4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7FA8-1D62-4AFB-B886-AE18B8DCF6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A45F-D196-4CF6-8598-333D842FE6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3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The Internal Organization: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Resources, Capabilities, Core Competencies, and Competitive 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Firm Resourc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3160" y="1752480"/>
            <a:ext cx="83055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apabilit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ore Competenc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  <a:ea typeface="Geneva"/>
              </a:rPr>
              <a:t>Creating value and competitive advantage!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090B9CEC-2EC4-4B96-80B0-511B3ECE36AB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riteria for Sustained Competitive Advantage – VRIO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aluabl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ar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fficult or costly to imitat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ique historical condi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usally ambiguou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cial complexit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rganization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Four Criteria, Competitive Advantage and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rcRect l="0" t="8511" r="0" b="0"/>
          <a:stretch/>
        </p:blipFill>
        <p:spPr>
          <a:xfrm>
            <a:off x="533520" y="1600200"/>
            <a:ext cx="8076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Value Chain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tivities that a firm engages in to produce a product or provide a servi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upport Func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activities a firm engages in to support the work being done to produce, sell, distribute and service the products being produc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RM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I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utsourc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urchasing an activity (value chain or support) from an external supplier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9-09-19T18:15:58Z</dcterms:modified>
  <cp:revision>316</cp:revision>
  <dc:subject/>
  <dc:title>Slide 1</dc:title>
</cp:coreProperties>
</file>