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E529-2A2A-49C1-8E56-0645A64C0D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FB82-EB6A-449F-8215-0E458BC580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9D2-3CBC-4B3F-ABB6-8AA7BF62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84C-B4BF-4A69-89E1-BDCF3ECE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4BF6E-0BA8-4ED6-8BFB-592DFE0F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D53A91-83B6-4CDE-B47A-04D7F66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D9708-66D0-4137-8FEB-4852B225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0513E-A254-4E58-92A8-0EC2BF02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73368C-E99F-44F8-BCCA-EF1E6EE2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9F724B-6A75-4D07-8E03-1173D2B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38D9E-F539-4218-89D1-B5153480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1541F-55C6-42F6-AE92-FA7B24D1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01679-B025-44B1-8470-9C44FF05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D1FC1F-86DA-4E26-8A04-4D7103C6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DB0-BDBC-46C1-B0EE-82BC85C6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CFB07-A32D-4EB6-8034-62FE0459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31FC38-0761-416F-AD0E-7B7CE427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6362D-7308-4E72-90A6-B171E8E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5577AF-A697-43E7-8A73-A73B0188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718CA1-B1FC-47D8-B505-76D11928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644E68-02F5-403F-B283-4105EC4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7A1F16-D3A8-4088-BE8F-37E00B3B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129C93-03FC-4006-B33C-67CC16D9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06FDB1-F365-427A-9097-5F7A0F4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4B015-52F4-40B2-8EBC-823CA1BA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109-08AB-4014-A64B-A3673E87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D7A059-7DC2-4F2C-97ED-83B4B300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9954CD-A52B-41C3-B678-6FA32766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856D8-83CB-45FE-A95A-A25995BD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FFC99D-C307-4F17-9A40-45CBBDB5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51AF1-6FEB-460B-80D1-21348082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D1904-A935-45B5-A42D-883AB731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788DE-D44E-4ED6-B129-A29810FA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2FECE7-332F-4A82-BC66-3E4EC418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0E507C-4D24-4FF9-9D31-7B4D673A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FF359-1133-41C9-9B92-9C499282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2A807-EF7F-4D33-A42F-725D090822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FBC5AE-EDFA-4363-8426-323F33D6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F1450-D76F-4B29-B24B-A8C5A9A4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E0C49A-D954-4BAA-8AD8-9F9C96A6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3A21A0-58B1-47C9-A563-DAF6ADBB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983884-792D-4371-82FA-6C3CC212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2BA8CC-1593-4DE6-BBF3-EE3858D8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45891A-E542-492A-9C81-967278A5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E7F49-6DAD-4354-BF9C-4787E69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38F52A-785B-41EA-8FAA-1A7344CA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5FB4E8-FFB5-4292-8CE2-774963E9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41E3B-B77B-4C0E-9804-CC250AA521A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7E68D5-278E-49F5-BDAF-16AAB0FF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4FD6BA-88E9-4A71-8DEC-7D24B318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D7EC96-0BBF-4883-A33E-77E3844F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5AC0DB-7E2B-4551-94A1-5C40D44B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D132F5-AB38-4671-9E43-6B09C4C9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0241B5-9942-4C8B-8F4C-5BFC57C9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AF6F53-EA16-4B88-9A39-4A383A26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DACC5B-8AE4-4816-B36E-DF0BAD85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8FEAAA-5485-427B-BF1F-6030F0CA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B3B712-67F3-43FF-B890-6256E4AF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29446-8E3C-4997-B05A-8E5A5DC0121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476608-B028-45C9-AD0E-813B7DD5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66780E-AA39-47CD-9BB6-5E0A02AC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ADC973-36CA-42B2-8743-1DB15C0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A79709-E12C-41A3-89D5-1C905CB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D4872C-D43A-4062-8AB5-9173D4F5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222F72-A23B-4954-A467-7354A22D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1EACD7-1F50-4811-8D69-D32342D36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803862-F120-4601-935F-DF04D832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4610F8-CA93-424F-938F-C29A91EF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4BF7D19-AFA4-4B88-BD2D-A23765B5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3BD25-2C5B-4F6F-95C6-45B4A063E76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DE72D9-B3B6-4DEA-9DFF-20F2A0C0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996DCC4-5B5F-45BB-B5CE-423CA087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9FC215-D776-4C2B-B0E5-4025C8E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359760-F4E1-49BA-9755-A7D5D4E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E4DB6B-6780-49FD-9304-FB5ADF83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BFEF46-F3F6-4B6B-AEDB-44E45893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BF97ED-AC44-4733-8648-688789E8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F10FB7-ED06-4707-9873-B5A661554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CB633E-AF42-464E-8E8F-93B8822C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4C03A-5B29-48B2-9A04-76865F0F00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887B6-34DA-443A-92A1-B83239C3F5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7A016-8F81-4139-99A0-E870EE6230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A58-BBFA-4EF3-856C-649AF2A8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FFAB3-F492-49D2-ABE2-530EDA3EC1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915D5-9051-47C9-8343-1439FF2FA2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B5538-7948-47AA-85F4-53D029ADC4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59AF2-C99D-44E9-ACB8-4FDFFF9941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B1732-CA61-4D3D-B665-69E9FD262D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8F33-0498-425A-A216-79673C1E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8C9-975C-4E09-AF4A-F426B36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259D9-BFA3-4C33-AD11-AF993B9A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B4AC-7D45-4301-A770-5FDB099B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4D6B8-8A27-4D4E-A0E3-0E670BA7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2B77A-24B3-4C9E-B1A4-418321E4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C79C4-1B73-4826-882C-6FA3578A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2AD2A-A369-4AFC-8EAE-FB7D2FC1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4F958-34B5-406F-870A-D6170493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1A0C9-0BF6-478C-8D69-B794A64F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0356F-4D02-418C-A44C-7426A31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B54EE-7925-453D-97F4-26FE472E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B798C-4BC7-4B28-9D3A-80808393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0B733-54A1-41B5-858D-52418213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D7E-9963-47E6-85E7-3FED6BF4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C0B0C-90BF-4318-B3D4-B3B446BC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8F235-4AF3-4B02-9DC2-F4F40433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D793B-1B18-4F69-97AE-C9B74877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96E028-8E95-44A8-948A-72D6D3C5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AEDB13-DFC1-40CF-8FF1-227C7B51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E9544F-0FE8-461C-952D-AB5689B3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48C0C-2E84-4C53-AAE8-64B0115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5053D-33B5-4A5A-8E52-D3C392BF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6AC6F-9B96-41B7-85DB-4C06EBA7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9B1019-1B6E-4346-A7D4-4C318D07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BDA-0EFE-425C-8AEC-B8A73002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96669-758D-45C7-A7F3-C05C78B3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5F725-5D3C-4086-AFFB-05C1FCE5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B0E30-79A0-4A17-AB56-AAA18542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A51D7-8B61-48ED-9DFB-8C3562A8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71A0A1-C906-44B2-83A4-1DDA56EE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5609C-76D2-4717-A3C8-3900C0E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83AAD-34ED-45B3-BE8D-D312BCB9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67EC9-8FD0-49F2-8F08-885A6A45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96FB5-0353-4415-92BE-8BB2227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3371A-518F-4190-9237-E264013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D6B-2A90-4485-8255-7BC9FFA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6DEFEB-A812-494B-8483-2429ED37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B65D1-F0FF-40E7-A31E-8C2EFFFC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0DEF8-383B-48CF-9D5A-6995A0E2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86C00C-4B7C-4184-8D53-01459D23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97682-E53C-42D4-A4F7-F57B1DFA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983A2-706F-48C0-A6E5-5B7F158A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79938-DFB4-415D-A020-79D688AB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24ACF-A771-4326-9EFF-0AACAA05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6787F-7E40-47ED-892E-72EA2E2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CD84D-C557-4E3D-B72C-4FC6BE76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2EE-4B58-4515-ADD6-CFDB936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BCAEE-A22A-4DE6-826D-FAFDB403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35D0F-59A8-479E-B251-ABA8BCFA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07CAB-53D3-4C08-BC08-2E0F363E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75E478-FF81-4808-B96F-2F57FB9E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1A7B2-999E-4690-BC67-6BA61C39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CA849-A60C-4C22-B318-23C3F1F4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7158A-1219-4F05-B62C-C834321C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0F35C6-1DA0-4DF7-97D2-F2FC41AF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DFCE2-6D8E-4E12-BDEB-4A783C84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245B62-05B8-4AE6-9FE4-D71FE75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B786-27C9-4AEB-8CBE-ECD21681A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E45C-597A-42CF-9712-00BDD8887E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2B5C-EFA9-4776-8F27-E47ED8D5E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EE60-E68A-45F3-B775-F89253A244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C89A-F92D-4E76-9783-D697E434A2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FCC-F2DC-4FDD-9C58-64DFCE3422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2689-9BFE-431D-A6BB-25EEF11023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3F96-F60D-4332-9039-152035E789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2E2-E2C5-4F67-857B-6D2D8B6EDD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E1CC-B919-4891-9DC3-E5C3AE4238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77D-F0EC-4D8B-938E-05B7D3BC4E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DC80-FD9D-45F3-93FA-7D0F3611D0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Chapter 10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Corporate Gover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ternal Governance Mechanis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e market for corporate contro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Managers often adopt defensive mechanism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eparation of Ownership and Contro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371600"/>
            <a:ext cx="8042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agency relationship exists when one party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principal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 delegates decision-making authority to another person (the </a:t>
            </a: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gen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are agency problem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Agency problem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ccur when the actions of the agent are not aligned with the wishes of the principal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Times New Roman"/>
              </a:rPr>
              <a:t>We assume that managers will act to serve their self-interests (managerial opportunism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  <a:ea typeface="Times New Roman"/>
              </a:rPr>
              <a:t>What are agency costs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56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gency costs are the costs of actions taken to solve agency problems (governance mechanisms) plus the cost of any unsolved agency problem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Examples of Agency Proble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1142640"/>
            <a:ext cx="8042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versification can create two benefits for managers that stockholders do not sh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creased salary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duction of employment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95959"/>
                </a:solidFill>
                <a:latin typeface="News Gothic MT"/>
              </a:rPr>
              <a:t>Free cash flow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y lead to over-diversificat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level of diversification that stockholders prefer is less than that preferred by managers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27960" indent="-32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wnership Structur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Diffuse v. concentrated ownership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Large block owners (5%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titutional investo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Governance Mechanism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What is the relationship between management and the board of director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iti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atification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mplementation (management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nitoring (boar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28600" y="108000"/>
            <a:ext cx="861048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the composition of the board serve as a governance mechanism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siders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utsiders (related and unrelated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11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How can managerial compensation serve as a governance device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Cash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Bonu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tock option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11-09T14:52:58Z</dcterms:modified>
  <cp:revision>319</cp:revision>
  <dc:subject/>
  <dc:title>Slide 1</dc:title>
</cp:coreProperties>
</file>