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2DF9-CD7F-492B-B19E-17F26A70F7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E1A6-07AA-4A67-80FB-A2C389E9D2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010C-C8F3-4C0F-9F46-EB0A4AFE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F41D-5627-4322-90E9-8D5FBBF6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DD5A46-F0A8-4381-BF4D-B5317582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29CD80-E6DB-45AC-B0EE-8FB48FA7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309462-A1D0-4A06-8D35-D586C086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3EEC44-C363-4339-A3EE-D875972C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8150E6-2EC3-4B58-A777-1681871F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A37171-8BD2-4437-B790-1A24420D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DC036E-921A-4914-B25A-382BB503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E03D5A-8326-4F6B-B4BE-BF4A7AD0C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48F340-4C45-4846-96FC-EF487AE37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9C1CEE-277E-4EBA-B61A-6B8AF217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E588-866F-423E-944C-6BFE4476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221BA3-E994-47E0-8551-0358EE5E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8E80B5-700D-4970-8FD9-9AF76091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13A539-9EA6-454A-91B6-22D998C3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731F28-C3E6-49A6-902C-A7D9E641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4656A4-1494-4FEC-A698-013E9910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AEA0FE-7C42-412B-8A4A-E076A25A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DC92C7-33BF-42E9-9E8B-7BA8F6C0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B1E3D4-47EC-45DB-BA25-905AC9EF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A85B89-F6D8-4D49-A496-BB09EEE6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E13638-B8F6-4C20-BA68-0CA41D69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7270-E250-433F-9F50-AC175E91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9B4883-557C-4FDD-B49B-C59EBDEC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5CA97B-2608-4864-B618-6A1866AD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C71A43-E5DF-44A9-9E9F-E5C63D9C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CF58C7-F907-44BA-84FC-68E6A543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8DE36B-593A-4768-91FB-1CFB9404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3BC119-7137-4DAF-BEF8-1CDBB1F4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46CE76-873B-45C1-B0F2-4A2094FF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B82BCD-A256-47D0-AED5-833DB216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F95346-5148-4DF4-96D7-B584B669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9E17A7-7DC0-4934-BFE1-997F5203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FE262-6CAB-4D1D-B426-D0A61A0C3DA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AFA15E-F7A3-4536-972C-FF37C6E6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3D1430-DD49-4D26-981B-FB65D0D0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12549D-6719-4FF2-B2CC-788917B6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F6F6E9-F574-458B-905B-1D225656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291116-234A-4D7C-B768-C589C47F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27BB6B-8F3B-4CEE-9052-49C8B2EC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8F059B-2578-407C-A899-F78228CE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BF9F07-2219-45FD-A891-D10E84DE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A383CB-0B10-4F98-8C01-387DC14B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4E9C88-9064-4977-A875-870F2B14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B2037-A766-4CB4-874C-3B336729FC7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6FE77F-BF4A-4D55-9FC6-0D99DC22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0A5D43-6968-4FA7-ACB1-234BF09C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8B797A-9C9B-4CE5-BEC0-018BBBE1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679BC7-7E57-48E7-B5BC-6C574C90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C9C6B2-64EB-4AE4-9D4C-D9C79F37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A1D933-6C88-421B-829E-23676C3A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8D6015-008E-4936-B22E-951EC832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9D7A0A-FD61-45E3-BFD7-46FF01EE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097641-128F-46CC-AB76-6334C825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8EF58C-981D-4671-B592-A38E53C3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AA3F3-2E33-4C90-A291-4303BE7C3F6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6E2BF1-A3D1-43E7-995A-3028233F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4380D7-81D4-460C-A0FD-53E7D47A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EEF9FE-0B18-47B2-AC2E-9CACC2BB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C277D4-ABF6-48ED-9B0C-04C9C202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D1E294-6EBB-4DF0-A608-8E6D8E9C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EEF33E-1718-426A-86C0-ABD0A09A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66EDFA-598D-40D2-A906-89009A39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75D927-EBBB-4C0B-BA41-CB57075F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B8884C-9892-479F-8108-D30178EF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C45C8C-52A6-4AC4-9D85-7CB01365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28D33-2F8B-4871-B4A1-25ED864B083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E8B9D0-52C5-42D3-B7FB-23F56818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76D369-7FB4-403D-AD6C-6308A049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3D342B-6B5A-4C7D-BCD4-C2E911CE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68D780-D0BF-4BB2-B0BC-B1EBE56C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B9DD4D-59E2-4E7D-BD5E-2471A7AE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289A9D-A16F-483D-9159-391D9BEF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2C1CE8-0661-4FF3-8027-E39B2151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D12704-8D2B-45DD-96CF-169E9A35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610348-F0F7-46C8-B58A-518668E5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6EB32-4005-4360-B8D9-B6D6959802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19608-52B1-44F8-B988-24EA67B14A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14B2F-40FD-42AB-900C-9661BBBC28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C875-F31E-48AD-A50B-986231C3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60492-6C83-477E-B1E9-8692876311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3C8E0-A95D-4C4D-B6F1-41B1BCE489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35A4D-7B89-47F9-BFE4-4FFD6FF57F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82834-F939-4676-BEED-CC80846FC6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09168-B3B7-4A42-8EFA-C2B55383726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F88E-512C-4976-B83D-D0B86582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1B23-76CB-4608-B837-39F93EB0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024EEC-5D41-4A86-9790-4C248C29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69FA-66B0-4C68-ACDA-17F183EF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B58811-A984-4281-AE17-01ABC8B5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CDD7F-C0B0-4BE4-ACD1-C96C4697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27FE2F-16ED-4B43-B893-DFD470F1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C3A567-6F5C-43B8-B2D7-9CE5571B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371A9-A463-48D5-AF7B-BCBB561C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991D18-B35B-4917-9308-412A9B38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FAF404-6416-4BCC-BBB1-CA423267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4285A6-7723-4B84-8864-6DD437D2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F00D1-7598-456E-BD52-9337C634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BFB5F-F3D8-43FB-AB31-65CC44E6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0343-5396-4C88-9599-C2F04351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87EA81-BB42-48F6-881C-9D2426AF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DA191A-C636-43C1-9380-49EC4EDF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C7F0C7-52DD-4D04-91E8-145DACB4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377999-DC22-454B-9D6C-0D8AC496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7BDC47-85ED-4C94-A6F9-FC0C8C6C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A457E6-347C-4469-A7C4-C545F330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12F83B-D0C0-4969-9F6F-6E653CFC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046B2F-B115-4BC4-8023-5F9C8319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E431AE-1B91-4E83-95DA-55425BC5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373536-B216-4CAD-9DD9-E462EB58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6B0B-EB2E-4819-B2C2-C40F87FD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C03B3E-6ED4-4FBC-8507-ABED1A0C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8BA273-DFA5-4395-9464-0078DE17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7072B9-20A2-410C-BAB1-638CF534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65407D-9B40-46DE-A1D3-0EB2AC971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5803AA-9D80-4744-955F-2AAF5336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A2369F-390E-4455-A37E-51A534CA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5F574B-0F96-4494-B75C-85CC50CD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394120-BE41-4E6A-AE8C-7E9699BD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D7D5E0-B3F4-4894-97A4-A1B5590A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EB4EB9-3B89-4DBB-B697-9B15E3F0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8BFF-0BF1-491C-89BE-7E7DCC54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7790E6-556A-49AE-BA8F-C19C4232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229C72-964A-4302-847F-F1024EB1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B48630-2547-4C83-9411-3877F2E0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C15785-BD26-46AE-9955-EDF25E6A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9F5386-6927-4E79-8A95-5A314210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446AF1-5038-40D7-83A7-7C86CBAB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5F1B2E-E66D-4613-926F-D4DDABDA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C8DB6F-5686-4610-A598-50F03F6A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F46475-4FA1-4704-884D-B5A31D47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2024BC-F0C6-428D-85A8-E7728EE5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64D4-8B3F-4A94-B101-185298EB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1217AF-A1E6-48BB-BF1A-75F53198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711049-B2AE-41BE-BBE2-45B3ABD0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1AAF19-C6D4-46D5-BED7-CE4C1A4A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260EB2-7426-4B44-B79A-B8B27AB8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F6B994-D5F6-4016-A559-80A3F69A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54F4F2-7411-42F6-AFAF-E7257343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96084B-45C2-4312-AC7F-474859FF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A0A76A-82E4-462E-97EC-72526AAB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7DFBA8-381A-4475-9056-9E8407BC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62DDAC-D0AE-4406-9E6A-A1D06403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6DF4-B096-4DD4-8FE7-47D1429AC9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84DD-0243-4E09-A707-B343AFE278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C8A1-CA9E-44FA-BD03-8790F54ABC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785E-23EB-4601-8121-CCDF3E8F54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A8AA-5049-4F7F-A502-AC24197B68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B900-0AE6-4EEB-BDF0-6BFEEEC60F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C329-E438-4774-B1DE-0EAD7F32B5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E063-9558-4434-9F07-742B409EF6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F8D6-1795-435B-A9D7-9DCE6AF689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D370-B949-4BEB-ADAE-E98D855BEF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0E8E-DEC8-4F89-A045-8E13BBE342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F485-C63B-4578-9EE8-103E57A966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1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Organizational Structure and Control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structure specifies the firm’s formal reporting relationships, procedures, controls, authority and decision-making process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wo General Types of Structur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ureaucratic structures (mechanistic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c structur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organization’s control systems are developed to guide the implementation of the firm’s strategy, compare actual results to expected results and take corrective action where necessar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v. Financi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492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Financial control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re largely objective criteria used to asses the firm’s performance relative to previously established quantitative standard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controls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are largely subjective criteria and examine the fit between what a company says it will do and what it actually does. There is much less emphasis on the importance of outcom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Evolution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imple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nct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ultidivis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wo Elements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entr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orm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1-09T14:53:59Z</dcterms:modified>
  <cp:revision>316</cp:revision>
  <dc:subject/>
  <dc:title>Slide 1</dc:title>
</cp:coreProperties>
</file>