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2C34-10FB-4336-AF88-BF4BBFF6AB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B54E-9FEB-4900-A320-9D262C0391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7E8-564C-44E9-9EA7-DDF02858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C0E-CBDD-4F78-A86B-4A489F7D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5DBE3F-94E0-4A8C-890E-876BED3A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011F6-4B97-443D-B2D4-E9E9801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0B7E0C-FD00-4C86-BC81-AF5C6886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89C141-157B-419A-9DB7-A278D50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36BE37-834F-4CE9-8715-179A6285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314E2-C59E-4545-9412-C9CF74C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3735F-0754-4B42-A616-79085255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FD11E-E3F1-43CD-BA8D-C27991A5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24E5B-F562-4EF7-8FF1-99E8E76C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54F33-5CC3-4133-9086-998F6AFB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ABE4-275B-4662-A1B3-FA9B27FF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5A4A8D-EEF2-4109-A09C-06E2A890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85D21-35BF-469C-B4B6-024540B6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E2A480-C343-4846-ADC6-86326627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B5424C-D43F-49B2-9722-100247A6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BAB07F-DE4D-4704-98E0-AF004BD0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5EF857-BE41-4FB7-A4D8-000CAEF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45E0FD-4DB4-4533-98FF-9F9247A9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F69409-0038-43A2-8AE6-B593D9F7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C3833C-E605-4B11-8392-26270C4F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A7E7D-1EAD-413F-B930-83B3FBE9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D4F-3D08-4652-8062-8CF24999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0F3F65-3854-4563-8C75-90570811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46F7F-508B-4428-AF43-F8F1206F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300B88-8275-48B3-97AB-BF2347F3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FD54D3-C7FF-4E13-BA9D-831D6876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1189A-7CDB-4430-9244-CAEE0950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0A0FC2-C4B1-4291-A362-D11FA8BD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8199B-25EE-4021-821E-F1AAD759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3761C4-4ECC-4827-B344-B21B3853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975C5-3845-4566-B632-1D0899A2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FE4467-5919-415E-A13E-E57FB7EE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EBD38-0042-4EEF-8938-AFF1001EC80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64668B-84AC-43D2-84BA-3F6FD5E3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76092E-9CBB-4621-BFCC-F2773BAE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602BD-4726-4A47-A35C-C8914E2C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758007-E387-4F4A-98A6-C1A37CE1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6BD8A6-8D45-4ECC-B7D8-103C7B8E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A0152-32F3-452A-80DC-ACA6E27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BF0315-0740-4103-9575-F3C7A999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DB2395-658A-409C-9353-2E63A0E2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BA67C1-4C34-4C58-8283-85DEB608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2AE7EE-9B34-41F0-B95B-8029B59E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C7481-9F62-4FD8-A8F4-2F9BE703F7D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3D9116-9CAB-4E24-B283-CECC0F74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5F7C6E-F369-428F-815F-C9E84B1E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2E464-154E-4DF1-B7AC-E7FA072C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B0F1F7-B796-45BB-9644-84271E8E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6600C2-BAC5-493D-AB2C-354201FC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142D0B-2CF7-42F0-AF5E-2A541932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FCC1ED-0614-4DE9-8BD7-5F606410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DF5F63-AA42-4B19-861C-D4095E42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9F331D-AE27-4ABD-8787-BA0927E4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6EB76F-CEE3-4FBB-82D3-8977CB49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6FD9D-775A-426D-9526-6E8F7B55566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ECC950-08DB-4BD1-B137-9F21B187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FB0CA0-48E8-4E94-B49F-F9FA33E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C97714-673D-46DC-9D85-27D88954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EF0410-8B6A-42DF-91AF-C87417C5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071C92-3F2F-42D8-A464-8002B4D2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9529C8-AB16-451F-8853-25306E47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848190-F615-4047-AF4C-7A52A3D3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B0DC14-DD48-4132-93C6-AF637A75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F10044-CD0F-4367-AF94-F86BDC23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5DF6A2-6ECF-4B2C-A579-84CDF2F3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D82D5-15F0-4B53-8E2D-CFE5C1D60D2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0DA4A1-6AFC-40FE-8561-76737E08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B07DDC-4BF3-4D58-A0F1-36EA4255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720BA0-0208-42A8-9D59-34D8F69A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A70F7B-AA72-41E4-B37D-353DF9F1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66D653-5328-4FFB-896D-BAD63E41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7F0BE3-792A-482E-A81B-2F2C4FFC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E28A34-2A99-4EBC-968C-3CDA58F9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F65865-2D40-4CDF-A9A9-6F603470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7AEE59-CA50-4C03-A764-B9C5BF8F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CAF58-9DF9-45F0-B1A3-5E94E0F6A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54623-338B-4955-AE39-A9BF7B2CCC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16056-C3A3-4547-95F3-33F7117458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C09-25D6-402D-BF37-1B8654D9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22E9-0BEF-4E50-A90E-29980722F8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FB8E7-B46D-448D-89E2-81E17348AA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DCDD2-7099-4B79-9D0F-254357A7E7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53573-6B6B-4143-9FF1-73E4E0ABB1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3C5E4-3A9E-4503-9688-04F355860E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5D6-3004-4122-905F-D1CD6392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CD4-2933-4AFB-8B68-616DCB2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759F6-6D34-4773-A38B-809F88BD3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F441-FF39-4409-B686-C4C5A250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F8AC6-B51C-4FFF-A778-553AE13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8AD47-267E-40C5-98F8-48217CC0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BE3546-29F7-40F9-B0F4-35805A16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93BA2-9AD6-444E-9FF2-B5BE4BAD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1E640-CA16-4AE3-9981-32F7A073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85F75-BF3A-4CE9-BF35-B74E2C1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ECF9E-997F-4EF2-9FB1-3EAD7267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064D4-6F52-4D6D-81A0-56C9399A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97CC1-898E-4482-AC90-3CDD90EA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0F396-BCF7-418C-B55A-B7DA15F1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986-D327-41B4-979D-5E99276B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F38BC-DEC4-4730-9D6D-9F5B413F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D948D4-9815-44EA-852F-F47B42C9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CC8B5-4019-419D-A22C-1C65C5C6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AFE1D-C43C-46B8-95E9-08D7A70B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5A76E-3D34-43C3-A920-974BE644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29F7E-C96E-4BBD-BD57-81B21E42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EDCB7-C6D2-4DE7-875C-4C5A0506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C354F-7C83-4FCA-B82A-8FA5F3E6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F7181-C817-4ABA-85EC-53174653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5CF3E-2C3D-4840-B99D-0B42B1C2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37D-6782-4D7F-AB32-8CC1FCDD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D4EB7-99DC-4A83-921D-EDF98CC3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2617D-23A4-47CB-B9D6-F356A0CC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93265-80E6-4B31-AC19-4712D6B5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EF968-DE23-4E27-9F7C-46D5F5CD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ABBF3-BD60-463D-8439-F646A85F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77FC3-90E5-4B97-A93A-622EE5A8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19381-E935-446D-9F0C-C3B49106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0E417-C0F4-4ADF-9AC5-2E8027CB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C93D2-BCF7-4DA7-AE74-50AAAB03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6692A-1E6C-4FB2-9EFA-D4164C3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7A6-A6B9-4FAA-902D-5CC1D2F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C8321-FFA1-4F95-8836-FE282078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AA340-51DC-48F4-AD51-3B007618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4A82C-5BA3-4BCD-911F-6CC25182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FF0A69-FF4C-45C4-874C-E6293280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97F80-0085-455B-A983-AC6F6AFE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13C7B-7625-478A-872D-835553D7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F056D-E0CB-44EA-985E-8C3B2889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9C7747-1B90-4F59-B4EA-969F7CFE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779D0-876C-4035-8AB4-3A935355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6EE4C1-8388-4776-BC9B-684EC2B6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77A-E31A-4CB8-A315-64C32565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888C03-998C-43A0-85F5-D02FCA32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74431-F6D5-42DD-87E9-A176E2B7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1B5A0-5CFF-44B7-9245-76BD9E96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25CEF-BE51-4892-866C-807E2E0F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650D9-2992-414F-A435-6B883882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D665F-0EB7-42B8-93DB-FC7A91AD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0A778-EDC9-4D9D-B96F-9B8B8E4B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BC30B-BEE3-434B-946B-BC9EA528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1022D-C733-4963-ABF5-1FE2AE7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8F24A-59B1-4575-A380-DCCC5795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80DD-0AAB-4B94-9587-7F5BD795A7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33D9-BF94-4C87-BA64-D21E0CF1C4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DB36-413E-4C5D-AFD7-D9D01F5EFE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C1A1-BC45-4885-8E39-2DA30097FD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448D-05EA-4FCB-853A-C4A49EEA29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A5B9-06BF-4BDE-9E1E-ECC8DB1110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B546-371C-4E9B-96A6-D59AE7A202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8686-A4AC-4E4F-BD71-E7E68B72F1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4C04-A36B-47FD-A291-47669A5DF7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441-C11F-4C5E-A367-6C6483071E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9094-7A15-4471-AEE8-FACCA221B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FE64-875C-4F13-BB58-32D0257523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1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Organizational Structure and Control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structure specifies the firm’s formal reporting relationships, procedures, controls, authority and decision-making process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General Types of Structur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ureaucratic structures (mechanistic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c struct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rganization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organization’s control systems are developed to guide the implementation of the firm’s strategy, compare actual results to expected results and take corrective action where necessar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v. Financial Control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492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Financial control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re largely objective criteria used to asses the firm’s performance relative to previously established quantitative standard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controls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are largely subjective criteria and examine the fit between what a company says it will do and what it actually does. There is much less emphasis on the importance of outcom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Evolution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imple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nct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1400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ultidivisional structu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wo Elements of Structur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entr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ormalizat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3:59Z</dcterms:modified>
  <cp:revision>316</cp:revision>
  <dc:subject/>
  <dc:title>Slide 1</dc:title>
</cp:coreProperties>
</file>