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4268A-BA72-4B65-BBD3-E2C280D97900}"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F4E8-C85E-47B9-827C-424ECA960938}"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835D0-0A59-4EEC-B15D-E43E4661A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F6F40-C840-4605-A5E8-573140475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7420113-4343-4DBA-934A-692080A75C4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D87D6B2-1204-465E-AFFC-B7DF010C65D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A3129C1-AEBA-43BA-B40B-AA871A33B39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7D372EE-7A88-4D83-A3E7-1AF9D263AE3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8D71F4C-7E77-4B92-9DCE-ED71A301AE8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D17BDEB-AD2C-4212-BF3C-4585719027F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64154B6-5ECD-4398-ACD4-F29CC592073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079A6B8-D3DE-4345-A98B-121D24977F5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0A90EF9-4F9E-4852-9363-8F765FE4A9F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198AAD9-C8A7-4870-B87E-71DFC8DA9EC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CE163-6D41-4EB6-B97B-3FC7BEA2F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B328410-B31C-478A-9D9E-454F64ECC45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D52C08C-4F0F-4C5C-8DEF-12963FCB206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077EE3E-AAD8-4B49-9C54-30AA2B21738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3C84729-CACC-4945-A3CA-52AFA939824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765059E-5625-4EE7-A524-D8BCD266B49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B27F605-226F-411A-A4E6-E0212CD7C8F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4765080-B608-4F57-8674-5A5E2F8BD6A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64D5F29-7471-4990-AF67-4B419A04A09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E5249E0-DB49-47C3-A6F4-BC3E4392E27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F59493D-5A2B-4343-87C8-A2AFC6B6A42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6BAC9-427D-4EF2-A6C4-D098E0393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2B0BF56-C024-4FC9-9533-2933981F353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0772B96-754E-4BDC-BA29-1AB9E3DD4C2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36E48F5-6444-4E03-BD39-6C29A6AB713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93C30A9-6E9E-4DFC-83D9-363AAC3B4F6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90944A4-3DA7-41D4-BEE9-90297B4F962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379523C-BC6B-4F51-B2B7-02BF0886CE5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3E7A767-B2F2-42CB-9BD2-623425A6B53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7AF24D4-039D-4481-BCB7-9658F070F9C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024ED03-D8A3-4085-9E97-F06658BC2ED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0940DAD-4DCC-4B5E-BD82-A561BB10241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A03768-EF7A-4B2F-A0F2-673D63AFED8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707ECBA-3A75-40F8-AAF2-8CF34A5606B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3F296C4-ECF4-4865-9A0C-1BB6E8206F5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2439465-EF7B-4757-831A-B4D2924E14B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5F46225-EF66-42CC-AF8C-6A221C6A655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D36AC5C-8734-4006-8E6F-288C6A73B06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D8AE9CC-D1CF-4BF5-912D-4AD864A3AA8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459720E-9493-448C-BF1F-2BC8D896F98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CDEA8AB-0B5E-4CBB-B32D-4BEA1000D16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37FCC41-63C0-44C8-B16F-70CCC086A38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40224B0-0E53-4B8A-8C7F-E78DE169563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5EF989-1678-4BBD-BB17-F28C68AB826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A8E0D1B-7F0A-4A31-A35D-67AE858B7A8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B3692D5-7394-4D25-BD65-5F5E811BCCB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A1B6F45-128F-40BA-BFB3-016901858B6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FAB40F0-7591-4259-A95C-C2919C02A8B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1E2D59B-74AE-4F30-80F9-A46FA43F11C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FA4C183-E6C6-4CD2-9F49-9CE3D2B5B1D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D6A2D8D-B78C-4333-8582-BBA0D9D57B4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D9F8A83-831D-4D0A-A079-E57A3CE971E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A5422E8-DD3A-451C-A2F5-D6B7B36B68A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29E2F69-9115-47A4-A128-913BA83CC08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8EA015-E7BB-48A2-B006-FE208FD1E08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59DEEE0-4125-416B-9C97-3AD014A37AB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320EAB2-A396-423D-A671-66F42D8F5FF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3D6662F-D8BD-4D2F-8A9C-38280CB473F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9DA130E-7263-41B5-835D-A239FB269A6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3310416-7AA4-4A3D-A861-4C220F9C130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94CDBB5-D70D-43C2-94A8-5A85B56F3D2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DFB155A-BD89-4E37-B519-748868913EE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C697EC00-6723-4F8F-BA9D-162E0583D704}"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E3C436D-7F2C-409C-8CA2-20AFF5F672E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FF37C6A-28B9-40B5-926E-A81EC5880FE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354F1F-1F45-4B12-8710-D6ADFBE11B2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48726A9-6660-4582-9BA5-F9F983A27C4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7FB52ED-2668-461D-892F-C130F162966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F2E1B06-0664-497B-B05A-82F4F6F601B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726C09A-0F9B-4E10-B45B-CD63EBDF6EF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65D8EA1-7F3D-48CE-941F-81022118D98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0AE2C65-9D2F-4BE3-88C3-5DFBE46FADC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FF23705-CFD6-49B7-9B19-8E6AAD8BD5D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4EDC73F5-B92B-4EF6-A236-CC777AE8E90C}"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B3A2D5FA-B2B8-4566-A9A6-F080A409450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5524A5-44C9-49AE-8AC0-90364FFA5218}"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C527C3-895A-47ED-9B5D-A8991F8C8F39}"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63AB33-70FB-4F20-AB37-81A41A26AB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B93BC-B2C7-4098-AB74-C25156C1D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2749BF-3731-4D11-87BD-1C0051517E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D0FB56-A22D-47B5-ADC6-3B0D7798B6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9BD0E5-3562-44B2-8C66-7ACD3C6260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AF5BAA-CBD6-4F4B-A307-D78294198B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1981DA-BD69-4F8E-9E58-DA6C31B0562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680DF-2A4F-4C8A-956F-318E00FAF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9AB7A-263B-4F94-B980-C4A96D19C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EE6C261-1EF1-40ED-A2C5-A208A8F645F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75995-2591-42A0-9844-A7521424E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4118D2D-C180-4255-9134-786D57C5568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1679A1F-F068-4B85-9F7B-7BDBFB246AA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16631F1-37B2-41EC-A5C9-5805444339D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738BB8E-BE8E-4D57-AE6B-D55AF1A1F4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63FD44-E584-4FFA-8855-8717C5FFAE8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5721DBC-2AC8-4053-839E-3E3CDA75488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CD7C3EB-176D-4A7F-AF86-7230B6CD8E5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21472A-4A09-4F5C-96AD-0012DF4170F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28A0A4E-8DF6-4687-9581-EA5E5CAB958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62BBD12-F268-4103-84CC-F5BC0F42C3E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E97A5-C26B-4E99-B697-1750718E8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BDA8149-8B49-4D35-9CB3-52DBC20F523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D537648-FD57-4233-B9C8-114363947F3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076BDEC-8006-4BDE-A51B-B407446AEE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586B7BB-29AF-489A-ABF5-020C2D09CE6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89096C3-E8EF-4A09-BC1C-0F74FC2DD68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41E35F6-9BFA-4CD9-BD43-EE8DC5CDE9D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13350F7-C56D-48F2-9A68-3CF376CF78B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DEB18BE-BCC2-474E-B3E8-D0DC25F77F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6DF4BC-94DB-420E-A230-D084D2264B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16DE7C-40E3-472F-917D-DFD899D873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B62D4-5825-4932-B79D-464330723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1BE8A9B-2133-4F21-8A82-EB5E2AE42D8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0FC41F9-E6B0-4D35-B9F1-6E729F70258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52CDDC8-B4BC-4F0B-BD38-847112996EC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E507F0A-2B98-4306-BBB6-0E0CA038144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2E29CBA-8A14-42F1-BED7-EDE6E6E90A1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70488DA-05AA-439B-BD44-87244BA6E54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15B96B9-FA36-4D11-8822-64581AF4382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7927FE5-140F-4F0D-9F29-BFC0776C475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EC84AA1-5F5F-4BFB-87BF-87D11107A56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B8F8929-F2F2-4BA0-AECA-5567344377F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0252E-221F-456A-A00B-58C196D11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B8EE6DD-9028-4232-84F8-D6FD3D2E7B7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5C55B26-1CD5-4B33-AF66-9792B473B47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9F9EE86-FDBE-4405-8828-97E1158938F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6D4DB59-06F7-45AD-BFD3-0BDEDDB144F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3062E22-9C0D-4503-9BFF-E304703FB68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3C5730A-05D1-40DF-90E9-86A3EADC149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05FDCE6-5BFF-4CF3-A95E-2294A789790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B31EE51-5069-4A89-8379-D3E9C1B01FE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E463266-6166-4DAD-BA09-53F09874BDE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E55C5C0-0414-4CC0-BAA6-4BF83E0346F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A2DFA-8A43-4B89-893D-580844464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F412E41-CB87-4472-84C3-586150657BF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1726488-C730-4F5D-8D9D-792EAC8C273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26C087D-A88C-4D4E-8BEC-05B4FE9D66F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2EE1357-2B87-4C97-B407-0ACE92740EF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B4199C8-5B01-41FB-87B9-24E5104F7AB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ED47F1E-B418-4798-B1A7-587AD36C292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17D1FFC-92BA-4530-A59A-C7825BA7A8D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AA3D106-CCD8-4E83-8A69-48B13E85F8A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405A0EF-DFB8-4D75-9D27-8311AC906AF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965D9CA-6491-4F49-8050-44FD5B07F585}"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A98C2-6FB4-4030-88E3-46D6102F63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C60D-6178-4E93-B351-52F86292177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39938-82E4-4A7E-A5C5-212AA30EDE2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24F8-B02F-4A4B-8B2D-F4870CD962A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6A79C-A68D-4EF5-89D4-3349E030FC9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621B9-9B33-4113-8FCF-D9DCB02B7BD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FC61-E894-4696-BC52-1DC4C651BE0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68EF3-AE58-4FB5-A817-7CA002ABC60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858DE-730B-4DC6-8E08-452CE391AEA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ABFF-5159-46AE-A0E7-8BFDA990669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0B92C-DD53-4893-B44B-86E2AAD779A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D699-2694-4F41-B05A-7B0EA23F622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6</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Motives for Diversification </a:t>
            </a:r>
            <a:br>
              <a:rPr sz="3200"/>
            </a:br>
            <a:r>
              <a:rPr b="1" lang="en-US" sz="3200" spc="-1" strike="noStrike">
                <a:solidFill>
                  <a:srgbClr val="ff0000"/>
                </a:solidFill>
                <a:latin typeface="News Gothic MT"/>
              </a:rPr>
              <a:t>That are Unlikely to Create Value </a:t>
            </a:r>
            <a:endParaRPr b="1" lang="en-US" sz="3200" spc="-1" strike="noStrike">
              <a:solidFill>
                <a:srgbClr val="ff0000"/>
              </a:solidFill>
              <a:latin typeface="News Gothic MT"/>
            </a:endParaRPr>
          </a:p>
        </p:txBody>
      </p:sp>
      <p:sp>
        <p:nvSpPr>
          <p:cNvPr id="662" name=""/>
          <p:cNvSpPr txBox="1"/>
          <p:nvPr/>
        </p:nvSpPr>
        <p:spPr>
          <a:xfrm>
            <a:off x="549000" y="1599840"/>
            <a:ext cx="8042040" cy="4724280"/>
          </a:xfrm>
          <a:prstGeom prst="rect">
            <a:avLst/>
          </a:prstGeom>
          <a:noFill/>
          <a:ln w="0">
            <a:noFill/>
          </a:ln>
        </p:spPr>
        <p:txBody>
          <a:bodyPr anchor="t">
            <a:normAutofit/>
          </a:bodyPr>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titrust regulation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ax law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performance</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isk reduction</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urplus resource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ducing employment risk</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Increasing managerial compensa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level Strategy</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Answers the question “what business or businesses to we want to be in”?</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The corporate-level strategy is </a:t>
            </a:r>
            <a:r>
              <a:rPr b="1" lang="en-US" sz="2800" spc="-1" strike="noStrike">
                <a:solidFill>
                  <a:srgbClr val="595959"/>
                </a:solidFill>
                <a:latin typeface="News Gothic MT"/>
                <a:ea typeface="Geneva"/>
              </a:rPr>
              <a:t>diversification</a:t>
            </a:r>
            <a:r>
              <a:rPr b="0" lang="en-US" sz="2800" spc="-1" strike="noStrike">
                <a:solidFill>
                  <a:srgbClr val="595959"/>
                </a:solidFill>
                <a:latin typeface="News Gothic MT"/>
                <a:ea typeface="Geneva"/>
              </a:rPr>
              <a:t> (away from a single business strategy).</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attempts to create value for the shareholders.</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What do shareholders value?</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704EE93C-E803-4F14-910E-31EBCBEF4B05}"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0" end="0"/>
                                            </p:txEl>
                                          </p:spTgt>
                                        </p:tgtEl>
                                        <p:attrNameLst>
                                          <p:attrName>style.visibility</p:attrName>
                                        </p:attrNameLst>
                                      </p:cBhvr>
                                      <p:to>
                                        <p:strVal val="visible"/>
                                      </p:to>
                                    </p:set>
                                    <p:animEffect filter="blinds(horizontal)" transition="in">
                                      <p:cBhvr additive="repl">
                                        <p:cTn id="7" dur="500"/>
                                        <p:tgtEl>
                                          <p:spTgt spid="64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12" dur="500"/>
                                        <p:tgtEl>
                                          <p:spTgt spid="64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7" dur="500"/>
                                        <p:tgtEl>
                                          <p:spTgt spid="64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2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 v. Business Level</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a:bodyPr>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is concerned with what businesses the firm should operate and how the corporate headquarters should manage its business portfolio.</a:t>
            </a:r>
            <a:endParaRPr b="0" lang="en-US" sz="2800" spc="-1" strike="noStrike">
              <a:solidFill>
                <a:srgbClr val="595959"/>
              </a:solidFill>
              <a:latin typeface="News Gothic MT"/>
            </a:endParaRPr>
          </a:p>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business-level strategy must be selected for each business in which the firm has decided to compete.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4E87EED0-AF25-4949-801D-E04448D4A731}"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29" dur="500"/>
                                        <p:tgtEl>
                                          <p:spTgt spid="64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34"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The key question is . . . </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When, or under what conditions, can we expect a group of managers within a single firm to more efficiently diversify the firm’s portfolio of businesses than an individual investor could acting on his/her own?</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or the diversification strategy to create value, two conditions must be met:</a:t>
            </a:r>
            <a:endParaRPr b="1" lang="en-US" sz="32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economies of scope among the businesses. </a:t>
            </a: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an efficient hierarchical form of governance (managemen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What is Synergy?</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ynergy exists when the value of two or more firms operating together is greater than the value of these firms operating independentl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us, a successful corporate-level strategy involves searching for sources of synergy!</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is the relatedness hypothesis?</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versification among related firms will outperform diversification among unrelat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are the levels of diversification?</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diversification</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ngle business (95%)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dominant business (70 – 95%)</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oderate to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constrained (many links; share 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linked (limited links; share in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Very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unrelated</a:t>
            </a:r>
            <a:r>
              <a:rPr b="0" lang="en-US" sz="2800" spc="-1" strike="noStrike">
                <a:solidFill>
                  <a:srgbClr val="595959"/>
                </a:solidFill>
                <a:latin typeface="News Gothic MT"/>
                <a:ea typeface="Times New Roman"/>
              </a:rPr>
              <a:t> (no common link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Motives for Diversification </a:t>
            </a:r>
            <a:br>
              <a:rPr sz="3600"/>
            </a:br>
            <a:r>
              <a:rPr b="1" lang="en-US" sz="3600" spc="-1" strike="noStrike">
                <a:solidFill>
                  <a:srgbClr val="ff0000"/>
                </a:solidFill>
                <a:latin typeface="News Gothic MT"/>
              </a:rPr>
              <a:t>That May Create Value </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Economies of scope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activities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core competencies</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Market power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Multipoint competi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Vertical Integration</a:t>
            </a:r>
            <a:r>
              <a:rPr b="0" lang="en-US" sz="2800" spc="-1" strike="noStrike">
                <a:solidFill>
                  <a:srgbClr val="595959"/>
                </a:solidFill>
                <a:latin typeface="News Gothic MT"/>
              </a:rPr>
              <a:t>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Financial economies (un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Internal capital alloca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Business restructur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10-12T14:11:49Z</dcterms:modified>
  <cp:revision>319</cp:revision>
  <dc:subject/>
  <dc:title>Slide 1</dc:title>
</cp:coreProperties>
</file>