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D651-A40B-40C0-A3E1-A3339FC1C3DF}"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F5D9-7C31-46FA-95DF-61D4CBD0F2BC}"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3ED8-ED31-4688-9788-5A1D4F552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1198-AA3F-46CF-A7B6-64A5AFCC3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485110-15BB-4840-9F2F-3938DAC24B7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34F2DFB-CBA0-4B2A-BFFE-82531F18B0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30B3D8-6A70-4E6A-997E-B0D3F1F1FCE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54F140-3F19-497B-87E0-34A0BBA90B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87A306F-C943-4C60-9FCE-3E4E26DA128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6119D11-B26F-4273-9A8B-628A18F6AF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EF0BFE-3F3E-41EE-B464-B12B0062DDB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25B097-AB9D-42EB-9310-CB014A9CBB8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3870D81-8E49-4F13-B962-B12E6061D73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3868866-74B4-423B-91D1-9862E1C9DED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409FB-B363-4D05-9C11-D5918EE04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FA6F58-CA69-417A-9E12-DC10830495D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3ED7224-10A8-4777-B7E5-E6B17D123D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76F188-0375-4279-9314-9CD8946E7A9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768060-7510-4C66-ADAB-DC781541905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8215759-C15E-4E62-A796-6F2BD4FE18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159AF6-643A-4D61-8134-BAF0DF01EF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DD54FE-E9EC-48EC-A5E8-7F540CDCF86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07C5CB-B0A4-45C1-8340-E39C253FDE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00711A2-DE0B-4258-8323-F15F08ADB30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EB7D3B9-CD72-4CDF-A56F-E4EF97BF815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65D22-CE87-4025-AA10-D55812498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C00BDB-7603-4191-B0FA-7A31ADB7264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1D4D1ED-0552-462A-BB22-5003DA36AC4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F65DA4-E381-4C53-AF4D-FA43F2AFD72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0EE82D-996C-45C3-99E4-F66F317B756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517191-149C-474A-9290-4A7CF4ADB98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439E3CB-B04B-41DF-8730-1AFC1AF1DFB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59424A6-B7F6-47AB-9620-7F56A8FADDF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B01377-5DD2-441B-8009-8F7188BE8E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A4366E-C35A-4B75-AA3F-08234E0861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0CE16A-33AC-45D8-82A4-7D233AC540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98FC9-A250-4EC5-A2C1-A5013DB8FE3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A2F632-7BBA-4753-B746-8F4BEB9C958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E215EAE-FCF3-4944-B48D-C22CBA6DE19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4DBC600-A3A5-4595-A630-004EBA58E29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977E815-0469-402A-8548-3466564D28F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A988DF0-EB85-4997-8270-5AAEE6F5593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FD4ED8A-1F21-482D-8B34-D8F2BF432EA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53C7582-AF2C-4D85-9FB8-682E70B73E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D7DF594-1EE7-4691-B8D6-63E16F8ACD4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C96B5D2-CD9B-403E-BC9E-2851260C07F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76785CC-593B-4621-8CFA-18A2E02FB0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1E6544-5C7C-4CAF-BEA5-F21228C8867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BF2996-97DD-4A35-A4A7-D63322C6BA2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A581E8-1FC1-4AB0-8ADF-EA083564C1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47EA834-9AF2-46C9-AEA3-CE7387EC4C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8739E94-AAD3-4447-83AE-10A1825595C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37B2700-7A42-4929-B8F6-91DCB272A90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87E7EA0-775A-45A7-9AA8-C0D8A22B1B5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615A9F-B645-4251-BAAF-309682C0ED3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EDDD7CF-62C8-412E-9579-7D9695CAD8F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73731AA-722A-4B6B-944C-F1A41B46B5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59898D-E651-450B-9B93-1956E5A4906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9C268B-C82E-4335-8418-9CB59462E5B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49E4A0-B85B-4C03-A0A9-CBE96396868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F4FE64-06BD-411F-B9F6-93642FD127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50662F-5116-4E59-85C7-8D4CF639DCE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9D4E3C5-D93C-425B-84A9-9CD93031EF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DF99B9A-205B-46D8-A0F4-28FD4368E5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98951CB-5E63-44C3-ADB9-02C8C64A305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D0596E1-3E57-421D-9B23-497033B582E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FDCD75B-72E3-4810-9037-6938F46B550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DF61492-AD7E-4D37-B19A-4DC9FFF39A2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74984D3-780D-41EA-BF23-D5FC3BC3EE1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F5954A-D5B9-4D52-9CA3-26A7BAE057D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50FFBFD-5945-454A-94D4-2C5C85CD221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8702EAF-4E8F-4FDB-8A78-167A11348B8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FEAB2E5-3158-4AA5-8E67-CD35FAF30D6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E62AE9-4682-41C5-BA0C-6872DDE737A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408002C-C2DA-4666-AFBE-3FE91A2A21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A1268AF-540D-4613-8266-E8EFD18945B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DD03DA7-E21E-4250-B105-F091288F595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94F7918-FDCC-4ED4-82D6-F1A5949E363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51EB997-E81E-4092-985A-00F18B56325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15513-6DB0-43DC-B1F6-4B99E303A32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B9C3A3-738B-40DA-B092-EF57918A7FB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832C5-F815-4E37-8C8B-DD60064BB0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D10D7-2897-45F1-9105-0C5DDF31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80440-BBE0-4307-9045-48A0140554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C2508-FCE6-4152-9A22-D4AFAC93AB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89D1BC-09BB-468A-ADB8-1287E030F6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1F491-46C2-48D4-8EB6-20763FECC4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B2ABAA-A742-4E81-8757-DFEDE29C075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59C06-B3D5-4DEF-9A53-F4A5C86A1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9BDA-DAFE-45E3-9202-E234E7CF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1E58E2-1D69-4F99-85DD-2AF592D443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9E9C5-903F-4E32-BCDA-5AE5F20E8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002341-C49F-417F-905A-35CB5C8717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548EC4-2153-4BDD-9874-D63FD696B7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3098987-D980-4DEC-B4C9-DEA2E2F8859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3064E25-1BBD-4DDA-8BFE-504284E719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8BB672-E55B-4AF8-81CA-5924868BD0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F1E490-2357-44F7-9D0C-4207F7916E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B02D09-D61F-4010-B8F5-7CB5A60F2C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DB00A2-AF73-46FC-9BFA-7C9A8B9AE5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80E8F3-086D-46A4-94A5-3CB1048781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4CEBAB-2A92-4AE9-BD0B-617DF69EE5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E14F-EADD-4B91-92AD-B412084AF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629F9E8-AEBF-4B17-91D9-EC3B89CE939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93B69B-84B6-40D2-A54B-F412FA9BAC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0161BF-1619-4A58-A54F-59967CA646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64154B-A5BD-4FDA-9283-62DA9609A1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BC93C8-6453-4E03-BD0D-6FBD5A7E8D8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07968F-D655-4DCF-A0C8-DCDB7C8FB2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1766DEB-61F4-49F1-B75D-110DA239CA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08C2AB-3A88-4174-A354-F0F73AAF34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E024C5-68B2-4658-ADA4-AE657125D1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8C5875-E686-4259-A99D-D42D55BC56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16C3-ACE1-4FD4-9086-ABE49BCF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931AB0-DEDC-4AA0-A9CF-C6CCF400EC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987EC6-D077-4929-BA67-B5C4681875D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4210C2-BAF9-4E8A-8CA0-52D2DE6604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9046330-42C5-47EF-867A-8054368CFEE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C58D3A-ED6B-4A45-9A80-DE8681165D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4EE18D6-82E2-4264-9B6B-03CBAA87E1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A401FE-C0C8-4B58-B4BD-591652EF02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296B8E1-09FF-4F72-A687-A156C72D49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32919D-3B82-4DC5-80F3-EBB3492CE5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A2847B3-C04B-4A6E-A3D3-02BF9A4369D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9BF6-F146-406D-8D53-308FF9C2B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5BD53D-351B-45E6-B2E4-F66926912C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A468261-68EE-4ACD-96BE-B32F7996C9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1407298-D3ED-45FD-972F-AC18482704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DB2EEF-6E25-484A-9AAF-2542B8961A9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517494-915E-4661-8BE8-F9684EC692E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BDCC06A-D493-42AF-8E94-463A2F49AE7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7607DBE-B110-4757-8030-D57F6D7FD7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E3584C-C37D-42CA-AE6B-D4D9FFF1D9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59F0919-8EF6-40BC-B7FC-085630CE705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A74164-969C-4B8F-B2AD-169CF227FC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2789B-A262-4E1E-A57E-BEE069C6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9DF5195-9635-461E-A6F7-3D4B4F9A309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58413E-804A-4CF5-868D-74BC4D10E6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D54179-76E9-4FB1-8ACB-C13DBD77E5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78C439C-C5BF-4F46-8DB4-3CC9BAA5A4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8DBBA07-F405-410B-9253-7CBBAE04CD6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1D32038-89DC-408D-9A0D-068B4C9DCBD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C4876B9-6B2D-48A0-95C2-403678A7B31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B07378E-EABF-45F1-AC17-5442B7FAFD6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9032D0B-C6C7-40CB-903E-A9C02808B04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A98958-1A1B-41E5-831C-92AE9E942EEB}"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EC41-D4F2-4BE3-8C7D-36C391EDA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2345-5585-40FD-B3F8-A09DB0F25C9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79B7-96E3-43F3-BC1E-296652278B1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4800-0167-4A89-A60F-B566EC279A5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A28C-967F-4333-A602-D078B317209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FB33-9DA8-4033-AADB-A3780C83A1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A6653-CFBF-4F3C-9E4F-39E9205AD7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E87A-80EF-4DB7-AFF6-1EB7E5FE64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A745-1016-48F4-9B03-AB3661F5C79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66DE-E7A9-4FD4-9433-616D5E61FCF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9A7B-A3EF-489A-A253-D7E039F53F6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C3FC-75F3-40FE-B01C-2A8B7121F82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ea typeface="Geneva"/>
              </a:rPr>
              <a:t>Chapter 6</a:t>
            </a: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Corporate-level Strategy</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8000"/>
            <a:ext cx="8042040" cy="1263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Motives for Diversification </a:t>
            </a:r>
            <a:br>
              <a:rPr sz="3200"/>
            </a:br>
            <a:r>
              <a:rPr b="1" lang="en-US" sz="3200" spc="-1" strike="noStrike">
                <a:solidFill>
                  <a:srgbClr val="ff0000"/>
                </a:solidFill>
                <a:latin typeface="News Gothic MT"/>
              </a:rPr>
              <a:t>That are Unlikely to Create Value </a:t>
            </a:r>
            <a:endParaRPr b="1" lang="en-US" sz="3200" spc="-1" strike="noStrike">
              <a:solidFill>
                <a:srgbClr val="ff0000"/>
              </a:solidFill>
              <a:latin typeface="News Gothic MT"/>
            </a:endParaRPr>
          </a:p>
        </p:txBody>
      </p:sp>
      <p:sp>
        <p:nvSpPr>
          <p:cNvPr id="662" name=""/>
          <p:cNvSpPr txBox="1"/>
          <p:nvPr/>
        </p:nvSpPr>
        <p:spPr>
          <a:xfrm>
            <a:off x="549000" y="1599840"/>
            <a:ext cx="8042040" cy="4724280"/>
          </a:xfrm>
          <a:prstGeom prst="rect">
            <a:avLst/>
          </a:prstGeom>
          <a:noFill/>
          <a:ln w="0">
            <a:noFill/>
          </a:ln>
        </p:spPr>
        <p:txBody>
          <a:bodyPr anchor="t">
            <a:normAutofit/>
          </a:bodyPr>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Antitrust regulation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ax law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performance</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isk reduction</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urplus resources</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ducing employment risk</a:t>
            </a:r>
            <a:endParaRPr b="0" lang="en-US" sz="2800" spc="-1" strike="noStrike">
              <a:solidFill>
                <a:srgbClr val="595959"/>
              </a:solidFill>
              <a:latin typeface="News Gothic MT"/>
            </a:endParaRPr>
          </a:p>
          <a:p>
            <a:pPr marL="349200" indent="-349200">
              <a:spcBef>
                <a:spcPts val="1199"/>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Increasing managerial compensa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level Strategy</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Answers the question “what business or businesses to we want to be in”?</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The corporate-level strategy is </a:t>
            </a:r>
            <a:r>
              <a:rPr b="1" lang="en-US" sz="2800" spc="-1" strike="noStrike">
                <a:solidFill>
                  <a:srgbClr val="595959"/>
                </a:solidFill>
                <a:latin typeface="News Gothic MT"/>
                <a:ea typeface="Geneva"/>
              </a:rPr>
              <a:t>diversification</a:t>
            </a:r>
            <a:r>
              <a:rPr b="0" lang="en-US" sz="2800" spc="-1" strike="noStrike">
                <a:solidFill>
                  <a:srgbClr val="595959"/>
                </a:solidFill>
                <a:latin typeface="News Gothic MT"/>
                <a:ea typeface="Geneva"/>
              </a:rPr>
              <a:t> (away from a single business strategy).</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attempts to create value for the shareholders.</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i="1" lang="en-US" sz="2800" spc="-1" strike="noStrike">
                <a:solidFill>
                  <a:srgbClr val="595959"/>
                </a:solidFill>
                <a:latin typeface="News Gothic MT"/>
                <a:ea typeface="Geneva"/>
              </a:rPr>
              <a:t>What do shareholders value?</a:t>
            </a:r>
            <a:endParaRPr b="0" lang="en-US" sz="2800" spc="-1" strike="noStrike">
              <a:solidFill>
                <a:srgbClr val="595959"/>
              </a:solidFill>
              <a:latin typeface="News Gothic MT"/>
            </a:endParaRPr>
          </a:p>
          <a:p>
            <a:pPr marL="289080" indent="-28908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57F58B64-A965-4C33-A612-F435563C42A5}"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0" end="0"/>
                                            </p:txEl>
                                          </p:spTgt>
                                        </p:tgtEl>
                                        <p:attrNameLst>
                                          <p:attrName>style.visibility</p:attrName>
                                        </p:attrNameLst>
                                      </p:cBhvr>
                                      <p:to>
                                        <p:strVal val="visible"/>
                                      </p:to>
                                    </p:set>
                                    <p:animEffect filter="blinds(horizontal)" transition="in">
                                      <p:cBhvr additive="repl">
                                        <p:cTn id="7" dur="500"/>
                                        <p:tgtEl>
                                          <p:spTgt spid="64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12" dur="500"/>
                                        <p:tgtEl>
                                          <p:spTgt spid="64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43">
                                            <p:txEl>
                                              <p:pRg st="2" end="2"/>
                                            </p:txEl>
                                          </p:spTgt>
                                        </p:tgtEl>
                                        <p:attrNameLst>
                                          <p:attrName>style.visibility</p:attrName>
                                        </p:attrNameLst>
                                      </p:cBhvr>
                                      <p:to>
                                        <p:strVal val="visible"/>
                                      </p:to>
                                    </p:set>
                                    <p:animEffect filter="blinds(horizontal)" transition="in">
                                      <p:cBhvr additive="repl">
                                        <p:cTn id="17" dur="500"/>
                                        <p:tgtEl>
                                          <p:spTgt spid="64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2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ff0000"/>
                </a:solidFill>
                <a:latin typeface="News Gothic MT"/>
                <a:ea typeface="Geneva"/>
              </a:rPr>
              <a:t>Corporate v. Business Level</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a:bodyPr>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Corporate-level strategy is concerned with what businesses the firm should operate and how the corporate headquarters should manage its business portfolio.</a:t>
            </a:r>
            <a:endParaRPr b="0" lang="en-US" sz="2800" spc="-1" strike="noStrike">
              <a:solidFill>
                <a:srgbClr val="595959"/>
              </a:solidFill>
              <a:latin typeface="News Gothic MT"/>
            </a:endParaRPr>
          </a:p>
          <a:p>
            <a:pPr marL="291960" indent="-291960">
              <a:lnSpc>
                <a:spcPct val="90000"/>
              </a:lnSpc>
              <a:spcBef>
                <a:spcPts val="2001"/>
              </a:spcBef>
              <a:buClr>
                <a:srgbClr val="6fb7d7"/>
              </a:buClr>
              <a:buSzPct val="11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595959"/>
                </a:solidFill>
                <a:latin typeface="News Gothic MT"/>
                <a:ea typeface="Geneva"/>
              </a:rPr>
              <a:t>A business-level strategy must be selected for each business in which the firm has decided to compete.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E30B8EEB-5CC9-4427-BF98-4DC0ECB01092}"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29" dur="500"/>
                                        <p:tgtEl>
                                          <p:spTgt spid="64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1" end="1"/>
                                            </p:txEl>
                                          </p:spTgt>
                                        </p:tgtEl>
                                        <p:attrNameLst>
                                          <p:attrName>style.visibility</p:attrName>
                                        </p:attrNameLst>
                                      </p:cBhvr>
                                      <p:to>
                                        <p:strVal val="visible"/>
                                      </p:to>
                                    </p:set>
                                    <p:animEffect filter="barn(inHorizontal)" transition="in">
                                      <p:cBhvr additive="repl">
                                        <p:cTn id="34" dur="500"/>
                                        <p:tgtEl>
                                          <p:spTgt spid="6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The key question is . . . </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When, or under what conditions, can we expect a group of managers within a single firm to more efficiently diversify the firm’s portfolio of businesses than an individual investor could acting on his/her own?</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or the diversification strategy to create value, two conditions must be met:</a:t>
            </a:r>
            <a:endParaRPr b="1" lang="en-US" sz="3200" spc="-1" strike="noStrike">
              <a:solidFill>
                <a:srgbClr val="ff0000"/>
              </a:solidFill>
              <a:latin typeface="News Gothic MT"/>
            </a:endParaRPr>
          </a:p>
        </p:txBody>
      </p:sp>
      <p:sp>
        <p:nvSpPr>
          <p:cNvPr id="65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economies of scope among the businesses. </a:t>
            </a:r>
            <a:endParaRPr b="0" lang="en-US" sz="2800" spc="-1" strike="noStrike">
              <a:solidFill>
                <a:srgbClr val="595959"/>
              </a:solidFill>
              <a:latin typeface="News Gothic MT"/>
            </a:endParaRPr>
          </a:p>
          <a:p>
            <a:pPr marL="349200" indent="-349200">
              <a:spcBef>
                <a:spcPts val="2001"/>
              </a:spcBef>
              <a:buClr>
                <a:srgbClr val="6fb7d7"/>
              </a:buClr>
              <a:buSzPct val="110000"/>
              <a:buFont typeface="News Gothic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ere must be an efficient hierarchical form of governance (management).</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What is Synergy?</a:t>
            </a:r>
            <a:endParaRPr b="1" lang="en-US" sz="36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ynergy exists when the value of two or more firms operating together is greater than the value of these firms operating independently.</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Thus, a successful corporate-level strategy involves searching for sources of synergy!</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is the relatedness hypothesis?</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News Gothic MT"/>
              </a:rPr>
              <a:t>Diversification among related firms will outperform diversification among unrelat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ea typeface="Times New Roman"/>
              </a:rPr>
              <a:t>What are the levels of diversification?</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Low diversification</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ngle business (95%)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dominant business (70 – 95%)</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Moderate to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constrained (many links; share 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related linked (limited links; share intangible)</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Very high diversification (&lt;70%)</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unrelated</a:t>
            </a:r>
            <a:r>
              <a:rPr b="0" lang="en-US" sz="2800" spc="-1" strike="noStrike">
                <a:solidFill>
                  <a:srgbClr val="595959"/>
                </a:solidFill>
                <a:latin typeface="News Gothic MT"/>
                <a:ea typeface="Times New Roman"/>
              </a:rPr>
              <a:t> (no common link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News Gothic MT"/>
              </a:rPr>
              <a:t>Motives for Diversification </a:t>
            </a:r>
            <a:br>
              <a:rPr sz="3600"/>
            </a:br>
            <a:r>
              <a:rPr b="1" lang="en-US" sz="3600" spc="-1" strike="noStrike">
                <a:solidFill>
                  <a:srgbClr val="ff0000"/>
                </a:solidFill>
                <a:latin typeface="News Gothic MT"/>
              </a:rPr>
              <a:t>That May Create Value </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Economies of scope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activities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Shared core competencies</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Market power (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Multipoint competi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Vertical Integration</a:t>
            </a:r>
            <a:r>
              <a:rPr b="0" lang="en-US" sz="2800" spc="-1" strike="noStrike">
                <a:solidFill>
                  <a:srgbClr val="595959"/>
                </a:solidFill>
                <a:latin typeface="News Gothic MT"/>
              </a:rPr>
              <a:t>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Financial economies (unrelated)</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Internal capital allocation </a:t>
            </a:r>
            <a:endParaRPr b="0" lang="en-US" sz="2800" spc="-1" strike="noStrike">
              <a:solidFill>
                <a:srgbClr val="595959"/>
              </a:solidFill>
              <a:latin typeface="News Gothic MT"/>
            </a:endParaRPr>
          </a:p>
          <a:p>
            <a:pPr marL="349200" indent="-349200">
              <a:lnSpc>
                <a:spcPct val="90000"/>
              </a:lnSpc>
              <a:spcBef>
                <a:spcPts val="6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95959"/>
                </a:solidFill>
                <a:latin typeface="News Gothic MT"/>
              </a:rPr>
              <a:t>Business restructur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6-10-12T14:11:49Z</dcterms:modified>
  <cp:revision>319</cp:revision>
  <dc:subject/>
  <dc:title>Slide 1</dc:title>
</cp:coreProperties>
</file>