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EB2E7-8477-46DD-9CBC-8C987208A5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0D770-5E0C-45EA-8420-9C115BBABB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I discusses the roles, skills and practices of a company’s human resource management (HRM)  function, implications of the economy, the makeup of the labor force, and ethics for company sustainability. It discusses how HRM affects a company’s balanced scorecard, what companies should do to compete in the global marketplace, how technology such as social networking is influencing HRM and what HRM practices support high-performance work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FF53-01BE-4F44-9AE1-C098FFD0C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A988-BF0E-49E3-946D-DB2A1B307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CD01E8-9AE2-404B-8E72-9E3FB5630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F29E3E-BDFB-412F-97F9-67637FE7B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E2D13A-859B-477B-99CA-876B80E75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279AF6-1192-4662-91C3-4AD13BE4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EF4F45-FEA8-4502-A63C-5BDEE91D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16288B-04F3-4FBD-B4F6-323F5CBF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77B204-1BBF-41D7-A54F-E9F2296D3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AFC622-17C4-472E-A84D-355FDF0A7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C4EE3C-9524-49E1-ABC2-851FA738C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0F4118-6DC5-405F-ACED-8378C3047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4DF6-CBD6-469A-BCF8-D9C799B02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2D18B4-095D-40E8-99CB-D2E8F71DB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D1F9ED-5984-4330-94C3-DD6CBEB91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3C8B68-A648-485D-BA78-059133AE8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6374E0-E6AD-4B92-96FF-23BFDE6DB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7ED40D-A2CA-4501-AFC3-0D7783C60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977291-7501-4164-9356-ACE7A35C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4A9DEA-B769-41CD-925B-E77FCDE0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9D3F9E-3C96-416B-BE35-0560BC74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861923-6FF4-4AD4-A29A-95C2759AF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7D40A1-724D-4BCE-AFC8-9EDB1BB95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A233-035D-457F-98E0-78CF9DEA6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0286D6-063D-4D7C-89ED-DF0EFEC8F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6F6F49-6EFE-4A1B-87E7-52A55E24E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8379E3-75FA-4563-8E5A-BF1E5F4EF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6982FD-66E4-4C1A-961F-F35DF2CC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BAE4723-C62C-418E-8D23-3ADA81F31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D0B67A-0285-44B5-A44E-7E8D77481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C33DB8-EC21-425D-86AC-DAB482A91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A66F54-4F14-4837-A838-1FD11032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511C6E-C6F7-45D0-A210-26F2BC38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AEBF7A-AC1D-4E9C-B845-711E8A89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30687F-4B2A-44A0-9F64-FCDBD86266FB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BA6DCA-6BFC-42D1-BD22-274EE87D1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A98F69-B587-4135-AC9D-58D8C1554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3A0A06-BCE5-438F-8D38-5A886DD66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79DDDE9-108C-4158-AC4C-357D3F71A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3150DD4-9E79-4625-8671-5B8765A05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28C31C9-7A32-4900-A900-B103D8D7F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B6645CA-B50A-4D98-8F09-B9EA0A2B8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CFC815F-44B0-4E65-9992-3AD1AEEE3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B17AF7D-27E3-4E2F-8248-C2E0EC12D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690AFE1-7612-400D-AD28-2A498DF0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593297-B80C-48CB-AF8F-AC958D3DC20F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301B869-9CC6-495C-9CC9-0AB99524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C911937-08B9-44A6-81A7-0DCC538A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4584BC8-1828-4912-924D-34888196D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131A66F-E0AF-49E8-B264-4777D04D3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4C01435-DAB2-4381-8289-25F784324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F3D17DE-4058-4665-97AF-B4F2978DA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BE4635C-075F-448E-9121-47DF0FFA5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19339E9-48AF-4253-93AA-BC27F89A5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DCF9D33-EF9C-4F2A-B88A-42EECBF45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D260B97-2F16-4B7A-BCBB-499A0F2F8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AA863A-654C-4CA2-A11D-40E90DC35C77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0BC63AF-A959-4576-8732-3E0866D02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C2B4EF8-E702-4022-B683-F0414CAB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98A9DDE-7C7A-45D9-B50F-25CCEC7A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45D959D-C5CD-4268-8667-BBA77964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0E674B8-1BAF-4889-B929-67C45B7BA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7173192-03A4-4868-BB27-012F7BA18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7599AF8-65E6-4571-B90A-2FE6EC369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CF331B6-3E79-4CE0-92FA-5CC958902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2E3B906-2788-490F-BFFB-01DAD040B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46954C0-4839-4DD8-BEE5-2470DE746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4E06CA-090A-45BD-97DB-2D62B41B688B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DE41EE5-8E2F-42EB-A166-DD0FBE07C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C918F9A-368D-4E5C-A19D-A5DCA865D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83F416B-EB85-4CF7-B505-29CC45B82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8CD043F-2552-4F2B-A4F0-80A23C83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EB92EDE-6ADF-4321-9294-89328075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AF4EB14-BF0A-4626-8E78-B1B7753D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50C7F83-8ADD-4E6D-826A-6AEA6D26A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DE4B030-0A23-49A9-8139-8D08D02A7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15172F6-90DB-4FC0-BD96-B9D726D50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444B9C-B57F-455A-BC20-204D97D73EF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E13ADC-3894-4C4F-A6E2-9DA05DB777D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ED0077-779A-4DCB-8F25-DF32F543D5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E4E2-10BF-4522-BEB8-ED97E5741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7E892B-DEDE-4D98-A9E4-1C45C67EDD8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9D4A95-B9F1-4DD2-A965-C7B7FE5F51B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F4F1A5-4271-43B7-A5F8-43EFBB39797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98B1BE-462A-4737-B526-8D95C477B2B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DEEE82-D181-4B1F-B6A9-9C784BDFB3C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8924-46C8-4F80-A5C7-1D6116AA0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9AC6-DB44-4F9F-8E28-ACE4B28E8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77298A-C31D-4425-9BD6-EA413685F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2706-B048-4CED-B464-51259918B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CFB15A-C0B6-4DC5-A56F-725921A78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D2D4F4-B068-4046-8095-CD48DC0A6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A3468E-D241-4A39-BBCB-BD53D6928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3D6A26-E18C-4477-A1ED-645AD6E3B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FFB3C0-D012-49B8-BCF5-A804C35CD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358444-137B-4110-B419-BA86B742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E80946-9FB3-48B2-B744-D63B45FC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C9717A-4B8D-4F74-B9B7-501E4C6C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18F98A-AD8A-4534-8AEE-37B3A7488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BC8F97-FF5D-4C3F-9992-8C58E758A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F6AE-ACA5-44BC-A899-375B5B0DF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C7C553-C5B2-493D-8F24-C7BCBB50C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FF5BC1-121A-4185-B917-D952EB230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625CF5-B431-4505-8D64-4322C9CE8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F9482F-D71A-4D95-92A9-1892CF91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01E41C-B744-46FF-8668-5CD49EF29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FBD420-6F0A-4D77-BE19-22E56D41E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EA1808-2667-4782-A371-1A7AF9F16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3A4372-807F-4DA7-99AE-3901F7D2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07F8F8-0934-4F9B-A1B5-7730044E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B94AA4-D09B-445B-8E89-B228EB3E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46EF-DF44-46B1-A968-1EB41C37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A3C636-22A1-4450-B804-B0C96B21B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08F8EE-F519-4936-BA83-CD0901B94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0E4404-2FE9-49A0-96C6-B141B2FCA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25F678-ADA5-4D93-954E-B1EEA428E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4EC3E5-831F-40D5-A7F9-C2F945CED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1D9EB9-3238-457F-8E70-035191E4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B37CC9-7FBB-4BD9-A362-51B9A5DDE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146D77-C292-4C2C-B6CF-3CB163437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AE5D65-CABB-4E1B-B7CD-E4A776089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A25161-3B04-42C2-A496-1325D3F8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C883-DE78-43E7-B068-AA18D391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1D43CB-24F3-4077-A7CB-1D459CD3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EA91E9-5CB6-42EE-AD4B-FE7C250C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D10CDE-FDAA-41E2-8A1C-3AB583838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DD854E-86ED-48C9-8931-FFEDE881C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F5D721-119E-41D4-A4D1-327878766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68580C-B527-4042-AEB6-05E98F0B9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9E1ECE-5B01-4A47-BA3B-B5F9F9A27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745899-564A-401A-B30F-3650D3214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D73DE1-22C3-4D30-919C-F0EBA1E7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D7EDD3-AD58-416E-B77E-C69081840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2990-8098-4121-AAF6-47886570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3C9B88-9ACB-49E7-8EE4-FDEFCCD80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8388FC-DDAE-4D15-9145-9AFD14B7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84F897-D6E2-4B34-9EBD-C2C7CA3E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FCF50E-4F7F-4489-8B73-37E30962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F68BAF-07A0-4E80-A8D8-00BD2AD4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EBBDEC-325B-4087-AF32-5F2B853A8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442BBC-EDA8-4C8A-B183-556AF6F47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B5BCBD-686A-4400-83BD-DC691E117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3E5AC1-78ED-4640-A9BA-B87C79200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48F66D-BD3F-4F10-926D-742D4E1ED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5E193-2439-4B2E-BF10-776FAB20F3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2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C5411-2B9F-4F9D-8605-CBA786856B2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5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BAAE1-E747-442B-B50A-2C9E71E049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8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58BCE-B548-4421-97DB-32FF07CDA8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1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EBFAB-6511-43FD-825B-C1DBA7B611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35069-22CC-4DA9-AFCD-CAC9E6EA029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97562-89D3-4223-A0EA-18C54F1A933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47" name="Oval 12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50" name="Oval 16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53" name="Oval 19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0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5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95" name="Oval 16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7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98" name="Oval 19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0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101" name="Oval 22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3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7772400" y="6248520"/>
            <a:ext cx="457200" cy="457200"/>
            <a:chOff x="7772400" y="6248520"/>
            <a:chExt cx="457200" cy="457200"/>
          </a:xfrm>
        </p:grpSpPr>
        <p:sp>
          <p:nvSpPr>
            <p:cNvPr id="104" name="Oval 25"/>
            <p:cNvSpPr/>
            <p:nvPr/>
          </p:nvSpPr>
          <p:spPr>
            <a:xfrm>
              <a:off x="7772400" y="6248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6"/>
            <p:cNvSpPr/>
            <p:nvPr/>
          </p:nvSpPr>
          <p:spPr>
            <a:xfrm>
              <a:off x="7837560" y="63136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8305920" y="5638680"/>
            <a:ext cx="838080" cy="838440"/>
            <a:chOff x="8305920" y="5638680"/>
            <a:chExt cx="838080" cy="838440"/>
          </a:xfrm>
        </p:grpSpPr>
        <p:sp>
          <p:nvSpPr>
            <p:cNvPr id="107" name="Oval 28"/>
            <p:cNvSpPr/>
            <p:nvPr/>
          </p:nvSpPr>
          <p:spPr>
            <a:xfrm>
              <a:off x="8305920" y="5638680"/>
              <a:ext cx="83808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8425440" y="5757840"/>
              <a:ext cx="60120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7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4DFF2-8672-4E92-8F49-058FD0B4D4C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0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8318C-428F-45A1-9F6E-2E0CC30AB1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870B6-364A-48EF-A794-BAD4FAE8D0F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6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F4AEC-85EE-4781-A243-F8A3307DAB0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9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E49FF-EA51-477A-B7DE-956AB9A827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9000" y="762120"/>
            <a:ext cx="8042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  <a:ea typeface="Geneva"/>
              </a:rPr>
              <a:t>Chapter 7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Merger and Acquisition Strategi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52280" y="108000"/>
            <a:ext cx="876312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Mergers, Acquisitions and Takeover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304920" y="121896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merger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is a strategy through which two firms agree to integrate their operations on a relatively coequal basi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n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acquisition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is a strategy through which one firm buys a controlling, or 100% interest, in another firm with the intent of making the acquired firm a subsidiary business within its portfolio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takeover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is an unfriendly acquisiti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03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Merger and Acquisition Strategies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are Very Popular Despite . . .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search indicates the stockholders of the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acquired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firm earn above normal return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While stockholders of the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acquiring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firm average returns of about zero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urther, in most acquisitions, the stock price of the </a:t>
            </a: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acquiring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firm falls after the acquisition is announced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57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Reasons for Acquisition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22860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chieving market power is the primary reas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Horizonta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Vertica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lated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Overcoming barriers to entry (cross-border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duces cost of new product development and increases speed to marke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owers risk relative to internal developmen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ncreases diversificati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shapes the firm’s competitive scop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300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earning and developing new capabilitie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Problems in Achieving Succes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549000" y="1142640"/>
            <a:ext cx="8042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ntegration difficultie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nadequate evaluation of the targe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oo much deb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nability to achieve synergy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oo much diversificati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Overly focused on acquisition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ompany becomes too big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Traits of Effective Acquisition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49000" y="1142640"/>
            <a:ext cx="8042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ssets of the acquired firm are complementary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cquisition is friendly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cquiring firm does effective due diligence (evaluates the target’s financial health, culture and systems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Merged firm maintains low to moderate levels of deb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New firm emphasizes R&amp;D and innovati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rm is well managed and flexibl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Restructuring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10680" indent="-31068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95959"/>
                </a:solidFill>
                <a:latin typeface="News Gothic MT"/>
              </a:rPr>
              <a:t>Restructuring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is a strategy through which a firm changes its financial structure or set of businesse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10680" indent="-31068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Downsizing – cost and/or asset retrenchmen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10680" indent="-31068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Downscoping – eliminating business units (divestiture; spinoff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10680" indent="-31068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BO – A party (management; private equity firm) takes a company privat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10680" indent="-3106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11:20Z</dcterms:created>
  <dc:creator>sara_hunter</dc:creator>
  <dc:description/>
  <dc:language>en-US</dc:language>
  <cp:lastModifiedBy>Morrow, Bert</cp:lastModifiedBy>
  <dcterms:modified xsi:type="dcterms:W3CDTF">2016-10-19T14:14:11Z</dcterms:modified>
  <cp:revision>317</cp:revision>
  <dc:subject/>
  <dc:title>Slide 1</dc:title>
</cp:coreProperties>
</file>