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2483-7209-4022-9027-CFD210EBBFF9}" type="datetime">
              <a:rPr b="0" lang="en-US" sz="1200" spc="-1" strike="noStrike">
                <a:solidFill>
                  <a:srgbClr val="000000"/>
                </a:solidFill>
                <a:latin typeface="Times New Roman"/>
                <a:ea typeface="Geneva"/>
              </a:rPr>
              <a:t>07/31/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DC6A-1CFB-4021-9AC8-AF3F1A607874}"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25AD8-08ED-48E3-A552-641067D40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578F6-3FD4-4016-A20A-6B39D8F2C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FA1E730-8F43-44FF-A854-F1F326946AF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7121D0C-A2DD-4EEB-8CAE-03CD440CE43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12856E-6343-4077-97BC-EF2171BBCAC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C885EEA-0C98-4614-8CEF-8F81E5CC4FF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3DC0453-9089-48DC-BE60-E46BCBEE949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D32392A-9E98-44ED-8565-A6C66A45004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97A92E3-37F0-44B6-A0EA-14D871310B2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1A6F226-1574-49CD-B674-B877B304A1E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0A9C5B3-4D28-414F-AA5C-649C87F6E2D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33DED90-77B4-4DF8-B569-FCC96354AA4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21F2C-D47E-41C6-B4F9-88A6F70DA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C36B267-0E65-4A60-A4AA-F311ADFCCCF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BE38639-1616-4761-9680-758F97CD861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198F683-6293-4B2D-BF0C-3B126BE8851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E102C2D-9131-4D6B-B72D-93375D6BA29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861513E-F9B9-4176-AC99-921D010A134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657C26-621A-4522-9DD1-885158C77A7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B65E3C-93C9-46E4-8F41-F3CA865464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8049C4-6508-415D-9154-2112CE86D0B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8D42806-1A50-4D29-A95E-556AECF16D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B6DF6DB-EE59-44C5-BB1E-4A3A815E4AB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2BF83-A95B-4278-8B62-7F0C40804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7584720-DD87-4597-A4F7-E6C595D25EF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EEA4E27-7E18-4CDA-A4B6-8517BF5754D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941089C-402E-4ED7-8551-04B1D13ADE8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40F9B5-112E-49B5-8A6E-196A03864C5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56E1419-591B-4062-915B-E8B396AD787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97F2E6C-8C2F-426C-BBFC-2F2535714EA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624D61-7293-4BE5-AB48-9F0E17CD203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1B8871-9634-4754-A882-DF7973E76B5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D672015-FB88-4477-B840-F4F03034A25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81F9C8-A944-4EAC-B4A1-2FF28441BB9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C77770-A201-46BA-9561-7A93C0BADB0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6A05E5D-4EF8-4AAD-AB56-024201185F9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DA02260-D5F7-477A-87B7-45D247C3BB6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F3E7396-4A7D-4201-A8F8-CF89A0F0CB9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D96E285-4051-47E9-BAF1-214DD626474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BA31D5B-07DB-4F3B-AB7D-91D3CF7A367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1907B13-0E32-43D1-AD95-88BD5D4BE78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FE55BC5-F5AD-4B3D-A51D-37E5860FA8D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60D8977-FAAB-474D-B14A-3485FDEFE25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EA5CA2B-8FFE-4A96-80DF-9630055476E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B9B46C2-8C06-49AA-9B4E-92091196C28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8F8CEA-5454-48C2-8D99-1412E76130A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371ED6A-45BC-40EB-B075-43964C3B5EC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A296320-B5B5-414B-8239-C8153DC0D04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544A476-1877-4FB7-A42D-E3C3151CAAA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61D6AFF-2EC4-498B-AEA0-AA53B5C278B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348AE25-65C1-40D8-8401-7BAF7AEA9EB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071B0E5-18FE-4045-97AB-7CEFAA542F6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4FEB7FA-3C95-4708-9605-8685E1875C1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BFB7CC0-56B2-4B3B-ADB2-243E49DBAB6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A4EFB76-3FC8-480F-BF40-06AB72C6FF9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BC8D92B-070F-43B5-8FDE-5D92AFB469B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453AAB-5308-48C4-BE40-BE35D8CA4E0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4B01501-CB2E-464B-B895-3752AB9A8C1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D2C19AA-256E-4A10-8380-38179CE104A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7F43BB7-0DBD-4A95-972B-90D2819BA7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A8D33B6-E9A2-4400-874E-76EE2A386BF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64535DE-6D34-4DAA-88FE-B4831559C7D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FA5B457-C189-42D3-A2DD-E36754C9F13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F123C94-B92D-4275-8EA3-9F698019F04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742BDB9-70C8-4485-9AD1-489F928E48A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A4328CA-C532-4A90-BB64-17A7CE291E2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5B98D46-7ADB-4B87-A140-025DEEB63B4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4E02B1-4D88-4AC9-8D92-6BC87970A82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1902C75-B5A3-4373-B8A2-CC5C465E5D0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3044FA6-A830-4F7F-9C16-7FC1728C430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D860AC6-D347-4AF5-8FD5-A95D81B2FAD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5DBEF16-E293-490E-A951-8532BE48042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3863A69-23E9-490C-B68A-9A9B84F0E2E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D3C7403-EE7F-4404-83B8-0BB4DFE8232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FE2341A-6B1A-446D-AD8E-7AC37BAD465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1B22F92-45BD-4A68-9B67-B735198B460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A6D17E1-BF2F-4F8A-B3CD-C60E046D24F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C655A-A4CE-4FB2-8415-99F8118CEFB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A9E046-BB26-4870-8972-4788434073D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E63D1-90B7-4E6E-82AF-44613F007F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EED46-72AF-4FDA-8478-56F8E61E4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1CEA5-C70D-4781-9CBE-1B4EDEA808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81BF9-7912-4809-9ACF-7463D2C905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F8DB1B-4C9E-4299-B6D6-2059399B26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8BE6FC-581C-41C8-BB74-71C1C4749F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2C0699-89FD-4DE2-BB36-2F9BE1B15E5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1164B-3F3F-4FD4-9FFC-E5BA20F44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63E40-4A4A-40CD-96D8-A755B23E9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113240E-317A-4CD3-A006-DCE08E3BA8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215CE-A928-49C1-AE07-4653E488B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A608A7-A8FC-4D24-80BF-B02C57B350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81F835-8374-4AAF-908D-1A710165D2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FC3CC5-D709-45A4-BF2F-734CCF5007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3148A1-0BFD-449E-9CAD-84B76017A6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C2EBE1-74FC-4A94-9055-05B0BC8A348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8EDA96-F0C7-46AA-BB3E-FE14A6B563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4CA2DA-9CF9-48C5-B741-CC86832774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9BC74A-D58B-4E23-86FD-896BDAA21F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B3431E-3D99-43CC-B110-7BC78BE73E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6583F86-B4C2-4334-A125-A8C2D46AD30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5F52B-9FD5-41B9-9615-4B15B74CE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4F4C805-FF2D-43A7-860D-0870831F506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1FA5E18-108E-4A44-A4F1-FDD8F0E221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826D0B-0800-4492-99AC-18ABCEDB5C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90440D-C936-41EB-B993-9C6A467EE3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AA91BA9-C7EC-4DA4-8ED6-39E78A45CA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AC2412-BE24-46E3-ADEB-6A5BCA5465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7DB0AD-6A95-42CC-A7B4-00E338B8C4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525643-2B7D-40F5-A0AB-DF993C05D2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49F928-3E88-4DCB-AF5D-585023BCEB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734A3A-1A3E-460A-AF29-4170811B9A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7144D-CE0F-4933-A5E7-3BB476D47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ACEA17-E57D-4ADD-BE9C-E573F17A7F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F49B34-5C8B-4645-9BB3-5B92634E9C4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F94B5D-7C4F-4846-8DC4-7B64EA0D61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284E866-403C-40DC-8467-C8B7EDEA06F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96D5B82-371F-4B45-BDC9-6375DFF8BA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D15DB66-27D4-499E-8A46-AD7352F1228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E68FA98-3501-4132-901E-13833EF8CB6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72E340F-303B-4949-9E2F-A900EF0F93F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9193B85-F3C3-4E5E-9755-216691D3564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544EAD-EABB-4E41-A5D3-528EAEEACCE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57151-9300-4293-AA1A-4B1C41F64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BCE26A-5B27-4C84-88BD-41CB79DC936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B4FD5D-96FF-4662-BF97-971FD96C88E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F1EC3D-A124-4ACB-9220-522D49AC9D8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6D5AEF0-432C-4154-B123-1A0C7B1ADEB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6E97914-E25A-40F2-A26B-C3C09BD0FF5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686F83A-F453-43AF-B639-093AABE7A5D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99810A2-A124-40B9-A82D-61A2F6EDEFA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31AA657-AFD4-4D16-B3F6-87D4C7297AD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02BF4E9-06F1-4CC7-A1E7-41AF90F588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02F9AAC-DAA5-4788-9411-8BE612EA723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8F3F0-CEB1-48BF-8578-A1BF17C3D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DE429E1-CE13-466C-9C3C-2C74EBFDE8A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F42BBEF-F82A-42E4-B5DD-D4E702040D5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0CD03DD-C482-464B-91DF-C8F6A418A33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284953D-A456-4003-9EC7-1AD92D1CA9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50B1FB9-D4DE-455B-ADB7-46A327EB6E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DDF85BB-061C-4C17-8CB1-715CCC5CD85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8D214CE-1EEE-4F26-BD29-E3DE78F45FE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1FACA25-286A-4F2E-B151-B1C4E099017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E85D7C-CD8B-4A69-B270-F8AA3B23C0C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2356193-CFED-4336-8794-AA46A72602CC}"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6530-5148-4C8B-B990-0D36073D70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8272-1B79-4A49-910A-9956D09A395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A050-FB2F-4AFA-BF96-ADF9ACF24C5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0F1E-C10D-4059-8A99-DD49E92EB9D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AD8F-D363-4274-94E5-EC2EA22E65B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96A4-29F1-472C-B94B-70E9A7D5A4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0734-2CAB-4431-AECB-804CFEB7937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CFFE-5011-4FCD-8579-0F04366CCB1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FC9F-6AF1-46AC-A35F-FD20F9990D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C98F-13E9-402B-801C-CCA79252826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6B96-F77C-427B-B654-0188193B59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9A8A-3674-4A0C-8898-434B2CA199B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4E23338-E274-4655-AA54-9C0C5B1BDC68}"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4600CF9-7ECB-4920-AB07-D07ACA333F93}"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