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EDFA8-1A97-4DC3-9641-5D324466C843}" type="datetime">
              <a:rPr b="0" lang="en-US" sz="1200" spc="-1" strike="noStrike">
                <a:solidFill>
                  <a:srgbClr val="000000"/>
                </a:solidFill>
                <a:latin typeface="Times New Roman"/>
                <a:ea typeface="Geneva"/>
              </a:rPr>
              <a:t>07/28/26</a:t>
            </a:fld>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move the slide</a:t>
            </a:r>
            <a:endParaRPr b="1" lang="en-US" sz="3200" spc="-1" strike="noStrike">
              <a:solidFill>
                <a:srgbClr val="ff0000"/>
              </a:solidFill>
              <a:latin typeface="News Gothic MT"/>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eneva"/>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634D8-0CB3-4A2F-A6AB-865873400AC3}" type="slidenum">
              <a:rPr b="0" lang="en-US" sz="1200" spc="-1" strike="noStrike">
                <a:solidFill>
                  <a:srgbClr val="000000"/>
                </a:solidFill>
                <a:latin typeface="Times New Roman"/>
                <a:ea typeface="Genev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apter I discusses the roles, skills and practices of a company’s human resource management (HRM)  function, implications of the economy, the makeup of the labor force, and ethics for company sustainability. It discusses how HRM affects a company’s balanced scorecard, what companies should do to compete in the global marketplace, how technology such as social networking is influencing HRM and what HRM practices support high-performance work system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nies are finding that to survive they must compete in international markets as well as fend off foreign corporations</a:t>
            </a:r>
            <a:r>
              <a:rPr b="0" lang="ja-JP" sz="1200" spc="-1" strike="noStrike">
                <a:solidFill>
                  <a:srgbClr val="000000"/>
                </a:solidFill>
                <a:latin typeface="Calibri"/>
              </a:rPr>
              <a:t>’</a:t>
            </a:r>
            <a:r>
              <a:rPr b="0" lang="en-US" sz="1200" spc="-1" strike="noStrike">
                <a:solidFill>
                  <a:srgbClr val="000000"/>
                </a:solidFill>
                <a:latin typeface="Calibri"/>
              </a:rPr>
              <a:t> attempts to gain ground in the United States,  </a:t>
            </a:r>
            <a:r>
              <a:rPr b="0" lang="en-US" sz="1200" spc="-1" strike="noStrike">
                <a:solidFill>
                  <a:srgbClr val="595959"/>
                </a:solidFill>
                <a:latin typeface="Arial"/>
              </a:rPr>
              <a:t>develop global markets and prepare employees for global assign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 business must be prepared to deal with the global economy. This is made easier by techn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ffshoring </a:t>
            </a:r>
            <a:r>
              <a:rPr b="0" lang="en-US" sz="1200" spc="-1" strike="noStrike">
                <a:solidFill>
                  <a:srgbClr val="000000"/>
                </a:solidFill>
                <a:latin typeface="Calibri"/>
              </a:rPr>
              <a:t>refers to the exporting of jobs from developed countries to less developed count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nshoring</a:t>
            </a:r>
            <a:r>
              <a:rPr b="0" lang="en-US" sz="1200" spc="-1" strike="noStrike">
                <a:solidFill>
                  <a:srgbClr val="000000"/>
                </a:solidFill>
                <a:latin typeface="Calibri"/>
              </a:rPr>
              <a:t> refers to exporting jobs to rural parts of the United Sta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RM practices that help companies deal with the four competitive challenges can be grouped into four dimens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Managing the Human Resource Environment—HRM practices should be linked to strategy, legal compliance must be assured, and work should be designed to maximize employee effectiveness and motivation.</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Acquiring and Preparing Human Resources—Human resource planning must occur, employees must be recruited and placed in appropriate jobs, methods of employee selection must be determined, and employees having skills to perform particular jobs must be ensured.</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Assessment and Development of Human Resources—This area of HRM deals with measuring employee performance, preparing employees for future work roles, identifying and responding to employee interests, and creating a beneficial and effective work environment.</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
            </a:r>
            <a:r>
              <a:rPr b="0" lang="en-US" sz="1200" spc="-1" strike="noStrike">
                <a:solidFill>
                  <a:srgbClr val="000000"/>
                </a:solidFill>
                <a:latin typeface="Calibri"/>
              </a:rPr>
              <a:t>	</a:t>
            </a:r>
            <a:r>
              <a:rPr b="0" lang="en-US" sz="1200" spc="-1" strike="noStrike">
                <a:solidFill>
                  <a:srgbClr val="000000"/>
                </a:solidFill>
                <a:latin typeface="Calibri"/>
              </a:rPr>
              <a:t>Compensating Human Resources—Appropriate pay systems</a:t>
            </a:r>
            <a:r>
              <a:rPr b="1" lang="en-US" sz="1200" spc="-1" strike="noStrike">
                <a:solidFill>
                  <a:srgbClr val="000000"/>
                </a:solidFill>
                <a:latin typeface="Calibri"/>
              </a:rPr>
              <a:t> </a:t>
            </a:r>
            <a:r>
              <a:rPr b="0" lang="en-US" sz="1200" spc="-1" strike="noStrike">
                <a:solidFill>
                  <a:srgbClr val="000000"/>
                </a:solidFill>
                <a:latin typeface="Calibri"/>
              </a:rPr>
              <a:t>must be developed, employee contributions must be rewarded,</a:t>
            </a:r>
            <a:r>
              <a:rPr b="1" lang="en-US" sz="1200" spc="-1" strike="noStrike">
                <a:solidFill>
                  <a:srgbClr val="000000"/>
                </a:solidFill>
                <a:latin typeface="Calibri"/>
              </a:rPr>
              <a:t> </a:t>
            </a:r>
            <a:r>
              <a:rPr b="0" lang="en-US" sz="1200" spc="-1" strike="noStrike">
                <a:solidFill>
                  <a:srgbClr val="000000"/>
                </a:solidFill>
                <a:latin typeface="Calibri"/>
              </a:rPr>
              <a:t>and employees must be provided with benefi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C76BE-6C3B-4D33-969B-28359B821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B9490-1A95-4618-851F-B558BC4F8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799893D-9B26-4CF5-AAF0-BE6A6C6B59F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026A3E7-F6F7-49FA-910A-991164CCC19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941D2FF-0F87-4179-B733-7866EA587F2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6F85BA9-B829-4884-A4D6-86920C3B97B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6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0"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1D33E80-C4FB-46CF-B974-C16C66D7B36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4"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D2EBC61-ACD7-4120-8973-14D456E4A3A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6"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7"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6ABC18B-CAE5-49D3-8AC3-4BF72BFF315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7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2"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24EB02C-2756-4C90-903C-6EAE4F8F9EC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84"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5"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6"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7"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8"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9"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65C89BD-704A-4B68-8864-714ED5F3AE9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5B1FC7C-DF06-4934-90BD-6A79CA4A755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95682-02A4-446E-A999-03EB4E3A5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995DD5F-77C4-46A7-B839-B6C8FC10D72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9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B72004B-B118-484E-8B8D-73E9B5F98C3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DC5CD81-3220-428E-8ED0-27B95E89BD9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D718CA6-ACF9-4881-BE7C-2FF105391CA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ED45F34-35CC-42ED-B1D8-5CBE8641C40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094946B-2966-4ACE-B9F1-6230168DBCC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0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E19BFAA-F35D-41DE-8072-1E08147EE45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3ECFA49-1CF5-4A0D-B1C2-43B36A4FCC0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1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1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12D3A18-4C9A-42DF-B6D0-29962D523AC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BA3B4C5-B379-4E3E-A004-52BA6C33D3D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C47C8-9DC3-477D-BC8D-BB8F23F63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2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2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3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1B25CA5-0E49-4570-A694-C41C6906BF5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45D7BA9-27AB-4BF5-B351-216DF1AA5EB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7"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D6A4173-CDB9-4F8F-B655-964B040420D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39"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01E85E0-6ADE-484F-8C7D-64BC2F196FE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C9D15D0-7718-49E6-89CA-179B0F3E046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6E9F80D-3765-45ED-B2A2-B4DB3843AB2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105C18B-B683-4FA7-A4DD-6314128113D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4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4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93EE771-D61D-4916-AA03-F467E069737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2"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FC6573E-6590-4C48-933E-E9352CD25B5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6"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51A432C-9712-40F8-8222-C0745966ED3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F47616-F4D2-4750-B44F-83DE630EBBD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58"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59"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4D7E094-CE17-4C08-B44C-17C1E2798BE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4"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88750A3-634F-4CFE-AFA4-0C6CA88E620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66"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7"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8"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69"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0"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71"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EB5D7BF-91DA-4C3B-99C6-5D98F0C9770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A52C227-3DF0-41A0-93EB-93FD8869B9C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7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3716D47-1F4C-4A05-8DD2-F1D3711ABCA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6C4D2FE-70A4-4043-87D7-5C9A5795EC7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8F10FDE-C4F3-4DB6-BFE9-E7053EF4230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50E3EBA-B04F-4046-951B-C9EAAB533DF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9D4EC44-0C85-4C34-B72D-724FE87FA05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8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8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5C02BB7-CC97-4244-93AA-B895FD86C2B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996A66-B7B2-4238-A902-F6FBA880FBE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7A4EABB-3CCC-4C3E-8C65-AFDB452B1C8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9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A554F1C-89AA-470E-A5A0-273C45A0A06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49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1EEC26A-FAC1-4A57-88C0-DA250E7E1D4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F1B00A4-B960-4EA7-8C1A-F733C11388E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0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0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1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874B2B2-86D0-4D56-97B0-76D7ACF0816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D0322B0-4835-49E8-9DAA-5A7DE615BAD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1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9DF23EA-B732-406E-A5BC-A1DC6B4B33B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9217EC0-0498-4BC8-AE5E-70B212F419B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A399E1B-5A99-439C-9CEC-94D188D6285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C014580-D686-4CC4-9D2F-A5ECB319E92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CEAB8D-C480-45A6-B3FF-10637ACC100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2D15DB6-4445-46EF-90D8-E731930D43D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2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2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9E88D5F-3521-436A-A866-7FCE75C15FE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60991BD-DEC7-44E2-ADCB-009B9B1647D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3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07DA5EF-7261-44EA-96F5-FCE6E039856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661049E-843A-42AF-BE53-53869834D07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ED5CFB9-0269-417D-98EF-D4332B75A9E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4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4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5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46203EF-311B-40AE-8D46-6E442BB2B7B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4AC5C5C-CFD6-4B87-8CB3-3F12B16E4E4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AFB76CA-30F9-4536-9455-A59CD72883E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84675D6-CA2C-4775-828E-73CF13154D5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FA8C26-5DBB-404A-8F3B-E0CCDD19BB43}"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6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A38A106-8DB7-47D9-83A9-6AB0CE8A532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64A9B2FC-E83D-43B9-9742-05ABF9E5D08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E09FEE0-23C5-4F5D-A21C-37441DE1FF0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6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67ADFF5-DD70-431D-9682-8DB698AA9F1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3567E14-6D32-424F-8C42-CA844EBF3F2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7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7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6296C3F-CB37-4A48-9B69-6B6E11BC695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2C79C3E-61FF-406D-9EDB-69583216086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8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DEF95DA-D010-43EF-B77D-9D7D24D0EC42}"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8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9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3E182EE-E193-4126-B9D2-013039E3C462}"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AFC0BC-5ACE-4352-BEA6-8093FFAD89C2}"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59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0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0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1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1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3EEDE4-DCFA-4B94-9489-3BEDCB948307}"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2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2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3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6852DE-5640-43B9-BDF2-6BEEFD2C6A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BAC5B-FAFE-4D1D-B8D8-FF76B1BC8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6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ECFD94-8919-42B4-B4BF-5758167CB0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98D45C-CF27-4DF6-8FC3-FFA8B38525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7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22B8B7-FCCA-4EAC-9BAA-55C928DCE0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58FDFD-A39B-468B-84BE-636602D9A9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8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E56BB2-340B-4414-A0C7-D6FCBD10C62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1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86B2A-9E06-4C8E-9994-9ED18CCF1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2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2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3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3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4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4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0"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2"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46911-4128-4718-B37F-FEB62CBC9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55"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0"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1"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5"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6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9"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1"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2"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4"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6"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7"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79"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0"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1"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2"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3"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84"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B18BA72-32E2-43D1-A444-9CCF4F3E4FB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2D2E9-9488-449F-AA5B-BCB7A4BE7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1"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8F3E9C9-60F8-4FF8-8E21-9BF487B02F7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3"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3AB7F1E-4750-4941-AD1E-833895FD583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9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D982A45-02E2-44B3-963C-393FFF8FAD0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3109709-7DA4-4444-B604-D38DC7FB07E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5639CD3-87B1-4711-B496-7D6EABFCF99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5BAABB0-8F6A-4387-9D70-56B78B0ABE5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4"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5"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6"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E2B93B-2EFC-4B29-B6EC-E3604E765ED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0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0"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FFFC1C-B7DA-4789-B329-E667CBB11CB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2"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3"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DEABDAB-F435-45E7-9206-FC227315A65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8"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D3D50CD-E97D-4608-954E-582D4C5A3B4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5823E-B913-4C62-A713-34A4B063A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20"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1"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2"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3"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4"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25"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1B00547-49C3-4ADB-A40E-A4593300E66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39745C5-162B-4AC7-BF01-305EC2462D4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2"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DA32A9D-C840-4EBD-B35F-D32AD8073C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4"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AAB5D8A-88B6-49D5-AFDE-210A125306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37"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9E02DAB-A4F7-4E8D-B27D-5A3740DFC9B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8E9D026-41EB-43FD-A283-12E41DA168D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C5CFA8B-C055-4014-BD27-1516FFAF2AA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2"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3"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7C7FEDE-C1F7-4C7E-93D8-F34E686D70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5"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7"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7B82A41-40D3-480C-A024-FD122B35313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49"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1"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4AF7EA-A80E-4226-A6E3-903AC9935F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CB9EB-2955-4520-B1C9-A77F6FE29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3"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4"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B8D6A54-9510-4C53-998C-C233E0A1012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5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8"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9"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A4AC150-837A-4A59-BD8E-744E86D56D0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61"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2"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3"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4"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5"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66"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0108C21-BFB4-493D-BEA0-26BD9C23EDB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BDA8540-0AF3-493C-815B-BD14D2C0AA6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3"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D7F80CC-0AD0-4763-9849-BB963FD5ABC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5"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C97297A-FA42-4373-B9B7-9D47893C758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7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7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CB307CA-8FC1-4A07-86E7-32F31481742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45B8905-E82C-4963-9793-B289C76844E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5843DE4-7FCF-45F1-A2FD-2980D9E361D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6C0E61D-637A-4AE1-B6E8-60F617FB60B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A5D58-A956-4172-9617-8D8FA429B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86"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88"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93FC55F-4B10-44A8-8332-481947276C3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2"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50F3D0B-6DB8-4095-B882-BBF4CDEECC2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4"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5"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46CD1C2-7703-468C-A663-37A102E6334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9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9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0"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798C282-8333-4EF6-81AA-E828A51A2F5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02"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3"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4"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5"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6"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07"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C53CB41-8DD6-4BEE-86A5-22BBF88B0B6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70F0E70-7A46-43FC-8230-70B75507783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4"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0D61AD6-66BE-4D46-B74F-53365F4905A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6"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2FFE99A-D7C3-411A-ABD5-55122E3F82E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18"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1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6C54304-295C-4348-A7EC-3CC1EBE9A1E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9601A2B-5490-4218-8B63-9B0F208B210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A5DE3-FE92-49E6-B4D1-3533EFD84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49000" y="108000"/>
            <a:ext cx="8042040" cy="4093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4FF0EAE-0563-4424-9295-7658DD3AA0E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4A7086C-4037-4230-A396-01B94101D8F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27"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8"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29"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1303EFD-54DA-4AFD-B357-DFECA0B8DB2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1"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3"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3E5E436-8AA8-4F20-AC80-F1CE0F192D7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5"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6"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C8C9918-2B3A-4D0D-BF91-0F46B384A7C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3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39"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1"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E52434D-B437-4D83-AF39-23523BC15CC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43"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4"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5"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6"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7"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348"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832C03F-F231-4447-B868-D4C6DD4E2B3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C335431-E863-412C-A999-B2876544F1E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5"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144E7BD-498B-46F6-B25B-CD878D44829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News Gothic MT"/>
            </a:endParaRPr>
          </a:p>
        </p:txBody>
      </p:sp>
      <p:sp>
        <p:nvSpPr>
          <p:cNvPr id="357"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72DA78F-EB65-4FA7-B170-5E56317F8AED}" type="slidenum">
              <a:t>&lt;#&gt;</a:t>
            </a:fld>
          </a:p>
        </p:txBody>
      </p:sp>
      <p:sp>
        <p:nvSpPr>
          <p:cNvPr id="6" name="PlaceHolder 5"/>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ea typeface="ＭＳ Ｐゴシック"/>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E75E-0D05-4E36-96E7-951F6C059E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9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92" name="PlaceHolder 3"/>
          <p:cNvSpPr>
            <a:spLocks noGrp="1"/>
          </p:cNvSpPr>
          <p:nvPr>
            <p:ph type="dt" idx="21"/>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PlaceHolder 4"/>
          <p:cNvSpPr>
            <a:spLocks noGrp="1"/>
          </p:cNvSpPr>
          <p:nvPr>
            <p:ph type="ftr" idx="22"/>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94" name="PlaceHolder 5"/>
          <p:cNvSpPr>
            <a:spLocks noGrp="1"/>
          </p:cNvSpPr>
          <p:nvPr>
            <p:ph type="sldNum" idx="2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8F52A-8070-458F-967F-26DC491F827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3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3" name="PlaceHolder 3"/>
          <p:cNvSpPr>
            <a:spLocks noGrp="1"/>
          </p:cNvSpPr>
          <p:nvPr>
            <p:ph type="dt" idx="24"/>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PlaceHolder 4"/>
          <p:cNvSpPr>
            <a:spLocks noGrp="1"/>
          </p:cNvSpPr>
          <p:nvPr>
            <p:ph type="ftr" idx="25"/>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35" name="PlaceHolder 5"/>
          <p:cNvSpPr>
            <a:spLocks noGrp="1"/>
          </p:cNvSpPr>
          <p:nvPr>
            <p:ph type="sldNum" idx="2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D60E0-BD7A-47EA-B748-F57CCE56D74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7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74" name="PlaceHolder 3"/>
          <p:cNvSpPr>
            <a:spLocks noGrp="1"/>
          </p:cNvSpPr>
          <p:nvPr>
            <p:ph type="dt" idx="27"/>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4"/>
          <p:cNvSpPr>
            <a:spLocks noGrp="1"/>
          </p:cNvSpPr>
          <p:nvPr>
            <p:ph type="ftr" idx="28"/>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76" name="PlaceHolder 5"/>
          <p:cNvSpPr>
            <a:spLocks noGrp="1"/>
          </p:cNvSpPr>
          <p:nvPr>
            <p:ph type="sldNum" idx="2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5C11-28F4-47A0-8486-431FA7C88F3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1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15" name="PlaceHolder 3"/>
          <p:cNvSpPr>
            <a:spLocks noGrp="1"/>
          </p:cNvSpPr>
          <p:nvPr>
            <p:ph type="dt" idx="30"/>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4"/>
          <p:cNvSpPr>
            <a:spLocks noGrp="1"/>
          </p:cNvSpPr>
          <p:nvPr>
            <p:ph type="ftr" idx="31"/>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17" name="PlaceHolder 5"/>
          <p:cNvSpPr>
            <a:spLocks noGrp="1"/>
          </p:cNvSpPr>
          <p:nvPr>
            <p:ph type="sldNum" idx="32"/>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E52E3-DD19-4BAB-A8C7-E20E304D252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55"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556" name="PlaceHolder 3"/>
          <p:cNvSpPr>
            <a:spLocks noGrp="1"/>
          </p:cNvSpPr>
          <p:nvPr>
            <p:ph type="dt" idx="33"/>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4"/>
          <p:cNvSpPr>
            <a:spLocks noGrp="1"/>
          </p:cNvSpPr>
          <p:nvPr>
            <p:ph type="ftr" idx="3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558" name="PlaceHolder 5"/>
          <p:cNvSpPr>
            <a:spLocks noGrp="1"/>
          </p:cNvSpPr>
          <p:nvPr>
            <p:ph type="sldNum" idx="3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35D8-A8CE-4767-9AD8-DC01AEDBED5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59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42"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43" name="PlaceHolder 3"/>
          <p:cNvSpPr>
            <a:spLocks noGrp="1"/>
          </p:cNvSpPr>
          <p:nvPr>
            <p:ph type="ftr" idx="4"/>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44" name="PlaceHolder 4"/>
          <p:cNvSpPr>
            <a:spLocks noGrp="1"/>
          </p:cNvSpPr>
          <p:nvPr>
            <p:ph type="sldNum" idx="5"/>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6DBA5-F37B-4581-919E-1D7B490EDCF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5"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 name="Group 14"/>
          <p:cNvGrpSpPr/>
          <p:nvPr/>
        </p:nvGrpSpPr>
        <p:grpSpPr>
          <a:xfrm>
            <a:off x="152280" y="914400"/>
            <a:ext cx="990720" cy="990360"/>
            <a:chOff x="152280" y="914400"/>
            <a:chExt cx="990720" cy="990360"/>
          </a:xfrm>
        </p:grpSpPr>
        <p:sp>
          <p:nvSpPr>
            <p:cNvPr id="47" name="Oval 12"/>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Oval 13"/>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 name="Group 15"/>
          <p:cNvGrpSpPr/>
          <p:nvPr/>
        </p:nvGrpSpPr>
        <p:grpSpPr>
          <a:xfrm>
            <a:off x="152280" y="2209680"/>
            <a:ext cx="838440" cy="838440"/>
            <a:chOff x="152280" y="2209680"/>
            <a:chExt cx="838440" cy="838440"/>
          </a:xfrm>
        </p:grpSpPr>
        <p:sp>
          <p:nvSpPr>
            <p:cNvPr id="50" name="Oval 16"/>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Oval 17"/>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 name="Group 18"/>
          <p:cNvGrpSpPr/>
          <p:nvPr/>
        </p:nvGrpSpPr>
        <p:grpSpPr>
          <a:xfrm>
            <a:off x="533520" y="3048120"/>
            <a:ext cx="457200" cy="457200"/>
            <a:chOff x="533520" y="3048120"/>
            <a:chExt cx="457200" cy="457200"/>
          </a:xfrm>
        </p:grpSpPr>
        <p:sp>
          <p:nvSpPr>
            <p:cNvPr id="53" name="Oval 19"/>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Oval 20"/>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Rectangle 15"/>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8"/>
          <p:cNvSpPr/>
          <p:nvPr/>
        </p:nvSpPr>
        <p:spPr>
          <a:xfrm>
            <a:off x="0" y="0"/>
            <a:ext cx="68580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0"/>
          <p:cNvSpPr/>
          <p:nvPr/>
        </p:nvSpPr>
        <p:spPr>
          <a:xfrm>
            <a:off x="8534520" y="0"/>
            <a:ext cx="609480" cy="6858000"/>
          </a:xfrm>
          <a:prstGeom prst="rect">
            <a:avLst/>
          </a:prstGeom>
          <a:solidFill>
            <a:srgbClr val="b5d5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 name="Group 15"/>
          <p:cNvGrpSpPr/>
          <p:nvPr/>
        </p:nvGrpSpPr>
        <p:grpSpPr>
          <a:xfrm>
            <a:off x="152280" y="914400"/>
            <a:ext cx="990720" cy="990360"/>
            <a:chOff x="152280" y="914400"/>
            <a:chExt cx="990720" cy="990360"/>
          </a:xfrm>
        </p:grpSpPr>
        <p:sp>
          <p:nvSpPr>
            <p:cNvPr id="95" name="Oval 16"/>
            <p:cNvSpPr/>
            <p:nvPr/>
          </p:nvSpPr>
          <p:spPr>
            <a:xfrm>
              <a:off x="152280" y="914400"/>
              <a:ext cx="990720" cy="990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17"/>
            <p:cNvSpPr/>
            <p:nvPr/>
          </p:nvSpPr>
          <p:spPr>
            <a:xfrm>
              <a:off x="293760" y="1055520"/>
              <a:ext cx="708120" cy="7081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 name="Group 18"/>
          <p:cNvGrpSpPr/>
          <p:nvPr/>
        </p:nvGrpSpPr>
        <p:grpSpPr>
          <a:xfrm>
            <a:off x="152280" y="2209680"/>
            <a:ext cx="838440" cy="838440"/>
            <a:chOff x="152280" y="2209680"/>
            <a:chExt cx="838440" cy="838440"/>
          </a:xfrm>
        </p:grpSpPr>
        <p:sp>
          <p:nvSpPr>
            <p:cNvPr id="98" name="Oval 19"/>
            <p:cNvSpPr/>
            <p:nvPr/>
          </p:nvSpPr>
          <p:spPr>
            <a:xfrm>
              <a:off x="152280" y="2209680"/>
              <a:ext cx="83844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20"/>
            <p:cNvSpPr/>
            <p:nvPr/>
          </p:nvSpPr>
          <p:spPr>
            <a:xfrm>
              <a:off x="271800" y="2328840"/>
              <a:ext cx="60156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 name="Group 21"/>
          <p:cNvGrpSpPr/>
          <p:nvPr/>
        </p:nvGrpSpPr>
        <p:grpSpPr>
          <a:xfrm>
            <a:off x="533520" y="3048120"/>
            <a:ext cx="457200" cy="457200"/>
            <a:chOff x="533520" y="3048120"/>
            <a:chExt cx="457200" cy="457200"/>
          </a:xfrm>
        </p:grpSpPr>
        <p:sp>
          <p:nvSpPr>
            <p:cNvPr id="101" name="Oval 22"/>
            <p:cNvSpPr/>
            <p:nvPr/>
          </p:nvSpPr>
          <p:spPr>
            <a:xfrm>
              <a:off x="533520" y="30481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23"/>
            <p:cNvSpPr/>
            <p:nvPr/>
          </p:nvSpPr>
          <p:spPr>
            <a:xfrm>
              <a:off x="598680" y="31132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3" name="Group 24"/>
          <p:cNvGrpSpPr/>
          <p:nvPr/>
        </p:nvGrpSpPr>
        <p:grpSpPr>
          <a:xfrm>
            <a:off x="7772400" y="6248520"/>
            <a:ext cx="457200" cy="457200"/>
            <a:chOff x="7772400" y="6248520"/>
            <a:chExt cx="457200" cy="457200"/>
          </a:xfrm>
        </p:grpSpPr>
        <p:sp>
          <p:nvSpPr>
            <p:cNvPr id="104" name="Oval 25"/>
            <p:cNvSpPr/>
            <p:nvPr/>
          </p:nvSpPr>
          <p:spPr>
            <a:xfrm>
              <a:off x="7772400" y="6248520"/>
              <a:ext cx="4572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26"/>
            <p:cNvSpPr/>
            <p:nvPr/>
          </p:nvSpPr>
          <p:spPr>
            <a:xfrm>
              <a:off x="7837560" y="6313680"/>
              <a:ext cx="326880" cy="32688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6" name="Group 27"/>
          <p:cNvGrpSpPr/>
          <p:nvPr/>
        </p:nvGrpSpPr>
        <p:grpSpPr>
          <a:xfrm>
            <a:off x="8305920" y="5638680"/>
            <a:ext cx="838080" cy="838440"/>
            <a:chOff x="8305920" y="5638680"/>
            <a:chExt cx="838080" cy="838440"/>
          </a:xfrm>
        </p:grpSpPr>
        <p:sp>
          <p:nvSpPr>
            <p:cNvPr id="107" name="Oval 28"/>
            <p:cNvSpPr/>
            <p:nvPr/>
          </p:nvSpPr>
          <p:spPr>
            <a:xfrm>
              <a:off x="8305920" y="5638680"/>
              <a:ext cx="838080" cy="838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29"/>
            <p:cNvSpPr/>
            <p:nvPr/>
          </p:nvSpPr>
          <p:spPr>
            <a:xfrm>
              <a:off x="8425440" y="5757840"/>
              <a:ext cx="601200" cy="601920"/>
            </a:xfrm>
            <a:prstGeom prst="ellipse">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1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4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186"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187" name="PlaceHolder 3"/>
          <p:cNvSpPr>
            <a:spLocks noGrp="1"/>
          </p:cNvSpPr>
          <p:nvPr>
            <p:ph type="dt" idx="6"/>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7"/>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189" name="PlaceHolder 5"/>
          <p:cNvSpPr>
            <a:spLocks noGrp="1"/>
          </p:cNvSpPr>
          <p:nvPr>
            <p:ph type="sldNum" idx="8"/>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2E2D8-450F-4F57-842F-C2B2A0A2A1B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27"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28" name="PlaceHolder 3"/>
          <p:cNvSpPr>
            <a:spLocks noGrp="1"/>
          </p:cNvSpPr>
          <p:nvPr>
            <p:ph type="dt" idx="9"/>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4"/>
          <p:cNvSpPr>
            <a:spLocks noGrp="1"/>
          </p:cNvSpPr>
          <p:nvPr>
            <p:ph type="ftr" idx="10"/>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30" name="PlaceHolder 5"/>
          <p:cNvSpPr>
            <a:spLocks noGrp="1"/>
          </p:cNvSpPr>
          <p:nvPr>
            <p:ph type="sldNum" idx="11"/>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9B0F-6658-45FE-B8DD-7DF11BB009A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268"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269" name="PlaceHolder 3"/>
          <p:cNvSpPr>
            <a:spLocks noGrp="1"/>
          </p:cNvSpPr>
          <p:nvPr>
            <p:ph type="dt" idx="12"/>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4"/>
          <p:cNvSpPr>
            <a:spLocks noGrp="1"/>
          </p:cNvSpPr>
          <p:nvPr>
            <p:ph type="ftr" idx="13"/>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271" name="PlaceHolder 5"/>
          <p:cNvSpPr>
            <a:spLocks noGrp="1"/>
          </p:cNvSpPr>
          <p:nvPr>
            <p:ph type="sldNum" idx="14"/>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1945-7E4B-4158-83EB-522C9EC1A82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09"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10" name="PlaceHolder 3"/>
          <p:cNvSpPr>
            <a:spLocks noGrp="1"/>
          </p:cNvSpPr>
          <p:nvPr>
            <p:ph type="dt" idx="15"/>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PlaceHolder 4"/>
          <p:cNvSpPr>
            <a:spLocks noGrp="1"/>
          </p:cNvSpPr>
          <p:nvPr>
            <p:ph type="ftr" idx="16"/>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12" name="PlaceHolder 5"/>
          <p:cNvSpPr>
            <a:spLocks noGrp="1"/>
          </p:cNvSpPr>
          <p:nvPr>
            <p:ph type="sldNum" idx="17"/>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0BE2-C8A1-4015-9200-EAE4A2246B5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49000" y="108000"/>
            <a:ext cx="8042040" cy="88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Click to edit the title text format</a:t>
            </a:r>
            <a:endParaRPr b="1" lang="en-US" sz="3200" spc="-1" strike="noStrike">
              <a:solidFill>
                <a:srgbClr val="ff0000"/>
              </a:solidFill>
              <a:latin typeface="News Gothic MT"/>
            </a:endParaRPr>
          </a:p>
        </p:txBody>
      </p:sp>
      <p:sp>
        <p:nvSpPr>
          <p:cNvPr id="350"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fontScale="94000"/>
          </a:bodyPr>
          <a:p>
            <a:pPr marL="327960" indent="-32796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lick to edit the outline text format</a:t>
            </a:r>
            <a:endParaRPr b="0" lang="en-US" sz="2800" spc="-1" strike="noStrike">
              <a:solidFill>
                <a:srgbClr val="595959"/>
              </a:solidFill>
              <a:latin typeface="News Gothic MT"/>
            </a:endParaRPr>
          </a:p>
          <a:p>
            <a:pPr lvl="1" marL="644400" indent="-31608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cond Outline Level</a:t>
            </a:r>
            <a:endParaRPr b="0" lang="en-US" sz="2800" spc="-1" strike="noStrike">
              <a:solidFill>
                <a:srgbClr val="595959"/>
              </a:solidFill>
              <a:latin typeface="News Gothic MT"/>
            </a:endParaRPr>
          </a:p>
          <a:p>
            <a:pPr lvl="2" marL="91008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Third Outline Level</a:t>
            </a:r>
            <a:endParaRPr b="0" lang="en-US" sz="2800" spc="-1" strike="noStrike">
              <a:solidFill>
                <a:srgbClr val="595959"/>
              </a:solidFill>
              <a:latin typeface="News Gothic MT"/>
            </a:endParaRPr>
          </a:p>
          <a:p>
            <a:pPr lvl="3" marL="1187640" indent="-277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ourth Outline Level</a:t>
            </a:r>
            <a:endParaRPr b="0" lang="en-US" sz="2800" spc="-1" strike="noStrike">
              <a:solidFill>
                <a:srgbClr val="595959"/>
              </a:solidFill>
              <a:latin typeface="News Gothic MT"/>
            </a:endParaRPr>
          </a:p>
          <a:p>
            <a:pPr lvl="4" marL="1453320" indent="-26532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Fifth Outline Level</a:t>
            </a:r>
            <a:endParaRPr b="0" lang="en-US" sz="2800" spc="-1" strike="noStrike">
              <a:solidFill>
                <a:srgbClr val="595959"/>
              </a:solidFill>
              <a:latin typeface="News Gothic MT"/>
            </a:endParaRPr>
          </a:p>
          <a:p>
            <a:pPr lvl="5"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ixth Outline Level</a:t>
            </a:r>
            <a:endParaRPr b="0" lang="en-US" sz="2800" spc="-1" strike="noStrike">
              <a:solidFill>
                <a:srgbClr val="595959"/>
              </a:solidFill>
              <a:latin typeface="News Gothic MT"/>
            </a:endParaRPr>
          </a:p>
          <a:p>
            <a:pPr lvl="6" marL="1453320" indent="-26532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Seventh Outline Level</a:t>
            </a:r>
            <a:endParaRPr b="0" lang="en-US" sz="2800" spc="-1" strike="noStrike">
              <a:solidFill>
                <a:srgbClr val="595959"/>
              </a:solidFill>
              <a:latin typeface="News Gothic MT"/>
            </a:endParaRPr>
          </a:p>
        </p:txBody>
      </p:sp>
      <p:sp>
        <p:nvSpPr>
          <p:cNvPr id="351" name="PlaceHolder 3"/>
          <p:cNvSpPr>
            <a:spLocks noGrp="1"/>
          </p:cNvSpPr>
          <p:nvPr>
            <p:ph type="dt" idx="18"/>
          </p:nvPr>
        </p:nvSpPr>
        <p:spPr>
          <a:xfrm>
            <a:off x="5628960" y="6275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19"/>
          </p:nvPr>
        </p:nvSpPr>
        <p:spPr>
          <a:xfrm>
            <a:off x="264600" y="6275520"/>
            <a:ext cx="7355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cGraw-Hill/Irwin  ©2012 The McGraw-Hill Companies, All Rights Reserved </a:t>
            </a:r>
            <a:endParaRPr b="0" lang="en-US" sz="1200" spc="-1" strike="noStrike">
              <a:solidFill>
                <a:srgbClr val="000000"/>
              </a:solidFill>
              <a:latin typeface="Times New Roman"/>
            </a:endParaRPr>
          </a:p>
        </p:txBody>
      </p:sp>
      <p:sp>
        <p:nvSpPr>
          <p:cNvPr id="353" name="PlaceHolder 5"/>
          <p:cNvSpPr>
            <a:spLocks noGrp="1"/>
          </p:cNvSpPr>
          <p:nvPr>
            <p:ph type="sldNum" idx="20"/>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CDE10-527F-46AC-A328-BAD0E163C6D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549000" y="762120"/>
            <a:ext cx="804204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News Gothic MT"/>
            </a:endParaRPr>
          </a:p>
        </p:txBody>
      </p:sp>
      <p:sp>
        <p:nvSpPr>
          <p:cNvPr id="64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Vertical Integration </a:t>
            </a:r>
            <a:endParaRPr b="0" lang="en-US" sz="3200" spc="-1" strike="noStrike">
              <a:solidFill>
                <a:srgbClr val="595959"/>
              </a:solidFill>
              <a:latin typeface="News Gothic MT"/>
            </a:endParaRPr>
          </a:p>
          <a:p>
            <a:pPr marL="349200" indent="-349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e73"/>
                </a:solidFill>
                <a:latin typeface="News Gothic MT"/>
                <a:ea typeface="Geneva"/>
              </a:rPr>
              <a:t>within Diversified Firms</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Firms may use one of three “forms” of organization to manage economic exchanges.</a:t>
            </a:r>
            <a:endParaRPr b="1" lang="en-US" sz="3200" spc="-1" strike="noStrike">
              <a:solidFill>
                <a:srgbClr val="ff0000"/>
              </a:solidFill>
              <a:latin typeface="News Gothic MT"/>
            </a:endParaRPr>
          </a:p>
        </p:txBody>
      </p:sp>
      <p:sp>
        <p:nvSpPr>
          <p:cNvPr id="662" name=""/>
          <p:cNvSpPr txBox="1"/>
          <p:nvPr/>
        </p:nvSpPr>
        <p:spPr>
          <a:xfrm>
            <a:off x="549000" y="19051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Market (e.g. trading)</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Intermediate (strategic allian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Hierarchical (acquisition)</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News Gothic MT"/>
              </a:rPr>
              <a:t>What is a strategic alliance?</a:t>
            </a:r>
            <a:endParaRPr b="1" lang="en-US" sz="3200" spc="-1" strike="noStrike">
              <a:solidFill>
                <a:srgbClr val="ff0000"/>
              </a:solidFill>
              <a:latin typeface="News Gothic MT"/>
            </a:endParaRPr>
          </a:p>
        </p:txBody>
      </p:sp>
      <p:sp>
        <p:nvSpPr>
          <p:cNvPr id="66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 strategic alliance exists when two or more organizations cooperate in the development, manufacture or sale of products or servic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Strategic alliances can be used for either business or corporate level reasons.</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107640"/>
            <a:ext cx="838224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0000"/>
                </a:solidFill>
                <a:latin typeface="News Gothic MT"/>
              </a:rPr>
              <a:t>What are some types of strategic alliances?</a:t>
            </a:r>
            <a:endParaRPr b="1" lang="en-US" sz="3100" spc="-1" strike="noStrike">
              <a:solidFill>
                <a:srgbClr val="ff0000"/>
              </a:solidFill>
              <a:latin typeface="News Gothic MT"/>
            </a:endParaRPr>
          </a:p>
        </p:txBody>
      </p:sp>
      <p:sp>
        <p:nvSpPr>
          <p:cNvPr id="66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supply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distribution agree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joint ventures (cooperative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160" y="228240"/>
            <a:ext cx="8042040" cy="11430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ea typeface="Times New Roman"/>
              </a:rPr>
              <a:t>What is corporate diversification?</a:t>
            </a:r>
            <a:endParaRPr b="1" lang="en-US" sz="3600" spc="-1" strike="noStrike">
              <a:solidFill>
                <a:srgbClr val="ff0000"/>
              </a:solidFill>
              <a:latin typeface="News Gothic MT"/>
            </a:endParaRPr>
          </a:p>
        </p:txBody>
      </p:sp>
      <p:sp>
        <p:nvSpPr>
          <p:cNvPr id="643" name=""/>
          <p:cNvSpPr txBox="1"/>
          <p:nvPr/>
        </p:nvSpPr>
        <p:spPr>
          <a:xfrm>
            <a:off x="533160" y="1752480"/>
            <a:ext cx="8001000" cy="41436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Bringing more than one business within the boundaries of the fir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ea typeface="Times New Roman"/>
              </a:rPr>
              <a:t>Remember, diversification  may be horizontal or vertical.</a:t>
            </a:r>
            <a:endParaRPr b="0" lang="en-US" sz="28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
        <p:nvSpPr>
          <p:cNvPr id="644" name="Rectangle 6"/>
          <p:cNvSpPr/>
          <p:nvPr/>
        </p:nvSpPr>
        <p:spPr>
          <a:xfrm>
            <a:off x="8286840" y="6381720"/>
            <a:ext cx="81900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8E5C83FE-FEB1-400D-8B42-407F7E816308}"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43">
                                            <p:txEl>
                                              <p:pRg st="1" end="1"/>
                                            </p:txEl>
                                          </p:spTgt>
                                        </p:tgtEl>
                                        <p:attrNameLst>
                                          <p:attrName>style.visibility</p:attrName>
                                        </p:attrNameLst>
                                      </p:cBhvr>
                                      <p:to>
                                        <p:strVal val="visible"/>
                                      </p:to>
                                    </p:set>
                                    <p:animEffect filter="blinds(horizontal)" transition="in">
                                      <p:cBhvr additive="repl">
                                        <p:cTn id="7" dur="500"/>
                                        <p:tgtEl>
                                          <p:spTgt spid="643">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43">
                                            <p:txEl>
                                              <p:pRg st="3" end="3"/>
                                            </p:txEl>
                                          </p:spTgt>
                                        </p:tgtEl>
                                        <p:attrNameLst>
                                          <p:attrName>style.visibility</p:attrName>
                                        </p:attrNameLst>
                                      </p:cBhvr>
                                      <p:to>
                                        <p:strVal val="visible"/>
                                      </p:to>
                                    </p:set>
                                    <p:animEffect filter="blinds(horizontal)" transition="in">
                                      <p:cBhvr additive="repl">
                                        <p:cTn id="12" dur="500"/>
                                        <p:tgtEl>
                                          <p:spTgt spid="6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1066320" y="380880"/>
            <a:ext cx="7310520" cy="914400"/>
          </a:xfrm>
          <a:prstGeom prst="rect">
            <a:avLst/>
          </a:prstGeom>
          <a:noFill/>
          <a:ln w="0">
            <a:noFill/>
          </a:ln>
        </p:spPr>
        <p:txBody>
          <a:bodyPr anchor="b">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i="1" lang="en-US" sz="3600" spc="-1" strike="noStrike">
                <a:solidFill>
                  <a:srgbClr val="ff0000"/>
                </a:solidFill>
                <a:latin typeface="News Gothic MT"/>
              </a:rPr>
              <a:t>What is trading?</a:t>
            </a:r>
            <a:endParaRPr b="1" lang="en-US" sz="3600" spc="-1" strike="noStrike">
              <a:solidFill>
                <a:srgbClr val="ff0000"/>
              </a:solidFill>
              <a:latin typeface="News Gothic MT"/>
            </a:endParaRPr>
          </a:p>
        </p:txBody>
      </p:sp>
      <p:sp>
        <p:nvSpPr>
          <p:cNvPr id="647" name="PlaceHolder 2"/>
          <p:cNvSpPr>
            <a:spLocks noGrp="1"/>
          </p:cNvSpPr>
          <p:nvPr>
            <p:ph/>
          </p:nvPr>
        </p:nvSpPr>
        <p:spPr>
          <a:xfrm>
            <a:off x="761760" y="1752120"/>
            <a:ext cx="7924680" cy="4295880"/>
          </a:xfrm>
          <a:prstGeom prst="rect">
            <a:avLst/>
          </a:prstGeom>
          <a:noFill/>
          <a:ln w="0">
            <a:noFill/>
          </a:ln>
        </p:spPr>
        <p:txBody>
          <a:bodyPr anchor="t">
            <a:normAutofit fontScale="99000"/>
          </a:bodyPr>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Dealing with customers and suppliers.</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Although trading creates value, it is also costly. </a:t>
            </a:r>
            <a:endParaRPr b="0" lang="en-US" sz="2800" spc="-1" strike="noStrike">
              <a:solidFill>
                <a:srgbClr val="595959"/>
              </a:solidFill>
              <a:latin typeface="News Gothic MT"/>
            </a:endParaRPr>
          </a:p>
          <a:p>
            <a:pPr marL="34560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5600" indent="-345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se costs are called transaction costs.</a:t>
            </a:r>
            <a:endParaRPr b="0" lang="en-US" sz="2800" spc="-1" strike="noStrike">
              <a:solidFill>
                <a:srgbClr val="595959"/>
              </a:solidFill>
              <a:latin typeface="News Gothic MT"/>
            </a:endParaRPr>
          </a:p>
          <a:p>
            <a:pPr marL="3456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ea typeface="Geneva"/>
              </a:rPr>
              <a:t> </a:t>
            </a:r>
            <a:endParaRPr b="0" lang="en-US" sz="2800" spc="-1" strike="noStrike">
              <a:solidFill>
                <a:srgbClr val="595959"/>
              </a:solidFill>
              <a:latin typeface="News Gothic MT"/>
            </a:endParaRPr>
          </a:p>
        </p:txBody>
      </p:sp>
      <p:sp>
        <p:nvSpPr>
          <p:cNvPr id="648" name="Text Box 10"/>
          <p:cNvSpPr/>
          <p:nvPr/>
        </p:nvSpPr>
        <p:spPr>
          <a:xfrm>
            <a:off x="8610480" y="6537240"/>
            <a:ext cx="457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Times New Roman"/>
                <a:ea typeface="Arial"/>
              </a:rPr>
              <a:t>1-</a:t>
            </a:r>
            <a:fld id="{888E1EDC-E0EC-4D55-BD44-7E93917A83A8}" type="slidenum">
              <a:rPr b="0" lang="en-US" sz="1000" spc="-1" strike="noStrike">
                <a:solidFill>
                  <a:srgbClr val="ffffff"/>
                </a:solidFill>
                <a:latin typeface="Times New Roman"/>
                <a:ea typeface="Arial"/>
              </a:rPr>
              <a:t>&lt;number&gt;</a:t>
            </a:fld>
            <a:endParaRPr b="0" lang="en-US" sz="1000" spc="-1" strike="noStrike">
              <a:solidFill>
                <a:srgbClr val="000000"/>
              </a:solidFill>
              <a:latin typeface="Arial"/>
            </a:endParaRPr>
          </a:p>
        </p:txBody>
      </p:sp>
    </p:spTree>
  </p:cSld>
  <p:transition>
    <p:wipe dir="u"/>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647">
                                            <p:txEl>
                                              <p:pRg st="0" end="0"/>
                                            </p:txEl>
                                          </p:spTgt>
                                        </p:tgtEl>
                                        <p:attrNameLst>
                                          <p:attrName>style.visibility</p:attrName>
                                        </p:attrNameLst>
                                      </p:cBhvr>
                                      <p:to>
                                        <p:strVal val="visible"/>
                                      </p:to>
                                    </p:set>
                                    <p:animEffect filter="barn(inHorizontal)" transition="in">
                                      <p:cBhvr additive="repl">
                                        <p:cTn id="19" dur="500"/>
                                        <p:tgtEl>
                                          <p:spTgt spid="647">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647">
                                            <p:txEl>
                                              <p:pRg st="2" end="2"/>
                                            </p:txEl>
                                          </p:spTgt>
                                        </p:tgtEl>
                                        <p:attrNameLst>
                                          <p:attrName>style.visibility</p:attrName>
                                        </p:attrNameLst>
                                      </p:cBhvr>
                                      <p:to>
                                        <p:strVal val="visible"/>
                                      </p:to>
                                    </p:set>
                                    <p:animEffect filter="barn(inHorizontal)" transition="in">
                                      <p:cBhvr additive="repl">
                                        <p:cTn id="24" dur="500"/>
                                        <p:tgtEl>
                                          <p:spTgt spid="647">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26">
                                  <p:stCondLst>
                                    <p:cond delay="0"/>
                                  </p:stCondLst>
                                  <p:childTnLst>
                                    <p:set>
                                      <p:cBhvr>
                                        <p:cTn id="28" dur="1" fill="hold">
                                          <p:stCondLst>
                                            <p:cond delay="0"/>
                                          </p:stCondLst>
                                        </p:cTn>
                                        <p:tgtEl>
                                          <p:spTgt spid="647">
                                            <p:txEl>
                                              <p:pRg st="4" end="4"/>
                                            </p:txEl>
                                          </p:spTgt>
                                        </p:tgtEl>
                                        <p:attrNameLst>
                                          <p:attrName>style.visibility</p:attrName>
                                        </p:attrNameLst>
                                      </p:cBhvr>
                                      <p:to>
                                        <p:strVal val="visible"/>
                                      </p:to>
                                    </p:set>
                                    <p:animEffect filter="barn(inHorizontal)" transition="in">
                                      <p:cBhvr additive="repl">
                                        <p:cTn id="29" dur="500"/>
                                        <p:tgtEl>
                                          <p:spTgt spid="647">
                                            <p:txEl>
                                              <p:pRg st="4" end="4"/>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647">
                                            <p:txEl>
                                              <p:pRg st="5" end="5"/>
                                            </p:txEl>
                                          </p:spTgt>
                                        </p:tgtEl>
                                        <p:attrNameLst>
                                          <p:attrName>style.visibility</p:attrName>
                                        </p:attrNameLst>
                                      </p:cBhvr>
                                      <p:to>
                                        <p:strVal val="visible"/>
                                      </p:to>
                                    </p:set>
                                    <p:animEffect filter="barn(inHorizontal)" transition="in">
                                      <p:cBhvr additive="repl">
                                        <p:cTn id="34" dur="500"/>
                                        <p:tgtEl>
                                          <p:spTgt spid="6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ransaction costs?</a:t>
            </a:r>
            <a:endParaRPr b="1" lang="en-US" sz="3600" spc="-1" strike="noStrike">
              <a:solidFill>
                <a:srgbClr val="ff0000"/>
              </a:solidFill>
              <a:latin typeface="News Gothic MT"/>
            </a:endParaRPr>
          </a:p>
        </p:txBody>
      </p:sp>
      <p:sp>
        <p:nvSpPr>
          <p:cNvPr id="650"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are the costs of time, effort and other resources necessary to search out, negotiate, and conclude an exchange.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ransaction costs reduce our ability to gain from trades. </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Despite strong incentives to cooperate in order to gain from trading, there may also be strong incentives to cheat. </a:t>
            </a:r>
            <a:endParaRPr b="1" lang="en-US" sz="3200" spc="-1" strike="noStrike">
              <a:solidFill>
                <a:srgbClr val="ff0000"/>
              </a:solidFill>
              <a:latin typeface="News Gothic MT"/>
            </a:endParaRPr>
          </a:p>
        </p:txBody>
      </p:sp>
      <p:sp>
        <p:nvSpPr>
          <p:cNvPr id="652" name=""/>
          <p:cNvSpPr txBox="1"/>
          <p:nvPr/>
        </p:nvSpPr>
        <p:spPr>
          <a:xfrm>
            <a:off x="549000" y="1828440"/>
            <a:ext cx="8042040" cy="4419720"/>
          </a:xfrm>
          <a:prstGeom prst="rect">
            <a:avLst/>
          </a:prstGeom>
          <a:noFill/>
          <a:ln w="0">
            <a:noFill/>
          </a:ln>
        </p:spPr>
        <p:txBody>
          <a:bodyPr anchor="t">
            <a:normAutofit/>
          </a:bodyPr>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Opportunism</a:t>
            </a:r>
            <a:r>
              <a:rPr b="0" lang="en-US" sz="2800" spc="-1" strike="noStrike">
                <a:solidFill>
                  <a:srgbClr val="ff0000"/>
                </a:solidFill>
                <a:latin typeface="News Gothic MT"/>
              </a:rPr>
              <a:t> exists whenever there is an occasion to cheat.</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News Gothic MT"/>
              </a:rPr>
              <a:t>Governance mechanisms</a:t>
            </a:r>
            <a:r>
              <a:rPr b="0" lang="en-US" sz="2800" spc="-1" strike="noStrike">
                <a:solidFill>
                  <a:srgbClr val="ff0000"/>
                </a:solidFill>
                <a:latin typeface="News Gothic MT"/>
              </a:rPr>
              <a:t> (which are also costly) are put in place to minimize the threat of opportunism. </a:t>
            </a: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us, firms must seek to simultaneously minimize the costs of governance and the threat of opportunism.</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49000" y="107640"/>
            <a:ext cx="8042040" cy="1492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News Gothic MT"/>
              </a:rPr>
              <a:t>What two primary characteristics of an exchange determine the threat of opportunism?</a:t>
            </a:r>
            <a:endParaRPr b="1" lang="en-US" sz="3200" spc="-1" strike="noStrike">
              <a:solidFill>
                <a:srgbClr val="ff0000"/>
              </a:solidFill>
              <a:latin typeface="News Gothic MT"/>
            </a:endParaRPr>
          </a:p>
        </p:txBody>
      </p:sp>
      <p:sp>
        <p:nvSpPr>
          <p:cNvPr id="65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transaction specific investmen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level of uncertainty and complexity in the exchange.</a:t>
            </a: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80880" y="108000"/>
            <a:ext cx="8382240" cy="1339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are two types or forms of vertical integration?</a:t>
            </a:r>
            <a:endParaRPr b="1" lang="en-US" sz="3600" spc="-1" strike="noStrike">
              <a:solidFill>
                <a:srgbClr val="ff0000"/>
              </a:solidFill>
              <a:latin typeface="News Gothic MT"/>
            </a:endParaRPr>
          </a:p>
        </p:txBody>
      </p:sp>
      <p:sp>
        <p:nvSpPr>
          <p:cNvPr id="65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Forward Vertical Integration</a:t>
            </a:r>
            <a:endParaRPr b="0" lang="en-US" sz="32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News Gothic MT"/>
              </a:rPr>
              <a:t>Backward Vertical Integration </a:t>
            </a:r>
            <a:endParaRPr b="0" lang="en-US" sz="3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108000"/>
            <a:ext cx="914400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What “form” will a transaction take?</a:t>
            </a:r>
            <a:endParaRPr b="1" lang="en-US" sz="3600" spc="-1" strike="noStrike">
              <a:solidFill>
                <a:srgbClr val="ff0000"/>
              </a:solidFill>
              <a:latin typeface="News Gothic MT"/>
            </a:endParaRPr>
          </a:p>
        </p:txBody>
      </p:sp>
      <p:sp>
        <p:nvSpPr>
          <p:cNvPr id="658" name=""/>
          <p:cNvSpPr txBox="1"/>
          <p:nvPr/>
        </p:nvSpPr>
        <p:spPr>
          <a:xfrm>
            <a:off x="228240" y="1599840"/>
            <a:ext cx="853452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The form of a transaction will be one that minimizes transaction costs.</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549000" y="108000"/>
            <a:ext cx="804204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News Gothic MT"/>
              </a:rPr>
              <a:t>Consider the need to trade for housing and food.</a:t>
            </a:r>
            <a:endParaRPr b="1" lang="en-US" sz="3600" spc="-1" strike="noStrike">
              <a:solidFill>
                <a:srgbClr val="ff0000"/>
              </a:solidFill>
              <a:latin typeface="News Gothic MT"/>
            </a:endParaRPr>
          </a:p>
        </p:txBody>
      </p:sp>
      <p:sp>
        <p:nvSpPr>
          <p:cNvPr id="660" name=""/>
          <p:cNvSpPr txBox="1"/>
          <p:nvPr/>
        </p:nvSpPr>
        <p:spPr>
          <a:xfrm>
            <a:off x="549000" y="1676520"/>
            <a:ext cx="8042040" cy="441936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ews Gothic MT"/>
              </a:rPr>
              <a:t>Why do most people own their homes but do not own a grocery store?</a:t>
            </a: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19:11:20Z</dcterms:created>
  <dc:creator>sara_hunter</dc:creator>
  <dc:description/>
  <dc:language>en-US</dc:language>
  <cp:lastModifiedBy>Morrow, Bert</cp:lastModifiedBy>
  <dcterms:modified xsi:type="dcterms:W3CDTF">2018-10-17T14:23:48Z</dcterms:modified>
  <cp:revision>322</cp:revision>
  <dc:subject/>
  <dc:title>Slide 1</dc:title>
</cp:coreProperties>
</file>