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DE2-32B3-463E-BC12-EE4899BF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3AA-8BEC-4129-9ADD-F13DD868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8CC-D07D-4F51-96B0-9E5E34DB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4D4-1808-4F62-A1B6-C8982018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B7FA-11D7-4E86-99A2-5D494D8A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A30E-F226-4722-804F-55248580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61F7-E84E-4A8D-A964-C1592816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64EE-E582-4E65-9D69-4CD89E9E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A784-0469-4F01-A473-F74B8A02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F63A-6168-446B-906C-E47075D3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0599-43DB-42EF-AF17-C6775175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B40-AF9B-4DD1-88C0-4FB161D1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6FD2-A189-48B0-9B16-B008C99D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A26F-450B-4934-ACAA-3611AD0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AD20-D561-4A36-9D0D-A1E1E92C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9235-82C1-4A1B-962C-A1C018DA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799E-BD23-4864-8179-6CF7CFCE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A5EB9-6E82-4894-8582-8F979B76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035C9-4089-404D-AC27-0502A19F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119A-6DC8-49B1-9321-AB815175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2CE0-168C-4E46-85AE-68733CF3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6BC0-0500-479B-B83C-EBF0E50F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66FB-87D1-4E83-AF3B-A927E72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4D26-FE0C-4132-B04A-2BF6EAAF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0932B-E51B-41F2-A119-DECC9D6D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FE4F-C206-4F49-8BD0-C792E5D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51DC-A5F6-4FAE-A7D3-8E8D27F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9BC1-72BF-4DA5-AAFC-050AFBE3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45636-96B6-442F-8A48-DDD3D96E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16D1D-0A43-4417-BAD1-0A49B991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E76B-8286-41E1-8EEA-78D3A65F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31CA3-1D05-457F-A1DA-4470A8F1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BBFF-51D9-4F6F-BFB7-E7617F31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A91-B9FE-48E8-8971-70CE8E28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A8F77-96B1-4559-9685-F1B85760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4148B-F6A1-4967-813E-C11C667A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6535-CE48-4B58-9089-470B653B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AB55B-B486-4A69-859D-33BCA326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FA1E7-73CA-46F9-B217-714D5DFD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58732-CDAE-41D3-9F3B-514EEE72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35AC0-9C09-488E-822F-D4D09021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D137-0B93-40BA-B087-7C072E4A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4D337-3199-4DE1-8C26-03C3F1E4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C14AA-2859-4660-85B0-AB5CFFCE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F3F-EBCD-4D2B-BB60-30AF639F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6147A-29DE-4DC8-AC48-32B5182A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96980-E824-4478-96AE-FD68CDDC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ED9A3-C89A-4D10-988F-54131FDD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111AD-9F5D-4EE8-9332-7C22B11E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199F7-DCC3-42DB-85D2-A430E628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C40ED-2583-4286-BDD1-005068A6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F9A70-2BE9-46F8-B1B7-7A06382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EA491-B9B5-4815-8A01-F0ECEBEA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0BBC2-514C-4F17-A397-8CE8619C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1E526-802B-4F4C-A44A-16D7E237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A8C-AB34-4247-8ECD-B9CD0F14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D1C4E-02A3-400F-8621-3EF2EBEB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260C4-0740-4001-B21F-9ED2730F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F0924-AB55-43E9-8FC7-3C17971B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5B947-8F3B-4163-AB4B-A516FAE5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943C-759D-4CB4-A326-8A4ABCA7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512C5-100A-40C7-A7F7-8AFED3B2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75323-1481-41BE-A2E2-CA964C80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5CA4A-F53B-42EC-8801-DBA0F836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08ED2-EDFC-4A9A-AC48-9BFDDF13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802C8-0673-45EF-B949-1BCC1BC6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DF4-556E-4C6A-AF58-1F45D133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A0FC2-1622-4771-9BF1-D2143A33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5BABA-F1BB-4749-B835-2BEFC0F6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1D42B-551A-43EE-B536-F42605D0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946AD-412F-4939-BC33-5B958C51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7F967-EC15-457E-8D35-540CE59D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949D1-24F3-442D-B5C2-929C9BA5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478C1-18D9-443B-9DA1-BDB422AD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3060E-D9C1-429E-8DF9-D65D89AE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79B2C-9B62-413D-85F7-60796786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B0BB1-D977-4BAE-A2F4-5595C4C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2E1-6B5E-438C-8B78-45E545FD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CEAD9-B440-4E47-A12F-2B533D3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43933-59D4-464B-8031-34ACE00D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975A8-9E89-4033-A624-85D6BFC5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32A28-C4CC-4A02-8AF9-C7A5AC99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34FEB-04C9-4694-BE8A-9165B416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F2D-18C1-4E65-85F7-B269F84C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44C5-3E54-4CDD-919C-39CA3C6811D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B8F4-595E-4C14-A966-9679AA7F742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B468-F2E4-42D7-89FA-A56EFE3CB5B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40BF-7740-4E38-9716-ED4EE6C48E8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D085-2B54-4853-AEE5-8A95BD75149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E386-82EF-469E-A4E2-61ABBC28C9B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9C9B-7E02-4484-B534-3862698D96A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0-09-04T14:56:44Z</dcterms:modified>
  <cp:revision>32</cp:revision>
  <dc:subject/>
  <dc:title>Special Education Process &amp; IEP</dc:title>
</cp:coreProperties>
</file>