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EA8-D6DD-41CB-9550-D058235C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5437-600E-4CFC-8D31-85437347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CCC-C93D-450B-BCD8-94A5DB2D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A3E-4576-475D-83E8-E2701E8C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6EFA-F06C-4202-95D3-42E2415C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45FE-81C7-4DAD-915B-F47700A6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E45F-A730-4A3B-BBDC-D352F8E7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BF24-EDC6-4261-94A9-BFEBA949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F900-A2E9-4F31-9465-B3C9BBEE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399D-550E-4736-B924-A518B6FB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8930-EB19-44A1-A379-CAA040B9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399-F1B9-4E8C-AF32-3BC05489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3713-AAB1-4126-B834-1EE1E6C1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E494-4CE5-407F-A3DC-BEF24F64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8EAF-1821-4958-A247-C93638C3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76D8-2855-4843-88E6-7858C491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1D62-C09E-4E63-B164-A40A1C5B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2A00D-08A6-46FA-8B16-C0766F2B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C6348-9024-4F29-90F2-E6C489F8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7A492-879F-4C74-BA01-FF9C380A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CB581-0D7A-45F7-AE37-0CC5FEF8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A87EF-5020-4525-BCA9-79EF2926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E523-F952-4927-8DB0-35E9BBF5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3D98B-7A5A-42BE-B663-6E472F92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B7F22-619D-4117-992A-26F4482C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8BE41-0DBB-452C-BF9E-DD0A123B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82F4C-9BB7-41CA-AD83-7ADE2EC3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B302E-7D0D-4CF9-9F67-66249835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F9BEE-D0B2-4217-978C-A3D8FD39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66040-BBE1-4AB4-B4C2-02B6E845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32A51-63ED-4080-8E60-8A73923D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A102E-05A8-475C-B7C3-459BCA78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BA410-60DE-4EEC-A2AA-0223CB93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47C-3B54-4D37-A4D6-146509F5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22A54-F113-430A-BFCD-CA251460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5D425-ABD4-48A9-93D1-F28EE2E3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39E7B-B0D9-42CE-B35F-DB76624C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B58C6-7964-4DBE-86D6-C1DDC52F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77B6A-02AD-4719-BCDB-0AE7A77A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20D46-656B-4BC7-832E-BFA08B80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E7FC2-8422-45F0-9F91-92A8CBF3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392DB-8C6D-4E18-8219-BEF32B92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40B41-26BF-445F-9B6D-AD56B70A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875F7-E25E-4037-9039-1E2A7AE6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64B-7BD5-409E-B9E5-E9817D02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4CE62-DFAD-44B6-8750-2788378E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3A49C-BC19-45D8-AFFB-62F4B813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798FD-F13E-4F20-B845-15181CF8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CFD3F-197E-41A2-83D8-983DD3CC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B403E-EDB8-43A7-A942-4AD8D307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92F19-BF44-4D55-8D6C-D0D39907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89990-7E21-4DC6-9609-F8932087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60071-23B7-45BB-848F-96A7B930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6627C-7BEB-4C18-9D71-17111501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0E59F-A436-48D4-9D5C-82E5D50D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176D-EAFF-447C-8C74-844568FF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1ECEA-96AC-42BC-820F-A8A65BC2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2AF85-5297-4EBF-8F6A-5418D1F9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D9818-D533-4019-BE0F-41AC9DEF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0BA31-81F1-4AA0-A245-64569AA9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0F66C-182E-48B7-AC1A-C04FCAF3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7527F-444C-4BF1-87BD-A6981448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11989-4975-44D9-A2AF-D4A8B33C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BA562-4A94-42CA-99ED-DBD9B5C9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7D9C2-5ECF-4A74-8BA0-F64595A6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874A9-2038-465B-947A-87738411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CB9-E716-4949-9C11-CB46F89A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FF697-C87A-4964-B3DA-9E8CF2AF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58CE6-E349-46ED-A5EA-FB2BFF43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DF68E-6AE9-416B-81BB-F8261F47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7A55C-D978-4884-88F5-D5AAACFE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FF2F6-15CD-48E1-B0CA-BE1AEBFC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F015A-0793-48F6-ACCF-ABF6EB16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59879-F75D-4181-A917-08D3ABF7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96E92-F725-4873-A4AC-11DBB56B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B520D-91AE-4B6E-A0DB-442DFE42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AB1A3-62EF-4E97-A9AD-12BD85A7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7FDD-C65C-4E7B-8B74-D38B7CA4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CC6B2-F193-47A2-A96D-88743580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99240-9809-4827-876A-7CAA46C9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3F8A2-1636-4F82-A944-013EC87D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A9EE6-697E-4D03-97E2-287F5BF8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B1818-A4FE-4DA2-9252-7C5879FA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56B-0F51-4B13-9DE9-2215C5EC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E389-CBE0-40C9-B269-91472465A40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5D0D-1A66-4788-9C3F-E5ED775B927A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60FA-9796-4DDF-9E7A-27C278450A9A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202D-C429-45E8-B324-1DC39049348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19C4-FF19-4B80-8CC4-EC847BFF0D9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5FD2-AA84-4F34-A940-50DCC3CEAB6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DC8E-6E50-4A59-8C58-29C2B15A7D3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1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20-09-04T14:56:44Z</dcterms:modified>
  <cp:revision>32</cp:revision>
  <dc:subject/>
  <dc:title>Special Education Process &amp; IEP</dc:title>
</cp:coreProperties>
</file>