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E1E-F753-4576-9520-3A4CB4FC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27E-C3BF-43B0-B409-0D27B523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D13-6716-4B79-9C09-1770D652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F31-0E61-46CF-A5B9-022404BF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97C9-A205-47FF-892B-8884D5CD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3EE3-16FB-41E3-A39F-6882B3BA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844C-3D4E-4D1C-A54D-FB37552D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B06E-3532-4459-B8A3-1B7DF1A0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79C3-DE75-44DD-88AF-92CEAA84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61CC-4667-4ED6-92AD-34A4856C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738E-48F5-4C3B-8D42-FE02C648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384-0AC3-4201-8CD6-8928495A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4B67-781C-4E0E-A2FD-DE7BDD69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238E-5911-41E2-9119-1298FB4E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AF42-F304-4397-92C7-FD891998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7550-FF3D-417B-9093-99EE3F25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2717-F5A8-433D-AC77-6732F3B3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9CE1-2E70-486D-86D8-40E64E6A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C2F1-88ED-435D-A103-730F4B70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28EA-2BDF-46B5-975F-AF4CC29C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E0844-0412-4FF3-808B-6A22FBA2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EDBAB-AFAC-4F7B-A5AA-4F703872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FC66-0347-4091-9910-5829501A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BA40-56FB-4F71-B51A-22B6E37B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45BD-7085-423D-89E2-2A2CF99F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A9F71-FAD5-4B86-BBF2-D12441CB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53EA7-1CCD-40CA-8AF0-831B9E16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3EEEF-68C2-451B-AAF2-E00AAE38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FEA9-47D8-4B52-B65A-5AF85077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0DA3-55C8-465B-AB4D-428B15BA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087B6-2A08-4CBB-8457-FC985297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F9A3-5ACF-4B8A-A6CC-62C52A96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8C336-93B9-4F37-B44C-1D731138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CEA-4FB8-4357-86B1-5D1755F7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FAB7B-E773-408F-BC18-F71382AD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5197-C1D0-4E55-8FB3-D0E41900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B026-57F3-4717-94C5-5E63F42A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DCB4F-A123-48B0-9E09-3C99EC5A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9933D-9788-4D30-B99E-0A401CA0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9A6D5-6BBF-43B7-BDAD-DEE84D0F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D56F-3DC8-4251-84C4-D142306C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4AC0-461C-43B5-9484-78BBC18F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2B8D1-62B3-4BF5-8CCA-E116D008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A954E-7461-452D-A32E-3A57640E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800-520B-48D4-9788-A2B33633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10993-4F7D-42B1-B0E8-A91D5D2B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BB8A-98F9-4278-9198-0BB4075E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2AC33-3599-435F-A3BA-DE1EC911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0BFF7-799C-4033-A130-1CD9246F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23162-425F-44F2-8F95-1E743887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9554C-001B-4436-BCA2-F7DE6AE3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CD00B-089F-4B5B-9DB9-846C2D86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33C92-50A5-41A8-807A-9035C46B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F227C-8365-4620-91F8-013C75F9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FE58E-51CF-4EC7-832A-B124669D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CA3-2656-434F-A061-8D88295D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32AC-FDC5-4625-88E1-5A180A45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C07BC-630D-4427-8CB1-1B04E5D4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CC88D-8FD0-4904-978D-8F8AF6F7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7CAD1-031A-4134-B5CF-05A141D5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B505A-D064-44B1-90BA-EDC7BA93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D9E0B-4245-4EF9-978C-B9479F27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6C819-E044-49D6-BD9D-D01A7D3E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12DC2-538B-40F0-BDE4-3497CA3B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F8BFD-83BD-47F6-963D-562D42C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D3BAC-EE48-49E8-8328-10547E2D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B7C-2090-4E63-A981-2697A1E8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65A27-914C-4852-9148-71F6E71A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80E8B-B518-40CC-B554-E289BFC9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CABBA-75F8-423B-A392-33EFA4E8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B3DE8-82AB-4CB7-8EFB-AEB65969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999A6-2923-4C3C-872D-9C6BC4FF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098B3-E2A8-4F33-A09F-129657A1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6518E-0CA3-4290-8E86-A069ACB2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0CE3F-A67A-4418-85BA-14472A42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5F81D-38B0-486B-8061-2C309617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12CE9-9348-48A8-B438-085E8016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4F3-FB79-4159-866A-CCB6DE71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B88BA-9DEF-4C3C-8CB5-BE1AAE22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E3288-4B44-4387-9650-AD4DC2A7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33794-D26E-41A4-8C7B-B53ADD05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0C636-5CFB-44EA-9395-503BF4D0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A79F1-598B-4EE4-91CE-BB60976A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BB6-4742-4DC7-B1BE-637A5F49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363A-9297-4911-BEB2-DF8E136E741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48BA-572B-4320-9070-89634967484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15FB-8711-4312-81F5-795487A9C37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5A9F-5840-43FB-8DB5-3073E78CCC4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899C-E4FC-4671-B83C-03D2358EE92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65DD-9706-47AB-A7C4-B4C583238A5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7DB7-740F-4B3A-B5CA-BEF5A79BFF9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20-09-04T14:56:44Z</dcterms:modified>
  <cp:revision>32</cp:revision>
  <dc:subject/>
  <dc:title>Special Education Process &amp; IEP</dc:title>
</cp:coreProperties>
</file>