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280-98E9-4323-A5C7-FDA6475D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E91-BE0A-4CEE-ACED-A8218CAF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7D8-FDCE-4F7D-B8AE-182A239C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1E4-014C-40DD-A88B-A2130488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98C2-5B92-42D5-88F1-DDC116E3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6F39-E0C7-475C-B454-4AB3E065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9596-3A80-447E-9E43-AF7F271A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795A-DD5E-46C3-A47F-E15B32A8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8AE9-5C8B-48F3-9061-9479D9A6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8DA4-AA9E-46AB-8AD0-A320DB11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BEE0-52A9-4020-BD98-F43C8015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8A8-FFE3-435A-9738-3C7EAA01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F559-354A-44A1-AA65-EDBA3C17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CFFB-43FB-4C8B-AF03-2881C89C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8F07-BF7C-4281-AABA-C5E380A8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5A49-EE97-4906-8FE6-B23F05B9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73F5-D146-462C-8666-44095AC1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3C413-6515-47C9-9AAD-FF334FBC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DF48E-540B-47A3-9E3C-CEF3B209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510EF-F2DA-49A7-BF2A-DF98A9C3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9D4F2-5EFC-4AF6-B5BA-361AFEA5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F78F7-3F37-49A1-BB75-46C2BBAF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0462-629F-4231-AAB3-D3A19B3A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4E2AE-552D-4922-9FE0-601F18C1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5CE5C-CE7D-4258-A512-FFB823BE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2C9A4-7CA9-41CF-98D1-6D07CC0A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7A0A5-E720-404B-B859-4BFFD4EE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42E9D-5038-472C-A774-FF58D8FE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F3F64-6C3D-4D6D-A267-4F53ED98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8C43F-E0DD-43A8-BB3F-AD35B0FA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E2EC1-19C1-4318-8135-6E5C2B2A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AD391-35C6-4544-8C3C-FAECC102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AEB4D-168B-4B18-B0D7-E8626C84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594-5041-4086-8949-55B4C2F5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C5F69-37D9-4BBD-853D-A6947539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D7352-2F8B-4DCB-9DD1-97D0180B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F01EA-7BCC-4C3D-AB5D-1A87B2FA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4ADC0-C281-46D0-875C-9D77B729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FB08E-0645-4B64-895D-E817D48B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BA159-3BE0-40EB-B47E-22341B6D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43733-F556-4FD6-BC8F-21BEE011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DB8B5-F2AA-4FEB-8274-C2EDAC24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46135-4E32-4D67-A565-E3D5ED28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C3C7F-356A-4FEA-8E42-9DC3EE07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5F6-AF31-402A-9BCE-A090E3B1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244EF-85E3-47C6-95FE-0DAB9316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DBADB-8344-47A8-AC74-C6391337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4B71C-3C99-46C3-8C1D-BA0299EE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722E5-AE89-454C-B7FC-5489E179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D693C-9E2F-4982-83EF-CB4E26BC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FF678-17C0-465C-8E9E-1439FF7B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21EA0-B2E8-4AAB-9E87-0B3C857E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E6BF8-3713-4CDA-A939-47DB3F98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1ACEC-8AF9-41C5-8919-8CB47AD7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8661E-08F4-4250-98C5-E6B29F75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928E-42FF-49EA-B06F-A5E11598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E9D3D-19C5-4E7C-9A1E-513E59DC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51D64-BB14-4AD9-A52F-A304FCCB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D1099-D8A3-4D00-9EF3-A4668674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B254C-A2C9-4D3A-892A-6B66DDEA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2227B-3EC9-4A47-AF16-5E7DFFEB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59578-D669-4AC3-9B8A-97628625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54C29-C073-4063-B9BF-D96B0025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6BB6B-220B-4A4D-8CB2-1536207F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D24E3-166A-4EE6-A6FB-54252DF4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6E018-9F24-476D-B724-51FA8670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E8B-B7AF-490D-A3EC-F17D1288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55C0F-0109-4B53-821C-8058AB4E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26A7F-BB8E-4C0D-97E7-DDD8FC7F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F4C5A-0C3D-4D2D-AFF9-318D418C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80EDD-7A1D-4BFC-BE20-D6F94A88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EA38C-0900-4CCC-9D90-24C8DB5A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57E75-B802-434F-8BE4-2F9CF964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065FA-FFE6-4BB3-BCF0-1BC133F4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37DE1-DF63-43DB-8D4C-B6AA8E98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844CC-E2C8-41FA-9748-EEE29981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E28B9-AB5B-4024-B31B-C3F52647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8F9-C09B-427E-8465-EAA2B07A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1EB9B-D167-4375-A1AC-C0BD5CE2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F5264-DD4A-4C60-B4D2-5337C0F6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7A09F-9211-470B-8CC3-F8230E18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43EF0-9849-4580-9154-58DD4D38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F176D-36EB-457D-9BB6-A48CDCF2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2B47-ADCF-48F8-A833-94A9701C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3066-DE18-47DC-8D6E-DED76ED68F4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DA8A-6C92-4DC7-810D-D978DA053FFD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E622-F2B4-4B08-8E97-E7A6348DB984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20F2-F6DD-4A12-8BA0-ACE3A28057B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657D-1A7A-43C6-BAA4-193A9FF19E4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AA9D-974D-4D38-917B-135C6BA3231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D686-3DF4-4608-8D19-2D2E681A165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1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20-09-04T14:56:44Z</dcterms:modified>
  <cp:revision>32</cp:revision>
  <dc:subject/>
  <dc:title>Special Education Process &amp; IEP</dc:title>
</cp:coreProperties>
</file>