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B556-42C9-4C0A-AC3B-C86075CE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85E-D9A2-4C0E-945E-2CF1D17B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A9C-B875-4CB9-92EE-946C514A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577-D66E-457C-9AE9-039FFE4F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B899-77A8-4838-B43D-C9039F3F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D469-DFE1-4496-BAF0-D4636CAA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C8AD-E86B-449D-AB70-2FB820BC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E231-9DE3-431C-B5B3-0E6494D7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4500-0BE2-4A89-98D1-B377255E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D9AB-E4A4-41DE-86E3-DF0E597D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D0DE-ABD8-4F52-A08C-BE7382AE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F8C-F657-4811-8F93-0EECBF53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C3CE-9DED-4C80-9925-623F2A6B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2473-DC63-4C91-9234-BFD5B28B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1AA3-2389-42D2-92F1-F0B5778A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8296-F695-4FEF-B6FB-2FA84BA4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941C-87B2-4E8D-BB22-C5D373AF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A5E-BF66-4F6D-900E-E61C0B6E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17A-047E-4C24-90DF-1B4CD322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BE3-5F09-4471-BA19-46E50810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447-76C7-4ED4-923E-06784BEC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B59-C72D-4AAF-8290-8EB193CF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709-725C-4826-91F2-2B499A07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9F93-6045-40E3-A20B-D04DBE0A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554E-E4AF-4C91-8C73-17F56947CA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1736-45DC-4DBE-89B2-5165CE5BD6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HnHXS51J4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cB1zttZmdY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einforcement and Avoidance Theor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 is reinforcing if organism has been deprived of performing that behavior, below some baseline leve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so (like which other theory?) sees reinforcer as a behavior/respon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inforcer response does NOT have to be more likely than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rganism just has to be restricted from performing the reinforcer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explains how a low probability response can reinforce a high probability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is more important to motivation of instrumental bx. than Premack princi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gative reinforcement shuttle box experi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goes off, animal gets shock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s out as escape, progresses to avoid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how can the absence of something provide reinforcement for instrumental bx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How can not getting something be reinforcing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 subjects get that provides reinforcement for the avoidance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types of learning involved: Operant and Pavlovi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rant learning is escaping the shock, which is negatively reinfor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ight going off becomes a CS associated with US of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fore, light is a CS for f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really an escape from classically conditioned CS for fear (escape from dark compart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 both processes really involve escape, which reduces shock and fear, and is negatively reinforc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rumental response is reinforced by a tangible event (fear reduction) rather than by absence of something (aversive stimulat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ver time, the fear to the CS decreases, so why does avoidance continu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incredibly persistent; this is not predicted by 2 process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ance only involves operant lear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cape and avoidance both reduce aversive stimulation (shock frequenc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’s not escape from fear that causes avoidance bx, it’s reducing exposure to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response and aversive consequence is prevented, the response will extingu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inforcement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 do reinforcers strengthen behavio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ganisms behave because of drives (motivational states or physiological needs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imulu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at reduces a drive; this moves the organism closer to homeosta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orks well for primary reinforc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LHnHXS51J4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Just watch 1.00 to 2.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y reinforcers do not reduce physiological nee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ll’s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(secondary) reinforcers are reinforcing b/c of their association with primary reinforc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nal analysis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well accepted b/c too many reinforcers don’t reduce drives or derive reinforcement from association with primary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behavi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response) that an organism is highly likely to per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instrumental response is typically a low probability ac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at is much less likely to press a bar than to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remack Princi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any 2 responses, the more probable response will reinforce the less probable on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probability bx reinforces low probability b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relative values of different bxs determine their reinforcing propert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y activity can serve as a reinforcer if it is more likely than the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make low probability bxs high probability bxs and therefore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OcB1zttZm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asurement of response prob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low probability response can be used to reinforce a high probability response (if p is prevented from performing low probability bx for a whil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19-03-05T15:57:38Z</dcterms:modified>
  <cp:revision>47</cp:revision>
  <dc:subject/>
  <dc:title>Sensorimotor System</dc:title>
</cp:coreProperties>
</file>