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EFD8-04A3-4DDF-BFDB-0FDFB3BC7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4A4C-BCED-4D12-9C2A-802BE4E64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412A-3826-4082-94D1-1D583D940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6152-AD16-46B1-8EA3-E547DB7C6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3B84F-27A7-4626-BB3B-D47C2FD67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1BA3F-A03F-4657-8F9E-5160E7E34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3DDB9-0C2F-42B4-8EE2-4D0FF3BF2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91A70-0F79-4063-8168-5D7827CD5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81CD3-7AE3-4756-A3A0-E67180733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BE234-CC96-4212-A9E4-79AF368A7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A4AB0-21CA-4ADC-AF98-185EF9287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4C23-0A11-409B-A37A-584511CE7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E6A49-6291-4805-863B-8885976F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49D48-995D-4807-A208-E5A13C3F3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3F416-648D-42DC-A7AA-B79CF3189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17567-5C24-4872-AE61-F01D6EDEC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F526F-7E46-415D-B285-613BC260E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EA6D-A7AB-4F53-9490-88C4E5534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15C2-A921-4A0B-B439-4667BB703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EE55-A7A3-4760-80D3-A97D35BA5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6BF6-799B-48FA-99E8-5BF6DEBBE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7618-70D1-4E4F-AE05-E5F17D19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E425-32FA-46E7-8A6A-72BED1C13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46CA-2BC1-445A-BCD8-D9FBC65FA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260C3-8480-4055-A859-AC44820DDD6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6C532-3D80-4C4A-9BD9-38B4E3D60E3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LHnHXS51J4E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OcB1zttZmdY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Reinforcement and Avoidance Theorie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Timberlake and Allison’s Response Deprivation Theory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ehavior is reinforcing if organism has been deprived of performing that behavior, below some baseline leve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so (like which other theory?) sees reinforcer as a behavior/respons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Timberlake and Allison’s Response Deprivation Theory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inforcer response does NOT have to be more likely than instrumental respons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rganism just has to be restricted from performing the reinforcer respons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is explains how a low probability response can reinforce a high probability respons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is is more important to motivation of instrumental bx. than Premack principl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Timberlake and Allison’s Response Deprivation Theory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blems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hy are secondary reinforcers reinforcing (yes)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voidance Theori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egative reinforcement shuttle box experimen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ight goes off, animal gets shock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arts out as escape, progresses to avoidan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voidance Theori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ut how can the absence of something provide reinforcement for instrumental bx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(How can not getting something be reinforcing?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at do subjects get that provides reinforcement for the avoidance respons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wo-Process Theo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wo types of learning involved: Operant and Pavlovia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perant learning is escaping the shock, which is negatively reinforc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light going off becomes a CS associated with US of shoc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refore, light is a CS for fea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wo-Process Theo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voidance is really an escape from classically conditioned CS for fear (escape from dark compartment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o both processes really involve escape, which reduces shock and fear, and is negatively reinforc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strumental response is reinforced by a tangible event (fear reduction) rather than by absence of something (aversive stimulation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wo-Process Theo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blems with this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ver time, the fear to the CS decreases, so why does avoidance continue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voidance is incredibly persistent; this is not predicted by 2 process theor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ne-Process Theo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voidance only involves operant learn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cape and avoidance both reduce aversive stimulation (shock frequency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t’s not escape from fear that causes avoidance bx, it’s reducing exposure to shoc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f response and aversive consequence is prevented, the response will extinguis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einforcement Theori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y do reinforcers strengthen behavior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ull’s Drive Reduction Theo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rganisms behave because of drives (motivational states or physiological needs)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reinforcer is a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stimulu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that reduces a drive; this moves the organism closer to homeostasi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s works well for primary reinforcer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cc"/>
                </a:solidFill>
                <a:uFillTx/>
                <a:latin typeface="Times New Roman"/>
                <a:hlinkClick r:id="rId1"/>
              </a:rPr>
              <a:t>https://www.youtube.com/watch?v=LHnHXS51J4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Just watch 1.00 to 2.18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ull’s Drive Reduction Theo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blem with this theory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any reinforcers do not reduce physiological nee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ull’s respons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se (secondary) reinforcers are reinforcing b/c of their association with primary reinforce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ull’s Drive Reduction Theo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nal analysis?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ot well accepted b/c too many reinforcers don’t reduce drives or derive reinforcement from association with primary reinforcer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emack’s Relative Value Theo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reinforcer is a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behavio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(response) that an organism is highly likely to perform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 instrumental response is typically a low probability activit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rat is much less likely to press a bar than to ea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Premack Principl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f any 2 responses, the more probable response will reinforce the less probable one 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igh probability bx reinforces low probability bx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emack’s Relative Value Theo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relative values of different bxs determine their reinforcing properti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ny activity can serve as a reinforcer if it is more likely than the instrumental respons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an make low probability bxs high probability bxs and therefore reinforcer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cc"/>
                </a:solidFill>
                <a:uFillTx/>
                <a:latin typeface="Times New Roman"/>
                <a:hlinkClick r:id="rId1"/>
              </a:rPr>
              <a:t>http://www.youtube.com/watch?v=OcB1zttZmd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emack’s Relative Value Theo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blems with this theory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easurement of response probabili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hy are secondary reinforcers reinforcing (yes)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 low probability response can be used to reinforce a high probability response (if p is prevented from performing low probability bx for a while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6T21:02:00Z</dcterms:created>
  <dc:creator>Campus Computing</dc:creator>
  <dc:description/>
  <dc:language>en-US</dc:language>
  <cp:lastModifiedBy>Trench, Lynne S.</cp:lastModifiedBy>
  <dcterms:modified xsi:type="dcterms:W3CDTF">2019-03-05T15:57:38Z</dcterms:modified>
  <cp:revision>47</cp:revision>
  <dc:subject/>
  <dc:title>Sensorimotor System</dc:title>
</cp:coreProperties>
</file>