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5D2B-41EA-44E1-918E-D9238F31B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FC8-8972-41B4-BF27-6538FCFA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804F-61D2-4B02-A1D7-8DD318BD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738-F3B0-4AB5-97A3-AE3FF16F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EABF-644C-42CC-AAD3-0518D7B4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4604-1B6C-482F-B039-483983D2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4556E-C837-467D-8E11-09E5DD091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EE19-D689-45D3-B1D6-EBCD724BA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DE90-1098-4DA3-A04C-3182AC27D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89B41-85BE-474E-85D8-D16C75F0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D11BB-4BC6-4521-84E9-189F62BD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E440-BFF9-4E69-B63C-F47E5610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152D8-608B-4A21-AE41-11D480E2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4C4E6-E979-4491-B7A3-2AC277AF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78F9-F653-4F21-BD5D-4364DCBF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340C-228F-4D43-85CB-BB540C86F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C13C-DDCB-4F6D-B20C-F32915764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9CBF-81BF-42DC-8E30-402E3BD4E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4EF-7DF9-4167-935C-D959583F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18F8-3854-44E4-B03B-D73CE78B3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B51C-8D09-46D3-BEE7-185EC4DEE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B576-3221-48C8-B5E7-0DD8D64E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023F-9257-4145-BAD7-A290E362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828C-1294-4269-805D-6290F62D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96DB-D6C8-46C7-8617-258E97BD93C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4F996-A0E9-42EC-90A6-61246F31FFA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HnHXS51J4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cB1zttZmdY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einforcement and Avoidance Theor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 is reinforcing if organism has been deprived of performing that behavior, below some baseline leve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so (like which other theory?) sees reinforcer as a behavior/respon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inforcer response does NOT have to be more likely than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rganism just has to be restricted from performing the reinforcer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explains how a low probability response can reinforce a high probability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is more important to motivation of instrumental bx. than Premack princi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gative reinforcement shuttle box experi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goes off, animal gets shock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s out as escape, progresses to avoid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how can the absence of something provide reinforcement for instrumental bx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How can not getting something be reinforcing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 subjects get that provides reinforcement for the avoidance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types of learning involved: Operant and Pavlovi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rant learning is escaping the shock, which is negatively reinfor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ight going off becomes a CS associated with US of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fore, light is a CS for f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really an escape from classically conditioned CS for fear (escape from dark compart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 both processes really involve escape, which reduces shock and fear, and is negatively reinforc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rumental response is reinforced by a tangible event (fear reduction) rather than by absence of something (aversive stimulat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ver time, the fear to the CS decreases, so why does avoidance continu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incredibly persistent; this is not predicted by 2 process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ance only involves operant lear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cape and avoidance both reduce aversive stimulation (shock frequenc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’s not escape from fear that causes avoidance bx, it’s reducing exposure to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response and aversive consequence is prevented, the response will extingu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inforcement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 do reinforcers strengthen behavio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ganisms behave because of drives (motivational states or physiological needs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imulu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at reduces a drive; this moves the organism closer to homeosta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orks well for primary reinforc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LHnHXS51J4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Just watch 1.00 to 2.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y reinforcers do not reduce physiological nee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ll’s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(secondary) reinforcers are reinforcing b/c of their association with primary reinforc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al analysis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well accepted b/c too many reinforcers don’t reduce drives or derive reinforcement from association with primary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behavi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response) that an organism is highly likely to per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instrumental response is typically a low probability ac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at is much less likely to press a bar than to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remack Princi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any 2 responses, the more probable response will reinforce the less probable on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probability bx reinforces low probability b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relative values of different bxs determine their reinforcing propert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y activity can serve as a reinforcer if it is more likely than the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make low probability bxs high probability bxs and therefore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OcB1zttZm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asurement of response prob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low probability response can be used to reinforce a high probability response (if p is prevented from performing low probability bx for a whil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19-03-05T15:57:38Z</dcterms:modified>
  <cp:revision>47</cp:revision>
  <dc:subject/>
  <dc:title>Sensorimotor System</dc:title>
</cp:coreProperties>
</file>