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DCD-9D9C-4C80-A1F5-7A9AA6E9D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58EC-418E-414D-80AF-8B731E19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17D1-C00C-4061-BADE-09CC368B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BD2B-347B-4588-8F63-654DD573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8F57-ACA6-494B-ADFC-909C4FD0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F08B-681A-4DB3-8074-BF6CD9C5E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7CC2-79A0-461D-B39B-8F6B2212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A6C9-2D89-473A-83E0-EA230C08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DA0E-45AF-46E6-873F-C019B884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E2E8A-5D33-46F3-8090-08B8CDDA4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9080B-68D4-4B60-803B-DFEEED64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211A-151C-4696-BF7E-E67CBCEF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5642-320F-48DE-A46A-936AB271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8C899-3CF0-4F64-A486-5FFC6B0E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DAEC-AC3E-4C5E-AAE3-058CF1E52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4FF2-71EF-41DF-8B89-F51BFE0B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EC0BE-14B2-44B9-8AAB-4FFB9AE0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57F1-CAAD-42F2-ABCA-26D0936D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5E50-5060-467C-86A2-ED917014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4C0D-8565-4D73-A201-4D080B997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3E18-0DE0-4691-8EE0-A70568B4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7EDD-9921-4703-9C65-EEC57E1F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D7F1-591D-422E-B637-D0EEFE0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1E62-BC06-464C-A9CD-7737FF07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3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5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F6F9E-39E2-41D5-A5E5-DC0FAFEB2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3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4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5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6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BCB9-2A16-4CF6-8547-EBB37BBEA8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LHnHXS51J4E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cB1zttZmdY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einforcement and Avoidance Theo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havior is reinforcing if organism has been deprived of performing that behavior, below some baseline le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so (like which other theory?) sees reinforcer as a behavior/respon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inforcer response does NOT have to be more likely than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rganism just has to be restricted from performing the reinforcer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plains how a low probability response can reinforce a high probability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is more important to motivation of instrumental bx. than Premack princip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Timberlake and Allison’s Response Deprivation The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egative reinforcement shuttle box experimen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ight goes off, animal gets shock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arts out as escape, progresses to avoid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voidance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ut how can the absence of something provide reinforcement for instrumental bx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How can not getting something be reinforcing?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at do subjects get that provides reinforcement for the avoidance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wo types of learning involved: Operant and Pavlovia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perant learning is escaping the shock, which is negatively reinforc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light going off becomes a CS associated with US of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refore, light is a CS for fe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really an escape from classically conditioned CS for fear (escape from dark compartmen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o both processes really involve escape, which reduces shock and fear, and is negatively reinforc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strumental response is reinforced by a tangible event (fear reduction) rather than by absence of something (aversive stimulati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wo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ver time, the fear to the CS decreases, so why does avoidance continue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voidance is incredibly persistent; this is not predicted by 2 process theo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ne-Process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ance only involves operant learn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scape and avoidance both reduce aversive stimulation (shock frequency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’s not escape from fear that causes avoidance bx, it’s reducing exposure to sho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response and aversive consequence is prevented, the response will extingui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inforcement Theori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y do reinforcers strengthen behavior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ganisms behave because of drives (motivational states or physiological needs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stimulus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that reduces a drive; this moves the organism closer to homeostas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works well for primary reinforcer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s://www.youtube.com/watch?v=LHnHXS51J4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Just watch 1.00 to 2.1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ny reinforcers do not reduce physiological nee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ll’s respons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(secondary) reinforcers are reinforcing b/c of their association with primary reinforcer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ull’s Drive Reduction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nal analysis?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 well accepted b/c too many reinforcers don’t reduce drives or derive reinforcement from association with primary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einforcer is a </a:t>
            </a:r>
            <a:r>
              <a:rPr b="0" i="1" lang="en-US" sz="3200" spc="-1" strike="noStrike">
                <a:solidFill>
                  <a:srgbClr val="ffffcc"/>
                </a:solidFill>
                <a:latin typeface="Times New Roman"/>
              </a:rPr>
              <a:t>behavior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(response) that an organism is highly likely to per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 instrumental response is typically a low probability ac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rat is much less likely to press a bar than to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he Premack Princip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f any 2 responses, the more probable response will reinforce the less probable one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 probability bx reinforces low probability bx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relative values of different bxs determine their reinforcing properti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y activity can serve as a reinforcer if it is more likely than the instrumental respon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an make low probability bxs high probability bxs and therefore reinforcer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cc"/>
                </a:solidFill>
                <a:uFillTx/>
                <a:latin typeface="Times New Roman"/>
                <a:hlinkClick r:id="rId1"/>
              </a:rPr>
              <a:t>http://www.youtube.com/watch?v=OcB1zttZm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emack’s Relative Value Theory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roblems with this theory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asurement of response prob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y are secondary reinforcers reinforcing (yes)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low probability response can be used to reinforce a high probability response (if p is prevented from performing low probability bx for a while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6T21:02:00Z</dcterms:created>
  <dc:creator>Campus Computing</dc:creator>
  <dc:description/>
  <dc:language>en-US</dc:language>
  <cp:lastModifiedBy>Trench, Lynne S.</cp:lastModifiedBy>
  <dcterms:modified xsi:type="dcterms:W3CDTF">2019-03-05T15:57:38Z</dcterms:modified>
  <cp:revision>47</cp:revision>
  <dc:subject/>
  <dc:title>Sensorimotor System</dc:title>
</cp:coreProperties>
</file>