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994B-9060-4AFC-900D-612631AE1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285F-CC36-4717-88D6-6A3E3CEF955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50920" y="692280"/>
            <a:ext cx="4556160" cy="341604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24AF099-E832-4E90-AA8E-C8BF05F93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FA293C-7810-4F9B-9E19-B9C1500BB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D2C2572-74A3-454A-B2D7-3F3F23E77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9C215A5-391D-498F-8BEC-E075A39DB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D62D5-BBCA-485F-AA6D-7C16BBCEB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D57C8-3455-4D00-940F-315BAA70A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87DDA-6374-44C9-899E-0FA7941CF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D4C20-286D-476F-8B56-64AAFC6DD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9CA1B-37E8-4473-9B6A-7913828C3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03B1C-978A-4E90-8896-A9B1E3EE0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3AA2E-E92F-4F78-807D-E998F8928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08DA10-B2C7-4D60-B728-DD0FD340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2045B-E80B-46EE-9E81-A6DE9663C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E2195-80C4-4BD0-9C4C-850200AFD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84FFF-2165-4FEC-8963-BFE6F5E1D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082EE-41F8-4D46-AD01-1B0D37BAD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43CFB-073D-4930-BED6-E2104029D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D38730-C42B-4607-AA1B-99839EEFD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4924FB-9956-4559-9FD4-9CBB2D64B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853BC9-A62C-4523-958F-5A76D570D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695D8B-8758-4049-A701-5C08E8449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B4E738-54B0-4CEC-91E0-88E0B1DFD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75B5E6-86B3-4AEC-BFC6-0584FAABC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7C1611-CD66-4E45-A096-A9B558467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5C74-EA35-4FCD-A07B-139C2FA46D9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74EC-5D43-4F33-9C39-1E5FCCC3A7C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hyperlink" Target="http://biography.yourdictionary.com/articles/how-did-jimi-hendrix-die.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mma-hydroxybutyrate</a:t>
            </a:r>
            <a:endParaRPr b="0" lang="en-US" sz="2800" spc="-1" strike="noStrike">
              <a:solidFill>
                <a:srgbClr val="ffffff"/>
              </a:solidFill>
              <a:latin typeface="Garamond"/>
            </a:endParaRPr>
          </a:p>
          <a:p>
            <a:pPr marL="315360" indent="-3153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vailable for prescription (Xyrem) for treating narcolepsy</a:t>
            </a:r>
            <a:r>
              <a:rPr b="0" lang="en-US" sz="2000" spc="-1" strike="noStrike">
                <a:solidFill>
                  <a:srgbClr val="ffffff"/>
                </a:solidFill>
                <a:latin typeface="Garamond"/>
              </a:rPr>
              <a:t>https://pubmed.ncbi.nlm.nih.gov/3704454/#:~:text=Sleep%20studies%20reveal%20that%20GHB,and%20contain%20them%20at%20night.</a:t>
            </a:r>
            <a:endParaRPr b="0" lang="en-US" sz="20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ose can occur easil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and withdrawal will develop with repeated us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and Rohypnol) can be used as “date-rape drugs” and added to drinks. GHB sometimes has a salty tas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chanism of action: bind to GABA</a:t>
            </a:r>
            <a:r>
              <a:rPr b="0" lang="en-US" sz="2800" spc="-1" strike="noStrike" baseline="-25000">
                <a:solidFill>
                  <a:srgbClr val="ffffff"/>
                </a:solidFill>
                <a:latin typeface="Garamond"/>
              </a:rPr>
              <a:t>A </a:t>
            </a:r>
            <a:r>
              <a:rPr b="0" lang="en-US" sz="2800" spc="-1" strike="noStrike">
                <a:solidFill>
                  <a:srgbClr val="ffffff"/>
                </a:solidFill>
                <a:latin typeface="Garamond"/>
              </a:rPr>
              <a:t>receptor and facilitate GABA binding.  Can also open Cloride channel in absence of GABA (accounts for increased toxicity over BZD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oes develop, but not much to respiratory depression.  If tolerant, this can effect other drugs to be metabolized more quickly.</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 muscle twitching, tremors, weakness, dizziness, nausea, vomiting, insomnia to delirium, convulsions and even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a:t>
            </a:r>
            <a:r>
              <a:rPr b="0" lang="en-US" sz="2800" spc="-1" strike="noStrike" u="sng">
                <a:solidFill>
                  <a:srgbClr val="ffcc00"/>
                </a:solidFill>
                <a:uFillTx/>
                <a:latin typeface="Garamond"/>
                <a:hlinkClick r:id="rId2"/>
              </a:rPr>
              <a:t>http://biography.yourdictionary.com/articles/how-did-jimi-hendrix-die.htm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Valium (diazepa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x-zxBNz3Xb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painkiller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9-30T15:45:04Z</dcterms:modified>
  <cp:revision>110</cp:revision>
  <dc:subject/>
  <dc:title>How do organisms adapt to change?</dc:title>
</cp:coreProperties>
</file>