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68D4-6FA3-4E69-B5EA-B958E37DC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DFBA-DC5E-4D82-A6A3-557A522F129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50920" y="692280"/>
            <a:ext cx="4556160" cy="341604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CC72615-40C2-42BD-A706-A56C707EE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3A6A12-EA71-45ED-85DB-0E54396B1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77C1F1-786B-459E-8E0D-2721CB352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A28A4B4-9E59-4D82-95AC-91B426DB0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883A5-2FEB-46DB-A928-7138BC9F2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40BE1-7498-4CEA-A065-056F54A7B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AD4A0-4398-4378-9EB7-4792E9BFC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31F20-7610-4DBA-A8D6-0896469ED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AED98-DD7B-411D-8608-E26A7328F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8730C-3A9B-4C89-ABCA-F741A3125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E3FDA-CCCD-4D38-B236-347E1F287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FE639F-BE7A-4034-B316-899CAED80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CDA7F-FD3F-4A20-83FC-81FFA016B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92C3B-ECD0-4915-B2E2-DE0931B8B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8DA02-0067-43A1-8F59-1D8387AC0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5E603-0C3A-4C03-9C61-684922270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8BC13-E565-443F-B7D5-3D1137F89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A655A2E-230C-4954-9CF9-4D73B2F1B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C866DF-29D6-419A-9471-9A6929FE4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27FC54C-B2EB-4D43-9D29-C7976387D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6B4412-5BE6-4521-9E65-D7B70E462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52C754-24A2-4368-A5B4-2CE3441F3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BA0CE3-697A-4CF4-9B8E-0B44E5ACE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75DC03-9639-40F3-BE2C-4211DC4CC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7130-FEF5-4516-9167-CCAA76DBAFD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9D6D-A0A6-4425-801F-007110BB76B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newshour/updates/marilyn-monroe-and-the-prescription-drugs-that-killed-her/" TargetMode="External"/><Relationship Id="rId2" Type="http://schemas.openxmlformats.org/officeDocument/2006/relationships/hyperlink" Target="http://biography.yourdictionary.com/articles/how-did-jimi-hendrix-die.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e5e5ff"/>
                </a:solidFill>
                <a:latin typeface="Garamond"/>
              </a:rPr>
              <a:t>Sedatives</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0"/>
            <a:ext cx="9144000" cy="684540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is at GABA</a:t>
            </a:r>
            <a:r>
              <a:rPr b="0" lang="en-US" sz="2400" spc="-1" strike="noStrike">
                <a:solidFill>
                  <a:srgbClr val="ffffff"/>
                </a:solidFill>
                <a:latin typeface="Garamond"/>
              </a:rPr>
              <a:t>A</a:t>
            </a:r>
            <a:r>
              <a:rPr b="0" lang="en-US" sz="2800" spc="-1" strike="noStrike">
                <a:solidFill>
                  <a:srgbClr val="ffffff"/>
                </a:solidFill>
                <a:latin typeface="Garamond"/>
              </a:rPr>
              <a:t> receptor; they enhance the inhibitory effects of GABA.  They do not have an effect on Chloride channel opening in the absence of GABA.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the Barbiturates can open the Chloride channel, even without GABA b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hypnol (Roofies)</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unitrazepam (Rohypnol) </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amount (2 mg) can be added to an alcoholic drink and lead to amnesia and overdose.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called “the date rape drug”</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asily disappears into a drink and is hard to detect (colorless, odorless).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can you do to minimize your chances of this happening to you?</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person feels dizzy, weak, lightheaded, confused, after relatively small amount or no alcohol, should consider getting medical attention.</a:t>
            </a:r>
            <a:endParaRPr b="0" lang="en-US" sz="20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blog.al.com/wire/2013/08/company_unveils_drinkware_stra.htm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leep-Inducing Drugs</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re zolpidem (Ambien) and eszopiclone (Lunesta)</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bien and Lunesta are not benzodiazepines, but work at that receptor.  They seem to be safer and have less abuse potential compared to BZDs, but they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cause amnesia.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huffingtonpost.com/2014/01/15/ambien-side-effect-sleepwalking-sleep-aid_n_4589743.ht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mma-hydroxybutyrate</a:t>
            </a:r>
            <a:endParaRPr b="0" lang="en-US" sz="2800" spc="-1" strike="noStrike">
              <a:solidFill>
                <a:srgbClr val="ffffff"/>
              </a:solidFill>
              <a:latin typeface="Garamond"/>
            </a:endParaRPr>
          </a:p>
          <a:p>
            <a:pPr marL="315360" indent="-3153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vailable for prescription (Xyrem) for treating narcolepsy</a:t>
            </a:r>
            <a:r>
              <a:rPr b="0" lang="en-US" sz="2000" spc="-1" strike="noStrike">
                <a:solidFill>
                  <a:srgbClr val="ffffff"/>
                </a:solidFill>
                <a:latin typeface="Garamond"/>
              </a:rPr>
              <a:t>https://pubmed.ncbi.nlm.nih.gov/3704454/#:~:text=Sleep%20studies%20reveal%20that%20GHB,and%20contain%20them%20at%20night.</a:t>
            </a:r>
            <a:endParaRPr b="0" lang="en-US" sz="20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dose can occur easily</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and withdrawal will develop with repeated us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and Rohypnol) can be used as “date-rape drugs” and added to drinks. GHB sometimes has a salty tas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product of GABA metabolis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80’s, marketed as nutritional supplement for body build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0 FDA banned it b/c unsafe; 2000 designated as a schedule I dru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 kits for synthesizing the drug at home from the chemical precursor GBL (gamma butyrolact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bsorbed from GI tract, enters bloodstream, and crosses into brai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doses produce mild euphoria, relaxation, social disinhibitio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er doses cause lethargy, movement probs, slurring speech, nausea, vomiting.</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ory impairment common with a high dose.</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cause coma, death, or even seizu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still not well underst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kely agonist at GABA</a:t>
            </a:r>
            <a:r>
              <a:rPr b="0" lang="en-US" sz="2800" spc="-1" strike="noStrike">
                <a:solidFill>
                  <a:srgbClr val="ffffff"/>
                </a:solidFill>
                <a:latin typeface="Garamond"/>
              </a:rPr>
              <a:t>A, </a:t>
            </a:r>
            <a:r>
              <a:rPr b="0" lang="en-US" sz="3200" spc="-1" strike="noStrike">
                <a:solidFill>
                  <a:srgbClr val="ffffff"/>
                </a:solidFill>
                <a:latin typeface="Garamond"/>
              </a:rPr>
              <a:t>also may be agonist for GABA</a:t>
            </a:r>
            <a:r>
              <a:rPr b="0" lang="en-US" sz="2800" spc="-1" strike="noStrike">
                <a:solidFill>
                  <a:srgbClr val="ffffff"/>
                </a:solidFill>
                <a:latin typeface="Garamond"/>
              </a:rPr>
              <a:t>B</a:t>
            </a:r>
            <a:r>
              <a:rPr b="0" lang="en-US" sz="3200" spc="-1" strike="noStrike">
                <a:solidFill>
                  <a:srgbClr val="ffffff"/>
                </a:solidFill>
                <a:latin typeface="Garamond"/>
              </a:rPr>
              <a:t> receptors.  GHB may also be a NT in the bra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ll add to alcohol’s effects, lowering blood pressure and decreasing blood oxy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dative Drugs</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rbiturat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nzodiazepin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rugs to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H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amobarbital (Amytal), pentobarbital (Nembutal), secobarbital (Seconal),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rbital synthesized in 190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modifications to chemical structure produces a variety of sedatives with different propert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not experiment with different types; they can be very different in pote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Effec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 dose – reduces anxiety and tens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um dose – depending on setting may produce effects similar to drunkenness, or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gh dose – can cause death from respiratory arr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used commonly anymore b/c after development of tolerance, margin between intoxicating dose and fatal dose becomes small.  </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aken with alcohol, (or any depressant type drug) synergistic effects occur, and can result in overdose or death.</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owners” can be used to counteract effects of stimulant drugs in heavy drug user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use as sedatives and anticonvulsa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chanism of action: bind to GABA</a:t>
            </a:r>
            <a:r>
              <a:rPr b="0" lang="en-US" sz="2800" spc="-1" strike="noStrike" baseline="-25000">
                <a:solidFill>
                  <a:srgbClr val="ffffff"/>
                </a:solidFill>
                <a:latin typeface="Garamond"/>
              </a:rPr>
              <a:t>A </a:t>
            </a:r>
            <a:r>
              <a:rPr b="0" lang="en-US" sz="2800" spc="-1" strike="noStrike">
                <a:solidFill>
                  <a:srgbClr val="ffffff"/>
                </a:solidFill>
                <a:latin typeface="Garamond"/>
              </a:rPr>
              <a:t>receptor and facilitate GABA binding.  Can also open Cloride channel in absence of GABA (accounts for increased toxicity over BZD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oes develop, but not much to respiratory depression.  If tolerant, this can effect other drugs to be metabolized more quickly.</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 muscle twitching, tremors, weakness, dizziness, nausea, vomiting, insomnia to delirium, convulsions and even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Famous deaths involving Barbiturate overdose</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ilyn Monroe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www.pbs.org/newshour/updates/marilyn-monroe-and-the-prescription-drugs-that-killed-h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imi Hendrix </a:t>
            </a:r>
            <a:r>
              <a:rPr b="0" lang="en-US" sz="2800" spc="-1" strike="noStrike" u="sng">
                <a:solidFill>
                  <a:srgbClr val="ffcc00"/>
                </a:solidFill>
                <a:uFillTx/>
                <a:latin typeface="Garamond"/>
                <a:hlinkClick r:id="rId2"/>
              </a:rPr>
              <a:t>http://biography.yourdictionary.com/articles/how-did-jimi-hendrix-die.htm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lling Stones “Mother’s Little Helper”, 1965, about Valium (diazepa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youtube.com/watch?v=x-zxBNz3Xb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Valium (diazepam), Librium (chlordiazepoxide), flunitrazepam (Rohypnol), Xanax, Ativan</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cribed most often for anxiety and sleep problems, also muscle spasm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fer than Barbiturates in terms of respiratory depression (death from resp. dep. is rar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effective for treating anxiety over the long te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evelops rapidl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symptoms very similar to Barbiturates: anxiety, over stimulation of neurons can lead to seizur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bining BZD’s with alcohol, painkillers, or antihistimines can cause unconsciousness and respiratory depress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can cause problems with learning, and amnesia</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ney Houston thought to have died from Xanax and alcohol comb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9-30T15:45:04Z</dcterms:modified>
  <cp:revision>110</cp:revision>
  <dc:subject/>
  <dc:title>How do organisms adapt to change?</dc:title>
</cp:coreProperties>
</file>