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3091-AF51-48D5-903D-4F7C9AB84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86412-1561-4365-A996-A01347E89F7D}"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41" name="PlaceHolder 1"/>
          <p:cNvSpPr>
            <a:spLocks noGrp="1"/>
          </p:cNvSpPr>
          <p:nvPr>
            <p:ph type="sldImg"/>
          </p:nvPr>
        </p:nvSpPr>
        <p:spPr>
          <a:xfrm>
            <a:off x="1150920" y="692280"/>
            <a:ext cx="4556160" cy="341604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75E13D9-78A1-4374-AA06-096DF5F34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373C8B0-FC8E-4CB8-87F3-35F3564FE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F5B1481-91D1-493E-ACB5-FE8087A63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7503F17-F1DF-4D24-81E0-040E4CBD9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F6A26-DAD7-4698-8865-BCE877163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9E113-3F5B-4818-A41A-1E0B74D3F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92223-18AB-4208-8BA2-2FED47B64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88C3F-C071-4A4C-B70F-2BBDD922D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C8D57-B002-413E-AAD8-240418DC0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959D6-40DC-412E-852E-B3F437D0E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FB860-B358-495E-A2F7-9B05CF370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EBF86C0-07FB-4E94-8A54-0A4CDC163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D7098-90FF-4843-BF77-1578643B9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87ED0-EE75-4AE2-8828-B6C977DEB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3EA95-603E-47BF-87A2-20E2A93F5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1AC234-6415-49CF-8CD1-EADF3E6551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3A7383-9617-44AF-B10E-7C8374EE87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5E52502-25E8-4C16-9D16-CFF615F86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8AA7A46-2E95-4A6B-BA64-46D19EF7D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A185D65-45A6-4AE5-BFA3-BF4F0E8B9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CB59B58-7906-4704-8BE4-7988D3B27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9C7AA81-6B54-4837-891F-1BCD02F93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48F7DA7-C6C7-4A59-9826-C185DCF72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C7F0FE1-EBAD-40D2-AEBE-199DB01A4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C3EDD-1A97-4C83-B0D2-FF10A9196AC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3664E-E2AF-436E-993C-5EBEF552EB6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bs.org/newshour/updates/marilyn-monroe-and-the-prescription-drugs-that-killed-her/" TargetMode="External"/><Relationship Id="rId2" Type="http://schemas.openxmlformats.org/officeDocument/2006/relationships/hyperlink" Target="http://biography.yourdictionary.com/articles/how-did-jimi-hendrix-die.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e5e5ff"/>
                </a:solidFill>
                <a:latin typeface="Garamond"/>
              </a:rPr>
              <a:t>Sedatives</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07"/>
                                        </p:tgtEl>
                                        <p:attrNameLst>
                                          <p:attrName>style.visibility</p:attrName>
                                        </p:attrNameLst>
                                      </p:cBhvr>
                                      <p:to>
                                        <p:strVal val="visible"/>
                                      </p:to>
                                    </p:set>
                                    <p:animEffect filter="fade" transition="in">
                                      <p:cBhvr additive="repl">
                                        <p:cTn id="7"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0" y="0"/>
            <a:ext cx="9144000" cy="684540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chanism of action is at GABA</a:t>
            </a:r>
            <a:r>
              <a:rPr b="0" lang="en-US" sz="2400" spc="-1" strike="noStrike">
                <a:solidFill>
                  <a:srgbClr val="ffffff"/>
                </a:solidFill>
                <a:latin typeface="Garamond"/>
              </a:rPr>
              <a:t>A</a:t>
            </a:r>
            <a:r>
              <a:rPr b="0" lang="en-US" sz="2800" spc="-1" strike="noStrike">
                <a:solidFill>
                  <a:srgbClr val="ffffff"/>
                </a:solidFill>
                <a:latin typeface="Garamond"/>
              </a:rPr>
              <a:t> receptor; they enhance the inhibitory effects of GABA.  They do not have an effect on Chloride channel opening in the absence of GABA.  </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contrast, the Barbiturates can open the Chloride channel, even without GABA binding.</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hypnol (Roofies)</a:t>
            </a:r>
            <a:endParaRPr b="1" lang="en-US" sz="4400" spc="-1" strike="noStrike">
              <a:solidFill>
                <a:srgbClr val="e5e5ff"/>
              </a:solidFill>
              <a:latin typeface="Garamond"/>
            </a:endParaRPr>
          </a:p>
        </p:txBody>
      </p:sp>
      <p:sp>
        <p:nvSpPr>
          <p:cNvPr id="129"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unitrazepam (Rohypnol) </a:t>
            </a:r>
            <a:endParaRPr b="0" lang="en-US" sz="28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mall amount (2 mg) can be added to an alcoholic drink and lead to amnesia and overdose.  </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ften called “the date rape drug”</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easily disappears into a drink and is hard to detect (colorless, odorless).  </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can you do to minimize your chances of this happening to you?</a:t>
            </a:r>
            <a:endParaRPr b="0" lang="en-US" sz="24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person feels dizzy, weak, lightheaded, confused, after relatively small amount or no alcohol, should consider getting medical attention.</a:t>
            </a:r>
            <a:endParaRPr b="0" lang="en-US" sz="20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blog.al.com/wire/2013/08/company_unveils_drinkware_stra.html</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leep-Inducing Drugs</a:t>
            </a:r>
            <a:endParaRPr b="1" lang="en-US" sz="4400" spc="-1" strike="noStrike">
              <a:solidFill>
                <a:srgbClr val="e5e5ff"/>
              </a:solidFill>
              <a:latin typeface="Garamond"/>
            </a:endParaRPr>
          </a:p>
        </p:txBody>
      </p:sp>
      <p:sp>
        <p:nvSpPr>
          <p:cNvPr id="131"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mples are zolpidem (Ambien) and eszopiclone (Lunesta)</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bien and Lunesta are not benzodiazepines, but work at that receptor.  They seem to be safer and have less abuse potential compared to BZDs, but they should not be taken with other sedating drug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ll cause amnesia.  Should not be taken with other sedating drug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www.huffingtonpost.com/2014/01/15/ambien-side-effect-sleepwalking-sleep-aid_n_4589743.htm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amma-hydroxybutyrate</a:t>
            </a:r>
            <a:endParaRPr b="0" lang="en-US" sz="2800" spc="-1" strike="noStrike">
              <a:solidFill>
                <a:srgbClr val="ffffff"/>
              </a:solidFill>
              <a:latin typeface="Garamond"/>
            </a:endParaRPr>
          </a:p>
          <a:p>
            <a:pPr marL="315360" indent="-3153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vailable for prescription (Xyrem) for treating narcolepsy</a:t>
            </a:r>
            <a:r>
              <a:rPr b="0" lang="en-US" sz="2000" spc="-1" strike="noStrike">
                <a:solidFill>
                  <a:srgbClr val="ffffff"/>
                </a:solidFill>
                <a:latin typeface="Garamond"/>
              </a:rPr>
              <a:t>https://pubmed.ncbi.nlm.nih.gov/3704454/#:~:text=Sleep%20studies%20reveal%20that%20GHB,and%20contain%20them%20at%20night.</a:t>
            </a:r>
            <a:endParaRPr b="0" lang="en-US" sz="20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verdose can occur easily</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and withdrawal will develop with repeated use.</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and Rohypnol) can be used as “date-rape drugs” and added to drinks. GHB sometimes has a salty tast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product of GABA metabolism</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80’s, marketed as nutritional supplement for body builder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90 FDA banned it b/c unsafe; 2000 designated as a schedule I dru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w kits for synthesizing the drug at home from the chemical precursor GBL (gamma butyrolacto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fontScale="83000"/>
          </a:bodyPr>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pidly absorbed from GI tract, enters bloodstream, and crosses into brain</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w doses produce mild euphoria, relaxation, social disinhibition.</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gher doses cause lethargy, movement probs, slurring speech, nausea, vomiting.</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mory impairment common with a high dose.</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verdose can cause coma, death, or even seizur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chanism of action still not well understo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kely agonist at GABA</a:t>
            </a:r>
            <a:r>
              <a:rPr b="0" lang="en-US" sz="2800" spc="-1" strike="noStrike">
                <a:solidFill>
                  <a:srgbClr val="ffffff"/>
                </a:solidFill>
                <a:latin typeface="Garamond"/>
              </a:rPr>
              <a:t>A, </a:t>
            </a:r>
            <a:r>
              <a:rPr b="0" lang="en-US" sz="3200" spc="-1" strike="noStrike">
                <a:solidFill>
                  <a:srgbClr val="ffffff"/>
                </a:solidFill>
                <a:latin typeface="Garamond"/>
              </a:rPr>
              <a:t>also may be agonist for GABA</a:t>
            </a:r>
            <a:r>
              <a:rPr b="0" lang="en-US" sz="2800" spc="-1" strike="noStrike">
                <a:solidFill>
                  <a:srgbClr val="ffffff"/>
                </a:solidFill>
                <a:latin typeface="Garamond"/>
              </a:rPr>
              <a:t>B</a:t>
            </a:r>
            <a:r>
              <a:rPr b="0" lang="en-US" sz="3200" spc="-1" strike="noStrike">
                <a:solidFill>
                  <a:srgbClr val="ffffff"/>
                </a:solidFill>
                <a:latin typeface="Garamond"/>
              </a:rPr>
              <a:t> receptors.  GHB may also be a NT in the bra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ll add to alcohol’s effects, lowering blood pressure and decreasing blood oxy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dative Drugs</a:t>
            </a: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lude:</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rbiturat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nzodiazepin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rugs to induce sleep</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HB</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dative-hypnotics, anxiolytic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g. amobarbital (Amytal), pentobarbital (Nembutal), secobarbital (Seconal),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rbital synthesized in 1903</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mall modifications to chemical structure produces a variety of sedatives with different properti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rbiturates</a:t>
            </a:r>
            <a:endParaRPr b="1" lang="en-US" sz="4400" spc="-1" strike="noStrike">
              <a:solidFill>
                <a:srgbClr val="e5e5ff"/>
              </a:solidFill>
              <a:latin typeface="Garamond"/>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 not experiment with different types; they can be very different in potency.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eral Effect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w dose – reduces anxiety and tensi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dium dose – depending on setting may produce effects similar to drunkenness, or induce sleep</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gh dose – can cause death from respiratory arre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 cont.</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used commonly anymore b/c after development of tolerance, margin between intoxicating dose and fatal dose becomes small.  </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aken with alcohol, (or any depressant type drug) synergistic effects occur, and can result in overdose or death.</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Downers” can be used to counteract effects of stimulant drugs in heavy drug user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dical use as sedatives and anticonvulsa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 cont.</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chanism of action: bind to GABA</a:t>
            </a:r>
            <a:r>
              <a:rPr b="0" lang="en-US" sz="2800" spc="-1" strike="noStrike" baseline="-25000">
                <a:solidFill>
                  <a:srgbClr val="ffffff"/>
                </a:solidFill>
                <a:latin typeface="Garamond"/>
              </a:rPr>
              <a:t>A </a:t>
            </a:r>
            <a:r>
              <a:rPr b="0" lang="en-US" sz="2800" spc="-1" strike="noStrike">
                <a:solidFill>
                  <a:srgbClr val="ffffff"/>
                </a:solidFill>
                <a:latin typeface="Garamond"/>
              </a:rPr>
              <a:t>receptor and facilitate GABA binding.  Can also open Cloride channel in absence of GABA (accounts for increased toxicity over BZD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does develop, but not much to respiratory depression.  If tolerant, this can effect other drugs to be metabolized more quickly.</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drawal – muscle twitching, tremors, weakness, dizziness, nausea, vomiting, insomnia to delirium, convulsions and even deat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me Famous deaths involving Barbiturate overdose</a:t>
            </a:r>
            <a:endParaRPr b="1" lang="en-US" sz="4400" spc="-1" strike="noStrike">
              <a:solidFill>
                <a:srgbClr val="e5e5ff"/>
              </a:solidFill>
              <a:latin typeface="Garamond"/>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rilyn Monroe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http://www.pbs.org/newshour/updates/marilyn-monroe-and-the-prescription-drugs-that-killed-her/</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imi Hendrix </a:t>
            </a:r>
            <a:r>
              <a:rPr b="0" lang="en-US" sz="2800" spc="-1" strike="noStrike" u="sng">
                <a:solidFill>
                  <a:srgbClr val="ffcc00"/>
                </a:solidFill>
                <a:uFillTx/>
                <a:latin typeface="Garamond"/>
                <a:hlinkClick r:id="rId2"/>
              </a:rPr>
              <a:t>http://biography.yourdictionary.com/articles/how-did-jimi-hendrix-die.html</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olling Stones “Mother’s Little Helper”, 1965, about Valium (diazepa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www.youtube.com/watch?v=x-zxBNz3Xb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dative-hypnotics, anxiolytic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g. Valium (diazepam), Librium (chlordiazepoxide), flunitrazepam (Rohypnol), Xanax, Ativan</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cribed most often for anxiety and sleep problems, also muscle spasm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fer than Barbiturates in terms of respiratory depression (death from resp. dep. is rar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effective for treating anxiety over the long ter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develops rapidly</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drawal symptoms very similar to Barbiturates: anxiety, over stimulation of neurons can lead to seizure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bining BZD’s with alcohol, painkillers, or antihistimines can cause unconsciousness and respiratory depressio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can cause problems with learning, and amnesia</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tney Houston thought to have died from Xanax and alcohol comb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0-09-30T15:45:04Z</dcterms:modified>
  <cp:revision>110</cp:revision>
  <dc:subject/>
  <dc:title>How do organisms adapt to change?</dc:title>
</cp:coreProperties>
</file>