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EBD3C-3CD0-406F-B73F-DB551C2CF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9C9DE-E08D-4EAD-A109-38D090DC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74B13-54C7-41D4-B888-3360D7EF9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EDDC3-2264-4920-B52A-C889A72A5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8745-1E9A-43DD-B7BC-983110F08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8090-0858-415B-97A3-EF61C51A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21029-05BC-4225-BC3A-B86A3599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1D7F-1BBA-4C94-9E00-40D1DB10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CF41-712E-413D-845F-95323B7A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7EE25-B031-473C-B646-C49381BB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DA3D-F654-48DC-918F-336F7EFB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2E4AA-468F-4040-91B6-5C88064C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6FA3-BDF7-4B26-AC8C-CD4B8173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00688-6DB9-46E0-A782-27BDC176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9A28-2E65-4928-B060-60EE7A00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79A6-02F6-43DD-A9BF-5BFBDEF28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3D65-4F35-4120-85C1-A4D8D277B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8B810-0C18-4619-85C0-F2FDF695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5926E-B618-46E2-A0F8-8421BBBD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05C3A-A4DB-488C-8E3B-10BA6EEB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D3EE2-21D6-4D5C-BBC6-277CFF2A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98AC9-37CC-4136-8D31-C81DE467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8D36F-30BB-44F4-B145-BAAB113D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C5225-224D-489E-AA31-FAB315FE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6E5B-EF85-46E0-9F14-174E399E10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D7B2-816A-447D-8CED-574F7862C7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s://www.drugabuse.gov/drugs-abuse/opioids/opioid-summaries-by-state/alabama-opioid-summary" TargetMode="External"/><Relationship Id="rId2" Type="http://schemas.openxmlformats.org/officeDocument/2006/relationships/hyperlink" Target="http://www.al.com/business/index.ssf/2017/06/alabama_narcan_naloxone.html" TargetMode="External"/><Relationship Id="rId3" Type="http://schemas.openxmlformats.org/officeDocument/2006/relationships/hyperlink" Target="https://www.dea.gov/press-releases/2019/06/21/alabama-pill-mill-doctor-pleads-guilty-illegally-dispensing-prescription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Opiate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piate Antagoni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aloxone (Narcan)– used to counteract effects of heroin overdo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altrexone (Trexan) – lasts longer, can block heroin’s effects, may produce slight dysphori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se drugs bind to the Mu receptor, but then elicit no change in cellular functioning.  They block access of both endogenous and exogenous ligands, even those administered after antagonis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olera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intermittent use, little tolerance develop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repeated use, tolerance develops rapidly, especially to euphoric and analgesic effec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se increase from 50 to 500 mg can occur in as short as 10 day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ever, very little tolerance develops to pinpoint pupils and constipating effec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ithdraw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ot life threatening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atering eyes, runny nose, yawn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ausea, vomiting, diarrhe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ooseflesh, tremors, chill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ever, sweating, pant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xiety, restlessness, dysphor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tracted abstinence syndrom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an persist up to 6 months, depression, craving, anxiety, decreased self-esteem, abnormal response to stressful situation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5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7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8" dur="2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3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ealth Effec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ute effect – coma and death from respiratory depression due to overdo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ronic use results in few direct negative health effe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mpote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stip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creased Cancer risk 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ppressed immune func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algesia can conceal early signs of illnes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direct effects from lifestyle include malnutrition, infection at injection sites, increased risk of HI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so unpredictable composition of street dru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piates and Pregnanc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creased fetal growth and increased risk of intrauterine fetal dea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rious indices of physical and intellectual development delayed or impair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reased risk of ADH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onatal abstinence syndrome (withdrawal, feeding problems, and slower weight gai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founded by other drug use, lifesty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eat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loxone used for OD. Naltrexo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thado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A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ong-acting methado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uprenorphin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“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ld Turkey”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toxification without medic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iginally came from opiate withdrawal – the chills and goose bumps that go along with 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thado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ynthetic narco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s same analgesic and sedative effects as hero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t lasts much longer than heroin (12-24 hrs compared to 2-3 hr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’ll talk about more in treatment chap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prenorph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de names Suboxone, Buprenex, Subutex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ly mildly addicti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tial agon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nds to all 3 opioid receptors, but with lower efficacy, so there is ceiling to effe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vents other opiate drugs from bind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s a greater safety profile than full agonists b/c less likely to cause respiratory depre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Prescription Opia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.g. OxyContin (oxycodone), propoxyphene (Darvon), Percodan (aspirin and oxycodone), hydromorphone (Dilaudid), hydrocodone (Vicodin), meperidine (Demerol), Methadone, fentanyl (Sublimaz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xyContin originally thought to be safe from abuse b/c of oral administration and it is absorbed slowly over 12 h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owever, if tablets were crushed and swallowed, inhaled, or injected, effect was similar to heroin.  This is no longer tru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oman God of Dreams, Morpheus below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2190600" y="3581280"/>
            <a:ext cx="47628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on Problem, esp. in our Are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ople get addicted to prescription opiates, and then progress to heroin b/c it may be cheaper and easier to obtain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roin frequently mixed with additives/contaminants.  Can’t predict what you are getting.  Can lead to overdo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injecting heroin, chances of contracting Hepatitis C and HIV are greatly increas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me Statistic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 2015, 736 people in Alabama died from drug overdoses, according to the Centers for Disease Control and Prevention, the governor's office said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f those 736 deaths, a total of 282 were caused by opioids, according to a Kaiser Family Foundation review of CDC dat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CDC said 52,404 people died in 2015 from drug overdoses in the United States. Sixty-three percent of the deaths - 33,091 - involved an opioid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 2018 the fatalities involving opioids were 381.  Alabama providers wrote 97.5 opioid prescriptions for every 100 people!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s://www.drugabuse.gov/drugs-abuse/opioids/opioid-summaries-by-state/alabama-opioid-summar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http://www.al.com/business/index.ssf/2017/06/alabama_narcan_naloxone.htm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https://www.dea.gov/press-releases/2019/06/21/alabama-pill-mill-doctor-pleads-guilty-illegally-dispensing-prescrip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ide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ttps://www.youtube.com/watch?v=Nf9NspiAfB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ttp://www.youtube.com/watch?v=68FWUmYs5R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audanum – opium and alcohol, used in Patent medicines.  Watch first 2 min below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ttp://www.youtube.com/watch?v=HqkqjQzR6W0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rainspotting clip – watch first minute,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Warning – bad languag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ttp://www.youtube.com/watch?v=b2B7w4Z3uOI&amp;feature=fvwr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other Trainspotting clip- same Warning as before, plus needle shot!  If you have a youtube account, click on Trainspotting scene 11 “A visit to Mother Superior” – it explains mor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ttp://www.youtube.com/watch?v=v6uBkJSbQO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Endorphi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dogenous Morphine substances in the bra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nkephalins (processing pain, controlling breathing, regulate digestive function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ynorphins (analgesia, dysphori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ta-Endorphins (cal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atural pain-reliev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ody contains receptors for all of these neurotransmitt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duce pain sensations and also =&gt; calm by slowing breathing, decreasing BP and motor activi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me Background on Opia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ioid = endogenous chemicals (endorphin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iate = exogenously administered drug derived from/related to opium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phine and Codeine are derived from the opium popp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roin is a synthetic morphine derivative (2 acetyl groups were added onto the morphine molecul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me Histo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pium has been used for thousands of years to produce euphoria, analgesia, sleep, and relief from diarrhea and coug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arly 1800s – morphine isolated from opiu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853 Alexander Wood invented hypodermic syrin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roin originally introduced as non-addicting substitute for codeine by Bayer company.  Bayer’s scientists added an extra chemical group on morphine to make it more fat-soluble, so it could enter brain fast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rph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tremely effective analges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cause it is not as lipid soluble as heroin, the rush is not as intense as that of hero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roin enters the brain rapidly and is then converted to morphin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ute Effects of Morph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alges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laxed euphor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upilary constriction (pinpoint pupil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ppression of cough reflex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d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duced apprehen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iratory depre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tip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ften nausea and vomiting with initial use(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ute Effects of Opiate Drug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ush – intense pleasure, only happens when drug reaches brain quickly (mostly associated with heroi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igh – feeling of general well-be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d – calm, contented, detached, escape from rea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n feel pain, but don’t c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tion at the neuronal lev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nds to endorphin/enkephalin (endogenous opioid) recepto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 Opioid Receptor subtypes (all metabotropic)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59040" indent="-5792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u – strongest analgesia, pleasurable effects, respiratory depres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59040" indent="-5792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lta – similar effects to above, also regulates effects on breathing and blood pressu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59040" indent="-5792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appa – modest analgesia, constipation, pinpoint pupils, aversive effec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NAc, reduced GABA inhibition on DA neurons, results in net exci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Trench, Lynne S.</cp:lastModifiedBy>
  <dcterms:modified xsi:type="dcterms:W3CDTF">2020-10-05T15:27:26Z</dcterms:modified>
  <cp:revision>74</cp:revision>
  <dc:subject/>
  <dc:title>How do organisms adapt to change?</dc:title>
</cp:coreProperties>
</file>