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CEB7-D7EC-4FAB-B70F-8FC9C830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EA14-8D83-409F-965E-16F7E4A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9257-B2B4-4EA7-9C82-977FCA77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47D8-BF2C-40BB-86B6-C5D586EB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CD77-EF9C-4C19-9F84-85ED57EF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FF8-9CE8-4D2A-9AFF-B5A848EC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2833-C843-43A8-9286-29FF2B62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1865-9811-4FD7-B096-E1E1166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C13-7C24-4E75-8ED7-991D02B5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AA0-BAED-43E2-88E5-C5D2453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54FD-E56F-44D4-BA11-6A590AA5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43BC-32B9-4606-BDD2-95D0302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90EF-0C6A-46A1-94C4-451B083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84C-D19E-4005-87F3-5A6D7D0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302-2F05-4182-BCD5-DF79BD6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32C-C48F-4F79-ABED-3882846B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E4D-5B10-42CC-A1D1-0746D8F7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2E1E-8298-4DD6-8C9D-C626F545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A1A5-8E0A-4EAC-B860-7DA584A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5172-4FF6-412D-B0DE-643101C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2CF3-98B1-4022-A79E-2900F85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A2BE-B10F-48C8-AD58-B077FA9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E1F5-EE6A-4208-AF25-665D84E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EE21-3D47-462A-B2FE-8D7500DA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FB3-F951-4FF3-AE65-4A20E7B7F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A0B-184C-4C58-B2FE-B177A31BC2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hyperlink" Target="https://www.dea.gov/press-releases/2019/06/21/alabama-pill-mill-doctor-pleads-guilty-illegally-dispensing-prescription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 the fatalities involving opioids were 381.  Alabama providers wrote 97.5 opioid prescriptions for every 100 people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68FWUmYs5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HqkqjQzR6W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kephalins (processing pain, controlling breathing, regulate digestive func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norphins (analgesia, dysphor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a-Endorphins (cal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d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05T15:27:26Z</dcterms:modified>
  <cp:revision>74</cp:revision>
  <dc:subject/>
  <dc:title>How do organisms adapt to change?</dc:title>
</cp:coreProperties>
</file>