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45FA-6779-4E02-9A19-556004E7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F953-8F02-454E-82C8-4B3B5AEA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ADF4-9EF2-42DC-B4E1-0B468F16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D991-B5B4-487D-ADE5-AD069BF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8AF-5AB7-45A4-9A94-87E40CC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142-B7CF-4633-9A67-B6A73027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8732-A0A3-451F-B1AA-5FB916D4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B6AF-F535-4A63-9172-A2D97A2E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CF00-7DC4-4A01-9942-D117DC3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922A-8415-46DD-B645-75C98EF3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B40-9EF8-4903-9CB9-9FCA054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FF0C-1E4C-4121-8CAC-007F648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249-8703-4171-91B1-1BA5E1B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5199-7248-4F66-AF85-DD4332C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A65-571C-4B19-825B-48AF848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3040-7AED-4710-98E6-292DED9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4B02-99F3-41E7-895C-71BA01B8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6DD2-7535-4592-B34F-B47B815B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BE29-DA6A-4DA3-BF1C-E76EFAD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ACBA-145D-46D0-A3EC-50072E27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9BB2-246C-4848-AD96-FB14886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E2C9-7F7E-4C8F-9DAB-D4E8668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700B-52CC-4D66-8E18-0F66AE91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0019-E4E8-4790-BE98-74E90D4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A6CF-3651-443A-B879-F1B3E6C73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023F-6933-4A3D-B84F-77159BA19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hyperlink" Target="https://www.dea.gov/press-releases/2019/06/21/alabama-pill-mill-doctor-pleads-guilty-illegally-dispensing-prescription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 the fatalities involving opioids were 381.  Alabama providers wrote 97.5 opioid prescriptions for every 100 people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68FWUmYs5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HqkqjQzR6W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kephalins (processing pain, controlling breathing, regulate digestive func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ynorphins (analgesia, dysphor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a-Endorphins (cal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d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05T15:27:26Z</dcterms:modified>
  <cp:revision>74</cp:revision>
  <dc:subject/>
  <dc:title>How do organisms adapt to change?</dc:title>
</cp:coreProperties>
</file>