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FDD-FB69-4948-89A9-AEA44C0E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58B-1096-4043-9B0A-55FF5ECD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1BF-31A6-4CFA-B536-1113B0CA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577-B298-42DA-AFC7-16479EB2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3D2F-4178-4E55-A1F5-2873931F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1ABF-85C1-4DB6-92ED-9D07190B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91FA-1010-46FA-9494-0E975FC4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0812-E618-4CC8-BFCD-0EEC71EA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E206-D089-4440-A0FC-8D554130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B3AA-5C17-4639-A384-8B12E801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AC68-4C2B-43CA-BFD7-4721B4F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D9E-237B-4B02-AFA3-67945BC3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627A-9204-4315-B0D4-A34A0EFB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741D-CDBA-4222-BB6A-70B9627C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F654-5ACA-400F-9536-714F51F4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5E58-54AE-4F0F-8A23-6953DC77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24AC-272C-4FBB-81C3-EA398751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5F1-9F9D-4C23-9885-94001BF3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684-B591-4325-B399-B0EC0459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1C9-9B21-42EB-A3A0-3E9B7847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A4F-298E-4B67-8126-D7E12620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6F2-9B3A-4334-B880-E3D08C7C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1CB-F485-498A-BFB9-66418641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9B7-0801-4498-A637-CB55C32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BA31-FEAE-4E7A-BCB6-C35E2469F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1B84-5302-4955-864C-C8F7F891583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OZUc5ZsTUY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EulrvBw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s0Cr4Fl7b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and Amphe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edba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bining cocaine with hero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iness of heroin reduces edginess and arousal of cocain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danger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ought to be how John Belushi, Chris Farley, and Chris Kelly d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Sensitization to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cocaine admin. Leads to tolerance.  Tolerance develops to some effects, especially suppression of appetite and euphoria, but this goes away after a few days of abstin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ittent cocaine admin leads to sensitization to motor (locomotor, repetitive) and reinforcing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i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thdrawal from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withdrawal is not life threatening, and sometimes it is not obvious or even absent.  It ma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ological depression and anhed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eme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nged periods of restless 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n appet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Intense “psychological” withdraw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raving for the dr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reactions to stimulants can include: paranoia, delirium, hallucinations, psychosis, indistinguishable from paranoid schizophr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likely to develop coronary aneurysm, vascular disease, seizures (usually only seen with cocaine), sudden cardiac death, stroke, hyper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ugs” or formication associated with chronic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effects– irregular heart beat, heart failure, stroke, convulsions (1/2 of non-alc. drug-related ER visits and unexplained de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ethylene – more excitatory effect on BP and heart rate than cocaine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use of stimulants results in few direct negative health effects (besides to cardiovascular system) but may lead to decreased ability to produce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effects from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known to cause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lead to accelerated development of atherosclerosis (fatty plaques that block blood vessels) and possibly direct damage to heart from lack of oxy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tudies have shown long-lasting damage to dopamine nerve endings and reduction in dopam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 and decision-making problems in methamphetamine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ical thinning and gray matter volume reductions, especially in frontal regions of brain, reported in heavy amphetamine users (Neuroscience, 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s and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 use can cause impotence.  Use usually increases desire, but not perform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indicate that heavy users perform worse than nonusers on cognitive tasks such as verbal memory.  Attention, concentration, and reaction times aff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Interactions of Stimulant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he counter cold remedies containing deconge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s (MAO inhibi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kind of heart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making person more sensitive to seizures (BuSpar, high levels of caffe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mis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pre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birth weight and head circum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ict blood vessels that supply nutrient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incidence of ADHD and learning disabilities later in l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ounded by other drug use,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ltrex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renorp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al therapies, including exti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is a component of Coca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 chewed by natives of Andes mountains in Bolivia and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part of Inca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 to increase strength and endurance and decrease need for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 leaves steeped in wine was Vin Mariani, in 1869; this was a patent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 of early versions of Coca 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ud helped to popularize it i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info on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alin = methylphenidate.  Duration of action about 4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rall = amphetamine.  Duration of action about 4-6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amphetamine duration of action from 6-24 h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em for a Dream Cli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-OZUc5ZsT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hows a woman who is hooked on diet pi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thamphetamine-Associated Health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problems you would ex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e ag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bVEulrvBw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th Salt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PV, 3,4methylenedioxymethcathinone, a cathinone 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ly related to cathinone from khat plant.  Also methcathi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ipophilic and enter brain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 of inexperienced users and bulk marketing results in frequent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Amphetam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nese drug mahuang known to help treat asth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hedrine identified as active ingredient in mahuang.  This dilates bronchioles and increases body temp.  It can also be used to make Meth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20’s Gordon Alles synthesized chemical similar in structure to ephedrine– 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panese scientists synthesized methamphetamine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f meth. is made in bootleg labs.  The smokeable form of methamphetamine is called “ic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hat is derived from an African plant.  The active ingredient is cathinone, a mild amphetamine-like stimulan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ynthetic variant of cathinone, methcathinone is much more po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d from leaves of coca plant, mixed with solvents, processed into powd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ys0Cr4Fl7b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ck is prepared from powder by boiling it with sodium bicarbon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es from Columbia and Mex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es the sympathetic nervous system to increase BP, body temp and heart rate, constricts blood vessels, dilates bronchioles, increases blood sugar and prepares body for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s intense pleasure, releases inhibitions, increases self-confidence, increases attention and alertness,  eliminates fatigue, decreases appetite, also causes an increase of movements which can become focused and repetitive (stereotyp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hetamine has similar effects to cocaine, but lasts 2-4 hours lo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s destroyed rapid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norting, effects peak in about 30 min, last 60-9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V and inhalation effects peak in 3-5 min, last 10-4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ngestion (chewing leaves) leads to low blood levels of the dru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logical Effect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affects monoamines: norepinephrine, epinephrine, dopamine, and seroton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blocks the reuptake of these neurotransmitters at the reuptake transpor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phetamine does the same thing, but also uses the pump to enter the nerve terminal and cause a massive release of NT into syn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ylphenidate (ADHD drug) has smaller effects on heart rate and breathing than other stimulants b/c it affects DA more than 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y antidepressants block serotonin and/or NE transporter, but they don’t have arousing effect or abuse potential of coca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when applied locally, prevents transmission of nerve signals along sensory nerves. Novocaine and lidocaine were developed from coc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ffects continued; these can apply to all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/repetitive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use can result in psychotic behavior,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noia (similar to paranoid schizo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lig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icidal/suicidal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ine bu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ilate bronchial passages for asth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narcole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hyperactivity (e.g. methylphenidate or Rit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uppress appet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aw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can be used as a local anesthetic, sometimes used in eye, ear, nose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0-30T16:46:58Z</dcterms:modified>
  <cp:revision>74</cp:revision>
  <dc:subject/>
  <dc:title>How do organisms adapt to change?</dc:title>
</cp:coreProperties>
</file>