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0D5-D017-4405-939F-C32B25A9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47E-ADF4-4044-A997-76B234C3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BE2-3CD4-41DE-8CBF-5A480CCA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5BD-1A04-47A5-B10C-54CC9BFD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5FF8-6B98-47AD-8BC7-07A984A1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D2A2-E4EF-44D7-9E4F-40D5FA1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2261-0AD2-48EE-B7DE-97438678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F1E9-58ED-4A62-A364-8DB0DA18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F341-A59C-4DDB-9243-AE53B263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986-76F1-46DB-86B8-C0C447B2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AB12-49A7-4B43-A3C6-B878535A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AB6-F375-4F93-BADF-C4CC234E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20E4-66DA-412F-B6E9-168761C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1DC5-391D-4D08-8E93-7C2DA6DA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EBBE-83E2-4521-9B1D-06D1B7A0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AA64-3893-4C8A-B7A6-A5F57925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55EA-4F25-442D-8D10-214F918D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CED-27D0-478E-B5CB-BA39B84E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66F-2455-4167-8F53-A4E406C8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E99-0D11-462B-A3A5-53E1FC6A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D76-E4FF-4E44-9A56-07AEEB9C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FD9-119F-4B1A-916B-276ED33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5AA-D0B4-4724-B5CD-94FC3CB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356-85CF-43D6-A2B2-EDABB596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4676-E058-4808-95FD-6571D045E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2F45-9A94-432A-8307-04467E1A43A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s0Cr4Fl7b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ys0Cr4Fl7b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0-30T16:46:58Z</dcterms:modified>
  <cp:revision>74</cp:revision>
  <dc:subject/>
  <dc:title>How do organisms adapt to change?</dc:title>
</cp:coreProperties>
</file>