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841-53B2-4734-8F79-E268B935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3B1-3E4E-4821-B5C1-9B6E200C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BD4-EF07-49EE-8237-149D7954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11E-1081-410B-802C-930424DE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DDC9-46FE-4A1C-9B14-04EA366F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36A3-C96D-486C-A086-8F440521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D6B6-AA12-4330-B03E-3B145EB1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520F-515F-4A36-A719-183C087B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9163-0E24-4E32-A4EA-22577605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3237-1EC9-41DA-87D8-674BC9B8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F012-4CC5-425A-B5D1-8918069C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01D-87D1-48B6-A4E9-8A0859CC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1939-2F46-4CC1-A9C6-4BFC2C61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089E-7F92-4CEB-9E59-CB3BB8B1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4420-0E6C-4174-A945-23DBFB06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A6C6-C666-435B-9DCE-4BFB0B22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D214-D863-49CC-A8E5-9AA65349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327-E90E-491E-A478-BB88DDE0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903-F9D0-4716-BF44-03DDA598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8C0-1741-41FF-AC0C-E9B1748B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1F3-A005-4BF4-BB69-421A79AA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008-A4A1-40CC-82AE-74998283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9B8-C7A1-4CFA-B735-1CD93869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3D0-A74B-4F22-87B5-DBD7050D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6D00-C94C-4995-84C7-BC7CB5F8A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3A54-8D12-4C86-9950-0B445E14192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s0Cr4Fl7b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ys0Cr4Fl7b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0-30T16:46:58Z</dcterms:modified>
  <cp:revision>74</cp:revision>
  <dc:subject/>
  <dc:title>How do organisms adapt to change?</dc:title>
</cp:coreProperties>
</file>