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4AC9-3FA1-42B5-A420-8585BE749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7CC4-AA62-47F0-93C4-A71EDF9C2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56EA-70A6-44AF-84D7-FF0B1B446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9C0E-12F2-4540-9D17-D934ECB3D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DA9B-D9CF-414E-AC2F-4C7CE246A9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04A4-FFB1-4FA5-8C4C-A84B93D68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827D-7C8E-4B3B-93F5-5882C399F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B779-6928-42CE-9AD2-414C05FA5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51F5-C426-4F62-91C1-D575C60E3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B715-F29D-4B0B-AF29-0FB075AE8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A5A4-B8F0-49AC-835F-C97473195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8CE7-EE42-4BC6-B544-20F087CF0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1396-B1E7-4703-B09C-4119559E9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3" name="Line 9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courses.smsu.edu/mcb095f/gallery/Quadrula_fragosa/default.htm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weeksbay.org/index.htm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UES 150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’s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reats to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Why save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BUT…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Rankings: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is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4th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# of species at risk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14.8%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2nd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most number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90 extinct spp in AL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Fish and Wildlife: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N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hreatened 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ndangered spp (Endangered Spp Act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82 animal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18 plant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 Biodiversity Facts: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State Rankings: 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otal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More species than any state east of the Mississippi River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th in the US 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r most # of species (4533 spp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keycave2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36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 1 for freshwater fish (competing with TN and AR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72200" y="30481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f3a5"/>
                </a:solidFill>
                <a:latin typeface="Comic Sans MS"/>
              </a:rPr>
              <a:t>Vermilion Darter – an Alabama endemic</a:t>
            </a:r>
            <a:endParaRPr b="0" lang="en-US" sz="18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48" name="Picture 9" descr="gulf sturgeon.jpg (19069 bytes)"/>
          <p:cNvPicPr/>
          <p:nvPr/>
        </p:nvPicPr>
        <p:blipFill>
          <a:blip r:embed="rId2"/>
          <a:stretch/>
        </p:blipFill>
        <p:spPr>
          <a:xfrm>
            <a:off x="3352680" y="5132520"/>
            <a:ext cx="4572000" cy="1725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583440" y="649116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Gulf Sturgeon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539680" y="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Southern Cavefish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51" name="Picture 2" descr="http://www.tnaqua.org/Newsroom/Images/vermillion_darter.jpg"/>
          <p:cNvPicPr/>
          <p:nvPr/>
        </p:nvPicPr>
        <p:blipFill>
          <a:blip r:embed="rId3"/>
          <a:stretch/>
        </p:blipFill>
        <p:spPr>
          <a:xfrm>
            <a:off x="1143000" y="2666880"/>
            <a:ext cx="49528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Northern Alabama mollusk specimen"/>
          <p:cNvPicPr/>
          <p:nvPr/>
        </p:nvPicPr>
        <p:blipFill>
          <a:blip r:embed="rId1"/>
          <a:srcRect l="13578" t="0" r="17288" b="0"/>
          <a:stretch/>
        </p:blipFill>
        <p:spPr>
          <a:xfrm>
            <a:off x="7010280" y="4809960"/>
            <a:ext cx="213372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scn0179.jpg (69676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28800"/>
            <a:ext cx="2514600" cy="1881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musse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56" name="Picture 6" descr="mussels"/>
          <p:cNvPicPr/>
          <p:nvPr/>
        </p:nvPicPr>
        <p:blipFill>
          <a:blip r:embed="rId4"/>
          <a:stretch/>
        </p:blipFill>
        <p:spPr>
          <a:xfrm>
            <a:off x="2438280" y="243828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qasp.jpg (45881 bytes)"/>
          <p:cNvPicPr/>
          <p:nvPr/>
        </p:nvPicPr>
        <p:blipFill>
          <a:blip r:embed="rId5"/>
          <a:stretch/>
        </p:blipFill>
        <p:spPr>
          <a:xfrm>
            <a:off x="6286680" y="1066680"/>
            <a:ext cx="28573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hoto of Service employee holding mussels above a holding tank - Photo credit:  U.S. Fish and Wildlife Service"/>
          <p:cNvPicPr/>
          <p:nvPr/>
        </p:nvPicPr>
        <p:blipFill>
          <a:blip r:embed="rId6"/>
          <a:stretch/>
        </p:blipFill>
        <p:spPr>
          <a:xfrm>
            <a:off x="0" y="4618080"/>
            <a:ext cx="3362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rawfish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1" name="Picture 5" descr="craw1"/>
          <p:cNvPicPr/>
          <p:nvPr/>
        </p:nvPicPr>
        <p:blipFill>
          <a:blip r:embed="rId1"/>
          <a:stretch/>
        </p:blipFill>
        <p:spPr>
          <a:xfrm>
            <a:off x="4419720" y="2286000"/>
            <a:ext cx="4038480" cy="312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ttp://www.enquirer.com/editions/2003/05/29/crayfish_zoom.jpg"/>
          <p:cNvPicPr/>
          <p:nvPr/>
        </p:nvPicPr>
        <p:blipFill>
          <a:blip r:embed="rId2"/>
          <a:stretch/>
        </p:blipFill>
        <p:spPr>
          <a:xfrm>
            <a:off x="228600" y="2286000"/>
            <a:ext cx="4160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freshwater snai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5" name="Picture 4" descr="Randy's-Snail"/>
          <p:cNvPicPr/>
          <p:nvPr/>
        </p:nvPicPr>
        <p:blipFill>
          <a:blip r:embed="rId1"/>
          <a:srcRect l="20345" t="0" r="8478" b="11860"/>
          <a:stretch/>
        </p:blipFill>
        <p:spPr>
          <a:xfrm>
            <a:off x="5562720" y="380880"/>
            <a:ext cx="3200400" cy="2971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-225720" y="5668200"/>
            <a:ext cx="47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 (2) 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andy Haddock, CRS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67" name="Picture 6" descr="Randy's-Mussel-and-Snail-sh"/>
          <p:cNvPicPr/>
          <p:nvPr/>
        </p:nvPicPr>
        <p:blipFill>
          <a:blip r:embed="rId2"/>
          <a:stretch/>
        </p:blipFill>
        <p:spPr>
          <a:xfrm>
            <a:off x="228600" y="2286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reshwater%20snails"/>
          <p:cNvPicPr/>
          <p:nvPr/>
        </p:nvPicPr>
        <p:blipFill>
          <a:blip r:embed="rId3"/>
          <a:stretch/>
        </p:blipFill>
        <p:spPr>
          <a:xfrm>
            <a:off x="5715000" y="3429000"/>
            <a:ext cx="2971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Damselfly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1" name="Picture 4" descr="Other_Sec_Glass"/>
          <p:cNvPicPr/>
          <p:nvPr/>
        </p:nvPicPr>
        <p:blipFill>
          <a:blip r:embed="rId1"/>
          <a:srcRect l="0" t="24686" r="0" b="12029"/>
          <a:stretch/>
        </p:blipFill>
        <p:spPr>
          <a:xfrm>
            <a:off x="533520" y="1981080"/>
            <a:ext cx="5562360" cy="3090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6326280" y="3047040"/>
            <a:ext cx="205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Bluet Damselfl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271240" y="623160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uth Glass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arnivorous plant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6" name="Picture 7" descr="Pitcher%20Plant"/>
          <p:cNvPicPr/>
          <p:nvPr/>
        </p:nvPicPr>
        <p:blipFill>
          <a:blip r:embed="rId1"/>
          <a:stretch/>
        </p:blipFill>
        <p:spPr>
          <a:xfrm>
            <a:off x="4876920" y="99072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357480" y="5715000"/>
            <a:ext cx="34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Photo credit: Johnny Mollo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Alabama:  tied # 1 for freshwater turtles (tied with Mississippi)</a:t>
            </a: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elow:  the endangered Alabama Red-bellied Turtle</a:t>
            </a:r>
            <a:endParaRPr b="0" lang="en-US" sz="16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80" name="Picture 4" descr="AL%20Red%20Bellied%20Turtle%20Bill%20Summerour%202"/>
          <p:cNvPicPr/>
          <p:nvPr/>
        </p:nvPicPr>
        <p:blipFill>
          <a:blip r:embed="rId1"/>
          <a:srcRect l="0" t="0" r="0" b="6654"/>
          <a:stretch/>
        </p:blipFill>
        <p:spPr>
          <a:xfrm>
            <a:off x="2362320" y="4191120"/>
            <a:ext cx="331452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L%20Red%20Bellied%20Turtle%20Bill%20Summerour"/>
          <p:cNvPicPr/>
          <p:nvPr/>
        </p:nvPicPr>
        <p:blipFill>
          <a:blip r:embed="rId2"/>
          <a:srcRect l="12247" t="8565" r="16330" b="7942"/>
          <a:stretch/>
        </p:blipFill>
        <p:spPr>
          <a:xfrm>
            <a:off x="0" y="2895480"/>
            <a:ext cx="266688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5791320" y="5859000"/>
            <a:ext cx="3124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ff3a5"/>
                </a:solidFill>
                <a:latin typeface="Comic Sans MS"/>
              </a:rPr>
              <a:t>ARBT:Photo Credits: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Bill Summerour - Weeks Bay Reserve Foundation</a:t>
            </a:r>
            <a:br>
              <a:rPr sz="1000"/>
            </a:br>
            <a:r>
              <a:rPr b="0" lang="en-US" sz="10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ttp://www.weeksbay.org/index.htm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3" name="Picture 9" descr="http://www.graptemys.com/delt.jpg"/>
          <p:cNvPicPr/>
          <p:nvPr/>
        </p:nvPicPr>
        <p:blipFill>
          <a:blip r:embed="rId4"/>
          <a:stretch/>
        </p:blipFill>
        <p:spPr>
          <a:xfrm>
            <a:off x="5886360" y="152280"/>
            <a:ext cx="3257640" cy="2124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6095880" y="236232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3a5"/>
                </a:solidFill>
                <a:latin typeface="Comic Sans MS"/>
              </a:rPr>
              <a:t>Above and Below: Southern Black-knobbed Map Turtle:  an Alabama Endemic</a:t>
            </a:r>
            <a:endParaRPr b="0" lang="en-US" sz="16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5" name="Picture 11" descr="http://www.graptemys.com/gndelticola2.jpg"/>
          <p:cNvPicPr/>
          <p:nvPr/>
        </p:nvPicPr>
        <p:blipFill>
          <a:blip r:embed="rId5"/>
          <a:stretch/>
        </p:blipFill>
        <p:spPr>
          <a:xfrm>
            <a:off x="6019920" y="3505320"/>
            <a:ext cx="28098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6:18:27Z</dcterms:created>
  <dc:creator>Peter</dc:creator>
  <dc:description/>
  <dc:language>en-US</dc:language>
  <cp:lastModifiedBy>Parker, Rebekah Pine</cp:lastModifiedBy>
  <dcterms:modified xsi:type="dcterms:W3CDTF">2016-06-22T14:12:36Z</dcterms:modified>
  <cp:revision>314</cp:revision>
  <dc:subject/>
  <dc:title>Genetic change</dc:title>
</cp:coreProperties>
</file>