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81FF-FAD5-4887-9E4F-E2CDFE29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C05D-FE81-4725-BC42-52E14B40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C946-3F8B-49E6-BE83-65F90859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F1ED-54F9-459D-80CA-27ED465B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334F-5105-454E-96D6-6A3BAA52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3EA9-898A-4EA2-A947-95FB8BD4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7C86-A175-43D5-9A29-A275506E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7D2C-AB2C-4002-B97D-1B353DC5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DFE7-0514-4713-9648-BDBEF538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474B-319C-4F09-877C-D8E6CCF5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073E-B6A5-4255-BF42-33D87C0E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94F-CBB7-44DA-B52B-E032644E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DEFD-130D-44F1-AC72-936D4CEF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BCC4-00AE-4533-B339-56F87CB2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8854-13D7-44EE-8289-EE944028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E562-95D0-477C-A40B-1CC93BC7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768C-D407-4C1C-8786-687510A3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F87E9-4DEC-4BAC-B86C-8D8448A3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92813-0466-4245-8B54-2F9B76FB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4EC5E-89B7-48AA-8DB9-E3B6EFA3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E5066-B3B8-4E26-AC2D-94B1B5C0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48C08-7ACE-4831-8413-47F1C795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B500-FDFB-445A-86A6-69543E1D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D4BCA-27F8-4728-9D4C-D7BA857F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AD111-814E-4A2C-A384-472F78A9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79720-1A37-47E9-BADA-F5479165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19F3F-BE64-4E78-95A1-B0ECEF23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9816A-0272-4750-B14D-2A52A382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8419B-B963-4E00-A37C-12872E89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3315C-8184-4A12-9345-C3596D77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B1FF9-0B87-4157-A6E7-536E4573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BE291-7B0F-4D6F-BC33-A7FCE2BC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34FFE-CC06-4E95-A373-143E5C55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C34F-0E6D-4B10-BF6B-B69429A9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A6520-E2DC-4DFE-A201-F9BBCDA1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B4D84-8B65-471E-BB14-13956D2B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1146B-321D-4B57-95C5-B2366340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D8C42-26F9-4CA0-B771-8434DA1D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17654-3F97-4262-B6E3-1ADD4681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334BF-6F08-49A6-9353-6A5D683F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6D2BA-43A5-4204-87E3-96C8416E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B1598-C583-45B2-9E5E-8D756639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29203-053A-4A3D-9C96-34960D40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D28D4-9F1A-45D4-BB07-82C9B117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4FD-A3D0-450D-B53C-6BF59550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215D2-4915-495B-94C5-38E83D31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BDBC3-A79A-4F7B-A50B-68FAD9C2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867FE-4F41-414B-B851-2BDF8732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948C4-F689-4DAD-AD1F-078E8D73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ECB45-59AC-4918-8093-EBC88CA6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0EFD7-A57C-4CD5-A83C-9AAD4321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6849E-B453-4C10-82C2-E84F0B5F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444C6-62A9-4506-A830-A6CB3B09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D27FC-45C1-45CF-80DA-9729E229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266B2-7AC2-44FF-A24A-75ADAA7A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4DD5-2446-4559-A16D-7661FA12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F6284-7F66-464A-B34B-84131D29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3FB1-5E57-4747-BDC4-83B7B95E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D8D8-97AB-4772-8865-F9740CBE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DA11-4257-45E2-932D-6EEB2EBA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E575-CE6D-43BA-A1DC-43D0358C4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821E-871A-47CB-8BC3-855FC0A96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4821-A52A-45D0-9306-1322DBEB5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E2C5-5E6E-4648-8110-5797A7D9C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CD4E-EF50-4099-8BE5-A9BBD2F4D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415800" y="7632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elationship Concept: Policy, Strategy, and National (Vital) 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0" y="43344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olicy: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Guidance that is shaped by values and/or desired outcom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2895480" y="433440"/>
            <a:ext cx="2895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ital National Interest: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“Condition if not maintained could substantially affect the security or economic future of the country and its citizens.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5943600" y="433440"/>
            <a:ext cx="3429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rategy: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“The science and art of employing the political, economical, psychological, and military forces of a nation, or group of nations, to achieve adopted policies in peace or war.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6"/>
          <p:cNvGrpSpPr/>
          <p:nvPr/>
        </p:nvGrpSpPr>
        <p:grpSpPr>
          <a:xfrm>
            <a:off x="7391520" y="1398600"/>
            <a:ext cx="1765080" cy="2414160"/>
            <a:chOff x="7391520" y="1398600"/>
            <a:chExt cx="1765080" cy="2414160"/>
          </a:xfrm>
        </p:grpSpPr>
        <p:sp>
          <p:nvSpPr>
            <p:cNvPr id="214" name="Oval 13"/>
            <p:cNvSpPr/>
            <p:nvPr/>
          </p:nvSpPr>
          <p:spPr>
            <a:xfrm>
              <a:off x="7391520" y="1398600"/>
              <a:ext cx="1752480" cy="990360"/>
            </a:xfrm>
            <a:prstGeom prst="ellipse">
              <a:avLst/>
            </a:prstGeom>
            <a:solidFill>
              <a:srgbClr val="fea3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29"/>
            <p:cNvSpPr/>
            <p:nvPr/>
          </p:nvSpPr>
          <p:spPr>
            <a:xfrm>
              <a:off x="7632720" y="2441160"/>
              <a:ext cx="15238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Procedures and Actions on the Ground, e.g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How battles and operations are conduct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irst Respon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30"/>
            <p:cNvSpPr/>
            <p:nvPr/>
          </p:nvSpPr>
          <p:spPr>
            <a:xfrm>
              <a:off x="7516800" y="1425240"/>
              <a:ext cx="1523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actical Country Team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5"/>
          <p:cNvGrpSpPr/>
          <p:nvPr/>
        </p:nvGrpSpPr>
        <p:grpSpPr>
          <a:xfrm>
            <a:off x="5943600" y="1398600"/>
            <a:ext cx="1693800" cy="5459400"/>
            <a:chOff x="5943600" y="1398600"/>
            <a:chExt cx="1693800" cy="5459400"/>
          </a:xfrm>
        </p:grpSpPr>
        <p:sp>
          <p:nvSpPr>
            <p:cNvPr id="218" name="Oval 16"/>
            <p:cNvSpPr/>
            <p:nvPr/>
          </p:nvSpPr>
          <p:spPr>
            <a:xfrm>
              <a:off x="5943600" y="1398600"/>
              <a:ext cx="1676520" cy="990360"/>
            </a:xfrm>
            <a:prstGeom prst="ellipse">
              <a:avLst/>
            </a:prstGeom>
            <a:solidFill>
              <a:srgbClr val="7030a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Straight Connector 24"/>
            <p:cNvSpPr/>
            <p:nvPr/>
          </p:nvSpPr>
          <p:spPr>
            <a:xfrm>
              <a:off x="7626600" y="2388960"/>
              <a:ext cx="10800" cy="446904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28"/>
            <p:cNvSpPr/>
            <p:nvPr/>
          </p:nvSpPr>
          <p:spPr>
            <a:xfrm>
              <a:off x="6189480" y="2441520"/>
              <a:ext cx="1447920" cy="28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A Plan to Integrate Interagency Assets to Implement the Strategy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paring for conflict within a geographic area or other large scope, and creating the opportunities to engage on favorable ter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31"/>
            <p:cNvSpPr/>
            <p:nvPr/>
          </p:nvSpPr>
          <p:spPr>
            <a:xfrm>
              <a:off x="6202440" y="1703160"/>
              <a:ext cx="13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perat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3"/>
          <p:cNvGrpSpPr/>
          <p:nvPr/>
        </p:nvGrpSpPr>
        <p:grpSpPr>
          <a:xfrm>
            <a:off x="4495680" y="1398600"/>
            <a:ext cx="1752840" cy="5459400"/>
            <a:chOff x="4495680" y="1398600"/>
            <a:chExt cx="1752840" cy="5459400"/>
          </a:xfrm>
        </p:grpSpPr>
        <p:sp>
          <p:nvSpPr>
            <p:cNvPr id="223" name="Oval 17"/>
            <p:cNvSpPr/>
            <p:nvPr/>
          </p:nvSpPr>
          <p:spPr>
            <a:xfrm>
              <a:off x="4495680" y="1398600"/>
              <a:ext cx="1752840" cy="99036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traight Connector 25"/>
            <p:cNvSpPr/>
            <p:nvPr/>
          </p:nvSpPr>
          <p:spPr>
            <a:xfrm flipH="1">
              <a:off x="6177240" y="2388960"/>
              <a:ext cx="1440" cy="446904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27"/>
            <p:cNvSpPr/>
            <p:nvPr/>
          </p:nvSpPr>
          <p:spPr>
            <a:xfrm>
              <a:off x="4773240" y="2441520"/>
              <a:ext cx="1362240" cy="30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Application of Resources to Achieve Policy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 prudent idea or set of ideas for employing the instruments of national power in a synchronized and integrated fashion to achieve theater, national, and/or multinational policy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"/>
          <p:cNvGrpSpPr/>
          <p:nvPr/>
        </p:nvGrpSpPr>
        <p:grpSpPr>
          <a:xfrm>
            <a:off x="3048120" y="1398600"/>
            <a:ext cx="1752480" cy="5459400"/>
            <a:chOff x="3048120" y="1398600"/>
            <a:chExt cx="1752480" cy="5459400"/>
          </a:xfrm>
        </p:grpSpPr>
        <p:sp>
          <p:nvSpPr>
            <p:cNvPr id="227" name="Oval 18"/>
            <p:cNvSpPr/>
            <p:nvPr/>
          </p:nvSpPr>
          <p:spPr>
            <a:xfrm>
              <a:off x="3048120" y="1398600"/>
              <a:ext cx="1752480" cy="99036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Straight Connector 26"/>
            <p:cNvSpPr/>
            <p:nvPr/>
          </p:nvSpPr>
          <p:spPr>
            <a:xfrm>
              <a:off x="4757760" y="2388960"/>
              <a:ext cx="0" cy="446904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29"/>
            <p:cNvSpPr/>
            <p:nvPr/>
          </p:nvSpPr>
          <p:spPr>
            <a:xfrm>
              <a:off x="3279600" y="2441520"/>
              <a:ext cx="1503360" cy="31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Crisi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 situation where U.S. vital/enduring national interests are in danger and that impedes implementation of the national security 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Respons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f response is required, clear policy objectives and desired end state must be determin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29"/>
            <p:cNvSpPr/>
            <p:nvPr/>
          </p:nvSpPr>
          <p:spPr>
            <a:xfrm>
              <a:off x="3550320" y="170964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ri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38"/>
            <p:cNvSpPr/>
            <p:nvPr/>
          </p:nvSpPr>
          <p:spPr>
            <a:xfrm>
              <a:off x="3511440" y="5943600"/>
              <a:ext cx="9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"/>
          <p:cNvGrpSpPr/>
          <p:nvPr/>
        </p:nvGrpSpPr>
        <p:grpSpPr>
          <a:xfrm>
            <a:off x="1447920" y="1398600"/>
            <a:ext cx="1892160" cy="5503320"/>
            <a:chOff x="1447920" y="1398600"/>
            <a:chExt cx="1892160" cy="5503320"/>
          </a:xfrm>
        </p:grpSpPr>
        <p:sp>
          <p:nvSpPr>
            <p:cNvPr id="233" name="Straight Connector 23"/>
            <p:cNvSpPr/>
            <p:nvPr/>
          </p:nvSpPr>
          <p:spPr>
            <a:xfrm>
              <a:off x="3260880" y="2388960"/>
              <a:ext cx="18720" cy="446904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28"/>
            <p:cNvSpPr/>
            <p:nvPr/>
          </p:nvSpPr>
          <p:spPr>
            <a:xfrm>
              <a:off x="1608120" y="2438280"/>
              <a:ext cx="1731960" cy="44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00"/>
                  </a:solidFill>
                  <a:latin typeface="Arial"/>
                  <a:ea typeface="Arial"/>
                </a:rPr>
                <a:t>Dec 2017 NS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ur pilla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00"/>
                  </a:solidFill>
                  <a:latin typeface="Arial"/>
                  <a:ea typeface="Arial"/>
                </a:rPr>
                <a:t>Protect 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e American people, the homeland, and the American Way of Lif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00"/>
                  </a:solidFill>
                  <a:latin typeface="Arial"/>
                  <a:ea typeface="Arial"/>
                </a:rPr>
                <a:t>Promote 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American Prosper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1" lang="en-US" sz="1100" spc="-1" strike="noStrike">
                  <a:solidFill>
                    <a:srgbClr val="ffff00"/>
                  </a:solidFill>
                  <a:latin typeface="Arial"/>
                  <a:ea typeface="Arial"/>
                </a:rPr>
                <a:t>Preserve 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eace through Strengt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00"/>
                  </a:solidFill>
                  <a:latin typeface="Arial"/>
                  <a:ea typeface="Arial"/>
                </a:rPr>
                <a:t>Advance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American Influe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TWO VITAL INTERES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tect American Lives and Count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Arial"/>
                  <a:ea typeface="Arial"/>
                </a:rPr>
                <a:t>Maintain world environment in which we can maintain our way of lif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1447920" y="1398600"/>
              <a:ext cx="1752480" cy="990360"/>
            </a:xfrm>
            <a:prstGeom prst="ellipse">
              <a:avLst/>
            </a:prstGeom>
            <a:solidFill>
              <a:srgbClr val="20202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tional Security Strate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2"/>
          <p:cNvGrpSpPr/>
          <p:nvPr/>
        </p:nvGrpSpPr>
        <p:grpSpPr>
          <a:xfrm>
            <a:off x="-38160" y="1386000"/>
            <a:ext cx="1752840" cy="5335560"/>
            <a:chOff x="-38160" y="1386000"/>
            <a:chExt cx="1752840" cy="5335560"/>
          </a:xfrm>
        </p:grpSpPr>
        <p:sp>
          <p:nvSpPr>
            <p:cNvPr id="237" name="Oval 20"/>
            <p:cNvSpPr/>
            <p:nvPr/>
          </p:nvSpPr>
          <p:spPr>
            <a:xfrm>
              <a:off x="-38160" y="1386000"/>
              <a:ext cx="1752840" cy="9903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Straight Connector 22"/>
            <p:cNvSpPr/>
            <p:nvPr/>
          </p:nvSpPr>
          <p:spPr>
            <a:xfrm flipH="1">
              <a:off x="1560960" y="2378160"/>
              <a:ext cx="2880" cy="434340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7"/>
            <p:cNvSpPr/>
            <p:nvPr/>
          </p:nvSpPr>
          <p:spPr>
            <a:xfrm>
              <a:off x="-38160" y="2428920"/>
              <a:ext cx="1676880" cy="37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Not one docu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Collection of ideals, values, and principles found in Declaration of Independence, Constitution, ot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Need a National Security Strategy to Secure and Def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UNIQUE TO UNITED ST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________________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Box 7"/>
          <p:cNvSpPr/>
          <p:nvPr/>
        </p:nvSpPr>
        <p:spPr>
          <a:xfrm>
            <a:off x="30240" y="1600200"/>
            <a:ext cx="165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Vision for the N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31:44Z</dcterms:created>
  <dc:creator>kyates</dc:creator>
  <dc:description/>
  <dc:language>en-US</dc:language>
  <cp:lastModifiedBy>Ed Rowe</cp:lastModifiedBy>
  <dcterms:modified xsi:type="dcterms:W3CDTF">2018-12-01T03:03:42Z</dcterms:modified>
  <cp:revision>489</cp:revision>
  <dc:subject/>
  <dc:title>Presumptive Problem</dc:title>
</cp:coreProperties>
</file>