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4DA-EAD2-4059-B6B6-94C1C79D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E01-5CA7-49BA-9F41-8EC72CAC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9AB-5FBD-4470-A98F-7317AD3A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F96-2CB5-4F25-B251-90B80317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2294-205B-48A9-9558-059747BC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229-7C67-4B8C-9E6E-6B1725F0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685-1DF4-415F-B842-21136F6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6158-4314-48FC-AC05-4DDDDAD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6B3D-FB04-446C-9448-7B4EDF4A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B96B-4958-4020-9350-4F0110A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564C-17B8-4975-9C01-CE6A47B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45D-2F90-47C2-ADD0-B89BA608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94A4-6C41-4627-9AD0-FE8AE52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40B0-2FE7-4B58-B387-1ACDE32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35E0-1770-463E-B0FD-D819D61A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8634-9610-417D-8178-4F15B0A2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5F0B-B063-480B-AE5F-38BAEAB6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1BC8-E6D2-4C8D-B3BD-32C33A2F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3222-548E-42EF-ABF6-3D452B7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5A1C-2F4C-4CA5-B30A-B9886FD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1E51-3D99-4702-B48C-F6542D2F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8C4A-4F3D-4B57-B515-BA7E4FCB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DB4-BDBC-40FD-A4AE-F5A28FD9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B44F-B7C3-4993-810D-5B587BB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72B6-1571-4018-B6B0-C8475B0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3015-7DD1-46A9-ADE3-2D07A7A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AFFA-9A84-4C28-A978-539918F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7DA7-50C2-4241-AE88-A912AB4A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BF17-1E6D-4B4A-BF75-83F4C0C4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2ABA-0CA4-4720-AB93-F08EEB1D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E335-7776-4E24-9D5C-78432E13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0F1C-0E21-4AE8-92D0-52D83FAE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727E-798B-4CD1-B6B6-C49C37A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F07-11B1-49B9-BDDF-7706152A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2711-C91E-4640-9E76-79884E5A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A59C-DBE7-4A71-B9FB-0CCFD77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32D6-BE89-401B-8758-009598BF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A5ED-CD6F-4610-9933-3684495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C359-934F-4AA8-B4E5-20F340B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352C9-D6BB-4087-B7FF-155DB91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9836-E56D-4825-99FD-010BFA9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50D5-7506-4766-B6C6-637D33C2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715E-E9F0-4DD0-BD0F-3E262F95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CFD5D-37C5-4622-88D5-71023494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47D-D93C-4AD3-A6DB-BE5E6022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E20D-1E4E-4710-A498-351E56E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46DE0-7B44-4678-AB59-439B5CE4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2A39-6D4A-422B-B9CF-26AD457D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FC2A-C7EF-41DF-A4C3-52A9CFE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7EE8-03CA-4F95-9BA9-E17100B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AE51-AFBA-417E-A425-E6C09C7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F1F7-9B03-4654-9E00-1C60E0B6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38FB-EDD0-472E-B43A-6AFCF10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BD2F-E1F0-417A-A925-F4765B7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C2F69-FBDA-4C56-92C9-841171D1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AAA-648E-4690-A585-BFC7A22F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7D08B-336B-46DA-999E-D822991F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B09-603A-484C-A5CA-9867CB28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881-1A62-4386-A612-71F02E9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DD9-B0BE-4A43-9482-67DA8AD9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560-B706-4D7B-A680-86890B5C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5EB1-2403-4088-BA4A-4AD212FD8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813B-74DD-4867-A2B4-02151A9F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331C-B8E8-4441-B9FB-67B54C9A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236"/>
            </a:gs>
            <a:gs pos="50000">
              <a:srgbClr val="002060"/>
            </a:gs>
            <a:gs pos="100000">
              <a:srgbClr val="0012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gradFill rotWithShape="0">
            <a:gsLst>
              <a:gs pos="0">
                <a:srgbClr val="da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ranklin Gothic Book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a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75C5-55AC-4766-859F-ABFAF513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15800" y="763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lationship Concept: Policy, Strategy, and National (Vital)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0" y="43344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olicy: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 Guidance that is shaped by values and/or desired outcom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895480" y="433440"/>
            <a:ext cx="2895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ital National Interest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Condition if not maintained could substantially affect the security or economic future of the country and its citizen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943600" y="433440"/>
            <a:ext cx="3429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ategy: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“The science and art of employing the political, economical, psychological, and military forces of a nation, or group of nations, to achieve adopted policies in peace or war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7391520" y="1398600"/>
            <a:ext cx="1765080" cy="2414160"/>
            <a:chOff x="7391520" y="1398600"/>
            <a:chExt cx="1765080" cy="2414160"/>
          </a:xfrm>
        </p:grpSpPr>
        <p:sp>
          <p:nvSpPr>
            <p:cNvPr id="214" name="Oval 13"/>
            <p:cNvSpPr/>
            <p:nvPr/>
          </p:nvSpPr>
          <p:spPr>
            <a:xfrm>
              <a:off x="7391520" y="1398600"/>
              <a:ext cx="1752480" cy="990360"/>
            </a:xfrm>
            <a:prstGeom prst="ellipse">
              <a:avLst/>
            </a:prstGeom>
            <a:solidFill>
              <a:srgbClr val="fea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29"/>
            <p:cNvSpPr/>
            <p:nvPr/>
          </p:nvSpPr>
          <p:spPr>
            <a:xfrm>
              <a:off x="7632720" y="2441160"/>
              <a:ext cx="1523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cedures and Actions on the Ground, e.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w battles and operations are condu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rst Respon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0"/>
            <p:cNvSpPr/>
            <p:nvPr/>
          </p:nvSpPr>
          <p:spPr>
            <a:xfrm>
              <a:off x="7516800" y="142524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actical Country Team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5943600" y="1398600"/>
            <a:ext cx="1693800" cy="5459400"/>
            <a:chOff x="5943600" y="1398600"/>
            <a:chExt cx="1693800" cy="5459400"/>
          </a:xfrm>
        </p:grpSpPr>
        <p:sp>
          <p:nvSpPr>
            <p:cNvPr id="218" name="Oval 16"/>
            <p:cNvSpPr/>
            <p:nvPr/>
          </p:nvSpPr>
          <p:spPr>
            <a:xfrm>
              <a:off x="5943600" y="1398600"/>
              <a:ext cx="1676520" cy="99036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4"/>
            <p:cNvSpPr/>
            <p:nvPr/>
          </p:nvSpPr>
          <p:spPr>
            <a:xfrm>
              <a:off x="7626600" y="2388960"/>
              <a:ext cx="1080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8"/>
            <p:cNvSpPr/>
            <p:nvPr/>
          </p:nvSpPr>
          <p:spPr>
            <a:xfrm>
              <a:off x="6189480" y="2441520"/>
              <a:ext cx="1447920" cy="28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 Plan to Integrate Interagency Assets to Implement the Strategy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paring for conflict within a geographic area or other large scope, and creating the opportunities to engage on favorable te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1"/>
            <p:cNvSpPr/>
            <p:nvPr/>
          </p:nvSpPr>
          <p:spPr>
            <a:xfrm>
              <a:off x="6202440" y="170316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per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"/>
          <p:cNvGrpSpPr/>
          <p:nvPr/>
        </p:nvGrpSpPr>
        <p:grpSpPr>
          <a:xfrm>
            <a:off x="4495680" y="1398600"/>
            <a:ext cx="1752840" cy="5459400"/>
            <a:chOff x="4495680" y="1398600"/>
            <a:chExt cx="1752840" cy="5459400"/>
          </a:xfrm>
        </p:grpSpPr>
        <p:sp>
          <p:nvSpPr>
            <p:cNvPr id="223" name="Oval 17"/>
            <p:cNvSpPr/>
            <p:nvPr/>
          </p:nvSpPr>
          <p:spPr>
            <a:xfrm>
              <a:off x="4495680" y="1398600"/>
              <a:ext cx="1752840" cy="990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5"/>
            <p:cNvSpPr/>
            <p:nvPr/>
          </p:nvSpPr>
          <p:spPr>
            <a:xfrm flipH="1">
              <a:off x="6177240" y="2388960"/>
              <a:ext cx="144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4773240" y="2441520"/>
              <a:ext cx="13622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Application of Resources to Achieve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prudent idea or set of ideas for employing the instruments of national power in a synchronized and integrated fashion to achieve theater, national, and/or multinational policy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"/>
          <p:cNvGrpSpPr/>
          <p:nvPr/>
        </p:nvGrpSpPr>
        <p:grpSpPr>
          <a:xfrm>
            <a:off x="3048120" y="1398600"/>
            <a:ext cx="1752480" cy="5459400"/>
            <a:chOff x="3048120" y="1398600"/>
            <a:chExt cx="1752480" cy="5459400"/>
          </a:xfrm>
        </p:grpSpPr>
        <p:sp>
          <p:nvSpPr>
            <p:cNvPr id="227" name="Oval 18"/>
            <p:cNvSpPr/>
            <p:nvPr/>
          </p:nvSpPr>
          <p:spPr>
            <a:xfrm>
              <a:off x="3048120" y="1398600"/>
              <a:ext cx="1752480" cy="9903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6"/>
            <p:cNvSpPr/>
            <p:nvPr/>
          </p:nvSpPr>
          <p:spPr>
            <a:xfrm>
              <a:off x="4757760" y="2388960"/>
              <a:ext cx="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29"/>
            <p:cNvSpPr/>
            <p:nvPr/>
          </p:nvSpPr>
          <p:spPr>
            <a:xfrm>
              <a:off x="3279600" y="2441520"/>
              <a:ext cx="1503360" cy="31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Cris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situation where U.S. vital/enduring national interests are in danger and that impedes implementation of the national security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spon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f response is required, clear policy objectives and desired end state must be determin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9"/>
            <p:cNvSpPr/>
            <p:nvPr/>
          </p:nvSpPr>
          <p:spPr>
            <a:xfrm>
              <a:off x="3550320" y="17096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38"/>
            <p:cNvSpPr/>
            <p:nvPr/>
          </p:nvSpPr>
          <p:spPr>
            <a:xfrm>
              <a:off x="3511440" y="594360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"/>
          <p:cNvGrpSpPr/>
          <p:nvPr/>
        </p:nvGrpSpPr>
        <p:grpSpPr>
          <a:xfrm>
            <a:off x="1447920" y="1398600"/>
            <a:ext cx="1892160" cy="5503320"/>
            <a:chOff x="1447920" y="1398600"/>
            <a:chExt cx="1892160" cy="5503320"/>
          </a:xfrm>
        </p:grpSpPr>
        <p:sp>
          <p:nvSpPr>
            <p:cNvPr id="233" name="Straight Connector 23"/>
            <p:cNvSpPr/>
            <p:nvPr/>
          </p:nvSpPr>
          <p:spPr>
            <a:xfrm>
              <a:off x="3260880" y="2388960"/>
              <a:ext cx="18720" cy="446904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8"/>
            <p:cNvSpPr/>
            <p:nvPr/>
          </p:nvSpPr>
          <p:spPr>
            <a:xfrm>
              <a:off x="1608120" y="2438280"/>
              <a:ext cx="173196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c 2017 N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ur pilla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tect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American people, the homeland, and the American Way of Lif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mot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Prospe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eserve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ace through Streng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Arial"/>
                  <a:ea typeface="Arial"/>
                </a:rPr>
                <a:t>Advance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erican Influ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TWO VITAL INTERES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tect American Lives and Count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intain world environment in which we can maintain our way of lif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1447920" y="1398600"/>
              <a:ext cx="1752480" cy="990360"/>
            </a:xfrm>
            <a:prstGeom prst="ellipse">
              <a:avLst/>
            </a:prstGeom>
            <a:solidFill>
              <a:srgbClr val="2020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tional Security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"/>
          <p:cNvGrpSpPr/>
          <p:nvPr/>
        </p:nvGrpSpPr>
        <p:grpSpPr>
          <a:xfrm>
            <a:off x="-38160" y="1386000"/>
            <a:ext cx="1752840" cy="5335560"/>
            <a:chOff x="-38160" y="1386000"/>
            <a:chExt cx="1752840" cy="5335560"/>
          </a:xfrm>
        </p:grpSpPr>
        <p:sp>
          <p:nvSpPr>
            <p:cNvPr id="237" name="Oval 20"/>
            <p:cNvSpPr/>
            <p:nvPr/>
          </p:nvSpPr>
          <p:spPr>
            <a:xfrm>
              <a:off x="-38160" y="1386000"/>
              <a:ext cx="1752840" cy="990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22"/>
            <p:cNvSpPr/>
            <p:nvPr/>
          </p:nvSpPr>
          <p:spPr>
            <a:xfrm flipH="1">
              <a:off x="1560960" y="2378160"/>
              <a:ext cx="2880" cy="434340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7"/>
            <p:cNvSpPr/>
            <p:nvPr/>
          </p:nvSpPr>
          <p:spPr>
            <a:xfrm>
              <a:off x="-38160" y="2428920"/>
              <a:ext cx="167688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ot one doc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ollection of ideals, values, and principles found in Declaration of Independence, Constitution, 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Need a National Security Strategy to Secure and Def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UNIQUE TO UNITED ST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___________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"/>
          <p:cNvSpPr/>
          <p:nvPr/>
        </p:nvSpPr>
        <p:spPr>
          <a:xfrm>
            <a:off x="30240" y="1600200"/>
            <a:ext cx="165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Vision for the N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1T03:03:42Z</dcterms:modified>
  <cp:revision>489</cp:revision>
  <dc:subject/>
  <dc:title>Presumptive Problem</dc:title>
</cp:coreProperties>
</file>