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99D3-C98A-4747-BAA8-5B25CABD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353D-2C66-4E58-980B-04CAD888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68F-04DE-4AA2-9247-61BD0343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4376-6D69-4176-97BE-4BDF12D0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FA75-FA77-4BC1-ADC6-0509F6D9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8438-9AE4-48ED-BF02-C530FE4F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B53B-E34F-4378-BC00-6C693D8A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2703-8626-4654-B145-B703CA35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FB00-E7B8-482A-8F69-86B5961B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B3F4-80D0-42E7-9D2E-857AFFDF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105C-3982-4300-90C2-7B690B39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6AF-08DC-41D1-AA41-E4F863A1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A337-579A-4926-B179-53383AAF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E4A0-E4AA-475C-822B-F87AD2AC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924D-74DD-460C-BFF9-EB8600D9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2FF4-D349-4ECD-8F38-F861C995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5C78-9073-423B-B8E8-C2B5F6F2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7EB78-E1C3-428D-AC92-E79EFD3F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18FE6-316B-4E82-833E-DC8762E7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312BD-846A-4F2C-828B-8A7A40AC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BD0AD-3769-450A-9424-01470B31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9F65B-4A2F-4E81-87D4-9749CDD2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8D7-A14B-47D6-8BFB-18E03EBA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FD332-CC84-4099-915B-E7AE91D9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E0B90-E953-4FC0-9650-5DF41C67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32FEA-CE51-49BF-A9A1-95E39EBF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23B9B-40F0-4FB5-9CC0-2CF0D207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E2159-2357-49E1-8EAD-55A45F87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F7ED8-6797-41C6-B4C4-A2116C6D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8B0A5-6DDC-4743-B842-81EC6066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BA6E6-6091-4BBF-AB5A-97E00EB4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9AFDE-24BF-4CC6-BB59-4443E4BE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56164-C427-4598-B3BB-1A4B1CE6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8235-A306-4357-ACC0-2AA757EA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1E1C7-33DC-4D56-A052-42CD2013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E229B-E941-42E8-A7E8-B12E38BF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3A4C3-3D2E-4AAD-9C62-5FFABCC3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58EA8-D1E7-437F-8A13-B4A27817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3D0C1-C2D0-4440-A73A-7C0282C7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B1FE4-2D10-4B20-B815-80BB5E5E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77C1C-06A3-452A-9B48-E56653FE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58531-9CCF-4A6C-97EE-8E4213F8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78DD6-93B5-4116-82D9-38AFBDF1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C37BC-6BD8-4AB9-BC23-4636C136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2B71-A828-4B1D-9AC9-C7B1E066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9F8E9-6E0A-436A-B209-B29A7315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C3C77-8E78-4367-930D-CC6C8B75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1D025-C66D-4FBC-A3B5-B4263397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81D09-749D-48A9-B5E3-CDE6E276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8B4E9-42F6-49E0-BA74-CC5DD01C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E2B07-12FA-4A99-B5F4-E0758DE5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630A2-1D1F-45D8-A9E5-425A7BBA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90701-566F-474F-B07F-49D87372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1B990-A9D8-4F88-8FD0-286490A2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F2E72-7FBD-4B1A-8383-26FBA7B0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6458-B8DC-4D67-899E-210D87A3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B12A6-D4CE-4A30-97B0-938A87A5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1FD-680F-49F8-809E-651927AC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7804-5F6A-42D5-96CB-3992C9DA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C102-FA47-4CA3-837C-1FAB3B5B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E59E-95D4-4CA6-97BE-651EDAAC2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F853-5EAE-438F-85D3-7AFE0D36D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EC65-C479-4D15-91F0-3F2DC85E1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0E96-9C28-4544-B717-FA6EFBDFC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0D60-B6CF-4DC2-A4E0-DCAE676DB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415800" y="7632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elationship Concept: Policy, Strategy, and National (Vital) 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0" y="43344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olicy: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Guidance that is shaped by values and/or desired outcom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2895480" y="433440"/>
            <a:ext cx="2895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ital National Interest: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“Condition if not maintained could substantially affect the security or economic future of the country and its citizens.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5943600" y="433440"/>
            <a:ext cx="3429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rategy: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“The science and art of employing the political, economical, psychological, and military forces of a nation, or group of nations, to achieve adopted policies in peace or war.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6"/>
          <p:cNvGrpSpPr/>
          <p:nvPr/>
        </p:nvGrpSpPr>
        <p:grpSpPr>
          <a:xfrm>
            <a:off x="7391520" y="1398600"/>
            <a:ext cx="1765080" cy="2414160"/>
            <a:chOff x="7391520" y="1398600"/>
            <a:chExt cx="1765080" cy="2414160"/>
          </a:xfrm>
        </p:grpSpPr>
        <p:sp>
          <p:nvSpPr>
            <p:cNvPr id="214" name="Oval 13"/>
            <p:cNvSpPr/>
            <p:nvPr/>
          </p:nvSpPr>
          <p:spPr>
            <a:xfrm>
              <a:off x="7391520" y="1398600"/>
              <a:ext cx="1752480" cy="990360"/>
            </a:xfrm>
            <a:prstGeom prst="ellipse">
              <a:avLst/>
            </a:prstGeom>
            <a:solidFill>
              <a:srgbClr val="fea3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29"/>
            <p:cNvSpPr/>
            <p:nvPr/>
          </p:nvSpPr>
          <p:spPr>
            <a:xfrm>
              <a:off x="7632720" y="2441160"/>
              <a:ext cx="15238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Procedures and Actions on the Ground, e.g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How battles and operations are conduct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irst Respon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30"/>
            <p:cNvSpPr/>
            <p:nvPr/>
          </p:nvSpPr>
          <p:spPr>
            <a:xfrm>
              <a:off x="7516800" y="1425240"/>
              <a:ext cx="1523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actical Country Team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5"/>
          <p:cNvGrpSpPr/>
          <p:nvPr/>
        </p:nvGrpSpPr>
        <p:grpSpPr>
          <a:xfrm>
            <a:off x="5943600" y="1398600"/>
            <a:ext cx="1693800" cy="5459400"/>
            <a:chOff x="5943600" y="1398600"/>
            <a:chExt cx="1693800" cy="5459400"/>
          </a:xfrm>
        </p:grpSpPr>
        <p:sp>
          <p:nvSpPr>
            <p:cNvPr id="218" name="Oval 16"/>
            <p:cNvSpPr/>
            <p:nvPr/>
          </p:nvSpPr>
          <p:spPr>
            <a:xfrm>
              <a:off x="5943600" y="1398600"/>
              <a:ext cx="1676520" cy="990360"/>
            </a:xfrm>
            <a:prstGeom prst="ellipse">
              <a:avLst/>
            </a:prstGeom>
            <a:solidFill>
              <a:srgbClr val="7030a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Straight Connector 24"/>
            <p:cNvSpPr/>
            <p:nvPr/>
          </p:nvSpPr>
          <p:spPr>
            <a:xfrm>
              <a:off x="7626600" y="2388960"/>
              <a:ext cx="10800" cy="446904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28"/>
            <p:cNvSpPr/>
            <p:nvPr/>
          </p:nvSpPr>
          <p:spPr>
            <a:xfrm>
              <a:off x="6189480" y="2441520"/>
              <a:ext cx="1447920" cy="28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A Plan to Integrate Interagency Assets to Implement the Strategy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paring for conflict within a geographic area or other large scope, and creating the opportunities to engage on favorable ter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31"/>
            <p:cNvSpPr/>
            <p:nvPr/>
          </p:nvSpPr>
          <p:spPr>
            <a:xfrm>
              <a:off x="6202440" y="1703160"/>
              <a:ext cx="13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perat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3"/>
          <p:cNvGrpSpPr/>
          <p:nvPr/>
        </p:nvGrpSpPr>
        <p:grpSpPr>
          <a:xfrm>
            <a:off x="4495680" y="1398600"/>
            <a:ext cx="1752840" cy="5459400"/>
            <a:chOff x="4495680" y="1398600"/>
            <a:chExt cx="1752840" cy="5459400"/>
          </a:xfrm>
        </p:grpSpPr>
        <p:sp>
          <p:nvSpPr>
            <p:cNvPr id="223" name="Oval 17"/>
            <p:cNvSpPr/>
            <p:nvPr/>
          </p:nvSpPr>
          <p:spPr>
            <a:xfrm>
              <a:off x="4495680" y="1398600"/>
              <a:ext cx="1752840" cy="99036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traight Connector 25"/>
            <p:cNvSpPr/>
            <p:nvPr/>
          </p:nvSpPr>
          <p:spPr>
            <a:xfrm flipH="1">
              <a:off x="6177240" y="2388960"/>
              <a:ext cx="1440" cy="446904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27"/>
            <p:cNvSpPr/>
            <p:nvPr/>
          </p:nvSpPr>
          <p:spPr>
            <a:xfrm>
              <a:off x="4773240" y="2441520"/>
              <a:ext cx="1362240" cy="30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Application of Resources to Achieve Policy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 prudent idea or set of ideas for employing the instruments of national power in a synchronized and integrated fashion to achieve theater, national, and/or multinational policy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"/>
          <p:cNvGrpSpPr/>
          <p:nvPr/>
        </p:nvGrpSpPr>
        <p:grpSpPr>
          <a:xfrm>
            <a:off x="3048120" y="1398600"/>
            <a:ext cx="1752480" cy="5459400"/>
            <a:chOff x="3048120" y="1398600"/>
            <a:chExt cx="1752480" cy="5459400"/>
          </a:xfrm>
        </p:grpSpPr>
        <p:sp>
          <p:nvSpPr>
            <p:cNvPr id="227" name="Oval 18"/>
            <p:cNvSpPr/>
            <p:nvPr/>
          </p:nvSpPr>
          <p:spPr>
            <a:xfrm>
              <a:off x="3048120" y="1398600"/>
              <a:ext cx="1752480" cy="99036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Straight Connector 26"/>
            <p:cNvSpPr/>
            <p:nvPr/>
          </p:nvSpPr>
          <p:spPr>
            <a:xfrm>
              <a:off x="4757760" y="2388960"/>
              <a:ext cx="0" cy="446904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29"/>
            <p:cNvSpPr/>
            <p:nvPr/>
          </p:nvSpPr>
          <p:spPr>
            <a:xfrm>
              <a:off x="3279600" y="2441520"/>
              <a:ext cx="1503360" cy="31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Crisi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 situation where U.S. vital/enduring national interests are in danger and that impedes implementation of the national security 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Respons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f response is required, clear policy objectives and desired end state must be determin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29"/>
            <p:cNvSpPr/>
            <p:nvPr/>
          </p:nvSpPr>
          <p:spPr>
            <a:xfrm>
              <a:off x="3550320" y="170964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ri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38"/>
            <p:cNvSpPr/>
            <p:nvPr/>
          </p:nvSpPr>
          <p:spPr>
            <a:xfrm>
              <a:off x="3511440" y="5943600"/>
              <a:ext cx="9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"/>
          <p:cNvGrpSpPr/>
          <p:nvPr/>
        </p:nvGrpSpPr>
        <p:grpSpPr>
          <a:xfrm>
            <a:off x="1447920" y="1398600"/>
            <a:ext cx="1892160" cy="5503320"/>
            <a:chOff x="1447920" y="1398600"/>
            <a:chExt cx="1892160" cy="5503320"/>
          </a:xfrm>
        </p:grpSpPr>
        <p:sp>
          <p:nvSpPr>
            <p:cNvPr id="233" name="Straight Connector 23"/>
            <p:cNvSpPr/>
            <p:nvPr/>
          </p:nvSpPr>
          <p:spPr>
            <a:xfrm>
              <a:off x="3260880" y="2388960"/>
              <a:ext cx="18720" cy="446904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28"/>
            <p:cNvSpPr/>
            <p:nvPr/>
          </p:nvSpPr>
          <p:spPr>
            <a:xfrm>
              <a:off x="1608120" y="2438280"/>
              <a:ext cx="1731960" cy="44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00"/>
                  </a:solidFill>
                  <a:latin typeface="Arial"/>
                  <a:ea typeface="Arial"/>
                </a:rPr>
                <a:t>Dec 2017 NS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ur pilla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00"/>
                  </a:solidFill>
                  <a:latin typeface="Arial"/>
                  <a:ea typeface="Arial"/>
                </a:rPr>
                <a:t>Protect 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e American people, the homeland, and the American Way of Lif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00"/>
                  </a:solidFill>
                  <a:latin typeface="Arial"/>
                  <a:ea typeface="Arial"/>
                </a:rPr>
                <a:t>Promote 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American Prosper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1" lang="en-US" sz="1100" spc="-1" strike="noStrike">
                  <a:solidFill>
                    <a:srgbClr val="ffff00"/>
                  </a:solidFill>
                  <a:latin typeface="Arial"/>
                  <a:ea typeface="Arial"/>
                </a:rPr>
                <a:t>Preserve 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eace through Strengt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00"/>
                  </a:solidFill>
                  <a:latin typeface="Arial"/>
                  <a:ea typeface="Arial"/>
                </a:rPr>
                <a:t>Advance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American Influe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TWO VITAL INTERES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tect American Lives and Count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Arial"/>
                  <a:ea typeface="Arial"/>
                </a:rPr>
                <a:t>Maintain world environment in which we can maintain our way of lif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1447920" y="1398600"/>
              <a:ext cx="1752480" cy="990360"/>
            </a:xfrm>
            <a:prstGeom prst="ellipse">
              <a:avLst/>
            </a:prstGeom>
            <a:solidFill>
              <a:srgbClr val="20202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tional Security Strate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2"/>
          <p:cNvGrpSpPr/>
          <p:nvPr/>
        </p:nvGrpSpPr>
        <p:grpSpPr>
          <a:xfrm>
            <a:off x="-38160" y="1386000"/>
            <a:ext cx="1752840" cy="5335560"/>
            <a:chOff x="-38160" y="1386000"/>
            <a:chExt cx="1752840" cy="5335560"/>
          </a:xfrm>
        </p:grpSpPr>
        <p:sp>
          <p:nvSpPr>
            <p:cNvPr id="237" name="Oval 20"/>
            <p:cNvSpPr/>
            <p:nvPr/>
          </p:nvSpPr>
          <p:spPr>
            <a:xfrm>
              <a:off x="-38160" y="1386000"/>
              <a:ext cx="1752840" cy="9903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Straight Connector 22"/>
            <p:cNvSpPr/>
            <p:nvPr/>
          </p:nvSpPr>
          <p:spPr>
            <a:xfrm flipH="1">
              <a:off x="1560960" y="2378160"/>
              <a:ext cx="2880" cy="434340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7"/>
            <p:cNvSpPr/>
            <p:nvPr/>
          </p:nvSpPr>
          <p:spPr>
            <a:xfrm>
              <a:off x="-38160" y="2428920"/>
              <a:ext cx="1676880" cy="37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Not one docu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Collection of ideals, values, and principles found in Declaration of Independence, Constitution, ot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Need a National Security Strategy to Secure and Def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UNIQUE TO UNITED ST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________________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Box 7"/>
          <p:cNvSpPr/>
          <p:nvPr/>
        </p:nvSpPr>
        <p:spPr>
          <a:xfrm>
            <a:off x="30240" y="1600200"/>
            <a:ext cx="165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Vision for the N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31:44Z</dcterms:created>
  <dc:creator>kyates</dc:creator>
  <dc:description/>
  <dc:language>en-US</dc:language>
  <cp:lastModifiedBy>Ed Rowe</cp:lastModifiedBy>
  <dcterms:modified xsi:type="dcterms:W3CDTF">2018-12-01T03:03:42Z</dcterms:modified>
  <cp:revision>489</cp:revision>
  <dc:subject/>
  <dc:title>Presumptive Problem</dc:title>
</cp:coreProperties>
</file>