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E98-F70B-4769-86B2-E159B67C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4AF-9D97-487E-AE41-D226B286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088-4908-4F9B-9BCA-318FB1C9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F38-E9E3-4AC0-B1D2-9B051D0D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5E7-586E-44AA-B7F6-6F5AE2AA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BCE8-8895-44CA-ABFB-C722F8F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6D0-5C1A-45AA-B897-7FCE263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5A12-448F-4984-9072-EA50534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06A-4E46-4CAA-B5A5-4682E76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CC18-FA43-4FEC-86AD-C3A65AC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2DBD-2C4B-43B5-8CBD-E4C6B70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D18-D023-4C6A-BBBF-62A90A15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15C0-A187-4B5B-BE97-1259EED3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A89D-92F8-4886-8E7C-BE58D1F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5BE5-42AA-4ACC-8CA4-F403ACC8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EAE1-2946-48F6-A313-539AF8CF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69E2-2E18-44C4-A6CD-C583E63D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0638-BBBE-4324-AACD-3AB7B19D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8AB3-3F7E-4A1D-ABA8-D2B6C796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44EA-A1C0-45E6-A66A-E6C3CDB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15B4-F448-4CBD-8E7D-B769BB22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EEAA-AFB0-43B5-B021-E1E48540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582-8024-48FA-9022-F75A6C6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05E7-9C07-4B8E-A9C2-33D26659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DDE5-ECE7-4795-A4A3-6D539430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6ACE-0A41-40CB-926F-5A75AE1A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1394-8B6D-4361-A5F5-8DD0D9B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A0F6-56C3-4B86-A983-2A60F387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71BE-3E00-4305-949C-6042C84B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806E-EF82-4D7D-8D79-09AC1491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4308-CB11-4164-B7E4-5622C0E8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40A5-A079-4641-8AC6-9B8B4DEC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60CE-2458-4C5F-9D0B-22759A01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126-D57D-4634-9A5E-A98EFC5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7B19-35CC-4F63-9241-1042B76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C8AB-5775-4D81-B313-9933FCB6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69FF-0E20-4651-9B41-DA4ACBE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FAD3-7B6E-48F9-9EC6-5F76363E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A898-653D-4FE6-99D3-61D06D6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FCD4-5B0F-41F2-A777-066F7DB3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D49B-FA96-4A98-ADA0-347592CC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B1EC-9F46-4502-9594-CCFD59CC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5E2F-863C-4B11-A2AD-C8B44909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AEE6-1FCC-44DE-847E-F1E05C16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13B-CD8E-45CF-BD12-BD07213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E727-5414-4AA6-944B-1F72E34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9EE0-CADC-4CE1-8486-098ECBE4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2AA3-8F6A-436B-87F3-C621B70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23B6-C7B5-4B4E-BA6D-6EF63ED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ECE1-8BA0-4933-8194-7EA18539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9D92-90E3-44C9-9D84-CD8FD91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8AA3-E7A6-4EE5-8D9F-8B548C8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2710-17F4-4AFC-BA69-21AB78D0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0729-C27E-4845-99C0-CE477F4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46B7-FCC2-4069-895B-77587FC1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CF1-F4E7-42B2-A2A1-E894A05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3F49-C7D9-41DC-AA52-73D2D08E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FC0-D862-43B1-9925-2FA3113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D48-BE15-47B6-ABDE-FFB8B3C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EB1-5933-455E-BE69-A40A572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F6AD-33F9-4E25-85C0-DDB2375BA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F6F6-B3E6-4F89-A365-426703DC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27F-E020-4885-B040-7723E654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575-A1AB-438C-8C71-3DFCFDCAF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7176-09F4-4082-B936-E265D1CC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15800" y="763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lationship Concept: Policy, Strategy, and National (Vital)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0" y="43344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olicy: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Guidance that is shaped by values and/or desire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895480" y="433440"/>
            <a:ext cx="2895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tal National Interest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Condition if not maintained could substantially affect the security or economic future of the country and its citizen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943600" y="433440"/>
            <a:ext cx="3429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ategy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The science and art of employing the political, economical, psychological, and military forces of a nation, or group of nations, to achieve adopted policies in peace or war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7391520" y="1398600"/>
            <a:ext cx="1765080" cy="2414160"/>
            <a:chOff x="7391520" y="1398600"/>
            <a:chExt cx="1765080" cy="2414160"/>
          </a:xfrm>
        </p:grpSpPr>
        <p:sp>
          <p:nvSpPr>
            <p:cNvPr id="214" name="Oval 13"/>
            <p:cNvSpPr/>
            <p:nvPr/>
          </p:nvSpPr>
          <p:spPr>
            <a:xfrm>
              <a:off x="7391520" y="1398600"/>
              <a:ext cx="1752480" cy="990360"/>
            </a:xfrm>
            <a:prstGeom prst="ellipse">
              <a:avLst/>
            </a:prstGeom>
            <a:solidFill>
              <a:srgbClr val="fea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29"/>
            <p:cNvSpPr/>
            <p:nvPr/>
          </p:nvSpPr>
          <p:spPr>
            <a:xfrm>
              <a:off x="7632720" y="2441160"/>
              <a:ext cx="1523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cedures and Actions on the Ground, e.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w battles and operations are condu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rst Respon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0"/>
            <p:cNvSpPr/>
            <p:nvPr/>
          </p:nvSpPr>
          <p:spPr>
            <a:xfrm>
              <a:off x="7516800" y="142524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ctical Country Team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5943600" y="1398600"/>
            <a:ext cx="1693800" cy="5459400"/>
            <a:chOff x="5943600" y="1398600"/>
            <a:chExt cx="1693800" cy="5459400"/>
          </a:xfrm>
        </p:grpSpPr>
        <p:sp>
          <p:nvSpPr>
            <p:cNvPr id="218" name="Oval 16"/>
            <p:cNvSpPr/>
            <p:nvPr/>
          </p:nvSpPr>
          <p:spPr>
            <a:xfrm>
              <a:off x="5943600" y="1398600"/>
              <a:ext cx="1676520" cy="99036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4"/>
            <p:cNvSpPr/>
            <p:nvPr/>
          </p:nvSpPr>
          <p:spPr>
            <a:xfrm>
              <a:off x="7626600" y="2388960"/>
              <a:ext cx="1080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8"/>
            <p:cNvSpPr/>
            <p:nvPr/>
          </p:nvSpPr>
          <p:spPr>
            <a:xfrm>
              <a:off x="6189480" y="2441520"/>
              <a:ext cx="1447920" cy="28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 Plan to Integrate Interagency Assets to Implement the Strategy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paring for conflict within a geographic area or other large scope, and creating the opportunities to engage on favorable te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1"/>
            <p:cNvSpPr/>
            <p:nvPr/>
          </p:nvSpPr>
          <p:spPr>
            <a:xfrm>
              <a:off x="6202440" y="170316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per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"/>
          <p:cNvGrpSpPr/>
          <p:nvPr/>
        </p:nvGrpSpPr>
        <p:grpSpPr>
          <a:xfrm>
            <a:off x="4495680" y="1398600"/>
            <a:ext cx="1752840" cy="5459400"/>
            <a:chOff x="4495680" y="1398600"/>
            <a:chExt cx="1752840" cy="5459400"/>
          </a:xfrm>
        </p:grpSpPr>
        <p:sp>
          <p:nvSpPr>
            <p:cNvPr id="223" name="Oval 17"/>
            <p:cNvSpPr/>
            <p:nvPr/>
          </p:nvSpPr>
          <p:spPr>
            <a:xfrm>
              <a:off x="4495680" y="1398600"/>
              <a:ext cx="1752840" cy="990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5"/>
            <p:cNvSpPr/>
            <p:nvPr/>
          </p:nvSpPr>
          <p:spPr>
            <a:xfrm flipH="1">
              <a:off x="6177240" y="2388960"/>
              <a:ext cx="144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4773240" y="2441520"/>
              <a:ext cx="13622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pplication of Resources to Achieve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prudent idea or set of ideas for employing the instruments of national power in a synchronized and integrated fashion to achieve theater, national, and/or multinational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"/>
          <p:cNvGrpSpPr/>
          <p:nvPr/>
        </p:nvGrpSpPr>
        <p:grpSpPr>
          <a:xfrm>
            <a:off x="3048120" y="1398600"/>
            <a:ext cx="1752480" cy="5459400"/>
            <a:chOff x="3048120" y="1398600"/>
            <a:chExt cx="1752480" cy="5459400"/>
          </a:xfrm>
        </p:grpSpPr>
        <p:sp>
          <p:nvSpPr>
            <p:cNvPr id="227" name="Oval 18"/>
            <p:cNvSpPr/>
            <p:nvPr/>
          </p:nvSpPr>
          <p:spPr>
            <a:xfrm>
              <a:off x="3048120" y="1398600"/>
              <a:ext cx="1752480" cy="9903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6"/>
            <p:cNvSpPr/>
            <p:nvPr/>
          </p:nvSpPr>
          <p:spPr>
            <a:xfrm>
              <a:off x="4757760" y="2388960"/>
              <a:ext cx="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29"/>
            <p:cNvSpPr/>
            <p:nvPr/>
          </p:nvSpPr>
          <p:spPr>
            <a:xfrm>
              <a:off x="3279600" y="2441520"/>
              <a:ext cx="1503360" cy="31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Cris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situation where U.S. vital/enduring national interests are in danger and that impedes implementation of the national security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spon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f response is required, clear policy objectives and desired end state must be determin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9"/>
            <p:cNvSpPr/>
            <p:nvPr/>
          </p:nvSpPr>
          <p:spPr>
            <a:xfrm>
              <a:off x="3550320" y="17096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38"/>
            <p:cNvSpPr/>
            <p:nvPr/>
          </p:nvSpPr>
          <p:spPr>
            <a:xfrm>
              <a:off x="3511440" y="594360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"/>
          <p:cNvGrpSpPr/>
          <p:nvPr/>
        </p:nvGrpSpPr>
        <p:grpSpPr>
          <a:xfrm>
            <a:off x="1447920" y="1398600"/>
            <a:ext cx="1892160" cy="5503320"/>
            <a:chOff x="1447920" y="1398600"/>
            <a:chExt cx="1892160" cy="5503320"/>
          </a:xfrm>
        </p:grpSpPr>
        <p:sp>
          <p:nvSpPr>
            <p:cNvPr id="233" name="Straight Connector 23"/>
            <p:cNvSpPr/>
            <p:nvPr/>
          </p:nvSpPr>
          <p:spPr>
            <a:xfrm>
              <a:off x="3260880" y="2388960"/>
              <a:ext cx="1872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8"/>
            <p:cNvSpPr/>
            <p:nvPr/>
          </p:nvSpPr>
          <p:spPr>
            <a:xfrm>
              <a:off x="1608120" y="2438280"/>
              <a:ext cx="173196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c 2017 N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ur pilla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tect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American people, the homeland, and the American Way of Lif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mot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Prospe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eserv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ace through Streng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Advance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Influ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TWO VITAL INTER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tect American Lives and Count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intain world environment in which we can maintain our way of lif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1447920" y="1398600"/>
              <a:ext cx="1752480" cy="990360"/>
            </a:xfrm>
            <a:prstGeom prst="ellipse">
              <a:avLst/>
            </a:prstGeom>
            <a:solidFill>
              <a:srgbClr val="2020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tional Security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"/>
          <p:cNvGrpSpPr/>
          <p:nvPr/>
        </p:nvGrpSpPr>
        <p:grpSpPr>
          <a:xfrm>
            <a:off x="-38160" y="1386000"/>
            <a:ext cx="1752840" cy="5335560"/>
            <a:chOff x="-38160" y="1386000"/>
            <a:chExt cx="1752840" cy="5335560"/>
          </a:xfrm>
        </p:grpSpPr>
        <p:sp>
          <p:nvSpPr>
            <p:cNvPr id="237" name="Oval 20"/>
            <p:cNvSpPr/>
            <p:nvPr/>
          </p:nvSpPr>
          <p:spPr>
            <a:xfrm>
              <a:off x="-38160" y="1386000"/>
              <a:ext cx="1752840" cy="990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22"/>
            <p:cNvSpPr/>
            <p:nvPr/>
          </p:nvSpPr>
          <p:spPr>
            <a:xfrm flipH="1">
              <a:off x="1560960" y="2378160"/>
              <a:ext cx="2880" cy="43434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7"/>
            <p:cNvSpPr/>
            <p:nvPr/>
          </p:nvSpPr>
          <p:spPr>
            <a:xfrm>
              <a:off x="-38160" y="2428920"/>
              <a:ext cx="167688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ot one doc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ollection of ideals, values, and principles found in Declaration of Independence, Constitution, 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eed a National Security Strategy to Secure and Def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UNIQUE TO UNITED ST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"/>
          <p:cNvSpPr/>
          <p:nvPr/>
        </p:nvSpPr>
        <p:spPr>
          <a:xfrm>
            <a:off x="30240" y="1600200"/>
            <a:ext cx="165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Vision for the N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1T03:03:42Z</dcterms:modified>
  <cp:revision>489</cp:revision>
  <dc:subject/>
  <dc:title>Presumptive Problem</dc:title>
</cp:coreProperties>
</file>