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C473-5DB0-419B-BCC1-B7206C9C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1383-2707-4DCC-A01C-0EC6E20D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42F8-A96B-41E4-B836-0C564CFA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16F6-B93C-46FD-B6A6-9A8C0DD6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FD3D-371C-4689-9BEE-EA22E663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683C-B28E-4D8E-862A-0365834D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3F5A-D249-4A72-857E-A70DBD34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C7A4-35BB-4B13-81CA-DD434F03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71B4-E3CC-4D38-868D-327A9B8F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67F4-8CBC-4D9B-8EAD-637412C5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98E6-271E-465A-B5E2-C025644D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3F3F-4D63-4D4B-8B96-9CC88EDE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615B-B605-43B5-B6C8-54BE7D0E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6286-4665-4FD3-ADFB-F489690F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781F-A1BD-47FA-89F9-BB699B39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937A-8CD6-43E6-A999-9F361E65C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175B-2654-4A1F-BC9B-DF5A7F1E5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5C24A-B295-4E67-90C9-597AB2E9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2FDF8-2416-4F1F-8774-8CDE05A6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53773-F44A-4390-B514-BAD2FEDB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73A50-E0AB-43D9-A9D1-604599E3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A5537-4859-4DD2-B750-5096FFE5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906C-43A4-4B47-B5D7-2FA170AD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9A714-D083-4B1A-99B7-52804972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4A907-5966-4176-B8F5-FE01E61A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EFABD-8053-4787-957B-06BBE2E2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657A3-1D3B-4EBF-A621-5C104E03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F39C2-8802-40BF-85F3-7D771066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BEF80-3622-4CCA-9FF1-81D59751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52468-2083-47CE-957F-A579C98D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15280-9171-4856-9284-0A404216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2CB70-1CD1-4763-90D5-4054F894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D602E-F5C6-4248-BA7A-DCA51A91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E912-6682-49F7-AA39-2A713317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997CE-AF3E-43B6-9988-D34FD414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0C471-F7F5-4742-805C-EFFD2D76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E43F2-2F03-4627-AC6C-544B8CD3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3D41A-DE07-44BB-A847-CC17E4BD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837D9-A31B-43B4-B221-F5C951B8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4E43B-6523-42A4-8899-FDCA4B85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92529-A8D7-407F-941E-35D43ED2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7C45B-363C-48A3-85DA-AFCBCD41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C2F8E-EB6B-4939-88F2-10A78F09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C0182-EBDE-480A-8AB4-8B21529D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502F-7894-4885-BDC1-589FD67A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F0683-1758-4108-9DF0-F907DAF3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D4713-C1AB-4887-80D4-6B1F7621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3A6C0-6967-45B0-9E36-1C8E83DF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0BF89-2A33-44A0-A934-E0CB5E12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B25F1-6543-40FA-B375-54EFA2D5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A252B-FCB4-4987-9DAF-B6CDE994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997F7-6275-4FE1-872F-3614D790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0324D-444D-4225-8A30-B2FD7766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139E8-2E36-461C-81DC-C3CCC896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C3D30-B4B0-419D-89B3-3D8E80C35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B61C-CD72-4923-BFB0-14CA4EF6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76E84-F6A9-4617-82C6-9DD48123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7181-4C74-4CD9-91AA-862814CB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0857-628A-49E1-92CE-F7848055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0FA5-1800-4B91-B151-2131C931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CE20-ACA7-434D-948A-EEB4F6BD0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B657-C635-4B55-969A-C05844779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3EAE-9049-4AF3-AE29-B351EBA27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A2D4-4D81-4587-89C7-32E2265D9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D881-E39D-4EF1-AE27-05242FC19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91960" y="1598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Deciding Why and How to Respond – Must Consider: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520" y="1294920"/>
            <a:ext cx="8610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vital/enduring national interest(s) are at risk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are the perceived problems to be resolved 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additional intelligence is needed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Have we identified clear policy objectives and a desired end state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are our engagement options?  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instruments of national power can be used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ich interagency players and assets are required? 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ich other countries have interests in the region?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What is the nature of those interests?  How will they react?  Would they be interested in a coalition?  Will they oppose us?</a:t>
            </a:r>
            <a:endParaRPr b="1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international, national and tactical factors must be considered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Slide Number Placeholder 7"/>
          <p:cNvSpPr/>
          <p:nvPr/>
        </p:nvSpPr>
        <p:spPr>
          <a:xfrm>
            <a:off x="6985080" y="6515280"/>
            <a:ext cx="2133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1B5F-D03F-4D11-BFB4-BF6E20CB64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9:20:18Z</dcterms:created>
  <dc:creator>Jana Rome</dc:creator>
  <dc:description/>
  <dc:language>en-US</dc:language>
  <cp:lastModifiedBy>Ed</cp:lastModifiedBy>
  <dcterms:modified xsi:type="dcterms:W3CDTF">2014-12-11T04:24:04Z</dcterms:modified>
  <cp:revision>131</cp:revision>
  <dc:subject/>
  <dc:title>Slide 1</dc:title>
</cp:coreProperties>
</file>