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C137C-7EA0-495C-95BA-9EB76758A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854880"/>
            <a:ext cx="822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16956-CFB9-4DE6-AD87-A7B8424A1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A2120-A734-4968-A904-4866FB9C1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85488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85488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85488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DC656-A85E-42F0-870C-D05FF6C86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7581E-693B-4E1D-94FA-4DF865377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BF683-F25D-4343-8B7E-1FE8F553F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88E7C-01A9-4D54-AA83-A87AE588D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9DCE3-D841-42C0-9573-DCA6F5F53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B1C80-A83E-4F74-9B71-ACBF0C2EB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04920" y="274680"/>
            <a:ext cx="822960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B736C-889F-496E-A51F-AB7077599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7913C-3235-4543-9667-7DB2F5FD8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F01E2-4870-4F62-936D-783752E10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04A4A-0288-4439-A5B8-6005CA865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854880"/>
            <a:ext cx="822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40C9B-1DCA-4112-804D-C02FA01F1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854880"/>
            <a:ext cx="822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FEB79-4C67-4F54-820B-0EDCD378E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E6DFC-3998-409A-9E1C-EA215F7B1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85488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85488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85488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A16A3-ADCF-48EC-AB39-1C336D026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986502-131B-4DD0-B2EA-83F38B3CE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C32F8F-67A0-4417-AC41-15A0A5D38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031D55-3776-46E2-9331-54C4A5A52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AD08B5-1AC7-457C-A04F-71F2F3244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937C0D-33D0-4740-B3D9-0E4B26A56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EBCCE-41AF-40D9-8617-1FC996480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304920" y="274680"/>
            <a:ext cx="822960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4E447A-35F4-4205-9D19-214134A04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498E37-8CA3-4FE4-9006-7D51538E7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1A5EAA-BD5A-44BB-A570-195B59A0E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854880"/>
            <a:ext cx="822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38CF73-0B39-43CF-880A-DC2712A7E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854880"/>
            <a:ext cx="822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80B5B2-6751-499C-A935-D35AB1979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25E42C-607A-4CAD-9494-489F67757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85488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85488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85488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A1BAEB-D3EF-4928-938E-46D31091E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F4B0FA-92B7-4D58-878F-30781EFF3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6959C9-D32F-4291-8031-6D7D46CC3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2292FE-63D5-4908-B056-1702CA162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EB238-7F74-49C8-A016-E3D5CB743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B1079B-E733-4E1D-AAE4-16F0A68E6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AA67D9-78EA-464F-9FAE-E31C01176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304920" y="274680"/>
            <a:ext cx="822960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FF5234-5950-42D5-8680-7DB19EC07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807FEE-ACEF-4A2C-87C6-920130099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B947EB-399A-4A8E-AED7-37DB5351E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854880"/>
            <a:ext cx="822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84E725-A4B4-48A5-900B-80D868091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854880"/>
            <a:ext cx="822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D21FCB-4F03-4D4C-BB86-E9A74A308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B4A609-6D63-437A-B04A-44DCD4A98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85488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85488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85488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339173-B55B-475A-A905-E3A2CFD7A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48063A-8752-4293-AD98-E88578906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08F99-AEF9-479B-A7B6-5D3B56FF2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F4D4CB-0000-44A0-85C4-0BF31C155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947EC7-04F2-4DAB-B55B-A8E0DE84B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033D61-63A1-459A-BFCB-C0B6E7C80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70F9C6-7696-40E7-9B78-19CBA7A93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304920" y="274680"/>
            <a:ext cx="822960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4E875D-08DE-461B-A638-A1CAA6CD9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99F98D-E747-4CE7-B57F-EBD937342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75C4F7-127B-48F2-B87F-CEA9DE830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854880"/>
            <a:ext cx="822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11193D-EC7F-47C6-B84F-02A1C23F3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854880"/>
            <a:ext cx="822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56F3B6-A132-4B30-91E9-263457F26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CC0259-9386-472C-9377-5E585AE51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04920" y="274680"/>
            <a:ext cx="822960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BB764-078A-4352-808C-D4E78578A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85488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85488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85488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509C22-360C-4A57-A57D-F2B97D698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80EE3-7CC7-4CA6-99CE-EA9CD8299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AD580-5E71-4C1D-9D99-9209248C4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854880"/>
            <a:ext cx="822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A198D-9E5F-4801-9631-086E203F8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236"/>
            </a:gs>
            <a:gs pos="50000">
              <a:srgbClr val="002060"/>
            </a:gs>
            <a:gs pos="100000">
              <a:srgbClr val="00123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1143000"/>
            <a:ext cx="9144000" cy="76320"/>
          </a:xfrm>
          <a:prstGeom prst="rect">
            <a:avLst/>
          </a:prstGeom>
          <a:gradFill rotWithShape="0">
            <a:gsLst>
              <a:gs pos="0">
                <a:srgbClr val="da00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Franklin Gothic Book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a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A2F7F-4FDC-4E4C-BF2E-6CD03D36BF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236"/>
            </a:gs>
            <a:gs pos="50000">
              <a:srgbClr val="002060"/>
            </a:gs>
            <a:gs pos="100000">
              <a:srgbClr val="00123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6"/>
          <p:cNvSpPr/>
          <p:nvPr/>
        </p:nvSpPr>
        <p:spPr>
          <a:xfrm>
            <a:off x="0" y="1143000"/>
            <a:ext cx="9144000" cy="76320"/>
          </a:xfrm>
          <a:prstGeom prst="rect">
            <a:avLst/>
          </a:prstGeom>
          <a:gradFill rotWithShape="0">
            <a:gsLst>
              <a:gs pos="0">
                <a:srgbClr val="da00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Franklin Gothic Book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a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77E1D-8BE5-4A6E-BD1F-8D78AA3855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236"/>
            </a:gs>
            <a:gs pos="50000">
              <a:srgbClr val="002060"/>
            </a:gs>
            <a:gs pos="100000">
              <a:srgbClr val="00123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6"/>
          <p:cNvSpPr/>
          <p:nvPr/>
        </p:nvSpPr>
        <p:spPr>
          <a:xfrm>
            <a:off x="0" y="1143000"/>
            <a:ext cx="9144000" cy="76320"/>
          </a:xfrm>
          <a:prstGeom prst="rect">
            <a:avLst/>
          </a:prstGeom>
          <a:gradFill rotWithShape="0">
            <a:gsLst>
              <a:gs pos="0">
                <a:srgbClr val="da00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Franklin Gothic Book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a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7CD5E-6C6D-4558-94E9-CF84BCEAFC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236"/>
            </a:gs>
            <a:gs pos="50000">
              <a:srgbClr val="002060"/>
            </a:gs>
            <a:gs pos="100000">
              <a:srgbClr val="00123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6"/>
          <p:cNvSpPr/>
          <p:nvPr/>
        </p:nvSpPr>
        <p:spPr>
          <a:xfrm>
            <a:off x="0" y="1143000"/>
            <a:ext cx="9144000" cy="76320"/>
          </a:xfrm>
          <a:prstGeom prst="rect">
            <a:avLst/>
          </a:prstGeom>
          <a:gradFill rotWithShape="0">
            <a:gsLst>
              <a:gs pos="0">
                <a:srgbClr val="da00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Franklin Gothic Book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a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6CC7D-AD03-4810-A8D4-42FA6DA387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236"/>
            </a:gs>
            <a:gs pos="50000">
              <a:srgbClr val="002060"/>
            </a:gs>
            <a:gs pos="100000">
              <a:srgbClr val="00123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6"/>
          <p:cNvSpPr/>
          <p:nvPr/>
        </p:nvSpPr>
        <p:spPr>
          <a:xfrm>
            <a:off x="0" y="1143000"/>
            <a:ext cx="9144000" cy="76320"/>
          </a:xfrm>
          <a:prstGeom prst="rect">
            <a:avLst/>
          </a:prstGeom>
          <a:gradFill rotWithShape="0">
            <a:gsLst>
              <a:gs pos="0">
                <a:srgbClr val="da00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Franklin Gothic Book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a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BBE8B-A063-47BA-8ACF-2E736C06E1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236"/>
            </a:gs>
            <a:gs pos="50000">
              <a:srgbClr val="002060"/>
            </a:gs>
            <a:gs pos="100000">
              <a:srgbClr val="00123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91960" y="15984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Franklin Gothic Book"/>
              </a:rPr>
              <a:t>Deciding Why and How to Respond – Must Consider:</a:t>
            </a: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380520" y="1294920"/>
            <a:ext cx="861084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256680" indent="-256680">
              <a:spcBef>
                <a:spcPts val="1199"/>
              </a:spcBef>
              <a:buClr>
                <a:srgbClr val="da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Franklin Gothic Book"/>
              </a:rPr>
              <a:t>What vital/enduring national interest(s) are at risk?</a:t>
            </a:r>
            <a:endParaRPr b="1" lang="en-US" sz="2200" spc="-1" strike="noStrike">
              <a:solidFill>
                <a:srgbClr val="ffffff"/>
              </a:solidFill>
              <a:latin typeface="Franklin Gothic Book"/>
            </a:endParaRPr>
          </a:p>
          <a:p>
            <a:pPr marL="256680" indent="-256680">
              <a:spcBef>
                <a:spcPts val="1199"/>
              </a:spcBef>
              <a:buClr>
                <a:srgbClr val="da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Franklin Gothic Book"/>
              </a:rPr>
              <a:t>What are the perceived problems to be resolved </a:t>
            </a:r>
            <a:endParaRPr b="1" lang="en-US" sz="2200" spc="-1" strike="noStrike">
              <a:solidFill>
                <a:srgbClr val="ffffff"/>
              </a:solidFill>
              <a:latin typeface="Franklin Gothic Book"/>
            </a:endParaRPr>
          </a:p>
          <a:p>
            <a:pPr marL="256680" indent="-256680">
              <a:spcBef>
                <a:spcPts val="1199"/>
              </a:spcBef>
              <a:buClr>
                <a:srgbClr val="da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Franklin Gothic Book"/>
              </a:rPr>
              <a:t>What additional intelligence is needed?</a:t>
            </a:r>
            <a:endParaRPr b="1" lang="en-US" sz="2200" spc="-1" strike="noStrike">
              <a:solidFill>
                <a:srgbClr val="ffffff"/>
              </a:solidFill>
              <a:latin typeface="Franklin Gothic Book"/>
            </a:endParaRPr>
          </a:p>
          <a:p>
            <a:pPr marL="256680" indent="-256680">
              <a:spcBef>
                <a:spcPts val="1199"/>
              </a:spcBef>
              <a:buClr>
                <a:srgbClr val="da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Franklin Gothic Book"/>
              </a:rPr>
              <a:t>Have we identified clear policy objectives and a desired end state?</a:t>
            </a:r>
            <a:endParaRPr b="1" lang="en-US" sz="2200" spc="-1" strike="noStrike">
              <a:solidFill>
                <a:srgbClr val="ffffff"/>
              </a:solidFill>
              <a:latin typeface="Franklin Gothic Book"/>
            </a:endParaRPr>
          </a:p>
          <a:p>
            <a:pPr marL="256680" indent="-256680">
              <a:spcBef>
                <a:spcPts val="1199"/>
              </a:spcBef>
              <a:buClr>
                <a:srgbClr val="da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Franklin Gothic Book"/>
              </a:rPr>
              <a:t>What are our engagement options?  </a:t>
            </a:r>
            <a:endParaRPr b="1" lang="en-US" sz="2200" spc="-1" strike="noStrike">
              <a:solidFill>
                <a:srgbClr val="ffffff"/>
              </a:solidFill>
              <a:latin typeface="Franklin Gothic Book"/>
            </a:endParaRPr>
          </a:p>
          <a:p>
            <a:pPr marL="256680" indent="-256680">
              <a:spcBef>
                <a:spcPts val="1199"/>
              </a:spcBef>
              <a:buClr>
                <a:srgbClr val="da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Franklin Gothic Book"/>
              </a:rPr>
              <a:t>What instruments of national power can be used?</a:t>
            </a:r>
            <a:endParaRPr b="1" lang="en-US" sz="2200" spc="-1" strike="noStrike">
              <a:solidFill>
                <a:srgbClr val="ffffff"/>
              </a:solidFill>
              <a:latin typeface="Franklin Gothic Book"/>
            </a:endParaRPr>
          </a:p>
          <a:p>
            <a:pPr marL="256680" indent="-256680">
              <a:spcBef>
                <a:spcPts val="1199"/>
              </a:spcBef>
              <a:buClr>
                <a:srgbClr val="da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Franklin Gothic Book"/>
              </a:rPr>
              <a:t>Which interagency players and assets are required? </a:t>
            </a:r>
            <a:endParaRPr b="1" lang="en-US" sz="2200" spc="-1" strike="noStrike">
              <a:solidFill>
                <a:srgbClr val="ffffff"/>
              </a:solidFill>
              <a:latin typeface="Franklin Gothic Book"/>
            </a:endParaRPr>
          </a:p>
          <a:p>
            <a:pPr marL="256680" indent="-256680">
              <a:spcBef>
                <a:spcPts val="1199"/>
              </a:spcBef>
              <a:buClr>
                <a:srgbClr val="da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Franklin Gothic Book"/>
              </a:rPr>
              <a:t>Which other countries have interests in the region?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Franklin Gothic Book"/>
              </a:rPr>
              <a:t>What is the nature of those interests?  How will they react?  Would they be interested in a coalition?  Will they oppose us?</a:t>
            </a:r>
            <a:endParaRPr b="1" lang="en-US" sz="2000" spc="-1" strike="noStrike">
              <a:solidFill>
                <a:srgbClr val="ffffff"/>
              </a:solidFill>
              <a:latin typeface="Franklin Gothic Book"/>
            </a:endParaRPr>
          </a:p>
          <a:p>
            <a:pPr marL="256680" indent="-256680">
              <a:spcBef>
                <a:spcPts val="1199"/>
              </a:spcBef>
              <a:buClr>
                <a:srgbClr val="da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Franklin Gothic Book"/>
              </a:rPr>
              <a:t>What international, national and tactical factors must be considered?</a:t>
            </a:r>
            <a:endParaRPr b="1" lang="en-US" sz="2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2" name="Slide Number Placeholder 7"/>
          <p:cNvSpPr/>
          <p:nvPr/>
        </p:nvSpPr>
        <p:spPr>
          <a:xfrm>
            <a:off x="6985080" y="6515280"/>
            <a:ext cx="21333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BB050-3B30-41CC-AD0F-6EFE4E03BC7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5T19:20:18Z</dcterms:created>
  <dc:creator>Jana Rome</dc:creator>
  <dc:description/>
  <dc:language>en-US</dc:language>
  <cp:lastModifiedBy>Ed</cp:lastModifiedBy>
  <dcterms:modified xsi:type="dcterms:W3CDTF">2014-12-11T04:24:04Z</dcterms:modified>
  <cp:revision>131</cp:revision>
  <dc:subject/>
  <dc:title>Slide 1</dc:title>
</cp:coreProperties>
</file>