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6F0D-D606-4721-8426-963C00A9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1F9A-10D4-4322-8F19-BC404190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5D5F-7E15-42FE-A435-9E9055F6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2885-65C8-49E4-8888-92A84811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6273-006D-4837-B306-EBC47774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1C55-BACE-4A52-8A13-33E30745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0FB8-DCD8-4381-B099-F05E7541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B633-3D9B-4611-A2DD-7DC51895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3EF9-4C33-4149-B495-F0BAEF41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5340-4505-46B2-98C2-78BC6A90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B526-BE8F-41BB-89E7-A97E4F66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A143-9CC9-4032-A18A-3640846A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AE4B-E29B-4CD7-8A7B-2C73BC7A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6A2A-4A8A-4478-83EF-56E36AD7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7238-F312-47A8-968A-36D51E4C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B391-D59D-4D0E-9341-D3A452FD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CA81-2154-4F31-A17E-D189F3BB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E4964-4816-4FB1-9E46-E03F3CEA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9EB81-1A63-40DD-B32E-BBBB89F9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A4D28-28D6-48DE-9561-3B802013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BA73F-8661-41E6-9C30-7F05FE6D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04EBE-047E-4D60-8A2B-D25A07B5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E8C3-7657-40FE-8078-852764E0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1C294-17E6-437B-BEC9-D53F7912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41F45-0AD9-478E-BF11-50AA4F64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5436B-8890-47BD-A004-0BE95549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434A0-5524-454F-964A-99515D0C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3A92D-6A0E-43B9-A2CD-98A1AE29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C9C17-88C0-4FED-8CBA-E4E9E300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56A9F-82CD-425D-BB0A-24D9E4FEC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56538-D5A1-4659-9A94-065B0E7E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10F54-F9EF-471E-A5C9-F36ADB20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A0E0A-8F31-4E6C-9B3F-21CA2257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2026-C225-4233-BCCC-8A57894F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2DEDB-6A71-4496-9772-ADFAC9E6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A3AAC-D912-411F-86E7-70A25D20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F8B10-391D-4795-B19B-1283281C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AA7F8-07C3-4B46-B3EF-334B31BA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43804-C7F4-4085-A8BA-E88E888A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AF597-4E12-4464-9E99-144B7628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38C37-7A0F-494D-9EFC-C3841823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86F51-5809-4221-B4FB-18FB8120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523B4-32DD-4277-804E-454610C0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C89D7-A7C8-4DBD-BC5E-3653DCA3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60D8-2061-4621-9174-37D54B77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4A6C2-2BF9-46EA-AAB4-C125B6A3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06D38-03F7-4D07-8514-BAB7EDFD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8C9E5-3CEC-494B-82E0-74F5C177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A71FE-7F14-43D2-820A-1DA1F22E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4FDB5-E387-4A44-92C0-0BE385A6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E6F94-0CF3-4281-8EEF-9591623C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B9E5C-FC78-473A-B1B6-25121ED5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02914-22C9-4312-9844-388B32EB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5B7A7-2B8A-4D00-A13A-69F0966B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1F975-3719-4522-BD99-88D3E656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D3B4-69F1-4CFB-AEAF-1A53CF7A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4059A-F4E4-460A-9050-B70BA32B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386-BCB3-4DDC-ACAF-C23B19C8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18D8-3179-4217-B94A-B856DB9D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1C41-7511-4F2A-AC0E-09EAEB1F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95E2-9B12-4267-B003-42E215D18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08CC-5CF6-466A-840D-93E78DF3F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A8FA-2778-4E1E-9FDD-62C6A3016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D3F6-4FEE-435B-950B-CAE878FAF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7CE4-8B2F-4092-9A54-86378E16E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ranklin Gothic Book"/>
              </a:rPr>
              <a:t>Response Options  (</a:t>
            </a:r>
            <a:r>
              <a:rPr b="0" lang="en-US" sz="3200" spc="-1" strike="noStrike">
                <a:solidFill>
                  <a:srgbClr val="ffff00"/>
                </a:solidFill>
                <a:latin typeface="Franklin Gothic Book"/>
              </a:rPr>
              <a:t>Must be Coordinated Interagency and International Approach)</a:t>
            </a:r>
            <a:endParaRPr b="1" lang="en-US" sz="32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Diplomatic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De Marche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Treaties/Agreements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312120" indent="-312120"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Economic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Aid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Trade Agreement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anctions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Freeze/seize funds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312120" indent="-312120"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Security Assistance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Training 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Equipment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marL="312120" indent="-312120"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Military</a:t>
            </a:r>
            <a:endParaRPr b="1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Peacekeeping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Advisors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Coalition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76080" indent="-259920"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War (Air/Land/Sea Forces)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1055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Franklin Gothic Book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iplomacy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Franklin Gothic Book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ntelligence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Franklin Gothic Book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ilitary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Franklin Gothic Book"/>
              </a:rPr>
              <a:t>E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onomic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Franklin Gothic Book"/>
              </a:rPr>
              <a:t>F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inancia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Franklin Gothic Book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nformation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Franklin Gothic Book"/>
              </a:rPr>
              <a:t>L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ega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3" name="Slide Number Placeholder 7"/>
          <p:cNvSpPr/>
          <p:nvPr/>
        </p:nvSpPr>
        <p:spPr>
          <a:xfrm>
            <a:off x="6985080" y="6515280"/>
            <a:ext cx="2133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599A-CAD8-4796-AC5A-41BABE6131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9:20:18Z</dcterms:created>
  <dc:creator>Jana Rome</dc:creator>
  <dc:description/>
  <dc:language>en-US</dc:language>
  <cp:lastModifiedBy>Ed</cp:lastModifiedBy>
  <dcterms:modified xsi:type="dcterms:W3CDTF">2014-12-11T04:25:59Z</dcterms:modified>
  <cp:revision>131</cp:revision>
  <dc:subject/>
  <dc:title>Slide 1</dc:title>
</cp:coreProperties>
</file>