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098-5B83-4469-9519-3C23A43D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70F-C5B3-48CB-B9DC-A94009B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2F5-1383-4C86-A20C-A26DC158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BEB-300D-417A-AC6E-A7E56940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D761-D997-4FF8-82EB-1EEC5EA9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CF15-4E3E-4ED6-B134-2FA97C9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948-AA00-4AFC-A04C-520DE49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9FC-8EC9-494E-8C71-2F16924E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CCA-DC07-47DA-81F2-2D28B18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D85B-EF2A-468D-8872-8A14E5D7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A3B-B9D6-459A-BD9C-2586DAF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82D-9F73-487E-96AD-66B2CD1E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BAD6-60C3-42FD-9026-B0B3241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C958-A987-4BEC-AC65-45FD11B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291B-7989-43E0-9A9A-E99B224D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5000-D5FC-42FF-B3EA-6964105C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93D6-F6DF-47FC-A096-6E4EA37F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2AF0-7E5A-4217-8544-896F42CF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73EA-960B-49F5-9B2E-391D134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E5E8-CDB6-49CA-B266-A7A142EA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CD32-47BC-4E32-B3A1-5231AA3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9A69-8BBA-4208-8B64-6BDB6377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BEE-B98E-49CE-BC11-4E5F952F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C220-24E3-4C30-A211-615F953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2196-6C63-4183-A6FF-928A9E8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338C-AFD2-49C7-AE0C-9106509E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8341-20C7-4B91-9EC5-26225EF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9AFB-DC32-485E-9CEB-D7A167AA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DF72-FC94-46FD-A9EF-C8BC58CB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4385-EB14-4ECF-AB2A-AD4E22BE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78A6A-00EB-4D00-9E61-E5F31258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57A5-685B-4A31-B926-3C5E6C42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6586-0738-41B7-8DBF-45F3CC07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D25-55D3-4AB3-8200-1ECCEF7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BE9D-9AAC-4F4F-AB7A-E98BDF6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9EDD-30AD-4624-A448-8B4F5958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5BE9-5756-42F1-9C6E-8FEA6F4D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F1A3-7E02-4B99-A736-F30094D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AD15-6D1D-4495-9305-5AC434C3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DCC5-1A45-4609-B61E-23E0F00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F3A7-ED89-489F-97F1-ADF6F30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92A4-23A1-41F6-8BDE-25DE140A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BE75-2202-4F2E-9C49-ED989081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7D7F-4470-4CAF-AE3F-55584CD3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A87-6FA3-4213-A5D3-F07E016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4481-C8E4-4F33-9A56-07CF2A04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15CD-0358-485E-A87C-53B5C1C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17D8-418F-438D-9381-CCD2AA2D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FD36-AE7C-4B34-BCF8-0D66FBDB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0F06-ADE4-49A8-833C-1C03A21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7E30-061C-4C7B-B3EA-DCCF6BF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ADF1-81A1-4420-837C-884D2B8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648F-6CA1-47AF-AE8A-EA25D7B6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5133C-C61C-4A42-92A9-E9E18781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530F-A16A-4CFA-B59D-EC13B0A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866-BC00-4067-9FF4-DB22737C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FA47-889C-4CEB-AC7A-BDE16B0F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81B-638D-41CF-B07C-0C5B0E9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14C-B824-4AEC-909F-086D6B8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054-3D54-4E09-AF67-65148C0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5269-D76C-420E-BB77-703394AB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C9FD-A115-4689-9224-89B2E82A6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B146-EC66-420F-BA2A-68905A98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E89C-ACF7-4400-8910-D875466B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25EA-DE11-4F09-891E-CA9CA342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ranklin Gothic Book"/>
              </a:rPr>
              <a:t>Response Options  (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Must be Coordinated Interagency and International Approach)</a:t>
            </a:r>
            <a:endParaRPr b="1" lang="en-US" sz="32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Diplomat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De March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eaties/Agreement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Econom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i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de Agree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anction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reeze/seize fund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ecurity Assistanc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Militar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Peacekeeping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dvisor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oalit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ar (Air/Land/Sea Forces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1055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plomac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telligence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litar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onomic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nanci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formation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eg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8B6-43B0-4165-B56B-A87599A50B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5:59Z</dcterms:modified>
  <cp:revision>131</cp:revision>
  <dc:subject/>
  <dc:title>Slide 1</dc:title>
</cp:coreProperties>
</file>