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FA7E-F923-4326-99A0-91A4380B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D512-BDF4-4918-836D-16ED3321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B370-A4B2-479F-9D9F-00AC61C0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69AD-2C11-4A00-9388-32BC2324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27E5-4365-4051-8F3C-35849A27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B19A-AE54-4462-854E-BBBE9651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AA85-462D-432B-A0FD-DA62E1C8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3F89-0BD2-4963-9DCB-CF3080B6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0BB6-0DE2-476B-A3CB-CD81D8D2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E7D0-17D6-418D-80D1-CA5B6C3E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D77E-9368-41F1-8538-BAF7DE6E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CC9B-5C93-4FC6-A5F5-4FF93D77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064A-9F8C-4831-B9A6-780A8142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B487-4C8A-44D3-A182-FBA23E45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BBD8-0B48-4827-AD4F-7EF0DA6F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C371-34A4-4985-B868-27C79B5D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EEC1-EA33-4070-BD7E-7CEAD63A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55C2F-2C6E-4196-BAE5-D21189E8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90F88-1787-4DCB-AC5C-1BCAAEC0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78A4B-667A-4D46-8F56-56344035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B2DF7-12FB-461D-B782-66BB3215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3DFC2-CDC7-40D6-B88D-7D0A299F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A462-D138-4FE5-A1B8-EE9793C5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70BBD-377B-4A6C-98B4-0EBA1584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876A1-EF09-4A97-9300-16A34C32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40C06-D341-4561-AADD-54D621F3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9393F-BF1C-469E-A24C-22AC96BB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55872-3372-4AD8-B8B8-7E737844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A01EA-447C-41F4-BF01-BD355447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39A3B-F52A-4888-B8CF-59F3451E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0F03A-D487-4D49-87C8-C41CF183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D32E6-8A35-42D5-B305-8BCC475E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9106A-2E66-4C8C-AF6A-02131144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7C53-9749-414F-B988-9F1F8D45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E85A8-9700-444B-B10D-38F08CFC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B7A98-A246-4E07-BDEA-442B1E30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B7464-FA37-4EB0-AECE-151EBD88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B2101-DA7D-4B42-ABAB-847A8D55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F2CD7-3458-4884-B5B7-866D2688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BB311-3183-4023-92EC-D96DC58A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1DE8D-52A8-4D90-BC3C-5766E28E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59BE2-FB20-4FA8-836B-97366A54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A6366-6A9F-4CAA-B6D8-BC0B4485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E15DF-955B-4D99-BF04-4B7157B9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DDBB-647E-4E1C-9AB8-9DAA1111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40101-5B2B-4CFC-B7CE-2BDDD790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454E8-8B0A-4C45-B5C1-AD5C30D8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D92AD-5BA2-4019-B6F4-46ABD167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12F25-0F9D-4212-B970-CE5F41B5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BCE13-651A-4C3F-A2DB-8351D0C2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EBB78-65AA-446E-BB55-CD0CB9FF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E8C3E-07EC-44DB-B67F-4FE11F48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9344C-6C39-4359-900A-A67E15EB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B22A3-27F2-466A-AFED-EEBB9F0F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0A13E-9D08-4866-B01D-306236CE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27FF-4D99-4B85-B9AF-8712C481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47F70-2F2D-45EF-B715-53509042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766C-B49C-4F3C-AD33-A2D2E819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96C7-099E-4C3A-8E9E-DBB26962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E3EA-EDF2-498E-A325-3082B85A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7FCB-514A-4658-BF92-0E28AA17A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0C8B-DE74-42A2-87A5-0BCE325EF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56E2-CD09-458B-82CE-226FD73BE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0737-3CB1-4A04-A9FB-0338891C2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95DB-B1DA-4731-8312-BE177B804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ranklin Gothic Book"/>
              </a:rPr>
              <a:t>Response Options  (</a:t>
            </a:r>
            <a:r>
              <a:rPr b="0" lang="en-US" sz="3200" spc="-1" strike="noStrike">
                <a:solidFill>
                  <a:srgbClr val="ffff00"/>
                </a:solidFill>
                <a:latin typeface="Franklin Gothic Book"/>
              </a:rPr>
              <a:t>Must be Coordinated Interagency and International Approach)</a:t>
            </a:r>
            <a:endParaRPr b="1" lang="en-US" sz="32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Diplomatic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De Marche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Treaties/Agreements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312120" indent="-312120"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Economic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Aid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Trade Agreement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anctions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Freeze/seize funds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312120" indent="-312120"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Security Assistanc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Training 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Equipment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312120" indent="-312120"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Military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Peacekeeping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Advisors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Coalition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War (Air/Land/Sea Forces)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1055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Franklin Gothic Book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iplomacy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Franklin Gothic Book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ntelligence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Franklin Gothic Book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ilitary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Franklin Gothic Book"/>
              </a:rPr>
              <a:t>E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onomic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Franklin Gothic Book"/>
              </a:rPr>
              <a:t>F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inancia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Franklin Gothic Book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nformation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Franklin Gothic Book"/>
              </a:rPr>
              <a:t>L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ega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3" name="Slide Number Placeholder 7"/>
          <p:cNvSpPr/>
          <p:nvPr/>
        </p:nvSpPr>
        <p:spPr>
          <a:xfrm>
            <a:off x="6985080" y="6515280"/>
            <a:ext cx="2133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16E8-588E-4591-A9C3-1C2B987614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9:20:18Z</dcterms:created>
  <dc:creator>Jana Rome</dc:creator>
  <dc:description/>
  <dc:language>en-US</dc:language>
  <cp:lastModifiedBy>Ed</cp:lastModifiedBy>
  <dcterms:modified xsi:type="dcterms:W3CDTF">2014-12-11T04:25:59Z</dcterms:modified>
  <cp:revision>131</cp:revision>
  <dc:subject/>
  <dc:title>Slide 1</dc:title>
</cp:coreProperties>
</file>