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35B-DAE6-492E-9BB1-857A8CE3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096-3299-4519-823A-8C2E7537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095-3674-40F5-970B-7D7202AA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67C-0F13-47B4-9A10-8737671D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ACF-9B67-408B-92B2-493CF0F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2FAF-7A0C-46AE-BBC1-A86B654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CB2-DC5C-43FA-B0C2-6F1A716F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0AEA-53CA-4DC5-9509-EB6D0BB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DE0-7A09-47E2-AC20-AD527092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4A11-60A4-4FC6-86C2-DF224271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4595-A41B-4397-9878-C0D1FF9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7A2-6150-4564-9A55-21EF97C7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0BE3-CBFA-4C2F-ABF1-939DEF3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D076-CFE1-4F72-8CFF-523A131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C8A-B94D-46B1-8B09-78A4B565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2D08-87F6-46AD-8477-A75C263D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4D0B-1B71-46F3-AF90-7C088102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9934-A977-4F0F-A2EB-9B32ED82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21B9-43DB-490D-970E-E1EAC187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93D0-FBB4-476A-A7A1-48E7FBA5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FA7B-00BE-4C4F-8C9A-E2E7580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91C8-B60B-4FF5-8E03-6CD65A2E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7E9-ADE9-4142-91D7-1D81F6F6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D1CE-0308-4223-AFA4-7CEE22C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DA78-27A8-4D7E-8EE4-4BF317E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BFDF-AE01-491D-B11D-BFF987B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F33B-68FC-4AEE-9609-FF7DD27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713B-D73E-4ABB-ADAC-03396E53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45A8-6F1A-4DCC-80E5-9330F9A4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0D57-28C5-4F4E-BA0D-A066ECA1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7003-BF25-4772-B754-D2B14A40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C915-A8EA-4E94-8327-87643179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CE1F-E8DC-4F9E-B106-D3C2A67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277-404A-4053-B864-2C6D55B4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F27F-0BFD-4A88-9987-5C002E3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F276-14A3-4502-B0BA-522DE64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A528-0E54-4118-91C7-A19C830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F0FC-ED28-4FD3-8277-F48490E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3E5B-493E-4F78-B50D-0A3EE71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FE6F-1BE3-43FC-A199-3AC7C68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DED1-BBBD-4FB0-98F6-E3E77E30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422A-45C6-4609-ABE8-F7113269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F7FB-9CD4-4928-B242-B8C6B608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F063-1580-48F0-B076-EC0E6AA4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710-DFBD-43E9-AD6F-3630AF45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9024-446B-40F3-B2FB-B98BA627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BFA0-B9B5-4F52-80FC-64B46C9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90A6-597B-4436-B014-D9479DEE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4B4F-3E25-451B-87F3-480C16B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B083-3B30-40FD-9E0F-092DCFB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2745-B021-4841-96FF-32E9AD3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B77B-32D8-407A-8D80-9848808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7528-06F8-4399-A4B9-2911755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8391-B219-4BE6-8343-B87BB42B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3C41-4084-4554-A70C-94390CBE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01C-CBCD-44F3-9E2F-534C33B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8109-A445-4FF4-87E4-58BE33E1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519-E629-4B23-8530-5A6D94BE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A57-3F79-4CEA-832D-31A0CBD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8D2-8FD8-46EB-8595-60320B3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907-E0AB-4790-84D1-C2CCBD3D8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6DE9-AFD3-4CA0-85F8-C940E076A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C517-EA81-435F-9E11-8BEC2A59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FA8E-34EF-47E8-B4F1-A037801A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F90-5BFF-45FC-AD76-247041F4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ranklin Gothic Book"/>
              </a:rPr>
              <a:t>Response Options  (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Must be Coordinated Interagency and International Approach)</a:t>
            </a:r>
            <a:endParaRPr b="1" lang="en-US" sz="32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Diplomat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De March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eaties/Agreement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Econom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i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de Agree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anction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reeze/seize fund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ecurity Assistanc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Militar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Peacekeeping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dvisor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oalit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ar (Air/Land/Sea Forces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1055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plomac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telligence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litar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onomic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nanci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formation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eg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16B-1195-4904-8AED-9BAF1F2F68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5:59Z</dcterms:modified>
  <cp:revision>131</cp:revision>
  <dc:subject/>
  <dc:title>Slide 1</dc:title>
</cp:coreProperties>
</file>