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9484-EC3F-433E-BB48-284D27145E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2A30-588D-4C4B-9174-8EF3BF6C94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C61C-430B-403B-98D0-294E479E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DF82-FCDC-4596-8CB1-A6A43113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410CC3-F2B6-42D6-919D-C5BD5839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5C0F15-1203-4414-8A98-3929D6F0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FEC962-DB65-400B-ADFE-4EB5A25E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2C696F-D3EC-4C3A-853D-C5A5CD54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975964-A335-40AB-9A93-98C834C0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5EF619-AC54-4D70-87E9-81D2A61B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E2C75C-D002-43BA-912B-D7852A30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F1A733-958B-4FF3-B345-EB84BCE8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745CEF-E31D-4012-A0B6-2B5077DE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1BD173-A365-4AE8-AD2E-1764E8AB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68EF-E3EC-4F52-8F29-5E2B1AA8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9E27A8-7920-4702-9EAE-A96EC054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032BBB-39EC-4BB5-BAA4-7E44D8EE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B58E41-A9A7-46BD-AD7C-2D7EC325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A09B0E-5A8E-472D-A947-50B0D34B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3920C6-D218-46D5-A018-C10C61FA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4BC0CD-F778-4C38-8471-FA679F81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29FFE0-8E78-407D-9449-3E50C5D3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EA6328-50DE-4108-9220-D0593EC2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EB68DD-BF80-4AD2-9ACC-4B5AD764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09F9B0-A042-4685-9B8D-2F455BE8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DB8C-ABF1-46E9-AE11-FB112C58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721CE7-C02C-4AA5-838C-B5DE8AC7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5DD529-CD11-4DA0-B6F1-FFB4174E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4D5E04-EA23-4C7E-A799-74D6C96E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295D10-72ED-4A4F-9ABA-37CC99CE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FCAE7D-9132-4DBF-8D35-0FC7D822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CA929B-80BF-44C6-8B41-B24C9D29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AB4DEF-DE26-41E9-A175-01981357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505F6D-8F17-417F-ABA3-8E307A42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88CEE7-DC79-4373-8EE4-DB41C96E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0130DB-AF1B-4502-A949-67D0BA5A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37BB3-898C-4E0F-8A2D-8A26AD6B56A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01A027-F82F-42DA-81E7-1682B0DF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240F2E-1346-46F8-8FAE-C1C07242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C0F0AF-2407-4FC0-A8EB-20E8D349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03EB87-B148-44DA-8A18-9366AEE2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524349-8891-45BF-928F-8A6510CC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70E900-1376-4F5C-A09B-C9772EE9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3C3F11-6F9E-43C8-9560-348FB990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F55C1D-042B-4129-87AD-6F7C5EC9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4EBCA1-9DFA-4AD3-B0DF-5418D29A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1C48B3-F658-472C-BAD2-92BD2365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792D7-9E77-45DF-8D5D-4212A68B1DC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CA8739-2D59-4262-9A50-4DC3C265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D6ED8C-C1DF-4B6B-8B03-20FC2662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606BE1-8AD5-4729-8153-BAED109B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5D94F6-6B86-4188-9814-C644E3CC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70B1D9-C269-4C52-B895-86DD49B0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90C9F6-7F3F-4226-B804-43AC228E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8BB6FC-E540-4A89-A937-5C948A57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721076-4E66-4283-B124-5D73D712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92B228-ADBF-49AB-A330-FA6EA8B9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368AE5-DCF5-4E96-976E-90888711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26FDE-A1E8-4840-A69E-00CCA00FD6D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38A296-36A1-412F-B560-A54E95DE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F37D8B-D1C2-4B2F-BC67-654F57E5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65A6C8-7C62-4C1B-B5BB-6262A032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3F76F0-9E0B-4BB3-92A3-0C93A4CB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0E83BC-D118-47C0-97D1-4E33A171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CE81FF-3C7A-408A-9CD9-B625328A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6F5D62-650B-40C3-BBAD-A7A5A513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3F014E-6069-40B3-B853-3A810A2A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D58A62-8EC8-47D5-AE5B-3DFC36AF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293140-7F12-4758-9DB6-4C4128A5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FC591-C03D-4807-ABDA-753F9D5D9A3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2E6F0C-F344-4ABE-A9ED-3E7F55C3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FBF707-232E-485C-9A59-C129AA7C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AC2659-6C61-49D9-B27D-DBCAE1A5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BCAAF2-ADC7-4ACC-9447-94F870D8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7DBC4F-B2E0-4DA5-A8B6-BFCD43E2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1AC977-62DE-4B4A-97F4-482DB01A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3FAB6B-6739-44E2-83F7-EC626C69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004085-C2A1-4AEB-ADF1-523A2724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56B50C-D687-4735-9519-C609F9DD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EB355-EDF2-4292-864F-812ACC1F3B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ED11B-2853-48CD-8E0D-64C3E1CBCD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5C6E8-F139-4354-AF09-B6CDD3B8F0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E7D-FF40-4832-A2E3-2CD1CC39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6F33D-A215-444B-9310-5A6B0C96E3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F4A2A-FFD7-4C6C-9D3F-D0FEC7BA4E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E6AAD-DC72-4AF7-933E-5FE10D7300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D1D16-0F4B-403E-81BF-812B4A1895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DAABC-1F4A-4A3D-8DD0-4AE8E6F8875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9259-D456-4622-A09E-F1B18DF1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91D3-AC76-4E36-B342-788EFD11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0493B-0210-44D1-98AC-B987AC20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86B0-03D3-456B-9B29-3AABB62B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963D67-A344-435C-AA3D-F7584D00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D8888-6609-43B2-801D-1D3D3349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BA2C08-FF12-4979-AEE2-48FE863B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CC8CE-64AC-465D-BFB7-3EFCEDAC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BFBAA-4AAE-4F0E-9A1D-4A4FD81A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F82F7-64F1-4DB5-A111-09142769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9D3E61-5E59-4249-837D-28FBF945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1ED90-5E67-40AF-B9AE-EE80E2FB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01B5E-E902-41C5-9D4B-8A8F9C7F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70D200-A1FC-47F8-B3C8-FFF59463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6EB3-C337-4BF4-A203-C7D68556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7C055-AD51-4C9F-8AA2-A707C4BB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3E6998-9714-434E-85E8-0619155A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36A987-2E4D-4DB1-A818-A74BAFAF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809B80-2EFE-4126-A472-47ED6467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A2BA46-A5CD-4101-B96A-B7702C13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3DD9BA-10E3-4C7F-B5E1-0E4A6290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3F1205-434E-463D-839A-312CBE69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872740-A690-4BCD-9330-89E2D043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FDE478-943C-429E-93FC-54FA4376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6DCD87-1F1C-4AA3-87CA-3BC58CDD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745-0E3A-45E7-AADB-5AC951E9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B1B867-4DBC-497A-9D28-2A040FEF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CAD360-C659-4AFF-BC31-738AC04E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6A007A-1D30-4B51-AE6F-F025CB81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CD69B-10D5-4C90-9C57-27844BB5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5A8AE8-6862-4503-8FA7-38828E21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E6D223-1C95-4809-ACA7-34DDD3CC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129ED4-2328-43D3-BC58-E42A36AD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E847D-5F09-46ED-9242-E9E572BF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47D1C6-1EDC-45F7-8D6D-62A9C177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34AA87-13AC-4F21-96C7-5C295E61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6829-24B4-48F7-B60D-F5D332A9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0BBBA-4423-49DC-BFCA-5EE1D91C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543CA4-6A34-457A-811D-3C812E78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365F64-3BEB-43E7-8A9E-31A392D6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6364E6-19C3-487D-B942-7AD15C5E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5F2989-14A8-4D7A-93F9-9AE30935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89582A-3B56-490F-BFA2-D2AE655C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99D8D3-E7D8-4120-9E8B-F2CD3D98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B349D9-F930-4D2F-8F07-7117CEC7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38CCC6-57AA-4076-80D6-ADDA99D2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47EC4D-1E23-434C-952D-C7C22704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CEC-4A65-4A0F-A855-681447EB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E08681-8166-4D6D-8740-2C8F972C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3890F5-56AA-41CE-BFAF-61E4C32C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78D7DA-87F5-4656-9DC7-4C42CA35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FC1159-2E4B-444D-8457-053C1ED1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450CFB-C9DD-45AB-8AFC-CF973A3A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7B631E-DE87-4A32-9FC7-CFBDB8A1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3F40F-7503-4927-BB98-A348D75F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4E1FF9-35D8-49EE-9C24-A7CD8BE6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9DBC89-B06C-4EDE-BB49-C59EFC32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AAECE8-2712-4BB7-82D5-8AE6A9C9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0BEA-5333-4059-A887-B9E6581280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B93F-6F96-4C9A-8DD8-059A213131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253A-B3C3-4191-A003-D60216F7AE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49AF-D970-4906-9B88-4D7B051C1D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96B8-A95E-4D83-B1BA-CA8A40EBC2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B765-C48F-413E-BED9-5CE712D5E5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93B1-E4D6-4F21-9C9F-4DF91AB4AA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5469-B47D-4D63-8BD7-279D20DD0D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5428-0945-415B-9924-90CA952825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4ECC-6DD7-4BBA-8654-27CA6BADD6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E583-A546-4D3D-AB57-E7731D92ED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F849-608E-4DF7-8E10-81CE29CDC0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1</a:t>
            </a:r>
            <a:endParaRPr b="1" lang="en-US" sz="44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ategic Management 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amp; Strategic Competitiveness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erfect  (pure)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m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nopolistic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eter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to moderate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nceptualiz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49000" y="11430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verage (normal)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equal to the returns that an investor would expect on an investment of similar risk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Risk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n investor’s level of uncertainty about the gains or losses from a particular investment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bove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greater than normal (exceeded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Below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less than normal (failed to meet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asur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counting measures (via ratio analysi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rket meas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bjective measures (stakeholder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rviv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Need for a New Mode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firms compete in lousy industries (many threats; intense rivalry; few opportunities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CP logic suggests these firms will perform poorl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ever, some firms in lousy industries realize superior performance. Why?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icardian Economic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(Resource endowments)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nts (above normal returns) can be earned by changes that alter a resource’s valu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turns to a strategy depend upon the cost of implementing that strateg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enrose’s View of the Fir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 firm is a bundle of resourc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ed by an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at limits growth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1199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creative capabilities of the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roductive resources are very broadly defin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are assumed to be heterogeneou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914400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What are some useful resource categories?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hysic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uman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re useful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angible and 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esource-based Model of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bove Normal Return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49000" y="1371240"/>
            <a:ext cx="8042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heterogeneous and immobi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used to develop capabilities (capacity of a set of resources to perform a task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pabilities give rise to core competencies, which may be a source of competitive advantag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trategic managers use these resources to formulate and implement strategies to achieve a competitive advanta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Management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Management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e process of formulating and implementing strategies that are designed to achieve a competitive advantag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y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 pattern of resource deployments intended to improve or maintain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Understand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Firms that consistently underperform the market will experience a loss of support from investors and management will be forced to redeploy assets to more productive uses (Alchian &amp; Demsetz, 1972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</a:rPr>
              <a:t>What does this mean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It means . . .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vestors are interested in the performance of a firm relative to others in the capital market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that continue to perform poorly will be unable to attract investors and will not survive in the long ru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The preceding quote is based on efficient markets. 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is an efficient marke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2514240"/>
            <a:ext cx="8042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efficient market is one in which no single buyer or seller can systematically achieve superior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makes a market efficien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buyers and many sell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ll information is publicly availabl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ividuals are rationa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The I/O Model of Above Normal Returns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33520" y="12193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Examines the effect of the external environment on a firm’s performanc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effects are greater than managerial effec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our assumption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structure imposes constrain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irms are homogeneous with respect to resources and strateg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Resources are highly mobile (differences are short lived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Managers are rational profit maximizer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C9A460D7-FF65-4562-AE06-96A6CF8DE3C8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CP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ucture, Conduct,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performance is determined by its industry structur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suggests that 20% of a firm’s profitability is attributed to its indus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us, managers should look for </a:t>
            </a:r>
            <a:r>
              <a:rPr b="1" i="1" lang="en-US" sz="2800" spc="-1" strike="noStrike">
                <a:solidFill>
                  <a:srgbClr val="00b050"/>
                </a:solidFill>
                <a:latin typeface="News Gothic MT"/>
              </a:rPr>
              <a:t>attractive industr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wever, 36% of the variance in profitability is traced to a firm’s characteristics and ac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mpetitive Outcom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9144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parity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there are no perceived differences among rival firm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mplements a strategy that creates superior value for customers relative to its rival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Sustained 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is a competitive advantage that is long lasting (competitors are unable to duplicate it, or find it too costly to do so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dis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n an industry does not have an advantage that its rivals do hav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3:46:18Z</dcterms:modified>
  <cp:revision>330</cp:revision>
  <dc:subject/>
  <dc:title>Slide 1</dc:title>
</cp:coreProperties>
</file>