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D41-3165-4756-99E2-2394DE744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59C3-4A30-4EF9-81B1-AF1115825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CE7-63C0-4FDA-AF64-170F980F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FD4-BD8B-4EB4-ABD3-9BDCCDF6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CAE42-0AD1-4867-AF93-27F011C6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34634-39E4-4BEA-98B9-D1D146BB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8EF45-B6D0-4B84-BABE-800EBB3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72B77-1AFF-4B06-AD48-FA298CC2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B4D09-EF1D-4F46-829E-550E045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AFA19-4430-4026-860C-6648C68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30AE1-1726-481C-939F-264E7E1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C3B69-285C-4AD4-921F-FE9A514E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5C058-1A4A-4A63-B423-DB59161E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E77677-E6FD-460E-B3BD-D365E41B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B78-A413-4935-9CA3-9D89AEC4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71304-486D-416D-BC48-AB0B7D1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8AB02-6A99-4F9C-AB2C-89CFCDAF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B60F4-B599-4A5A-A376-656181E6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0BB0A-921C-48C9-84FA-41D8359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19E9F-0337-41E4-A376-A7C4D626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4B003-4DB2-4188-9FDA-A0E5B0F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183CA-E88B-4E08-BC8F-8BCFD50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19BAE-62A4-4223-8555-1AF2B80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D8E85-1F90-4D29-907B-3489733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80AED-4AF1-407C-8761-60EDC9D0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9BE-60BD-4B80-B6DD-3A5DEB1F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633DB-14FD-4BC8-8E35-A92C9785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E62A5-CDF1-4D9E-9BBD-A6B1B3B4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D9E0B4-4891-4264-A738-5F6C0B3A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990D1-9BFA-424F-BF54-2E26E9A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5CDDB-BE3E-4313-AA80-AB6F36F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7AEEDE-6D5A-4C93-B175-D35D4A7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E13B5-E394-4187-9CEE-B0954F29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CCCF6-47DB-4AF5-BB2F-E2377DA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BC7279-407B-4D55-B4A5-2079904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BC005-C8C4-426E-8A26-A9BE0F5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C7BC0-8E7C-4988-BB76-AFA6E52D41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07883-5DBA-4D3C-85BC-9A544D34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71E3C-A10C-4800-B05C-DB187E4E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0E3EF-42BC-4505-8663-42613E17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FEDB8-3461-4571-973E-27E5AB33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515CC-9161-475D-8EC8-E67B9B2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4EB53C-920D-4EA7-B9AA-784DF6D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34CB6-417F-45CA-AB96-6D799258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41D73-F23C-4CBE-88E4-EA35AF79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03119-FB0D-4B5E-B59C-B9D0A6C7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0D6FF4-17C9-435F-B009-B5EED743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1158-80E0-4CD8-A276-718EB09CBD3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3F595-41EA-404A-8EFB-13F85BF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C75A7A-4893-4E4F-A9D2-BE875CC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4D30D-5408-4F00-8659-2D9A6F84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3AF6C-8456-4305-AE99-51C79E51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6EE4CD-26E5-4574-880F-8B58FB7D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BE4AEB-6AB4-4366-A206-251B415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CBC659-19BD-4D05-BC61-92E911F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F9A401-B186-47EC-8D18-3EA4CD0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7C9E44-277C-46B0-82DA-74B043AA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5BCAC9-4DDD-4FC3-BC2A-6BAC2335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F6267-0773-4F26-993B-97CB5F2AD29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F844D-4176-4342-A929-E45B15E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4D9232-8AF1-4CDA-A846-5146FB8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C20261-8825-4597-B3A0-9564167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79B265-05B6-424D-A013-7C08F8D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B25BD8-84BB-4F59-9BE5-4F9469D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53F5C4-B39F-432D-82C8-84E5DD20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F59CF1-304E-4C51-B205-66AD3F5D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EBDBEF-2BC0-42E4-9E3C-A522ABD9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B0F5FC-1319-45F3-B572-E4569CED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6B7E7B-2782-435C-850C-2D2066E5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FD64E-B409-449F-9377-D5861538DAC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AD3AC3-90CD-4865-B4AC-BB18F420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8605C6-0942-4A0A-B0D6-2E6EA8FD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6BA3B6-CC59-47F8-930F-AA0E2FCB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DE565C-B42F-4973-A1A6-23D6668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B446F9-26B6-45D0-BEF9-AD5F905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47C37D-04DF-44E3-ABBD-DE38516A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EA946A-36AE-4480-8B84-8A6DD396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5DF1F2-199A-4019-ABE1-3082E6BF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8B946F-3B30-46A4-A59A-5FAB491B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52466-BF19-4B31-9038-1AEA8B3403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609E-DA86-4907-94BF-E6138A71B5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F845-3021-4ABC-AC47-2B67E2D1C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54F-DB22-4A06-851E-1564B6F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F0C9B-A513-43FD-9BCB-7851E07A8F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8A9A-2AC2-4731-91CC-22520A1A96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DF6D2-27EE-485A-BB66-8BEDE915D7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06AD-3496-43A4-9A25-3878CE99D7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1D88-8547-42E5-971A-E179D6803E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176-BD34-4F40-9D92-8C979013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AE6-516F-4EB7-80B2-56D43BA1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8979C-BC0E-4AC7-966C-2CB31AE5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CA1-09A2-497A-B324-EECB2DAF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F5837-0B34-4296-A191-657B9F8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00BE9-D23A-48DB-97B6-063AEE3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AA7D3-0263-4C56-B1BE-CCFA3F1D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F7BED-FBFA-4DB3-A165-03DB2DE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3518B-3FD7-4BBB-8E57-1CF63354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89AEF-7FF9-427B-ADAE-276E9017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6BED0-4188-44E1-A822-8511709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8AA3F-67B0-4231-8B8B-59DE4BC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0DB6A-4FAE-4379-BABB-72AF4B9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29202-419A-4DD3-BBDC-4AECF8AE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E66-C631-4E77-BBEF-4E93082E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068B4-63AA-4DC5-AE63-DD5600FE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894DF-6CA9-4904-9CDB-4C15A3AC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7D0D0-E9C4-4C5E-B1F2-F380966C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64E70-40C1-4A1B-B14A-30F1AD1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9DBA3-2C0B-4D81-A66A-B8DDAC8F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EF78F-3921-4076-A3C5-9959B53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71152-1B25-4EC7-AB68-E3F9453B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DAB97-397A-4F97-A385-044196C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B8F23-1B30-4804-9462-88CCE24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3A340-35A7-4839-9261-31E1EB7F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77B-BC54-4535-BC47-5F93C83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79FE0-1A6C-4E4A-8100-4CDB79F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54298-F77C-4A1E-BE1D-0DE9C93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EB0C6-3816-450D-AB8B-34E028FD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1B752-7D08-4F26-BA03-5D595484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1B689-91DC-4340-80EF-8A841739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525F9-867A-4CE7-8633-84E7155E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62443-A47E-4C3B-B430-B7127F0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8CA57-570A-41C0-B9FD-A263669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EC8EA-6437-4C08-A0BB-BF80DB9F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438C7-5944-405A-A7C3-BABE678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F7D-0135-42DD-B379-D7CE82F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20302-52D4-4714-AEFE-704BDAC5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09AE6-6820-48B3-8F3B-A517F2C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D9799-F913-40C6-A020-F46EBB92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C07A8-8A4E-43A5-93E6-5D5D221B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4CC2E-B195-4ECE-BE0C-BB4105A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FE585-8566-4F04-B09B-BDAC2953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14976-B2FA-4E90-AF97-124FDAF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633DF-0D0D-4236-B7DD-61B663F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D52FD-2768-4817-A9C3-D30071D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499B0-8044-418E-BDEF-ACF9117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EFD-3EB9-485E-B4D1-0F68A4CC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76827-2B49-456D-B204-1C43FEE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5841A-FDA0-42D3-85FD-45183E9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68528-0082-460B-8A3B-58D73C0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76E39-48CE-450B-BE78-15E6EFC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B33B2-47DD-40FD-9C64-BC5CA098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3546B-E653-4E65-9DEC-08D67171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EC14D-903B-4693-A96D-44E563BE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0AFE8-ACAE-434F-A71D-1534FFA3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BAB9A-DA2F-47E5-B376-D6E57C1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E386A-F221-443D-A29E-9C4AA54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EC63-F37B-474E-843A-2EA0904B0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9489-A3D9-4832-8E9A-0B8141FB52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879-CB93-41E2-B073-DEED1CF90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0009-1E06-45D1-A1DE-21382FB211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B243-7619-4D84-8FBA-C49A5D96D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EC0-CFEB-4186-BF91-72C7DECD0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DEB-509B-494D-8AA2-4E8F0FDE3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2E99-7FB2-4FEA-8AED-1F8219F9AA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618-F059-41D6-9A1D-AB7A46230E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092-D0C8-40B5-B5AB-8139FD2CA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E09E-67D5-4E30-AF24-359F730BB0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362-3210-4EE3-A025-357F9F34C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74D2C507-9036-4535-82E3-BE871DCC028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46:18Z</dcterms:modified>
  <cp:revision>330</cp:revision>
  <dc:subject/>
  <dc:title>Slide 1</dc:title>
</cp:coreProperties>
</file>