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dt" idx="3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D9C1F-92BD-4A86-9185-CAB3D87D7C0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move the slide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 type="ftr" idx="3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 type="sldNum" idx="3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9214B-05EF-4225-952F-57E76816018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ectangle 8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pter I discusses the roles, skills and practices of a company’s human resource management (HRM)  function, implications of the economy, the makeup of the labor force, and ethics for company sustainability. It discusses how HRM affects a company’s balanced scorecard, what companies should do to compete in the global marketplace, how technology such as social networking is influencing HRM and what HRM practices support high-performance work syste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Rectangle 8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anies are finding that to survive they must compete in international markets as well as fend off foreign corporations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attempts to gain ground in the United States,  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</a:rPr>
              <a:t>develop global markets and prepare employees for global assignme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 business must be prepared to deal with the global economy. This is made easier by technolog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ffshoring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ers to the exporting of jobs from developed countries to less developed countr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nshoring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refers to exporting jobs to rural parts of the United Stat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8760-8D9A-4743-969D-AA619B677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2C4C-C113-43F5-B8CE-F33141DDA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1502682-B667-4410-BE23-2FA2CFA29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8822B9A-7FB5-4DFB-A7E3-0F2551A0B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E2DCEEF-FCEE-40B4-8665-9C7CABD7C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6C1809E-B9BA-41CA-88C9-8FEB1401B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8DCE597-44E6-4CBE-953E-BA2F50785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14232FA-9F7F-4144-BA58-739A8C1FD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6B27204-F791-4C1B-80D8-2E2D5307A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8DEAED7-E987-48F4-9B8E-A113FE620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A9C8503-FFD9-462E-99B5-19E0C26A5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5B55193-39AF-4AAE-9871-7E7B509FB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DD36-AD86-4260-8C30-E815D3AD8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34DE10A-CE36-49B9-BE84-C20C9EDAD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50ED705-D68E-4B3A-AA32-5AE707BCE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70E9E77-496D-4DF7-8178-C72C326A8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0343099-86F6-4081-9A23-2F4585DA2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2E43439-E909-4C74-B55C-9DB992542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32A31B3-424A-449F-90EC-8F44A769E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F28DB98-63FC-4099-84D5-2C2CF5565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7649FDB-5C4D-473E-8AA3-05CBCA576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E05C5CB-BEE7-4828-814E-14B34C67E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5325950-1939-482A-9FB0-08DAB7AD6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1945-841C-4EAD-AF06-47D29E4D3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C053C29-2DA8-40A1-8B07-9B353B9AE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7AF85BC-3738-4817-A7AF-0395BAF06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F8A13F7-9419-4C5F-943F-5A9B5F94A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5E1319C-E6C4-40F1-8B97-8C8D58171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EA48575-C0EB-4580-B7E3-733B38843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8D94BE3-3A73-4312-84DD-BCE913B19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676AD38-E22D-466A-84FF-07E79E7C9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DF3F02F-671E-4859-B56B-F2D10C00F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E57B70D-280F-448A-9F88-DB6A28D96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16A3691-E338-4C6A-AD8D-0F178F272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AFA81A-2B2B-43A1-ABBE-0B4CF0D4E78D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B391C6F-CA08-4B37-9A40-F7376774A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89A1CD8-1CE2-4F3D-A4CF-6ACC21783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A583D04-0019-4799-9876-70F9F7466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300D269-70F6-4A24-BE07-7119F01D7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0522AA5-1036-4397-A770-B97108969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0D6D581-50F8-4C1F-99CA-A1876A298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7C44091-EBD7-4E29-A65D-BD2BD613A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C01852A-F98C-48CE-819C-B0788E7C9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AD80F75-6D9D-406F-8EDE-376A19512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5E4C303-F31E-4F38-B6C7-D981EA13E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88C8C5-2F87-451D-808E-E5029BE69B21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ACF10D0-BD57-44CD-8F16-85D8E8F2E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A033214-78DA-4A51-AAC7-149271481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DB8E14D-F315-4092-A86D-C62671874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A7D757E-2AC6-49DE-8671-AD58BEB37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E4BAF53-54F3-4A55-A7F6-583A30760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7A95123-9E7C-4313-A934-1D57D5B63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6250BC9-70E3-4FC7-AB08-431D64705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3496E58-5183-4E6B-A0B9-9EECD4D9C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63F5F84-F0E8-4C31-ADC7-CD9669B38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68F4C61-5066-49AD-8C83-4BA63C808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09CA14-8151-4C4B-9913-7657164E798E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37E0514-CBD0-49E7-9F7F-ECF1B7A43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16F6EFE-DD13-478F-A1A5-9E3A03C51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1D78DF4-F130-4D3A-AEF9-90B139363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D9AF690-FAC0-4899-A856-805A7495D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6993CA7-5D76-4072-A338-6865B040F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ACA8D81-92B1-4C25-AF1F-51E588389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D60A605-22DA-4B2D-9128-5503130A8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9CAF091-D955-4E57-96DB-5719900E3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9BEAC0E-BD00-473A-8DAF-9E4620CCA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6A5FF76-90E0-46DA-9A83-9CC08E7EB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ECE757-590D-45F0-BC8D-2EEA74487BCD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EA996BE-99BC-4401-A292-0327C031A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69EAAF9-6AE9-49CE-8852-44D720338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D01F789-B965-46B8-AF74-2DFB856C9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B813CF1-231B-40A4-9406-40AFE8DEB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84C7A6B-BA59-4EA2-A54D-756E8375D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77BCE64-A15C-40F0-8BF5-A22EA921C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D0A6FF8-18CF-4FA2-94DE-0B46920A5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46F5EA3-FC0E-491E-B1B6-A7A4B3ED6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2BF96D3-E173-40D9-9590-ED5BB86B1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1FDC48-0FB8-43A1-98E4-3BF870794CB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BECB78-4E82-44E1-BFDE-F38EE662943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ECEF9A-4759-4954-BC43-7B3EAC96069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AA9D-5E5C-4006-94EB-7A3AB956C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170EF3-DDED-46BE-B1DE-DAAC2736A70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6BBFA2-4D2C-43BE-8E3D-10903DEB1F8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C96DD1-48CA-4962-A1EA-7B84AB9A1BB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DA34DD-0117-4360-B114-95DA54997CA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8C3185-ACAE-4D77-AD05-0FDA7D62EB9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58EC-0D70-4DB9-9C14-7C06DFC4E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BB15-D071-4FBD-BE31-4025A47C8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68075C-7BB2-4E05-8174-281BE575F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3DA9-8F19-47FB-AC0C-AF4EE074A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0A78DD-21BC-4082-9E8E-4E27E3FDE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27FC2E-9E39-4037-A01F-F55D071CE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22AC83-43CA-4FD5-B32D-BE0672497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B02DC4-F79F-455E-88A4-02E5311D2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704AD9-736B-4952-9875-F31450E8D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242538-571A-48A9-BDD4-987DD5C48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4F89F6-AF17-49F8-9328-62B5A332B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C11DCE-873E-405C-9C67-EC2AA57AE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01078C-222B-4C66-B6A9-05446AEDF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5961B7-CFD2-4CAB-AB89-E98F7D84D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2194-C129-48FC-ACBD-CF060276B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B6EFE8-88B8-4BC5-8552-D1B4013AD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133F4EB-3642-4343-A37E-B54476B43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FE98B28-8BBF-4991-BDAA-A81DAAEAE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C507FDF-6C6D-4926-B43B-E89634072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2BBD94D-17F3-4455-B632-B0D54648B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7EA9925-6762-4EDE-AFBE-422F876E7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430BE06-77C6-49F4-AF33-EC8AF9F82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03D1CE8-B693-4D34-BBDC-33A6012BF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0C7D17F-206D-471B-9FEB-B26E6CB59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4FE8E17-6528-4788-88F6-F7A507ED9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B219-6DCC-4773-B72F-6C8598A02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9B4F342-F99C-4415-99A0-D0C5479AC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98F6A17-4B97-4747-B2EC-6B67A2F65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F7E8BE4-524A-4F87-BCF0-FDA3F01EC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CC9220-4AEA-4CEC-8E38-AD657B966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EE6DFE-52B7-4C7B-9561-F5E466C2E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642C00-4FC6-4238-8EC9-CD0D15D71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95C571-7AA2-4A2D-802A-4B1B96E53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24A0D6-799A-4A81-B538-9078A6BBD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792DEA-3652-405D-BAC6-2AF97C1F8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29A922-2128-4A9E-960B-3CAE511A1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8536-30A8-4B5E-A828-9121D5C0E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44B3DD-C185-4F72-83B5-938001042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FBB4F0-9BAB-44F0-BFC8-09902EE85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FEE2A5-D228-4C03-806E-A1A5F0F3D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CA05D9-E0EA-4749-A41D-E1C4633BE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B574BF-477B-4375-8596-CC8CE4397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F013B9D-2525-43F5-93D1-D181B45FC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698DC3B-AEF4-4848-B4F4-DD9766E09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53556C2-E8E2-4D37-BA27-39DE38C2B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9291FF1-0A83-46F6-8BB0-AC3F78843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A7B440C-F514-46EE-9D62-F3C5303DC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01A8-B5E3-4480-9CA5-BFC932DF2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6BA3262-7652-4853-B8AE-E92CC5D91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183443-1B7A-4201-921C-50B07A6B2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AD73095-B937-41F2-BC51-5E564FAD9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137553C-8CC7-4DF5-9F20-1995B13F8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489CC4E-081F-42B7-AD54-DF5D2661F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00A03C-06BC-40B1-81DA-B817838A6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F1FD7CC-2933-4587-A0E8-E6516C571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523301C-41DE-4046-85FC-3B9D43040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EB0FD51-40CD-41A7-871D-5B7EF1475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9692676-2009-4EB6-99D0-1F5D4433C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1D12E-C733-4D3E-9F70-37C1441AF12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1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2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23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D3BD3-3C09-4A37-9DA1-2E49420ABFE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24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25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26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1F14E-BB5A-49C2-BE43-DBE21323CFC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27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28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sldNum" idx="29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277AA-9135-44A3-BB1F-9F5CB278B92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dt" idx="30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ftr" idx="31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 type="sldNum" idx="32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366B4-6237-49B7-AA03-0B4CA8BE054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33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34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35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3388B-EDC4-4EAC-B1D2-9D039DB50D1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7636C-8C61-4780-BC0E-84331FF1373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0" y="0"/>
            <a:ext cx="68580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14"/>
          <p:cNvGrpSpPr/>
          <p:nvPr/>
        </p:nvGrpSpPr>
        <p:grpSpPr>
          <a:xfrm>
            <a:off x="152280" y="914400"/>
            <a:ext cx="990720" cy="990360"/>
            <a:chOff x="152280" y="914400"/>
            <a:chExt cx="990720" cy="990360"/>
          </a:xfrm>
        </p:grpSpPr>
        <p:sp>
          <p:nvSpPr>
            <p:cNvPr id="47" name="Oval 12"/>
            <p:cNvSpPr/>
            <p:nvPr/>
          </p:nvSpPr>
          <p:spPr>
            <a:xfrm>
              <a:off x="152280" y="914400"/>
              <a:ext cx="990720" cy="990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Oval 13"/>
            <p:cNvSpPr/>
            <p:nvPr/>
          </p:nvSpPr>
          <p:spPr>
            <a:xfrm>
              <a:off x="293760" y="1055520"/>
              <a:ext cx="708120" cy="7081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Group 15"/>
          <p:cNvGrpSpPr/>
          <p:nvPr/>
        </p:nvGrpSpPr>
        <p:grpSpPr>
          <a:xfrm>
            <a:off x="152280" y="2209680"/>
            <a:ext cx="838440" cy="838440"/>
            <a:chOff x="152280" y="2209680"/>
            <a:chExt cx="838440" cy="838440"/>
          </a:xfrm>
        </p:grpSpPr>
        <p:sp>
          <p:nvSpPr>
            <p:cNvPr id="50" name="Oval 16"/>
            <p:cNvSpPr/>
            <p:nvPr/>
          </p:nvSpPr>
          <p:spPr>
            <a:xfrm>
              <a:off x="152280" y="2209680"/>
              <a:ext cx="83844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17"/>
            <p:cNvSpPr/>
            <p:nvPr/>
          </p:nvSpPr>
          <p:spPr>
            <a:xfrm>
              <a:off x="271800" y="2328840"/>
              <a:ext cx="60156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Group 18"/>
          <p:cNvGrpSpPr/>
          <p:nvPr/>
        </p:nvGrpSpPr>
        <p:grpSpPr>
          <a:xfrm>
            <a:off x="533520" y="3048120"/>
            <a:ext cx="457200" cy="457200"/>
            <a:chOff x="533520" y="3048120"/>
            <a:chExt cx="457200" cy="457200"/>
          </a:xfrm>
        </p:grpSpPr>
        <p:sp>
          <p:nvSpPr>
            <p:cNvPr id="53" name="Oval 19"/>
            <p:cNvSpPr/>
            <p:nvPr/>
          </p:nvSpPr>
          <p:spPr>
            <a:xfrm>
              <a:off x="533520" y="30481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20"/>
            <p:cNvSpPr/>
            <p:nvPr/>
          </p:nvSpPr>
          <p:spPr>
            <a:xfrm>
              <a:off x="598680" y="31132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5"/>
          <p:cNvSpPr/>
          <p:nvPr/>
        </p:nvSpPr>
        <p:spPr>
          <a:xfrm>
            <a:off x="1328760" y="1295280"/>
            <a:ext cx="6486480" cy="31528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8"/>
          <p:cNvSpPr/>
          <p:nvPr/>
        </p:nvSpPr>
        <p:spPr>
          <a:xfrm>
            <a:off x="0" y="0"/>
            <a:ext cx="68580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0"/>
          <p:cNvSpPr/>
          <p:nvPr/>
        </p:nvSpPr>
        <p:spPr>
          <a:xfrm>
            <a:off x="8534520" y="0"/>
            <a:ext cx="60948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15"/>
          <p:cNvGrpSpPr/>
          <p:nvPr/>
        </p:nvGrpSpPr>
        <p:grpSpPr>
          <a:xfrm>
            <a:off x="152280" y="914400"/>
            <a:ext cx="990720" cy="990360"/>
            <a:chOff x="152280" y="914400"/>
            <a:chExt cx="990720" cy="990360"/>
          </a:xfrm>
        </p:grpSpPr>
        <p:sp>
          <p:nvSpPr>
            <p:cNvPr id="95" name="Oval 16"/>
            <p:cNvSpPr/>
            <p:nvPr/>
          </p:nvSpPr>
          <p:spPr>
            <a:xfrm>
              <a:off x="152280" y="914400"/>
              <a:ext cx="990720" cy="990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17"/>
            <p:cNvSpPr/>
            <p:nvPr/>
          </p:nvSpPr>
          <p:spPr>
            <a:xfrm>
              <a:off x="293760" y="1055520"/>
              <a:ext cx="708120" cy="7081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Group 18"/>
          <p:cNvGrpSpPr/>
          <p:nvPr/>
        </p:nvGrpSpPr>
        <p:grpSpPr>
          <a:xfrm>
            <a:off x="152280" y="2209680"/>
            <a:ext cx="838440" cy="838440"/>
            <a:chOff x="152280" y="2209680"/>
            <a:chExt cx="838440" cy="838440"/>
          </a:xfrm>
        </p:grpSpPr>
        <p:sp>
          <p:nvSpPr>
            <p:cNvPr id="98" name="Oval 19"/>
            <p:cNvSpPr/>
            <p:nvPr/>
          </p:nvSpPr>
          <p:spPr>
            <a:xfrm>
              <a:off x="152280" y="2209680"/>
              <a:ext cx="83844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20"/>
            <p:cNvSpPr/>
            <p:nvPr/>
          </p:nvSpPr>
          <p:spPr>
            <a:xfrm>
              <a:off x="271800" y="2328840"/>
              <a:ext cx="60156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21"/>
          <p:cNvGrpSpPr/>
          <p:nvPr/>
        </p:nvGrpSpPr>
        <p:grpSpPr>
          <a:xfrm>
            <a:off x="533520" y="3048120"/>
            <a:ext cx="457200" cy="457200"/>
            <a:chOff x="533520" y="3048120"/>
            <a:chExt cx="457200" cy="457200"/>
          </a:xfrm>
        </p:grpSpPr>
        <p:sp>
          <p:nvSpPr>
            <p:cNvPr id="101" name="Oval 22"/>
            <p:cNvSpPr/>
            <p:nvPr/>
          </p:nvSpPr>
          <p:spPr>
            <a:xfrm>
              <a:off x="533520" y="30481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23"/>
            <p:cNvSpPr/>
            <p:nvPr/>
          </p:nvSpPr>
          <p:spPr>
            <a:xfrm>
              <a:off x="598680" y="31132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Group 24"/>
          <p:cNvGrpSpPr/>
          <p:nvPr/>
        </p:nvGrpSpPr>
        <p:grpSpPr>
          <a:xfrm>
            <a:off x="7772400" y="6248520"/>
            <a:ext cx="457200" cy="457200"/>
            <a:chOff x="7772400" y="6248520"/>
            <a:chExt cx="457200" cy="457200"/>
          </a:xfrm>
        </p:grpSpPr>
        <p:sp>
          <p:nvSpPr>
            <p:cNvPr id="104" name="Oval 25"/>
            <p:cNvSpPr/>
            <p:nvPr/>
          </p:nvSpPr>
          <p:spPr>
            <a:xfrm>
              <a:off x="7772400" y="6248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26"/>
            <p:cNvSpPr/>
            <p:nvPr/>
          </p:nvSpPr>
          <p:spPr>
            <a:xfrm>
              <a:off x="7837560" y="63136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Group 27"/>
          <p:cNvGrpSpPr/>
          <p:nvPr/>
        </p:nvGrpSpPr>
        <p:grpSpPr>
          <a:xfrm>
            <a:off x="8305920" y="5638680"/>
            <a:ext cx="838080" cy="838440"/>
            <a:chOff x="8305920" y="5638680"/>
            <a:chExt cx="838080" cy="838440"/>
          </a:xfrm>
        </p:grpSpPr>
        <p:sp>
          <p:nvSpPr>
            <p:cNvPr id="107" name="Oval 28"/>
            <p:cNvSpPr/>
            <p:nvPr/>
          </p:nvSpPr>
          <p:spPr>
            <a:xfrm>
              <a:off x="8305920" y="5638680"/>
              <a:ext cx="83808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29"/>
            <p:cNvSpPr/>
            <p:nvPr/>
          </p:nvSpPr>
          <p:spPr>
            <a:xfrm>
              <a:off x="8425440" y="5757840"/>
              <a:ext cx="60120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6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7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8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AD488-D796-418D-8D46-0F5AEC52512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9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0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1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44FEE-0C70-46FB-B1CE-E718E534E7F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2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13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14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45DAE-2715-48B4-8E45-46CF15274B3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15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16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17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E9365-1739-4CC8-905C-92E6A3F284F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18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19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0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D9C1E-8962-4BC9-9355-B584E942C3D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49000" y="762120"/>
            <a:ext cx="804204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54e73"/>
                </a:solidFill>
                <a:latin typeface="News Gothic MT"/>
                <a:ea typeface="Geneva"/>
              </a:rPr>
              <a:t>Chapter 1</a:t>
            </a:r>
            <a:endParaRPr b="1" lang="en-US" sz="44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trategic Management </a:t>
            </a:r>
            <a:endParaRPr b="0" lang="en-US" sz="40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&amp; Strategic Competitiveness</a:t>
            </a:r>
            <a:endParaRPr b="0" lang="en-US" sz="40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Types of Industry Structure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Perfect  (pure) competition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Large number of firms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Homogeneous products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Low cost to enter the industry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Types of Industry Structure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Monopolistic Competition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Large number of firms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Heterogeneous products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Low to moderate cost to enter the industry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Conceptualizing Firm Performance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549000" y="1143000"/>
            <a:ext cx="80420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News Gothic MT"/>
              </a:rPr>
              <a:t>Average (normal) returns 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– are equal to the returns that an investor would expect on an investment of similar risk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News Gothic MT"/>
              </a:rPr>
              <a:t>Risk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 – an investor’s level of uncertainty about the gains or losses from a particular investment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News Gothic MT"/>
              </a:rPr>
              <a:t>Above normal returns 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– are greater than normal (exceeded expectations)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News Gothic MT"/>
              </a:rPr>
              <a:t>Below normal returns 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– are less than normal (failed to meet expectations)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Measuring Firm Performance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Accounting measures (via ratio analysis)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Market measures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Subjective measures (stakeholders)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Survival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The Need for a New Model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Many firms compete in lousy industries (many threats; intense rivalry; few opportunities).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SCP logic suggests these firms will perform poorly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However, some firms in lousy industries realize superior performance. Why?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118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Ricardian Economics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(Resource endowments)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Rents (above normal returns) can be earned by changes that alter a resource’s value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Returns to a strategy depend upon the cost of implementing that strategy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Penrose’s View of the Firm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549000" y="1218960"/>
            <a:ext cx="80420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31560" indent="-331560">
              <a:spcBef>
                <a:spcPts val="1800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A firm is a bundle of resources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31560" indent="-331560">
              <a:spcBef>
                <a:spcPts val="1800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Organized by an entrepreneur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31560" indent="-331560">
              <a:spcBef>
                <a:spcPts val="1800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What limits growth?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lvl="1" marL="651240" indent="-319680">
              <a:spcBef>
                <a:spcPts val="1199"/>
              </a:spcBef>
              <a:buClr>
                <a:srgbClr val="215d7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The creative capabilities of the entrepreneur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31560" indent="-331560">
              <a:spcBef>
                <a:spcPts val="11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Productive resources are very broadly defined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31560" indent="-331560">
              <a:spcBef>
                <a:spcPts val="11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Firms are assumed to be heterogeneous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0" y="108000"/>
            <a:ext cx="9144000" cy="806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News Gothic MT"/>
              </a:rPr>
              <a:t>What are some useful resource categories?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Physical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Human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Organizational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More useful?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Tangible and Intangible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035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The Resource-based Model of 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Above Normal Returns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549000" y="1371240"/>
            <a:ext cx="80420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Resources are heterogeneous and immobile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Resources are used to develop capabilities (capacity of a set of resources to perform a task)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apabilities give rise to core competencies, which may be a source of competitive advantage.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trategic managers use these resources to formulate and implement strategies to achieve a competitive advantage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Strategic Management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News Gothic MT"/>
              </a:rPr>
              <a:t>Strategic Management 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– t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he process of formulating and implementing strategies that are designed to achieve a competitive advantage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News Gothic MT"/>
              </a:rPr>
              <a:t>Strategy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 – a pattern of resource deployments intended to improve or maintain performance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Understanding Firm Performance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News Gothic MT"/>
              </a:rPr>
              <a:t>Firms that consistently underperform the market will experience a loss of support from investors and management will be forced to redeploy assets to more productive uses (Alchian &amp; Demsetz, 1972)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News Gothic MT"/>
              </a:rPr>
              <a:t>What does this mean?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News Gothic MT"/>
              </a:rPr>
              <a:t>It means . . .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Investors are interested in the performance of a firm relative to others in the capital market.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Firms that continue to perform poorly will be unable to attract investors and will not survive in the long run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1797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News Gothic MT"/>
              </a:rPr>
              <a:t>The preceding quote is based on efficient markets. </a:t>
            </a:r>
            <a:br>
              <a:rPr sz="3600"/>
            </a:br>
            <a:r>
              <a:rPr b="1" i="1" lang="en-US" sz="3600" spc="-1" strike="noStrike">
                <a:solidFill>
                  <a:srgbClr val="ff0000"/>
                </a:solidFill>
                <a:latin typeface="News Gothic MT"/>
              </a:rPr>
              <a:t>What is an efficient market?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549000" y="2514240"/>
            <a:ext cx="80420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An efficient market is one in which no single buyer or seller can systematically achieve superior performance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News Gothic MT"/>
              </a:rPr>
              <a:t>What makes a market efficient?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Many buyers and many sellers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Full information is publicly available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Individuals are rational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  <a:ea typeface="Geneva"/>
              </a:rPr>
              <a:t>The I/O Model of Above Normal Returns 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533520" y="1219320"/>
            <a:ext cx="76960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9080" indent="-28908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  <a:ea typeface="Geneva"/>
              </a:rPr>
              <a:t>Examines the effect of the external environment on a firm’s performance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289080" indent="-28908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  <a:ea typeface="Geneva"/>
              </a:rPr>
              <a:t>Industry effects are greater than managerial effects.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289080" indent="-28908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  <a:ea typeface="Geneva"/>
              </a:rPr>
              <a:t>Four assumptions: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25320" indent="-288720">
              <a:lnSpc>
                <a:spcPct val="9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Arial"/>
              <a:buChar char="•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  <a:ea typeface="Geneva"/>
              </a:rPr>
              <a:t>Industry structure imposes constraints.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25320" indent="-288720">
              <a:lnSpc>
                <a:spcPct val="9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Arial"/>
              <a:buChar char="•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  <a:ea typeface="Geneva"/>
              </a:rPr>
              <a:t>Firms are homogeneous with respect to resources and strategies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25320" indent="-288720">
              <a:lnSpc>
                <a:spcPct val="9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Arial"/>
              <a:buChar char="•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  <a:ea typeface="Geneva"/>
              </a:rPr>
              <a:t>Resources are highly mobile (differences are short lived)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25320" indent="-288720">
              <a:lnSpc>
                <a:spcPct val="9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Arial"/>
              <a:buChar char="•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  <a:ea typeface="Geneva"/>
              </a:rPr>
              <a:t>Managers are rational profit maximizers.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25320" indent="-288720">
              <a:lnSpc>
                <a:spcPct val="9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Arial"/>
              <a:buChar char="•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16" name="Rectangle 6"/>
          <p:cNvSpPr/>
          <p:nvPr/>
        </p:nvSpPr>
        <p:spPr>
          <a:xfrm>
            <a:off x="8286840" y="6381720"/>
            <a:ext cx="819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 Box 10"/>
          <p:cNvSpPr/>
          <p:nvPr/>
        </p:nvSpPr>
        <p:spPr>
          <a:xfrm>
            <a:off x="8610480" y="6537240"/>
            <a:ext cx="457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1-</a:t>
            </a:r>
            <a:fld id="{DCBC05A7-E2CF-44E4-8073-E57B43E3A436}" type="slidenum">
              <a:rPr b="0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6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6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6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6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118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SCP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Structure, Conduct, Performance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42000" indent="-3420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rm performance is determined by its industry structure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2000" indent="-3420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Research suggests that 20% of a firm’s profitability is attributed to its industry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2000" indent="-3420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us, managers should look for </a:t>
            </a:r>
            <a:r>
              <a:rPr b="1" i="1" lang="en-US" sz="2800" spc="-1" strike="noStrike">
                <a:solidFill>
                  <a:srgbClr val="00b050"/>
                </a:solidFill>
                <a:latin typeface="News Gothic MT"/>
              </a:rPr>
              <a:t>attractive industries.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2000" indent="-3420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However, 36% of the variance in profitability is traced to a firm’s characteristics and actions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654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Competitive Outcomes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549000" y="914400"/>
            <a:ext cx="80420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35160" indent="-335160">
              <a:spcBef>
                <a:spcPts val="6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News Gothic MT"/>
              </a:rPr>
              <a:t>Competitive parity 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– occurs when there are no perceived differences among rival firms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35160" indent="-335160">
              <a:spcBef>
                <a:spcPts val="6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News Gothic MT"/>
              </a:rPr>
              <a:t>Competitive advantage 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– occurs when a firm implements a strategy that creates superior value for customers relative to its rivals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35160" indent="-335160">
              <a:spcBef>
                <a:spcPts val="6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News Gothic MT"/>
              </a:rPr>
              <a:t>Sustained competitive advantage 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– is a competitive advantage that is long lasting (competitors are unable to duplicate it, or find it too costly to do so)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35160" indent="-335160">
              <a:spcBef>
                <a:spcPts val="6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News Gothic MT"/>
              </a:rPr>
              <a:t>Competitive disadvantage 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– occurs when a firm in an industry does not have an advantage that its rivals do have.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35160" indent="-3351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3T19:11:20Z</dcterms:created>
  <dc:creator>sara_hunter</dc:creator>
  <dc:description/>
  <dc:language>en-US</dc:language>
  <cp:lastModifiedBy>Morrow, Bert</cp:lastModifiedBy>
  <dcterms:modified xsi:type="dcterms:W3CDTF">2021-03-08T13:46:18Z</dcterms:modified>
  <cp:revision>330</cp:revision>
  <dc:subject/>
  <dc:title>Slide 1</dc:title>
</cp:coreProperties>
</file>